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6551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18920" y="3322440"/>
            <a:ext cx="6551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18920" y="332244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76280" y="332244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34000" y="76500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080" y="76500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18920" y="332244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34000" y="332244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080" y="332244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618920" y="765000"/>
            <a:ext cx="6551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65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18920" y="188640"/>
            <a:ext cx="604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618920" y="332244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618920" y="765000"/>
            <a:ext cx="6551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76280" y="332244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8920" y="3322440"/>
            <a:ext cx="6551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6551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618920" y="3322440"/>
            <a:ext cx="6551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8920" y="332244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76280" y="332244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34000" y="76500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9080" y="76500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18920" y="332244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34000" y="332244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9080" y="3322440"/>
            <a:ext cx="2109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65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18920" y="188640"/>
            <a:ext cx="604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618920" y="332244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76280" y="332244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892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6280" y="765000"/>
            <a:ext cx="3197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18920" y="3322440"/>
            <a:ext cx="6551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11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8920" y="765000"/>
            <a:ext cx="65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f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11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618920" y="765000"/>
            <a:ext cx="65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f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071800"/>
            <a:ext cx="77072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1111"/>
                </a:solidFill>
                <a:latin typeface="Tahoma"/>
                <a:ea typeface="创艺简黑体"/>
              </a:rPr>
              <a:t>通用商务人才</a:t>
            </a:r>
            <a:r>
              <a:rPr b="1" lang="en-US" sz="4000" spc="-1" strike="noStrike">
                <a:solidFill>
                  <a:srgbClr val="1f1111"/>
                </a:solidFill>
                <a:latin typeface="Tahoma"/>
                <a:ea typeface="创艺简黑体"/>
              </a:rPr>
              <a:t>PPT</a:t>
            </a:r>
            <a:r>
              <a:rPr b="1" lang="zh-CN" sz="4000" spc="-1" strike="noStrike">
                <a:solidFill>
                  <a:srgbClr val="1f1111"/>
                </a:solidFill>
                <a:latin typeface="Tahoma"/>
                <a:ea typeface="创艺简黑体"/>
              </a:rPr>
              <a:t>模板免费下载</a:t>
            </a:r>
            <a:endParaRPr b="0" lang="en-US" sz="40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6985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Tahoma"/>
                <a:ea typeface="创艺简中圆"/>
              </a:rPr>
              <a:t>点击此处添加标题名称</a:t>
            </a:r>
            <a:endParaRPr b="0" lang="en-US" sz="36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1680" y="164268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配色方案修改：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配色方案在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格式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幻灯片设计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配色方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编辑配色方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下调整。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LOGO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的添加：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Logo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添加修改在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视图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母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幻灯片母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下调整。直接选择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logo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图片删除或修改。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字体格式的设置：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括标题和文本格式的设置在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视图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母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幻灯片母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下调整。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ahoma"/>
                <a:ea typeface="创艺简中圆"/>
              </a:rPr>
              <a:t>点击此处添加标题名称</a:t>
            </a:r>
            <a:endParaRPr b="0" lang="en-US" sz="3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28880" y="1357200"/>
            <a:ext cx="685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配色方案修改：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配色方案在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格式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幻灯片设计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配色方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编辑配色方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下调整。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LOGO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的添加：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Logo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添加修改在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视图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母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幻灯片母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下调整。直接选择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logo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图片删除或修改。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字体格式的设置：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括标题和文本格式的设置在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视图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母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--&gt;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【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幻灯片母版</a:t>
            </a:r>
            <a:r>
              <a:rPr b="0" lang="en-US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】</a:t>
            </a:r>
            <a:r>
              <a:rPr b="0" lang="zh-CN" sz="1800" spc="-1" strike="noStrike">
                <a:solidFill>
                  <a:srgbClr val="1f1111"/>
                </a:solidFill>
                <a:latin typeface="Arial"/>
                <a:ea typeface="创艺简粗黑"/>
              </a:rPr>
              <a:t>下调整。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7680" y="2714760"/>
            <a:ext cx="37144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1111"/>
                </a:solidFill>
                <a:latin typeface="Tahoma"/>
                <a:ea typeface="创艺简黑体"/>
              </a:rPr>
              <a:t>谢谢您的观看</a:t>
            </a:r>
            <a:endParaRPr b="0" lang="en-US" sz="44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9:49:41Z</dcterms:created>
  <dc:creator>ppt宝藏</dc:creator>
  <dc:description/>
  <dc:language>en-US</dc:language>
  <cp:lastModifiedBy>a</cp:lastModifiedBy>
  <cp:lastPrinted>1899-12-30T00:00:00Z</cp:lastPrinted>
  <dcterms:modified xsi:type="dcterms:W3CDTF">2015-07-25T06:24:01Z</dcterms:modified>
  <cp:revision>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