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842-03A8-450C-8CA6-A9313158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F37-2606-49F2-BB57-60D17D77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9BC70-6F46-4058-8E30-80535CC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E8D66-9390-4561-8DEF-794DE3B0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24F7-B1A2-4A23-AD0C-B19DFAF7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3E9D0-49E1-41F2-8F28-A651B277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0459A-9E41-4E07-BB37-EC74ABF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5CB80-F1B0-4C6D-88DA-6B196035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13F4B-C384-4D40-B00C-781406BF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0A28F-E02F-4F79-A455-35743F25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3ADDB-F84F-4769-A7E1-EBE0FC74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B6F86-603B-49A1-A1A8-EF3BBB61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F58-9149-40E1-B656-9DDF242F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656A8-5E01-4FDE-ACD2-3EF5DA4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B2838-1694-4F96-AE0F-7045F322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92207-2ABD-476D-8CCB-75E04D54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D960C-B091-4260-82D4-164731CF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E7CD9-4C25-4E85-906D-07D1AB36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718F4-48B6-4F2B-B034-DE27D2BB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2F397-9C9E-41C1-B55A-2E02879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920D9-0B7E-46D5-912D-F9E591E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7001-5AFF-465F-A9D8-08BED6F8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62509-B53E-4A39-BFD7-FC6093AF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319-CBDD-4E71-B315-14262EC2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8A409-7BE0-4863-8C13-8107FD3E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D0E0-AFEC-4A54-9A09-E18596E6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A290-C878-486B-91A2-88484FA2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28C0A-4CFA-48FB-8349-42EF6D4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0DD7E-AD3D-4653-B75E-39C38ED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BFF93-6A2A-4CFC-B70B-CDD5D5A6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8DCE-62DC-45F1-9D7C-B95C925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51BE7-E31E-4970-AA09-C904304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3EEE1-D107-4550-A280-CBCC764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EBD3C-A33C-4062-A7B7-F3D22631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AE9-BCB9-4689-8CBB-9BEBB0E8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2248B-58A9-45E7-8823-126F7CA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4490E-FBD0-44FA-925D-A6A9D2E1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A12E5-2026-443D-AC62-EF01762A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581F6-CD18-4FFA-9EDF-377030AE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DC8B8-ED96-4D2A-9831-9C294F0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5F97C-F2D9-4D5D-879F-E780D941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C9F79-71D4-4E88-9419-C702D3B4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6AD02-FC0A-4CCF-BDC7-BBF6499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0E5F3-6A6F-4069-AD17-DB59F3D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8A2CC-2635-43F0-82C3-7378A26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B225-DD6D-403B-832A-7D142980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B08C8-6059-4294-8129-B2EEFCA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E286B-7904-4D6D-8343-5E23EE84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43379-3799-4C69-892E-B2080B61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4A521-0AFB-46D4-9413-9E012FD5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330FB-BCB2-421A-99D2-6774AE5C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8387-791F-46D8-AB79-0DE890DC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48D-6036-48EF-9C39-ECC9A78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4081-9868-49DF-93B7-40BF635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E774-F4B6-4F43-9AC3-FE1D222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FE3D-11CF-41C3-BCF1-AEECF59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7C9-9870-4762-A54E-F4635AA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80FB-857D-4F6D-8C77-79E73E09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76F-5BA8-4C36-AB73-476AFA3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DBE-4617-4C54-AE28-35288358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7F96-C542-4D39-B9DB-4664C99C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16C5-04AA-4580-9934-3DCBF695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1189-2BEE-4207-AA60-8652E6F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5C2B-773F-40A4-8883-3D99502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7840-95EC-4505-BFDC-ED0BE7AB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0265-2FD1-4E36-94A3-0E77829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69FE-41FE-4155-8208-78514386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8B0-5226-4F0A-96BD-40822632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3768-1D74-4ACB-9D21-8673BFE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C746-9279-4398-892A-32190DA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C65C-11F0-4BA7-946E-0364529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AB23-D9B4-4EDA-B685-BD704B4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3CCC-2297-46D8-9A31-E22C39A9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E124-A370-4482-82CF-84CC9B1A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BF57-82AC-408E-A385-3A715010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8B7A-9526-4600-BFB9-162CD959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C818-7F79-4A00-8BB7-7311C57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62DF-B8BE-4CEA-9EFC-03C2927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F81-4A1D-47F4-BC10-D99B62B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ED1A-C0B9-4D16-B9C0-BB8CDB7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0501-2AD1-4B6A-8DDC-EB78E218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E5F9-C9D4-45B4-8CC4-5434C45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5A9B7-95E5-4E78-9143-6F3AA82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FFFA-3D6A-4CF8-AC40-C8A880B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331C-E71A-429D-A37F-E806076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1062-D86F-4A6C-9EA6-394E996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E4F9-BE6F-4CDA-B1B0-8BB48A2E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EBBB-7C0F-48C7-9D15-DD348006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634D-86B5-4BDF-8C0D-9C8DC6FB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8A4-FB2A-47B2-B920-44EDC4B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BF240-5ED5-4385-A129-F066A098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DD1E-F2DE-4B72-9485-334D198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5D86D-D119-4184-B240-8FAEF044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4EB5-5297-4CE7-ABCC-3FFE068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C7FE-082E-444F-BA06-A0D311E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BC9A-F6D0-454C-B78B-4CD6C67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A662-2D53-4E61-B8B9-31524CA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10C9-F659-419A-9AA4-5FDCBB8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A4D2-E953-4654-8D08-A7F57ED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3F42-5FA6-45AC-A2B3-6AC29890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C94-5DA6-478C-9740-6544DB21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A730F-2967-4A73-B0F2-851B9891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A62C-CFF2-4FB5-A49E-8B790554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0B23-A120-4D67-99E8-A0D24C44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A153-5581-47AA-B624-2329076C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FEC86-DB68-444F-BE7E-5CD32930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56C0-56D5-4825-A24B-FF1A8322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A3EF-E386-49CA-B4F6-F3F3ACF5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22E0-A11C-4C80-ADD9-DAE7E86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45F8A-15E5-479C-826B-3574BDF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E8509-D8BB-4602-B79C-C7E94AB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D28-E497-45D8-B43E-4E7826F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B67C5-2CA8-4E35-828D-5F71E247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BE07-789A-4670-9343-45FF94CC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6ABD-D3F0-438E-8AD2-CF1A8C3A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8AD01-C301-496F-A1DB-C1E8186A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8C73A-8933-4C3A-AB40-E8D8896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30067-C302-456A-B776-B8FD948B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3A1DF-F1AD-4DBA-A33A-B1FEBED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0596-4406-4EAA-91C1-DA793FC6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721F-64EE-40D1-9688-137E25E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4100-204A-4E00-A58D-E65A5AD2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94A-A356-4B5E-8015-2E463DF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8A47-197E-4E44-AB97-787B69D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9FD1D-FCEA-46E8-A5DD-EE2BF9C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461B8-06FA-4C42-9518-AC440A9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52BE-A870-4C90-B016-1F1B9EBB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4B622-0158-4F13-91A4-0656D76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24FA7-A02A-44A8-B149-65034E70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1AA2-5317-4BBD-BA92-B280EFC0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0334-FAE3-4427-B0D2-A06788F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D02B-19AD-4FFE-B0D9-1D1D9E3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E230F-AF13-4330-B0F6-8E74098A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717-E025-43E2-A46E-D271338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CD0F-8B38-494F-AC67-88F48B56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91BD-6765-48C9-9253-C5B62B3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00505-732A-479F-854A-81C946F7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B7C9D-5DCB-4E59-8B53-F9D45CC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4C6F-C4F0-4C73-98EF-B251DD2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9C5FF-8044-42FD-A911-78B8088F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B76C-54FD-4CB2-9105-CE3C5256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10F0D-466E-4B2F-9DE0-C4A3104A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EF2BF-741B-4DFB-8404-B76B91CF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AB877-5096-4D6F-8DB7-EA17797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6E1-6E65-47C6-8167-AEB07CC1E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C08-45AF-49D9-8E47-CC8A881AF8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CE59-EF1C-4E8D-B960-5899666609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2DC5-4BE3-4B40-939C-C51CF61C95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740-1380-41B6-A59D-41BAC596E6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7DC-9014-4ED6-AECD-CA2BB0BFEA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99C9-A05A-40B8-9E80-61C4B864EE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6FC9-4854-4178-BD14-FE9844315B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C3D-A633-4478-A524-FC70C9DD0F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C237-E61C-4FC0-AC4D-867E0502DD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987D-F944-4D67-B897-6CECD50CF0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628-3B68-4F24-8BB4-1047C8D2DF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2261520" y="692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外国多彩动态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7"/>
          <p:cNvGrpSpPr/>
          <p:nvPr/>
        </p:nvGrpSpPr>
        <p:grpSpPr>
          <a:xfrm>
            <a:off x="4827240" y="-451080"/>
            <a:ext cx="4356000" cy="7034400"/>
            <a:chOff x="4827240" y="-451080"/>
            <a:chExt cx="4356000" cy="7034400"/>
          </a:xfrm>
        </p:grpSpPr>
        <p:sp>
          <p:nvSpPr>
            <p:cNvPr id="756" name="梯形 1"/>
            <p:cNvSpPr/>
            <p:nvPr/>
          </p:nvSpPr>
          <p:spPr>
            <a:xfrm flipH="1" rot="5400000">
              <a:off x="5684040" y="-1302120"/>
              <a:ext cx="2647800" cy="4349880"/>
            </a:xfrm>
            <a:custGeom>
              <a:avLst/>
              <a:gdLst/>
              <a:ahLst/>
              <a:rect l="l" t="t" r="r" b="b"/>
              <a:pathLst>
                <a:path w="3254359" h="6228096">
                  <a:moveTo>
                    <a:pt x="2203549" y="6228096"/>
                  </a:moveTo>
                  <a:lnTo>
                    <a:pt x="0" y="30101"/>
                  </a:lnTo>
                  <a:lnTo>
                    <a:pt x="858381" y="0"/>
                  </a:lnTo>
                  <a:lnTo>
                    <a:pt x="3254359" y="6226719"/>
                  </a:lnTo>
                  <a:lnTo>
                    <a:pt x="2203549" y="6228096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梯形 1"/>
            <p:cNvSpPr/>
            <p:nvPr/>
          </p:nvSpPr>
          <p:spPr>
            <a:xfrm flipH="1" rot="5400000">
              <a:off x="5576040" y="-339480"/>
              <a:ext cx="2820960" cy="4319640"/>
            </a:xfrm>
            <a:custGeom>
              <a:avLst/>
              <a:gdLst/>
              <a:ahLst/>
              <a:rect l="l" t="t" r="r" b="b"/>
              <a:pathLst>
                <a:path w="7794268" h="6184931">
                  <a:moveTo>
                    <a:pt x="5904846" y="6174416"/>
                  </a:moveTo>
                  <a:lnTo>
                    <a:pt x="1" y="5564"/>
                  </a:lnTo>
                  <a:lnTo>
                    <a:pt x="2810643" y="0"/>
                  </a:lnTo>
                  <a:lnTo>
                    <a:pt x="7794268" y="6184931"/>
                  </a:lnTo>
                  <a:lnTo>
                    <a:pt x="5904846" y="6174416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梯形 1"/>
            <p:cNvSpPr/>
            <p:nvPr/>
          </p:nvSpPr>
          <p:spPr>
            <a:xfrm rot="5400000">
              <a:off x="5437440" y="497160"/>
              <a:ext cx="3112920" cy="4321080"/>
            </a:xfrm>
            <a:custGeom>
              <a:avLst/>
              <a:gdLst/>
              <a:ahLst/>
              <a:rect l="l" t="t" r="r" b="b"/>
              <a:pathLst>
                <a:path w="3113086" h="6187511">
                  <a:moveTo>
                    <a:pt x="0" y="6185223"/>
                  </a:moveTo>
                  <a:lnTo>
                    <a:pt x="2142235" y="0"/>
                  </a:lnTo>
                  <a:lnTo>
                    <a:pt x="3113086" y="15351"/>
                  </a:lnTo>
                  <a:lnTo>
                    <a:pt x="562611" y="6187511"/>
                  </a:lnTo>
                  <a:lnTo>
                    <a:pt x="0" y="618522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梯形 1"/>
            <p:cNvSpPr/>
            <p:nvPr/>
          </p:nvSpPr>
          <p:spPr>
            <a:xfrm rot="5400000">
              <a:off x="5273640" y="1213920"/>
              <a:ext cx="3440160" cy="4300560"/>
            </a:xfrm>
            <a:custGeom>
              <a:avLst/>
              <a:gdLst/>
              <a:ahLst/>
              <a:rect l="l" t="t" r="r" b="b"/>
              <a:pathLst>
                <a:path w="3440111" h="6158521">
                  <a:moveTo>
                    <a:pt x="0" y="6156232"/>
                  </a:moveTo>
                  <a:lnTo>
                    <a:pt x="2596263" y="7380"/>
                  </a:lnTo>
                  <a:lnTo>
                    <a:pt x="3440111" y="0"/>
                  </a:lnTo>
                  <a:lnTo>
                    <a:pt x="692148" y="6158521"/>
                  </a:lnTo>
                  <a:lnTo>
                    <a:pt x="0" y="6156232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梯形 1"/>
            <p:cNvSpPr/>
            <p:nvPr/>
          </p:nvSpPr>
          <p:spPr>
            <a:xfrm rot="5400000">
              <a:off x="5207040" y="1945800"/>
              <a:ext cx="3587760" cy="4314960"/>
            </a:xfrm>
            <a:custGeom>
              <a:avLst/>
              <a:gdLst/>
              <a:ahLst/>
              <a:rect l="l" t="t" r="r" b="b"/>
              <a:pathLst>
                <a:path w="3587657" h="6179242">
                  <a:moveTo>
                    <a:pt x="0" y="6179242"/>
                  </a:moveTo>
                  <a:lnTo>
                    <a:pt x="2759367" y="0"/>
                  </a:lnTo>
                  <a:lnTo>
                    <a:pt x="3587657" y="6317"/>
                  </a:lnTo>
                  <a:lnTo>
                    <a:pt x="682442" y="6161744"/>
                  </a:lnTo>
                  <a:lnTo>
                    <a:pt x="0" y="6179242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梯形 1"/>
            <p:cNvSpPr/>
            <p:nvPr/>
          </p:nvSpPr>
          <p:spPr>
            <a:xfrm rot="5400000">
              <a:off x="5194800" y="2629440"/>
              <a:ext cx="3601800" cy="4305240"/>
            </a:xfrm>
            <a:custGeom>
              <a:avLst/>
              <a:gdLst/>
              <a:ahLst/>
              <a:rect l="l" t="t" r="r" b="b"/>
              <a:pathLst>
                <a:path w="3601754" h="6164762">
                  <a:moveTo>
                    <a:pt x="0" y="6162473"/>
                  </a:moveTo>
                  <a:lnTo>
                    <a:pt x="2923544" y="0"/>
                  </a:lnTo>
                  <a:lnTo>
                    <a:pt x="3601754" y="1436"/>
                  </a:lnTo>
                  <a:lnTo>
                    <a:pt x="785061" y="6164762"/>
                  </a:lnTo>
                  <a:lnTo>
                    <a:pt x="0" y="6162473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8"/>
          <p:cNvGrpSpPr/>
          <p:nvPr/>
        </p:nvGrpSpPr>
        <p:grpSpPr>
          <a:xfrm>
            <a:off x="0" y="-451080"/>
            <a:ext cx="4844880" cy="7034400"/>
            <a:chOff x="0" y="-451080"/>
            <a:chExt cx="4844880" cy="7034400"/>
          </a:xfrm>
        </p:grpSpPr>
        <p:sp>
          <p:nvSpPr>
            <p:cNvPr id="763" name="梯形 1"/>
            <p:cNvSpPr/>
            <p:nvPr/>
          </p:nvSpPr>
          <p:spPr>
            <a:xfrm rot="16200000">
              <a:off x="1094400" y="-1545480"/>
              <a:ext cx="2647800" cy="4836960"/>
            </a:xfrm>
            <a:custGeom>
              <a:avLst/>
              <a:gdLst/>
              <a:ahLst/>
              <a:rect l="l" t="t" r="r" b="b"/>
              <a:pathLst>
                <a:path w="3254359" h="6228096">
                  <a:moveTo>
                    <a:pt x="2203549" y="6228096"/>
                  </a:moveTo>
                  <a:lnTo>
                    <a:pt x="0" y="30101"/>
                  </a:lnTo>
                  <a:lnTo>
                    <a:pt x="858381" y="0"/>
                  </a:lnTo>
                  <a:lnTo>
                    <a:pt x="3254359" y="6226719"/>
                  </a:lnTo>
                  <a:lnTo>
                    <a:pt x="2203549" y="6228096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梯形 1"/>
            <p:cNvSpPr/>
            <p:nvPr/>
          </p:nvSpPr>
          <p:spPr>
            <a:xfrm rot="16200000">
              <a:off x="1032480" y="-581760"/>
              <a:ext cx="2820960" cy="4803840"/>
            </a:xfrm>
            <a:custGeom>
              <a:avLst/>
              <a:gdLst/>
              <a:ahLst/>
              <a:rect l="l" t="t" r="r" b="b"/>
              <a:pathLst>
                <a:path w="7794268" h="6184931">
                  <a:moveTo>
                    <a:pt x="5904846" y="6174416"/>
                  </a:moveTo>
                  <a:lnTo>
                    <a:pt x="1" y="5564"/>
                  </a:lnTo>
                  <a:lnTo>
                    <a:pt x="2810643" y="0"/>
                  </a:lnTo>
                  <a:lnTo>
                    <a:pt x="7794268" y="6184931"/>
                  </a:lnTo>
                  <a:lnTo>
                    <a:pt x="5904846" y="6174416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梯形 1"/>
            <p:cNvSpPr/>
            <p:nvPr/>
          </p:nvSpPr>
          <p:spPr>
            <a:xfrm flipH="1" rot="16200000">
              <a:off x="877680" y="255240"/>
              <a:ext cx="3112920" cy="4805280"/>
            </a:xfrm>
            <a:custGeom>
              <a:avLst/>
              <a:gdLst/>
              <a:ahLst/>
              <a:rect l="l" t="t" r="r" b="b"/>
              <a:pathLst>
                <a:path w="3113086" h="6187511">
                  <a:moveTo>
                    <a:pt x="0" y="6185223"/>
                  </a:moveTo>
                  <a:lnTo>
                    <a:pt x="2142235" y="0"/>
                  </a:lnTo>
                  <a:lnTo>
                    <a:pt x="3113086" y="15351"/>
                  </a:lnTo>
                  <a:lnTo>
                    <a:pt x="562611" y="6187511"/>
                  </a:lnTo>
                  <a:lnTo>
                    <a:pt x="0" y="618522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梯形 1"/>
            <p:cNvSpPr/>
            <p:nvPr/>
          </p:nvSpPr>
          <p:spPr>
            <a:xfrm flipH="1" rot="16200000">
              <a:off x="714960" y="972000"/>
              <a:ext cx="3440160" cy="4784760"/>
            </a:xfrm>
            <a:custGeom>
              <a:avLst/>
              <a:gdLst/>
              <a:ahLst/>
              <a:rect l="l" t="t" r="r" b="b"/>
              <a:pathLst>
                <a:path w="3440111" h="6158521">
                  <a:moveTo>
                    <a:pt x="0" y="6156232"/>
                  </a:moveTo>
                  <a:lnTo>
                    <a:pt x="2596263" y="7380"/>
                  </a:lnTo>
                  <a:lnTo>
                    <a:pt x="3440111" y="0"/>
                  </a:lnTo>
                  <a:lnTo>
                    <a:pt x="692148" y="6158521"/>
                  </a:lnTo>
                  <a:lnTo>
                    <a:pt x="0" y="6156232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梯形 1"/>
            <p:cNvSpPr/>
            <p:nvPr/>
          </p:nvSpPr>
          <p:spPr>
            <a:xfrm flipH="1" rot="16200000">
              <a:off x="633240" y="1703160"/>
              <a:ext cx="3587760" cy="4800600"/>
            </a:xfrm>
            <a:custGeom>
              <a:avLst/>
              <a:gdLst/>
              <a:ahLst/>
              <a:rect l="l" t="t" r="r" b="b"/>
              <a:pathLst>
                <a:path w="3587657" h="6179242">
                  <a:moveTo>
                    <a:pt x="0" y="6179242"/>
                  </a:moveTo>
                  <a:lnTo>
                    <a:pt x="2759367" y="0"/>
                  </a:lnTo>
                  <a:lnTo>
                    <a:pt x="3587657" y="6317"/>
                  </a:lnTo>
                  <a:lnTo>
                    <a:pt x="682442" y="6161744"/>
                  </a:lnTo>
                  <a:lnTo>
                    <a:pt x="0" y="6179242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梯形 1"/>
            <p:cNvSpPr/>
            <p:nvPr/>
          </p:nvSpPr>
          <p:spPr>
            <a:xfrm flipH="1" rot="16200000">
              <a:off x="631800" y="2387520"/>
              <a:ext cx="3601800" cy="4789440"/>
            </a:xfrm>
            <a:custGeom>
              <a:avLst/>
              <a:gdLst/>
              <a:ahLst/>
              <a:rect l="l" t="t" r="r" b="b"/>
              <a:pathLst>
                <a:path w="3601754" h="6164762">
                  <a:moveTo>
                    <a:pt x="0" y="6162473"/>
                  </a:moveTo>
                  <a:lnTo>
                    <a:pt x="2923544" y="0"/>
                  </a:lnTo>
                  <a:lnTo>
                    <a:pt x="3601754" y="1436"/>
                  </a:lnTo>
                  <a:lnTo>
                    <a:pt x="785061" y="6164762"/>
                  </a:lnTo>
                  <a:lnTo>
                    <a:pt x="0" y="6162473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梯形 8"/>
          <p:cNvGrpSpPr/>
          <p:nvPr/>
        </p:nvGrpSpPr>
        <p:grpSpPr>
          <a:xfrm>
            <a:off x="49320" y="-227520"/>
            <a:ext cx="4851360" cy="6561360"/>
            <a:chOff x="49320" y="-227520"/>
            <a:chExt cx="4851360" cy="6561360"/>
          </a:xfrm>
        </p:grpSpPr>
        <p:pic>
          <p:nvPicPr>
            <p:cNvPr id="770" name="梯形 8" descr=""/>
            <p:cNvPicPr/>
            <p:nvPr/>
          </p:nvPicPr>
          <p:blipFill>
            <a:blip r:embed="rId1"/>
            <a:stretch/>
          </p:blipFill>
          <p:spPr>
            <a:xfrm>
              <a:off x="109440" y="-165240"/>
              <a:ext cx="4791240" cy="64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18"/>
            <p:cNvSpPr/>
            <p:nvPr/>
          </p:nvSpPr>
          <p:spPr>
            <a:xfrm rot="16387800">
              <a:off x="-693720" y="797040"/>
              <a:ext cx="6215040" cy="43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梯形 8"/>
          <p:cNvSpPr/>
          <p:nvPr/>
        </p:nvSpPr>
        <p:spPr>
          <a:xfrm rot="16387800">
            <a:off x="4143960" y="939240"/>
            <a:ext cx="5700960" cy="4149720"/>
          </a:xfrm>
          <a:custGeom>
            <a:avLst/>
            <a:gdLst/>
            <a:ahLst/>
            <a:rect l="l" t="t" r="r" b="b"/>
            <a:pathLst>
              <a:path w="5700346" h="4149733">
                <a:moveTo>
                  <a:pt x="0" y="4149733"/>
                </a:moveTo>
                <a:lnTo>
                  <a:pt x="2421451" y="226947"/>
                </a:lnTo>
                <a:lnTo>
                  <a:pt x="5700346" y="0"/>
                </a:lnTo>
                <a:lnTo>
                  <a:pt x="4094916" y="3988485"/>
                </a:lnTo>
                <a:lnTo>
                  <a:pt x="0" y="41497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组合 12"/>
          <p:cNvGrpSpPr/>
          <p:nvPr/>
        </p:nvGrpSpPr>
        <p:grpSpPr>
          <a:xfrm>
            <a:off x="-4575240" y="-4040280"/>
            <a:ext cx="14427360" cy="16603920"/>
            <a:chOff x="-4575240" y="-4040280"/>
            <a:chExt cx="14427360" cy="16603920"/>
          </a:xfrm>
        </p:grpSpPr>
        <p:grpSp>
          <p:nvGrpSpPr>
            <p:cNvPr id="774" name="组合 4"/>
            <p:cNvGrpSpPr/>
            <p:nvPr/>
          </p:nvGrpSpPr>
          <p:grpSpPr>
            <a:xfrm>
              <a:off x="-4575240" y="-4040280"/>
              <a:ext cx="14427360" cy="16603920"/>
              <a:chOff x="-4575240" y="-4040280"/>
              <a:chExt cx="14427360" cy="16603920"/>
            </a:xfrm>
          </p:grpSpPr>
          <p:pic>
            <p:nvPicPr>
              <p:cNvPr id="775" name="Picture 2" descr="C:\Users\lychee\Desktop\PPT彩条\大标题\大标题.gif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-5663520" y="-2952000"/>
                <a:ext cx="16603920" cy="144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" name="等腰三角形 3"/>
              <p:cNvSpPr/>
              <p:nvPr/>
            </p:nvSpPr>
            <p:spPr>
              <a:xfrm flipV="1" rot="5400000">
                <a:off x="2950560" y="225000"/>
                <a:ext cx="911160" cy="682560"/>
              </a:xfrm>
              <a:custGeom>
                <a:avLst/>
                <a:gdLst/>
                <a:ahLst/>
                <a:rect l="l" t="t" r="r" b="b"/>
                <a:pathLst>
                  <a:path w="978520" h="497706">
                    <a:moveTo>
                      <a:pt x="0" y="478656"/>
                    </a:moveTo>
                    <a:lnTo>
                      <a:pt x="876605" y="0"/>
                    </a:lnTo>
                    <a:lnTo>
                      <a:pt x="978520" y="497706"/>
                    </a:lnTo>
                    <a:lnTo>
                      <a:pt x="0" y="4786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5400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3040" dir="5400000" blurRad="0" rotWithShape="0">
                  <a:srgbClr val="000000">
                    <a:alpha val="3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梯形 5"/>
            <p:cNvSpPr/>
            <p:nvPr/>
          </p:nvSpPr>
          <p:spPr>
            <a:xfrm rot="5400000">
              <a:off x="367920" y="354600"/>
              <a:ext cx="2509920" cy="3267360"/>
            </a:xfrm>
            <a:custGeom>
              <a:avLst/>
              <a:gdLst/>
              <a:ahLst/>
              <a:rect l="l" t="t" r="r" b="b"/>
              <a:pathLst>
                <a:path w="2697783" h="2380968">
                  <a:moveTo>
                    <a:pt x="0" y="0"/>
                  </a:moveTo>
                  <a:cubicBezTo>
                    <a:pt x="116274" y="86649"/>
                    <a:pt x="170297" y="91477"/>
                    <a:pt x="223696" y="99116"/>
                  </a:cubicBezTo>
                  <a:lnTo>
                    <a:pt x="777175" y="106180"/>
                  </a:lnTo>
                  <a:lnTo>
                    <a:pt x="2697783" y="2374618"/>
                  </a:lnTo>
                  <a:lnTo>
                    <a:pt x="1578658" y="23809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梯形 5"/>
            <p:cNvSpPr/>
            <p:nvPr/>
          </p:nvSpPr>
          <p:spPr>
            <a:xfrm rot="5400000">
              <a:off x="815760" y="-703800"/>
              <a:ext cx="2049480" cy="3740400"/>
            </a:xfrm>
            <a:custGeom>
              <a:avLst/>
              <a:gdLst/>
              <a:ahLst/>
              <a:rect l="l" t="t" r="r" b="b"/>
              <a:pathLst>
                <a:path w="2204811" h="2725688">
                  <a:moveTo>
                    <a:pt x="1466396" y="2725688"/>
                  </a:moveTo>
                  <a:lnTo>
                    <a:pt x="0" y="0"/>
                  </a:lnTo>
                  <a:lnTo>
                    <a:pt x="635907" y="355600"/>
                  </a:lnTo>
                  <a:lnTo>
                    <a:pt x="2204811" y="2725688"/>
                  </a:lnTo>
                  <a:lnTo>
                    <a:pt x="1466396" y="2725688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梯形 5"/>
            <p:cNvSpPr/>
            <p:nvPr/>
          </p:nvSpPr>
          <p:spPr>
            <a:xfrm rot="5400000">
              <a:off x="187200" y="1277280"/>
              <a:ext cx="2738520" cy="3121200"/>
            </a:xfrm>
            <a:custGeom>
              <a:avLst/>
              <a:gdLst/>
              <a:ahLst/>
              <a:rect l="l" t="t" r="r" b="b"/>
              <a:pathLst>
                <a:path w="2944586" h="2274838">
                  <a:moveTo>
                    <a:pt x="1926771" y="2274838"/>
                  </a:moveTo>
                  <a:lnTo>
                    <a:pt x="0" y="3175"/>
                  </a:lnTo>
                  <a:lnTo>
                    <a:pt x="618444" y="0"/>
                  </a:lnTo>
                  <a:lnTo>
                    <a:pt x="2944586" y="2262138"/>
                  </a:lnTo>
                  <a:lnTo>
                    <a:pt x="1926771" y="2274838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梯形 5"/>
            <p:cNvSpPr/>
            <p:nvPr/>
          </p:nvSpPr>
          <p:spPr>
            <a:xfrm rot="5400000">
              <a:off x="50400" y="1995840"/>
              <a:ext cx="3017880" cy="3134160"/>
            </a:xfrm>
            <a:custGeom>
              <a:avLst/>
              <a:gdLst/>
              <a:ahLst/>
              <a:rect l="l" t="t" r="r" b="b"/>
              <a:pathLst>
                <a:path w="3246211" h="2284363">
                  <a:moveTo>
                    <a:pt x="2342696" y="2284363"/>
                  </a:moveTo>
                  <a:lnTo>
                    <a:pt x="0" y="3175"/>
                  </a:lnTo>
                  <a:lnTo>
                    <a:pt x="615270" y="0"/>
                  </a:lnTo>
                  <a:lnTo>
                    <a:pt x="3246211" y="2284363"/>
                  </a:lnTo>
                  <a:lnTo>
                    <a:pt x="2342696" y="2284363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梯形 5"/>
            <p:cNvSpPr/>
            <p:nvPr/>
          </p:nvSpPr>
          <p:spPr>
            <a:xfrm rot="5400000">
              <a:off x="-57240" y="2697480"/>
              <a:ext cx="3255840" cy="3121200"/>
            </a:xfrm>
            <a:custGeom>
              <a:avLst/>
              <a:gdLst/>
              <a:ahLst/>
              <a:rect l="l" t="t" r="r" b="b"/>
              <a:pathLst>
                <a:path w="3500211" h="2274838">
                  <a:moveTo>
                    <a:pt x="2609396" y="2274838"/>
                  </a:moveTo>
                  <a:lnTo>
                    <a:pt x="0" y="6350"/>
                  </a:lnTo>
                  <a:lnTo>
                    <a:pt x="508907" y="0"/>
                  </a:lnTo>
                  <a:lnTo>
                    <a:pt x="3500211" y="2274838"/>
                  </a:lnTo>
                  <a:lnTo>
                    <a:pt x="2609396" y="2274838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梯形 5"/>
            <p:cNvSpPr/>
            <p:nvPr/>
          </p:nvSpPr>
          <p:spPr>
            <a:xfrm rot="5400000">
              <a:off x="-189000" y="3280320"/>
              <a:ext cx="3510000" cy="3134160"/>
            </a:xfrm>
            <a:custGeom>
              <a:avLst/>
              <a:gdLst/>
              <a:ahLst/>
              <a:rect l="l" t="t" r="r" b="b"/>
              <a:pathLst>
                <a:path w="3774531" h="2283728">
                  <a:moveTo>
                    <a:pt x="3020876" y="2283728"/>
                  </a:moveTo>
                  <a:lnTo>
                    <a:pt x="0" y="0"/>
                  </a:lnTo>
                  <a:lnTo>
                    <a:pt x="486047" y="8890"/>
                  </a:lnTo>
                  <a:lnTo>
                    <a:pt x="3774531" y="2283728"/>
                  </a:lnTo>
                  <a:lnTo>
                    <a:pt x="3020876" y="2283728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3" name="Picture 5" descr="C:\Users\lychee\Desktop\PPT彩条\大标题\四边形.gif"/>
          <p:cNvPicPr/>
          <p:nvPr/>
        </p:nvPicPr>
        <p:blipFill>
          <a:blip r:embed="rId2"/>
          <a:stretch/>
        </p:blipFill>
        <p:spPr>
          <a:xfrm>
            <a:off x="-541440" y="-1971720"/>
            <a:ext cx="9309240" cy="11449080"/>
          </a:xfrm>
          <a:prstGeom prst="rect">
            <a:avLst/>
          </a:prstGeom>
          <a:ln w="0">
            <a:noFill/>
          </a:ln>
        </p:spPr>
      </p:pic>
      <p:grpSp>
        <p:nvGrpSpPr>
          <p:cNvPr id="784" name="组合 2"/>
          <p:cNvGrpSpPr/>
          <p:nvPr/>
        </p:nvGrpSpPr>
        <p:grpSpPr>
          <a:xfrm>
            <a:off x="6517800" y="-1859040"/>
            <a:ext cx="6443640" cy="7578720"/>
            <a:chOff x="6517800" y="-1859040"/>
            <a:chExt cx="6443640" cy="7578720"/>
          </a:xfrm>
        </p:grpSpPr>
        <p:sp>
          <p:nvSpPr>
            <p:cNvPr id="785" name="等腰三角形 14"/>
            <p:cNvSpPr/>
            <p:nvPr/>
          </p:nvSpPr>
          <p:spPr>
            <a:xfrm rot="5400000">
              <a:off x="5965920" y="-1275480"/>
              <a:ext cx="7578720" cy="6411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等腰三角形 14"/>
            <p:cNvSpPr/>
            <p:nvPr/>
          </p:nvSpPr>
          <p:spPr>
            <a:xfrm rot="5400000">
              <a:off x="6241680" y="-1535040"/>
              <a:ext cx="6994800" cy="639144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等腰三角形 14"/>
            <p:cNvSpPr/>
            <p:nvPr/>
          </p:nvSpPr>
          <p:spPr>
            <a:xfrm rot="5400000">
              <a:off x="6591240" y="-1896120"/>
              <a:ext cx="6284880" cy="6404040"/>
            </a:xfrm>
            <a:custGeom>
              <a:avLst/>
              <a:gdLst/>
              <a:ahLst/>
              <a:rect l="l" t="t" r="r" b="b"/>
              <a:pathLst>
                <a:path w="6283774" h="6404099">
                  <a:moveTo>
                    <a:pt x="5560028" y="6404099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5560028" y="6404099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等腰三角形 14"/>
            <p:cNvSpPr/>
            <p:nvPr/>
          </p:nvSpPr>
          <p:spPr>
            <a:xfrm rot="5400000">
              <a:off x="6953040" y="-2222280"/>
              <a:ext cx="5508720" cy="6353280"/>
            </a:xfrm>
            <a:custGeom>
              <a:avLst/>
              <a:gdLst/>
              <a:ahLst/>
              <a:rect l="l" t="t" r="r" b="b"/>
              <a:pathLst>
                <a:path w="5509075" h="6353301">
                  <a:moveTo>
                    <a:pt x="4721829" y="6353301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4721829" y="6353301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等腰三角形 14"/>
            <p:cNvSpPr/>
            <p:nvPr/>
          </p:nvSpPr>
          <p:spPr>
            <a:xfrm rot="5400000">
              <a:off x="7357320" y="-2647800"/>
              <a:ext cx="4721400" cy="6378840"/>
            </a:xfrm>
            <a:custGeom>
              <a:avLst/>
              <a:gdLst/>
              <a:ahLst/>
              <a:rect l="l" t="t" r="r" b="b"/>
              <a:pathLst>
                <a:path w="4721681" h="6378701">
                  <a:moveTo>
                    <a:pt x="3807429" y="6378701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3807429" y="6378701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等腰三角形 14"/>
            <p:cNvSpPr/>
            <p:nvPr/>
          </p:nvSpPr>
          <p:spPr>
            <a:xfrm rot="5400000">
              <a:off x="7810200" y="-3116160"/>
              <a:ext cx="3832200" cy="6417000"/>
            </a:xfrm>
            <a:custGeom>
              <a:avLst/>
              <a:gdLst/>
              <a:ahLst/>
              <a:rect l="l" t="t" r="r" b="b"/>
              <a:pathLst>
                <a:path w="3832681" h="6416801">
                  <a:moveTo>
                    <a:pt x="3210529" y="6416801"/>
                  </a:moveTo>
                  <a:lnTo>
                    <a:pt x="0" y="0"/>
                  </a:lnTo>
                  <a:lnTo>
                    <a:pt x="3832681" y="6408160"/>
                  </a:lnTo>
                  <a:lnTo>
                    <a:pt x="3210529" y="6416801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TextBox 24"/>
          <p:cNvSpPr/>
          <p:nvPr/>
        </p:nvSpPr>
        <p:spPr>
          <a:xfrm rot="1797000">
            <a:off x="3414240" y="2768760"/>
            <a:ext cx="26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oadway BT"/>
              </a:rPr>
              <a:t>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任意多边形 4" hidden="1"/>
          <p:cNvSpPr/>
          <p:nvPr/>
        </p:nvSpPr>
        <p:spPr>
          <a:xfrm rot="21004200">
            <a:off x="5681160" y="3269880"/>
            <a:ext cx="3062520" cy="365040"/>
          </a:xfrm>
          <a:custGeom>
            <a:avLst/>
            <a:gdLst/>
            <a:ahLst/>
            <a:rect l="l" t="t" r="r" b="b"/>
            <a:pathLst>
              <a:path w="2540000" h="246743">
                <a:moveTo>
                  <a:pt x="0" y="246743"/>
                </a:moveTo>
                <a:cubicBezTo>
                  <a:pt x="441476" y="238276"/>
                  <a:pt x="882953" y="229810"/>
                  <a:pt x="1306286" y="188686"/>
                </a:cubicBezTo>
                <a:cubicBezTo>
                  <a:pt x="1729619" y="147562"/>
                  <a:pt x="2134809" y="73781"/>
                  <a:pt x="2540000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任意多边形 5" hidden="1"/>
          <p:cNvSpPr/>
          <p:nvPr/>
        </p:nvSpPr>
        <p:spPr>
          <a:xfrm rot="21004200">
            <a:off x="5881320" y="3852360"/>
            <a:ext cx="347760" cy="1874880"/>
          </a:xfrm>
          <a:custGeom>
            <a:avLst/>
            <a:gdLst/>
            <a:ahLst/>
            <a:rect l="l" t="t" r="r" b="b"/>
            <a:pathLst>
              <a:path w="266743" h="1494972">
                <a:moveTo>
                  <a:pt x="0" y="0"/>
                </a:moveTo>
                <a:cubicBezTo>
                  <a:pt x="94343" y="455990"/>
                  <a:pt x="188686" y="911981"/>
                  <a:pt x="232229" y="1161143"/>
                </a:cubicBezTo>
                <a:cubicBezTo>
                  <a:pt x="275772" y="1410305"/>
                  <a:pt x="268514" y="1452638"/>
                  <a:pt x="261257" y="1494972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任意多边形 6" hidden="1"/>
          <p:cNvSpPr/>
          <p:nvPr/>
        </p:nvSpPr>
        <p:spPr>
          <a:xfrm rot="21004200">
            <a:off x="6346440" y="5208480"/>
            <a:ext cx="2981520" cy="220680"/>
          </a:xfrm>
          <a:custGeom>
            <a:avLst/>
            <a:gdLst/>
            <a:ahLst/>
            <a:rect l="l" t="t" r="r" b="b"/>
            <a:pathLst>
              <a:path w="2423885" h="130628">
                <a:moveTo>
                  <a:pt x="0" y="130628"/>
                </a:moveTo>
                <a:lnTo>
                  <a:pt x="1306285" y="43543"/>
                </a:lnTo>
                <a:cubicBezTo>
                  <a:pt x="1710266" y="21772"/>
                  <a:pt x="2423885" y="0"/>
                  <a:pt x="2423885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任意多边形 7" hidden="1"/>
          <p:cNvSpPr/>
          <p:nvPr/>
        </p:nvSpPr>
        <p:spPr>
          <a:xfrm rot="21004200">
            <a:off x="8865720" y="2904840"/>
            <a:ext cx="195480" cy="2077920"/>
          </a:xfrm>
          <a:custGeom>
            <a:avLst/>
            <a:gdLst/>
            <a:ahLst/>
            <a:rect l="l" t="t" r="r" b="b"/>
            <a:pathLst>
              <a:path w="174171" h="1625600">
                <a:moveTo>
                  <a:pt x="0" y="0"/>
                </a:moveTo>
                <a:cubicBezTo>
                  <a:pt x="21771" y="328990"/>
                  <a:pt x="43543" y="657981"/>
                  <a:pt x="72571" y="928914"/>
                </a:cubicBezTo>
                <a:cubicBezTo>
                  <a:pt x="101600" y="1199847"/>
                  <a:pt x="137885" y="1412723"/>
                  <a:pt x="174171" y="162560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任意多边形 9" hidden="1"/>
          <p:cNvSpPr/>
          <p:nvPr/>
        </p:nvSpPr>
        <p:spPr>
          <a:xfrm rot="21004200">
            <a:off x="5765400" y="3270240"/>
            <a:ext cx="3098880" cy="1332000"/>
          </a:xfrm>
          <a:custGeom>
            <a:avLst/>
            <a:gdLst/>
            <a:ahLst/>
            <a:rect l="l" t="t" r="r" b="b"/>
            <a:pathLst>
              <a:path w="2525486" h="1039181">
                <a:moveTo>
                  <a:pt x="0" y="261257"/>
                </a:moveTo>
                <a:cubicBezTo>
                  <a:pt x="457200" y="596295"/>
                  <a:pt x="914400" y="931333"/>
                  <a:pt x="1233714" y="1016000"/>
                </a:cubicBezTo>
                <a:cubicBezTo>
                  <a:pt x="1553028" y="1100667"/>
                  <a:pt x="1700591" y="938590"/>
                  <a:pt x="1915886" y="769257"/>
                </a:cubicBezTo>
                <a:cubicBezTo>
                  <a:pt x="2131181" y="599924"/>
                  <a:pt x="2328333" y="299962"/>
                  <a:pt x="2525486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任意多边形 10" hidden="1"/>
          <p:cNvSpPr/>
          <p:nvPr/>
        </p:nvSpPr>
        <p:spPr>
          <a:xfrm rot="21004200">
            <a:off x="6276600" y="4665240"/>
            <a:ext cx="1057320" cy="966960"/>
          </a:xfrm>
          <a:custGeom>
            <a:avLst/>
            <a:gdLst/>
            <a:ahLst/>
            <a:rect l="l" t="t" r="r" b="b"/>
            <a:pathLst>
              <a:path w="870857" h="740228">
                <a:moveTo>
                  <a:pt x="0" y="740228"/>
                </a:moveTo>
                <a:cubicBezTo>
                  <a:pt x="224971" y="518885"/>
                  <a:pt x="449942" y="297542"/>
                  <a:pt x="595085" y="174171"/>
                </a:cubicBezTo>
                <a:cubicBezTo>
                  <a:pt x="740228" y="50800"/>
                  <a:pt x="805542" y="25400"/>
                  <a:pt x="870857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任意多边形 12" hidden="1"/>
          <p:cNvSpPr/>
          <p:nvPr/>
        </p:nvSpPr>
        <p:spPr>
          <a:xfrm rot="21004200">
            <a:off x="7911720" y="4311360"/>
            <a:ext cx="1270080" cy="768240"/>
          </a:xfrm>
          <a:custGeom>
            <a:avLst/>
            <a:gdLst/>
            <a:ahLst/>
            <a:rect l="l" t="t" r="r" b="b"/>
            <a:pathLst>
              <a:path w="1074057" h="624373">
                <a:moveTo>
                  <a:pt x="1074057" y="624373"/>
                </a:moveTo>
                <a:cubicBezTo>
                  <a:pt x="778933" y="415125"/>
                  <a:pt x="483809" y="205878"/>
                  <a:pt x="304800" y="101859"/>
                </a:cubicBezTo>
                <a:cubicBezTo>
                  <a:pt x="125790" y="-2160"/>
                  <a:pt x="62895" y="-951"/>
                  <a:pt x="0" y="259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24"/>
          <p:cNvGrpSpPr/>
          <p:nvPr/>
        </p:nvGrpSpPr>
        <p:grpSpPr>
          <a:xfrm>
            <a:off x="8758440" y="-1860480"/>
            <a:ext cx="2980080" cy="10439280"/>
            <a:chOff x="8758440" y="-1860480"/>
            <a:chExt cx="2980080" cy="10439280"/>
          </a:xfrm>
        </p:grpSpPr>
        <p:sp>
          <p:nvSpPr>
            <p:cNvPr id="800" name="矩形 25"/>
            <p:cNvSpPr/>
            <p:nvPr/>
          </p:nvSpPr>
          <p:spPr>
            <a:xfrm rot="15777000">
              <a:off x="4813200" y="3238560"/>
              <a:ext cx="10315800" cy="3340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6"/>
            <p:cNvSpPr/>
            <p:nvPr/>
          </p:nvSpPr>
          <p:spPr>
            <a:xfrm rot="15777000">
              <a:off x="5129640" y="3195360"/>
              <a:ext cx="10315800" cy="3358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27"/>
            <p:cNvSpPr/>
            <p:nvPr/>
          </p:nvSpPr>
          <p:spPr>
            <a:xfrm rot="15777000">
              <a:off x="5457600" y="3149280"/>
              <a:ext cx="10315800" cy="3358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矩形 34"/>
            <p:cNvSpPr/>
            <p:nvPr/>
          </p:nvSpPr>
          <p:spPr>
            <a:xfrm rot="15777000">
              <a:off x="5780520" y="3111120"/>
              <a:ext cx="10315800" cy="33588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 35"/>
            <p:cNvSpPr/>
            <p:nvPr/>
          </p:nvSpPr>
          <p:spPr>
            <a:xfrm rot="15777000">
              <a:off x="4482360" y="3272040"/>
              <a:ext cx="10315800" cy="33408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 36"/>
            <p:cNvSpPr/>
            <p:nvPr/>
          </p:nvSpPr>
          <p:spPr>
            <a:xfrm rot="15777000">
              <a:off x="5319000" y="2243520"/>
              <a:ext cx="7933680" cy="820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组合 37"/>
          <p:cNvGrpSpPr/>
          <p:nvPr/>
        </p:nvGrpSpPr>
        <p:grpSpPr>
          <a:xfrm>
            <a:off x="-1609200" y="-5155560"/>
            <a:ext cx="14250240" cy="18918720"/>
            <a:chOff x="-1609200" y="-5155560"/>
            <a:chExt cx="14250240" cy="18918720"/>
          </a:xfrm>
        </p:grpSpPr>
        <p:sp>
          <p:nvSpPr>
            <p:cNvPr id="807" name="等腰三角形 14"/>
            <p:cNvSpPr/>
            <p:nvPr/>
          </p:nvSpPr>
          <p:spPr>
            <a:xfrm flipH="1" rot="14009400">
              <a:off x="-4005000" y="3275280"/>
              <a:ext cx="18962640" cy="3594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等腰三角形 14"/>
            <p:cNvSpPr/>
            <p:nvPr/>
          </p:nvSpPr>
          <p:spPr>
            <a:xfrm flipH="1" rot="14009400">
              <a:off x="-3670200" y="2732040"/>
              <a:ext cx="17500680" cy="358200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等腰三角形 14"/>
            <p:cNvSpPr/>
            <p:nvPr/>
          </p:nvSpPr>
          <p:spPr>
            <a:xfrm flipH="1" rot="14009400">
              <a:off x="-3231000" y="1886040"/>
              <a:ext cx="16965720" cy="4385880"/>
            </a:xfrm>
            <a:custGeom>
              <a:avLst/>
              <a:gdLst/>
              <a:ahLst/>
              <a:rect l="l" t="t" r="r" b="b"/>
              <a:pathLst>
                <a:path w="6780958" h="7826057">
                  <a:moveTo>
                    <a:pt x="6780958" y="7826057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6780958" y="7826057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等腰三角形 14"/>
            <p:cNvSpPr/>
            <p:nvPr/>
          </p:nvSpPr>
          <p:spPr>
            <a:xfrm flipH="1" rot="14009400">
              <a:off x="-2759400" y="1144440"/>
              <a:ext cx="15735240" cy="4759200"/>
            </a:xfrm>
            <a:custGeom>
              <a:avLst/>
              <a:gdLst/>
              <a:ahLst/>
              <a:rect l="l" t="t" r="r" b="b"/>
              <a:pathLst>
                <a:path w="6288987" h="8492482">
                  <a:moveTo>
                    <a:pt x="6288987" y="8492483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6288987" y="849248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等腰三角形 14"/>
            <p:cNvSpPr/>
            <p:nvPr/>
          </p:nvSpPr>
          <p:spPr>
            <a:xfrm flipH="1" rot="14009400">
              <a:off x="-2345760" y="221040"/>
              <a:ext cx="15810120" cy="5919120"/>
            </a:xfrm>
            <a:custGeom>
              <a:avLst/>
              <a:gdLst/>
              <a:ahLst/>
              <a:rect l="l" t="t" r="r" b="b"/>
              <a:pathLst>
                <a:path w="6319004" h="10558078">
                  <a:moveTo>
                    <a:pt x="6319004" y="10558078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6319004" y="10558078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等腰三角形 14"/>
            <p:cNvSpPr/>
            <p:nvPr/>
          </p:nvSpPr>
          <p:spPr>
            <a:xfrm flipH="1" rot="14009400">
              <a:off x="-2022480" y="-482760"/>
              <a:ext cx="14790960" cy="6279480"/>
            </a:xfrm>
            <a:custGeom>
              <a:avLst/>
              <a:gdLst/>
              <a:ahLst/>
              <a:rect l="l" t="t" r="r" b="b"/>
              <a:pathLst>
                <a:path w="5911233" h="11204454">
                  <a:moveTo>
                    <a:pt x="5576576" y="11204454"/>
                  </a:moveTo>
                  <a:lnTo>
                    <a:pt x="0" y="0"/>
                  </a:lnTo>
                  <a:lnTo>
                    <a:pt x="5911233" y="9861089"/>
                  </a:lnTo>
                  <a:lnTo>
                    <a:pt x="5576576" y="11204454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2"/>
          <p:cNvGrpSpPr/>
          <p:nvPr/>
        </p:nvGrpSpPr>
        <p:grpSpPr>
          <a:xfrm>
            <a:off x="-360" y="328320"/>
            <a:ext cx="10612440" cy="2348280"/>
            <a:chOff x="-360" y="328320"/>
            <a:chExt cx="10612440" cy="2348280"/>
          </a:xfrm>
        </p:grpSpPr>
        <p:sp>
          <p:nvSpPr>
            <p:cNvPr id="814" name="矩形 22"/>
            <p:cNvSpPr/>
            <p:nvPr/>
          </p:nvSpPr>
          <p:spPr>
            <a:xfrm rot="10800000">
              <a:off x="-360" y="2293920"/>
              <a:ext cx="10612440" cy="38232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21"/>
            <p:cNvSpPr/>
            <p:nvPr/>
          </p:nvSpPr>
          <p:spPr>
            <a:xfrm rot="10800000">
              <a:off x="-360" y="1814040"/>
              <a:ext cx="10612440" cy="52236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17"/>
            <p:cNvSpPr/>
            <p:nvPr/>
          </p:nvSpPr>
          <p:spPr>
            <a:xfrm rot="10800000">
              <a:off x="-360" y="1468080"/>
              <a:ext cx="10612440" cy="4348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8"/>
            <p:cNvSpPr/>
            <p:nvPr/>
          </p:nvSpPr>
          <p:spPr>
            <a:xfrm rot="10800000">
              <a:off x="-360" y="794520"/>
              <a:ext cx="10612440" cy="6634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9"/>
            <p:cNvSpPr/>
            <p:nvPr/>
          </p:nvSpPr>
          <p:spPr>
            <a:xfrm rot="10800000">
              <a:off x="-360" y="327960"/>
              <a:ext cx="10612440" cy="6490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矩形 20"/>
          <p:cNvSpPr/>
          <p:nvPr/>
        </p:nvSpPr>
        <p:spPr>
          <a:xfrm rot="10800000">
            <a:off x="1080" y="50400"/>
            <a:ext cx="10612440" cy="3888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29"/>
          <p:cNvSpPr/>
          <p:nvPr/>
        </p:nvSpPr>
        <p:spPr>
          <a:xfrm>
            <a:off x="225360" y="652320"/>
            <a:ext cx="8588520" cy="36403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1"/>
          <p:cNvSpPr/>
          <p:nvPr/>
        </p:nvSpPr>
        <p:spPr>
          <a:xfrm>
            <a:off x="612720" y="207972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Science and technology constitute a primary productive force and new industry produce new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32"/>
          <p:cNvSpPr/>
          <p:nvPr/>
        </p:nvSpPr>
        <p:spPr>
          <a:xfrm>
            <a:off x="997560" y="12985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3" descr="F:\文档\wps比赛\2457331_125346024382_2.jpg"/>
          <p:cNvPicPr/>
          <p:nvPr/>
        </p:nvPicPr>
        <p:blipFill>
          <a:blip r:embed="rId1"/>
          <a:stretch/>
        </p:blipFill>
        <p:spPr>
          <a:xfrm>
            <a:off x="6229440" y="1158840"/>
            <a:ext cx="1366920" cy="11876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" descr="F:\文档\wps比赛\2457331_125346024382_2.jpg"/>
          <p:cNvPicPr/>
          <p:nvPr/>
        </p:nvPicPr>
        <p:blipFill>
          <a:blip r:embed="rId2"/>
          <a:stretch/>
        </p:blipFill>
        <p:spPr>
          <a:xfrm>
            <a:off x="6291360" y="2603520"/>
            <a:ext cx="1377720" cy="103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5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2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2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3" dur="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2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1.66667E-006 0.59607 E">
                                      <p:cBhvr>
                                        <p:cTn id="688" dur="5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任意多边形 4" hidden="1"/>
          <p:cNvSpPr/>
          <p:nvPr/>
        </p:nvSpPr>
        <p:spPr>
          <a:xfrm rot="21004200">
            <a:off x="5681160" y="3269880"/>
            <a:ext cx="3062520" cy="365040"/>
          </a:xfrm>
          <a:custGeom>
            <a:avLst/>
            <a:gdLst/>
            <a:ahLst/>
            <a:rect l="l" t="t" r="r" b="b"/>
            <a:pathLst>
              <a:path w="2540000" h="246743">
                <a:moveTo>
                  <a:pt x="0" y="246743"/>
                </a:moveTo>
                <a:cubicBezTo>
                  <a:pt x="441476" y="238276"/>
                  <a:pt x="882953" y="229810"/>
                  <a:pt x="1306286" y="188686"/>
                </a:cubicBezTo>
                <a:cubicBezTo>
                  <a:pt x="1729619" y="147562"/>
                  <a:pt x="2134809" y="73781"/>
                  <a:pt x="2540000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任意多边形 5" hidden="1"/>
          <p:cNvSpPr/>
          <p:nvPr/>
        </p:nvSpPr>
        <p:spPr>
          <a:xfrm rot="21004200">
            <a:off x="5881320" y="3852360"/>
            <a:ext cx="347760" cy="1874880"/>
          </a:xfrm>
          <a:custGeom>
            <a:avLst/>
            <a:gdLst/>
            <a:ahLst/>
            <a:rect l="l" t="t" r="r" b="b"/>
            <a:pathLst>
              <a:path w="266743" h="1494972">
                <a:moveTo>
                  <a:pt x="0" y="0"/>
                </a:moveTo>
                <a:cubicBezTo>
                  <a:pt x="94343" y="455990"/>
                  <a:pt x="188686" y="911981"/>
                  <a:pt x="232229" y="1161143"/>
                </a:cubicBezTo>
                <a:cubicBezTo>
                  <a:pt x="275772" y="1410305"/>
                  <a:pt x="268514" y="1452638"/>
                  <a:pt x="261257" y="1494972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任意多边形 6" hidden="1"/>
          <p:cNvSpPr/>
          <p:nvPr/>
        </p:nvSpPr>
        <p:spPr>
          <a:xfrm rot="21004200">
            <a:off x="6346440" y="5208480"/>
            <a:ext cx="2981520" cy="220680"/>
          </a:xfrm>
          <a:custGeom>
            <a:avLst/>
            <a:gdLst/>
            <a:ahLst/>
            <a:rect l="l" t="t" r="r" b="b"/>
            <a:pathLst>
              <a:path w="2423885" h="130628">
                <a:moveTo>
                  <a:pt x="0" y="130628"/>
                </a:moveTo>
                <a:lnTo>
                  <a:pt x="1306285" y="43543"/>
                </a:lnTo>
                <a:cubicBezTo>
                  <a:pt x="1710266" y="21772"/>
                  <a:pt x="2423885" y="0"/>
                  <a:pt x="2423885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任意多边形 7" hidden="1"/>
          <p:cNvSpPr/>
          <p:nvPr/>
        </p:nvSpPr>
        <p:spPr>
          <a:xfrm rot="21004200">
            <a:off x="8865720" y="2904840"/>
            <a:ext cx="195480" cy="2077920"/>
          </a:xfrm>
          <a:custGeom>
            <a:avLst/>
            <a:gdLst/>
            <a:ahLst/>
            <a:rect l="l" t="t" r="r" b="b"/>
            <a:pathLst>
              <a:path w="174171" h="1625600">
                <a:moveTo>
                  <a:pt x="0" y="0"/>
                </a:moveTo>
                <a:cubicBezTo>
                  <a:pt x="21771" y="328990"/>
                  <a:pt x="43543" y="657981"/>
                  <a:pt x="72571" y="928914"/>
                </a:cubicBezTo>
                <a:cubicBezTo>
                  <a:pt x="101600" y="1199847"/>
                  <a:pt x="137885" y="1412723"/>
                  <a:pt x="174171" y="162560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任意多边形 9" hidden="1"/>
          <p:cNvSpPr/>
          <p:nvPr/>
        </p:nvSpPr>
        <p:spPr>
          <a:xfrm rot="21004200">
            <a:off x="5765400" y="3270240"/>
            <a:ext cx="3098880" cy="1332000"/>
          </a:xfrm>
          <a:custGeom>
            <a:avLst/>
            <a:gdLst/>
            <a:ahLst/>
            <a:rect l="l" t="t" r="r" b="b"/>
            <a:pathLst>
              <a:path w="2525486" h="1039181">
                <a:moveTo>
                  <a:pt x="0" y="261257"/>
                </a:moveTo>
                <a:cubicBezTo>
                  <a:pt x="457200" y="596295"/>
                  <a:pt x="914400" y="931333"/>
                  <a:pt x="1233714" y="1016000"/>
                </a:cubicBezTo>
                <a:cubicBezTo>
                  <a:pt x="1553028" y="1100667"/>
                  <a:pt x="1700591" y="938590"/>
                  <a:pt x="1915886" y="769257"/>
                </a:cubicBezTo>
                <a:cubicBezTo>
                  <a:pt x="2131181" y="599924"/>
                  <a:pt x="2328333" y="299962"/>
                  <a:pt x="2525486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任意多边形 10" hidden="1"/>
          <p:cNvSpPr/>
          <p:nvPr/>
        </p:nvSpPr>
        <p:spPr>
          <a:xfrm rot="21004200">
            <a:off x="6276600" y="4665240"/>
            <a:ext cx="1057320" cy="966960"/>
          </a:xfrm>
          <a:custGeom>
            <a:avLst/>
            <a:gdLst/>
            <a:ahLst/>
            <a:rect l="l" t="t" r="r" b="b"/>
            <a:pathLst>
              <a:path w="870857" h="740228">
                <a:moveTo>
                  <a:pt x="0" y="740228"/>
                </a:moveTo>
                <a:cubicBezTo>
                  <a:pt x="224971" y="518885"/>
                  <a:pt x="449942" y="297542"/>
                  <a:pt x="595085" y="174171"/>
                </a:cubicBezTo>
                <a:cubicBezTo>
                  <a:pt x="740228" y="50800"/>
                  <a:pt x="805542" y="25400"/>
                  <a:pt x="870857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任意多边形 12" hidden="1"/>
          <p:cNvSpPr/>
          <p:nvPr/>
        </p:nvSpPr>
        <p:spPr>
          <a:xfrm rot="21004200">
            <a:off x="7911720" y="4311360"/>
            <a:ext cx="1270080" cy="768240"/>
          </a:xfrm>
          <a:custGeom>
            <a:avLst/>
            <a:gdLst/>
            <a:ahLst/>
            <a:rect l="l" t="t" r="r" b="b"/>
            <a:pathLst>
              <a:path w="1074057" h="624373">
                <a:moveTo>
                  <a:pt x="1074057" y="624373"/>
                </a:moveTo>
                <a:cubicBezTo>
                  <a:pt x="778933" y="415125"/>
                  <a:pt x="483809" y="205878"/>
                  <a:pt x="304800" y="101859"/>
                </a:cubicBezTo>
                <a:cubicBezTo>
                  <a:pt x="125790" y="-2160"/>
                  <a:pt x="62895" y="-951"/>
                  <a:pt x="0" y="259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24"/>
          <p:cNvGrpSpPr/>
          <p:nvPr/>
        </p:nvGrpSpPr>
        <p:grpSpPr>
          <a:xfrm>
            <a:off x="8758440" y="-1860480"/>
            <a:ext cx="2980080" cy="10439280"/>
            <a:chOff x="8758440" y="-1860480"/>
            <a:chExt cx="2980080" cy="10439280"/>
          </a:xfrm>
        </p:grpSpPr>
        <p:sp>
          <p:nvSpPr>
            <p:cNvPr id="833" name="矩形 25"/>
            <p:cNvSpPr/>
            <p:nvPr/>
          </p:nvSpPr>
          <p:spPr>
            <a:xfrm rot="15777000">
              <a:off x="4813200" y="3238560"/>
              <a:ext cx="10315800" cy="3340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26"/>
            <p:cNvSpPr/>
            <p:nvPr/>
          </p:nvSpPr>
          <p:spPr>
            <a:xfrm rot="15777000">
              <a:off x="5129640" y="3195360"/>
              <a:ext cx="10315800" cy="3358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矩形 27"/>
            <p:cNvSpPr/>
            <p:nvPr/>
          </p:nvSpPr>
          <p:spPr>
            <a:xfrm rot="15777000">
              <a:off x="5457600" y="3149280"/>
              <a:ext cx="10315800" cy="3358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矩形 34"/>
            <p:cNvSpPr/>
            <p:nvPr/>
          </p:nvSpPr>
          <p:spPr>
            <a:xfrm rot="15777000">
              <a:off x="5780520" y="3111120"/>
              <a:ext cx="10315800" cy="33588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35"/>
            <p:cNvSpPr/>
            <p:nvPr/>
          </p:nvSpPr>
          <p:spPr>
            <a:xfrm rot="15777000">
              <a:off x="4482360" y="3272040"/>
              <a:ext cx="10315800" cy="33408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36"/>
            <p:cNvSpPr/>
            <p:nvPr/>
          </p:nvSpPr>
          <p:spPr>
            <a:xfrm rot="15777000">
              <a:off x="5319000" y="2243520"/>
              <a:ext cx="7933680" cy="820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37"/>
          <p:cNvGrpSpPr/>
          <p:nvPr/>
        </p:nvGrpSpPr>
        <p:grpSpPr>
          <a:xfrm>
            <a:off x="-1609200" y="-5155560"/>
            <a:ext cx="14250240" cy="18918720"/>
            <a:chOff x="-1609200" y="-5155560"/>
            <a:chExt cx="14250240" cy="18918720"/>
          </a:xfrm>
        </p:grpSpPr>
        <p:sp>
          <p:nvSpPr>
            <p:cNvPr id="840" name="等腰三角形 14"/>
            <p:cNvSpPr/>
            <p:nvPr/>
          </p:nvSpPr>
          <p:spPr>
            <a:xfrm flipH="1" rot="14009400">
              <a:off x="-4005000" y="3275280"/>
              <a:ext cx="18962640" cy="3594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等腰三角形 14"/>
            <p:cNvSpPr/>
            <p:nvPr/>
          </p:nvSpPr>
          <p:spPr>
            <a:xfrm flipH="1" rot="14009400">
              <a:off x="-3670200" y="2732040"/>
              <a:ext cx="17500680" cy="358200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等腰三角形 14"/>
            <p:cNvSpPr/>
            <p:nvPr/>
          </p:nvSpPr>
          <p:spPr>
            <a:xfrm flipH="1" rot="14009400">
              <a:off x="-3231000" y="1886040"/>
              <a:ext cx="16965720" cy="4385880"/>
            </a:xfrm>
            <a:custGeom>
              <a:avLst/>
              <a:gdLst/>
              <a:ahLst/>
              <a:rect l="l" t="t" r="r" b="b"/>
              <a:pathLst>
                <a:path w="6780958" h="7826057">
                  <a:moveTo>
                    <a:pt x="6780958" y="7826057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6780958" y="7826057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等腰三角形 14"/>
            <p:cNvSpPr/>
            <p:nvPr/>
          </p:nvSpPr>
          <p:spPr>
            <a:xfrm flipH="1" rot="14009400">
              <a:off x="-2759400" y="1144440"/>
              <a:ext cx="15735240" cy="4759200"/>
            </a:xfrm>
            <a:custGeom>
              <a:avLst/>
              <a:gdLst/>
              <a:ahLst/>
              <a:rect l="l" t="t" r="r" b="b"/>
              <a:pathLst>
                <a:path w="6288987" h="8492482">
                  <a:moveTo>
                    <a:pt x="6288987" y="8492483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6288987" y="849248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等腰三角形 14"/>
            <p:cNvSpPr/>
            <p:nvPr/>
          </p:nvSpPr>
          <p:spPr>
            <a:xfrm flipH="1" rot="14009400">
              <a:off x="-2345760" y="221040"/>
              <a:ext cx="15810120" cy="5919120"/>
            </a:xfrm>
            <a:custGeom>
              <a:avLst/>
              <a:gdLst/>
              <a:ahLst/>
              <a:rect l="l" t="t" r="r" b="b"/>
              <a:pathLst>
                <a:path w="6319004" h="10558078">
                  <a:moveTo>
                    <a:pt x="6319004" y="10558078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6319004" y="10558078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等腰三角形 14"/>
            <p:cNvSpPr/>
            <p:nvPr/>
          </p:nvSpPr>
          <p:spPr>
            <a:xfrm flipH="1" rot="14009400">
              <a:off x="-2022480" y="-482760"/>
              <a:ext cx="14790960" cy="6279480"/>
            </a:xfrm>
            <a:custGeom>
              <a:avLst/>
              <a:gdLst/>
              <a:ahLst/>
              <a:rect l="l" t="t" r="r" b="b"/>
              <a:pathLst>
                <a:path w="5911233" h="11204454">
                  <a:moveTo>
                    <a:pt x="5576576" y="11204454"/>
                  </a:moveTo>
                  <a:lnTo>
                    <a:pt x="0" y="0"/>
                  </a:lnTo>
                  <a:lnTo>
                    <a:pt x="5911233" y="9861089"/>
                  </a:lnTo>
                  <a:lnTo>
                    <a:pt x="5576576" y="11204454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22"/>
          <p:cNvSpPr/>
          <p:nvPr/>
        </p:nvSpPr>
        <p:spPr>
          <a:xfrm rot="10800000">
            <a:off x="-360" y="6389280"/>
            <a:ext cx="10612440" cy="3826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1"/>
          <p:cNvSpPr/>
          <p:nvPr/>
        </p:nvSpPr>
        <p:spPr>
          <a:xfrm rot="10800000">
            <a:off x="-360" y="5910120"/>
            <a:ext cx="10612440" cy="5241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7"/>
          <p:cNvSpPr/>
          <p:nvPr/>
        </p:nvSpPr>
        <p:spPr>
          <a:xfrm rot="10800000">
            <a:off x="-360" y="5565240"/>
            <a:ext cx="10612440" cy="43344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8"/>
          <p:cNvSpPr/>
          <p:nvPr/>
        </p:nvSpPr>
        <p:spPr>
          <a:xfrm rot="10800000">
            <a:off x="-360" y="4890600"/>
            <a:ext cx="10612440" cy="66384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19"/>
          <p:cNvSpPr/>
          <p:nvPr/>
        </p:nvSpPr>
        <p:spPr>
          <a:xfrm rot="10800000">
            <a:off x="-360" y="4423680"/>
            <a:ext cx="10612440" cy="64908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20"/>
          <p:cNvSpPr/>
          <p:nvPr/>
        </p:nvSpPr>
        <p:spPr>
          <a:xfrm rot="10800000">
            <a:off x="1080" y="50400"/>
            <a:ext cx="10612440" cy="3888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8"/>
          <p:cNvSpPr/>
          <p:nvPr/>
        </p:nvSpPr>
        <p:spPr>
          <a:xfrm>
            <a:off x="225360" y="1157400"/>
            <a:ext cx="8588520" cy="3639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9"/>
          <p:cNvSpPr/>
          <p:nvPr/>
        </p:nvSpPr>
        <p:spPr>
          <a:xfrm>
            <a:off x="612720" y="2371680"/>
            <a:ext cx="53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The progress of science and technology free people from the production and then  realizing the production engineering, automation and standard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30"/>
          <p:cNvSpPr/>
          <p:nvPr/>
        </p:nvSpPr>
        <p:spPr>
          <a:xfrm>
            <a:off x="1037880" y="159228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" descr="F:\文档\wps比赛\2457331_125523017386_2.jpg"/>
          <p:cNvPicPr/>
          <p:nvPr/>
        </p:nvPicPr>
        <p:blipFill>
          <a:blip r:embed="rId1"/>
          <a:stretch/>
        </p:blipFill>
        <p:spPr>
          <a:xfrm>
            <a:off x="6443640" y="1603440"/>
            <a:ext cx="1444680" cy="14018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" descr="F:\文档\wps比赛\2457331_125523017386_2.jpg"/>
          <p:cNvPicPr/>
          <p:nvPr/>
        </p:nvPicPr>
        <p:blipFill>
          <a:blip r:embed="rId2"/>
          <a:stretch/>
        </p:blipFill>
        <p:spPr>
          <a:xfrm>
            <a:off x="6534000" y="3133800"/>
            <a:ext cx="131148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2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1.66667E-006 -0.59143 E">
                                      <p:cBhvr>
                                        <p:cTn id="746" dur="5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任意多边形 4" hidden="1"/>
          <p:cNvSpPr/>
          <p:nvPr/>
        </p:nvSpPr>
        <p:spPr>
          <a:xfrm rot="21004200">
            <a:off x="5681160" y="3269880"/>
            <a:ext cx="3062520" cy="365040"/>
          </a:xfrm>
          <a:custGeom>
            <a:avLst/>
            <a:gdLst/>
            <a:ahLst/>
            <a:rect l="l" t="t" r="r" b="b"/>
            <a:pathLst>
              <a:path w="2540000" h="246743">
                <a:moveTo>
                  <a:pt x="0" y="246743"/>
                </a:moveTo>
                <a:cubicBezTo>
                  <a:pt x="441476" y="238276"/>
                  <a:pt x="882953" y="229810"/>
                  <a:pt x="1306286" y="188686"/>
                </a:cubicBezTo>
                <a:cubicBezTo>
                  <a:pt x="1729619" y="147562"/>
                  <a:pt x="2134809" y="73781"/>
                  <a:pt x="2540000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任意多边形 5" hidden="1"/>
          <p:cNvSpPr/>
          <p:nvPr/>
        </p:nvSpPr>
        <p:spPr>
          <a:xfrm rot="21004200">
            <a:off x="5881320" y="3852360"/>
            <a:ext cx="347760" cy="1874880"/>
          </a:xfrm>
          <a:custGeom>
            <a:avLst/>
            <a:gdLst/>
            <a:ahLst/>
            <a:rect l="l" t="t" r="r" b="b"/>
            <a:pathLst>
              <a:path w="266743" h="1494972">
                <a:moveTo>
                  <a:pt x="0" y="0"/>
                </a:moveTo>
                <a:cubicBezTo>
                  <a:pt x="94343" y="455990"/>
                  <a:pt x="188686" y="911981"/>
                  <a:pt x="232229" y="1161143"/>
                </a:cubicBezTo>
                <a:cubicBezTo>
                  <a:pt x="275772" y="1410305"/>
                  <a:pt x="268514" y="1452638"/>
                  <a:pt x="261257" y="1494972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任意多边形 6" hidden="1"/>
          <p:cNvSpPr/>
          <p:nvPr/>
        </p:nvSpPr>
        <p:spPr>
          <a:xfrm rot="21004200">
            <a:off x="6346440" y="5208480"/>
            <a:ext cx="2981520" cy="220680"/>
          </a:xfrm>
          <a:custGeom>
            <a:avLst/>
            <a:gdLst/>
            <a:ahLst/>
            <a:rect l="l" t="t" r="r" b="b"/>
            <a:pathLst>
              <a:path w="2423885" h="130628">
                <a:moveTo>
                  <a:pt x="0" y="130628"/>
                </a:moveTo>
                <a:lnTo>
                  <a:pt x="1306285" y="43543"/>
                </a:lnTo>
                <a:cubicBezTo>
                  <a:pt x="1710266" y="21772"/>
                  <a:pt x="2423885" y="0"/>
                  <a:pt x="2423885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任意多边形 7" hidden="1"/>
          <p:cNvSpPr/>
          <p:nvPr/>
        </p:nvSpPr>
        <p:spPr>
          <a:xfrm rot="21004200">
            <a:off x="8865720" y="2904840"/>
            <a:ext cx="195480" cy="2077920"/>
          </a:xfrm>
          <a:custGeom>
            <a:avLst/>
            <a:gdLst/>
            <a:ahLst/>
            <a:rect l="l" t="t" r="r" b="b"/>
            <a:pathLst>
              <a:path w="174171" h="1625600">
                <a:moveTo>
                  <a:pt x="0" y="0"/>
                </a:moveTo>
                <a:cubicBezTo>
                  <a:pt x="21771" y="328990"/>
                  <a:pt x="43543" y="657981"/>
                  <a:pt x="72571" y="928914"/>
                </a:cubicBezTo>
                <a:cubicBezTo>
                  <a:pt x="101600" y="1199847"/>
                  <a:pt x="137885" y="1412723"/>
                  <a:pt x="174171" y="162560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任意多边形 9" hidden="1"/>
          <p:cNvSpPr/>
          <p:nvPr/>
        </p:nvSpPr>
        <p:spPr>
          <a:xfrm rot="21004200">
            <a:off x="5765400" y="3270240"/>
            <a:ext cx="3098880" cy="1332000"/>
          </a:xfrm>
          <a:custGeom>
            <a:avLst/>
            <a:gdLst/>
            <a:ahLst/>
            <a:rect l="l" t="t" r="r" b="b"/>
            <a:pathLst>
              <a:path w="2525486" h="1039181">
                <a:moveTo>
                  <a:pt x="0" y="261257"/>
                </a:moveTo>
                <a:cubicBezTo>
                  <a:pt x="457200" y="596295"/>
                  <a:pt x="914400" y="931333"/>
                  <a:pt x="1233714" y="1016000"/>
                </a:cubicBezTo>
                <a:cubicBezTo>
                  <a:pt x="1553028" y="1100667"/>
                  <a:pt x="1700591" y="938590"/>
                  <a:pt x="1915886" y="769257"/>
                </a:cubicBezTo>
                <a:cubicBezTo>
                  <a:pt x="2131181" y="599924"/>
                  <a:pt x="2328333" y="299962"/>
                  <a:pt x="2525486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任意多边形 10" hidden="1"/>
          <p:cNvSpPr/>
          <p:nvPr/>
        </p:nvSpPr>
        <p:spPr>
          <a:xfrm rot="21004200">
            <a:off x="6276600" y="4665240"/>
            <a:ext cx="1057320" cy="966960"/>
          </a:xfrm>
          <a:custGeom>
            <a:avLst/>
            <a:gdLst/>
            <a:ahLst/>
            <a:rect l="l" t="t" r="r" b="b"/>
            <a:pathLst>
              <a:path w="870857" h="740228">
                <a:moveTo>
                  <a:pt x="0" y="740228"/>
                </a:moveTo>
                <a:cubicBezTo>
                  <a:pt x="224971" y="518885"/>
                  <a:pt x="449942" y="297542"/>
                  <a:pt x="595085" y="174171"/>
                </a:cubicBezTo>
                <a:cubicBezTo>
                  <a:pt x="740228" y="50800"/>
                  <a:pt x="805542" y="25400"/>
                  <a:pt x="870857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任意多边形 12" hidden="1"/>
          <p:cNvSpPr/>
          <p:nvPr/>
        </p:nvSpPr>
        <p:spPr>
          <a:xfrm rot="21004200">
            <a:off x="7911720" y="4311360"/>
            <a:ext cx="1270080" cy="768240"/>
          </a:xfrm>
          <a:custGeom>
            <a:avLst/>
            <a:gdLst/>
            <a:ahLst/>
            <a:rect l="l" t="t" r="r" b="b"/>
            <a:pathLst>
              <a:path w="1074057" h="624373">
                <a:moveTo>
                  <a:pt x="1074057" y="624373"/>
                </a:moveTo>
                <a:cubicBezTo>
                  <a:pt x="778933" y="415125"/>
                  <a:pt x="483809" y="205878"/>
                  <a:pt x="304800" y="101859"/>
                </a:cubicBezTo>
                <a:cubicBezTo>
                  <a:pt x="125790" y="-2160"/>
                  <a:pt x="62895" y="-951"/>
                  <a:pt x="0" y="259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组合 24"/>
          <p:cNvGrpSpPr/>
          <p:nvPr/>
        </p:nvGrpSpPr>
        <p:grpSpPr>
          <a:xfrm>
            <a:off x="8758440" y="-1860480"/>
            <a:ext cx="2980080" cy="10439280"/>
            <a:chOff x="8758440" y="-1860480"/>
            <a:chExt cx="2980080" cy="10439280"/>
          </a:xfrm>
        </p:grpSpPr>
        <p:sp>
          <p:nvSpPr>
            <p:cNvPr id="865" name="矩形 25"/>
            <p:cNvSpPr/>
            <p:nvPr/>
          </p:nvSpPr>
          <p:spPr>
            <a:xfrm rot="15777000">
              <a:off x="4813200" y="3238560"/>
              <a:ext cx="10315800" cy="3340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26"/>
            <p:cNvSpPr/>
            <p:nvPr/>
          </p:nvSpPr>
          <p:spPr>
            <a:xfrm rot="15777000">
              <a:off x="5129640" y="3195360"/>
              <a:ext cx="10315800" cy="3358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27"/>
            <p:cNvSpPr/>
            <p:nvPr/>
          </p:nvSpPr>
          <p:spPr>
            <a:xfrm rot="15777000">
              <a:off x="5457600" y="3149280"/>
              <a:ext cx="10315800" cy="3358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4"/>
            <p:cNvSpPr/>
            <p:nvPr/>
          </p:nvSpPr>
          <p:spPr>
            <a:xfrm rot="15777000">
              <a:off x="5780520" y="3111120"/>
              <a:ext cx="10315800" cy="33588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35"/>
            <p:cNvSpPr/>
            <p:nvPr/>
          </p:nvSpPr>
          <p:spPr>
            <a:xfrm rot="15777000">
              <a:off x="4482360" y="3272040"/>
              <a:ext cx="10315800" cy="33408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36"/>
            <p:cNvSpPr/>
            <p:nvPr/>
          </p:nvSpPr>
          <p:spPr>
            <a:xfrm rot="15777000">
              <a:off x="5319000" y="2243520"/>
              <a:ext cx="7933680" cy="820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37"/>
          <p:cNvGrpSpPr/>
          <p:nvPr/>
        </p:nvGrpSpPr>
        <p:grpSpPr>
          <a:xfrm>
            <a:off x="-1609200" y="-5155560"/>
            <a:ext cx="14250240" cy="18918720"/>
            <a:chOff x="-1609200" y="-5155560"/>
            <a:chExt cx="14250240" cy="18918720"/>
          </a:xfrm>
        </p:grpSpPr>
        <p:sp>
          <p:nvSpPr>
            <p:cNvPr id="872" name="等腰三角形 14"/>
            <p:cNvSpPr/>
            <p:nvPr/>
          </p:nvSpPr>
          <p:spPr>
            <a:xfrm flipH="1" rot="14009400">
              <a:off x="-4005000" y="3275280"/>
              <a:ext cx="18962640" cy="3594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等腰三角形 14"/>
            <p:cNvSpPr/>
            <p:nvPr/>
          </p:nvSpPr>
          <p:spPr>
            <a:xfrm flipH="1" rot="14009400">
              <a:off x="-3670200" y="2732040"/>
              <a:ext cx="17500680" cy="358200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等腰三角形 14"/>
            <p:cNvSpPr/>
            <p:nvPr/>
          </p:nvSpPr>
          <p:spPr>
            <a:xfrm flipH="1" rot="14009400">
              <a:off x="-3231000" y="1886040"/>
              <a:ext cx="16965720" cy="4385880"/>
            </a:xfrm>
            <a:custGeom>
              <a:avLst/>
              <a:gdLst/>
              <a:ahLst/>
              <a:rect l="l" t="t" r="r" b="b"/>
              <a:pathLst>
                <a:path w="6780958" h="7826057">
                  <a:moveTo>
                    <a:pt x="6780958" y="7826057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6780958" y="7826057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等腰三角形 14"/>
            <p:cNvSpPr/>
            <p:nvPr/>
          </p:nvSpPr>
          <p:spPr>
            <a:xfrm flipH="1" rot="14009400">
              <a:off x="-2759400" y="1144440"/>
              <a:ext cx="15735240" cy="4759200"/>
            </a:xfrm>
            <a:custGeom>
              <a:avLst/>
              <a:gdLst/>
              <a:ahLst/>
              <a:rect l="l" t="t" r="r" b="b"/>
              <a:pathLst>
                <a:path w="6288987" h="8492482">
                  <a:moveTo>
                    <a:pt x="6288987" y="8492483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6288987" y="849248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等腰三角形 14"/>
            <p:cNvSpPr/>
            <p:nvPr/>
          </p:nvSpPr>
          <p:spPr>
            <a:xfrm flipH="1" rot="14009400">
              <a:off x="-2345760" y="221040"/>
              <a:ext cx="15810120" cy="5919120"/>
            </a:xfrm>
            <a:custGeom>
              <a:avLst/>
              <a:gdLst/>
              <a:ahLst/>
              <a:rect l="l" t="t" r="r" b="b"/>
              <a:pathLst>
                <a:path w="6319004" h="10558078">
                  <a:moveTo>
                    <a:pt x="6319004" y="10558078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6319004" y="10558078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等腰三角形 14"/>
            <p:cNvSpPr/>
            <p:nvPr/>
          </p:nvSpPr>
          <p:spPr>
            <a:xfrm flipH="1" rot="14009400">
              <a:off x="-2022480" y="-482760"/>
              <a:ext cx="14790960" cy="6279480"/>
            </a:xfrm>
            <a:custGeom>
              <a:avLst/>
              <a:gdLst/>
              <a:ahLst/>
              <a:rect l="l" t="t" r="r" b="b"/>
              <a:pathLst>
                <a:path w="5911233" h="11204454">
                  <a:moveTo>
                    <a:pt x="5576576" y="11204454"/>
                  </a:moveTo>
                  <a:lnTo>
                    <a:pt x="0" y="0"/>
                  </a:lnTo>
                  <a:lnTo>
                    <a:pt x="5911233" y="9861089"/>
                  </a:lnTo>
                  <a:lnTo>
                    <a:pt x="5576576" y="11204454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矩形 22"/>
          <p:cNvSpPr/>
          <p:nvPr/>
        </p:nvSpPr>
        <p:spPr>
          <a:xfrm rot="10800000">
            <a:off x="-360" y="6389280"/>
            <a:ext cx="10612440" cy="3826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21"/>
          <p:cNvSpPr/>
          <p:nvPr/>
        </p:nvSpPr>
        <p:spPr>
          <a:xfrm rot="10800000">
            <a:off x="-360" y="5910120"/>
            <a:ext cx="10612440" cy="5241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7"/>
          <p:cNvSpPr/>
          <p:nvPr/>
        </p:nvSpPr>
        <p:spPr>
          <a:xfrm rot="10800000">
            <a:off x="-360" y="5565240"/>
            <a:ext cx="10612440" cy="43344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8"/>
          <p:cNvSpPr/>
          <p:nvPr/>
        </p:nvSpPr>
        <p:spPr>
          <a:xfrm rot="10800000">
            <a:off x="-360" y="4890600"/>
            <a:ext cx="10612440" cy="66384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19"/>
          <p:cNvSpPr/>
          <p:nvPr/>
        </p:nvSpPr>
        <p:spPr>
          <a:xfrm rot="10800000">
            <a:off x="-360" y="362880"/>
            <a:ext cx="10612440" cy="64908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0"/>
          <p:cNvSpPr/>
          <p:nvPr/>
        </p:nvSpPr>
        <p:spPr>
          <a:xfrm rot="10800000">
            <a:off x="1080" y="50400"/>
            <a:ext cx="10612440" cy="3888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8"/>
          <p:cNvSpPr/>
          <p:nvPr/>
        </p:nvSpPr>
        <p:spPr>
          <a:xfrm>
            <a:off x="225360" y="1660680"/>
            <a:ext cx="8588520" cy="3639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29"/>
          <p:cNvSpPr/>
          <p:nvPr/>
        </p:nvSpPr>
        <p:spPr>
          <a:xfrm>
            <a:off x="612720" y="2763720"/>
            <a:ext cx="48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The progress of  technology and the emergence of e-business is changing the traditional business model, marketing and operation, and at the same time, a new business thinking ar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30"/>
          <p:cNvSpPr/>
          <p:nvPr/>
        </p:nvSpPr>
        <p:spPr>
          <a:xfrm>
            <a:off x="1009440" y="198288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F:\文档\wps比赛\5056611_103947297000_2.jpg"/>
          <p:cNvPicPr/>
          <p:nvPr/>
        </p:nvPicPr>
        <p:blipFill>
          <a:blip r:embed="rId1"/>
          <a:srcRect l="6210" t="0" r="8375" b="6873"/>
          <a:stretch/>
        </p:blipFill>
        <p:spPr>
          <a:xfrm>
            <a:off x="5554800" y="2503440"/>
            <a:ext cx="279540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1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2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2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2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2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2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2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1.66667E-006 -0.59143 E">
                                      <p:cBhvr>
                                        <p:cTn id="804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组合 72"/>
          <p:cNvGrpSpPr/>
          <p:nvPr/>
        </p:nvGrpSpPr>
        <p:grpSpPr>
          <a:xfrm>
            <a:off x="-360" y="5909760"/>
            <a:ext cx="10612440" cy="862200"/>
            <a:chOff x="-360" y="5909760"/>
            <a:chExt cx="10612440" cy="862200"/>
          </a:xfrm>
        </p:grpSpPr>
        <p:sp>
          <p:nvSpPr>
            <p:cNvPr id="889" name="矩形 73"/>
            <p:cNvSpPr/>
            <p:nvPr/>
          </p:nvSpPr>
          <p:spPr>
            <a:xfrm rot="10800000">
              <a:off x="-360" y="6389280"/>
              <a:ext cx="10612440" cy="3826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矩形 74"/>
            <p:cNvSpPr/>
            <p:nvPr/>
          </p:nvSpPr>
          <p:spPr>
            <a:xfrm rot="10800000">
              <a:off x="-360" y="5909760"/>
              <a:ext cx="10612440" cy="52236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矩形 22"/>
          <p:cNvSpPr/>
          <p:nvPr/>
        </p:nvSpPr>
        <p:spPr>
          <a:xfrm rot="10800000">
            <a:off x="-360" y="6389280"/>
            <a:ext cx="10612440" cy="3826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21"/>
          <p:cNvSpPr/>
          <p:nvPr/>
        </p:nvSpPr>
        <p:spPr>
          <a:xfrm rot="10800000">
            <a:off x="-360" y="5910120"/>
            <a:ext cx="10612440" cy="5241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17"/>
          <p:cNvSpPr/>
          <p:nvPr/>
        </p:nvSpPr>
        <p:spPr>
          <a:xfrm rot="10800000">
            <a:off x="-360" y="5565240"/>
            <a:ext cx="10612440" cy="43344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1"/>
          <p:cNvGrpSpPr/>
          <p:nvPr/>
        </p:nvGrpSpPr>
        <p:grpSpPr>
          <a:xfrm>
            <a:off x="-360" y="50760"/>
            <a:ext cx="10613880" cy="1452600"/>
            <a:chOff x="-360" y="50760"/>
            <a:chExt cx="10613880" cy="1452600"/>
          </a:xfrm>
        </p:grpSpPr>
        <p:sp>
          <p:nvSpPr>
            <p:cNvPr id="895" name="矩形 18"/>
            <p:cNvSpPr/>
            <p:nvPr/>
          </p:nvSpPr>
          <p:spPr>
            <a:xfrm rot="10800000">
              <a:off x="-360" y="837720"/>
              <a:ext cx="10612440" cy="6652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19"/>
            <p:cNvSpPr/>
            <p:nvPr/>
          </p:nvSpPr>
          <p:spPr>
            <a:xfrm rot="10800000">
              <a:off x="-360" y="362880"/>
              <a:ext cx="10612440" cy="64944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矩形 20"/>
            <p:cNvSpPr/>
            <p:nvPr/>
          </p:nvSpPr>
          <p:spPr>
            <a:xfrm rot="10800000">
              <a:off x="1080" y="50400"/>
              <a:ext cx="10612440" cy="38880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61"/>
          <p:cNvGrpSpPr/>
          <p:nvPr/>
        </p:nvGrpSpPr>
        <p:grpSpPr>
          <a:xfrm>
            <a:off x="-360" y="46080"/>
            <a:ext cx="10613880" cy="1868400"/>
            <a:chOff x="-360" y="46080"/>
            <a:chExt cx="10613880" cy="1868400"/>
          </a:xfrm>
        </p:grpSpPr>
        <p:sp>
          <p:nvSpPr>
            <p:cNvPr id="899" name="矩形 62"/>
            <p:cNvSpPr/>
            <p:nvPr/>
          </p:nvSpPr>
          <p:spPr>
            <a:xfrm rot="10800000">
              <a:off x="-360" y="1480680"/>
              <a:ext cx="10612440" cy="43344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矩形 63"/>
            <p:cNvSpPr/>
            <p:nvPr/>
          </p:nvSpPr>
          <p:spPr>
            <a:xfrm rot="10800000">
              <a:off x="-360" y="834120"/>
              <a:ext cx="10612440" cy="6634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矩形 64"/>
            <p:cNvSpPr/>
            <p:nvPr/>
          </p:nvSpPr>
          <p:spPr>
            <a:xfrm rot="10800000">
              <a:off x="-360" y="357840"/>
              <a:ext cx="10612440" cy="6490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矩形 65"/>
            <p:cNvSpPr/>
            <p:nvPr/>
          </p:nvSpPr>
          <p:spPr>
            <a:xfrm rot="10800000">
              <a:off x="1080" y="45720"/>
              <a:ext cx="10612440" cy="38880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矩形 16"/>
          <p:cNvSpPr/>
          <p:nvPr/>
        </p:nvSpPr>
        <p:spPr>
          <a:xfrm>
            <a:off x="225360" y="2021040"/>
            <a:ext cx="8588520" cy="3639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3"/>
          <p:cNvSpPr/>
          <p:nvPr/>
        </p:nvSpPr>
        <p:spPr>
          <a:xfrm>
            <a:off x="612720" y="3002040"/>
            <a:ext cx="48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The appearance of virtual currency give a new definition of money. It makes the transaction  more convenient, safe, quick, easy to re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24"/>
          <p:cNvSpPr/>
          <p:nvPr/>
        </p:nvSpPr>
        <p:spPr>
          <a:xfrm>
            <a:off x="1124640" y="222264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Electronic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3" descr="C:\Users\dell\Desktop\PPT\u=1205201591,553863956&amp;fm=23&amp;gp=0.jpg"/>
          <p:cNvPicPr/>
          <p:nvPr/>
        </p:nvPicPr>
        <p:blipFill>
          <a:blip r:embed="rId1"/>
          <a:srcRect l="0" t="0" r="0" b="7257"/>
          <a:stretch/>
        </p:blipFill>
        <p:spPr>
          <a:xfrm>
            <a:off x="5867280" y="2222640"/>
            <a:ext cx="2665440" cy="3184560"/>
          </a:xfrm>
          <a:prstGeom prst="rect">
            <a:avLst/>
          </a:prstGeom>
          <a:ln w="0">
            <a:noFill/>
          </a:ln>
        </p:spPr>
      </p:pic>
      <p:sp>
        <p:nvSpPr>
          <p:cNvPr id="9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1.66667E-006 -0.59143 E">
                                      <p:cBhvr>
                                        <p:cTn id="825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1041 L -1.94444E-006 0.31491 E">
                                      <p:cBhvr>
                                        <p:cTn id="855" dur="5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9191E-006 L 1.66667E-006 -0.27723 E">
                                      <p:cBhvr>
                                        <p:cTn id="857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组合 20"/>
          <p:cNvGrpSpPr/>
          <p:nvPr/>
        </p:nvGrpSpPr>
        <p:grpSpPr>
          <a:xfrm>
            <a:off x="-1613880" y="-447840"/>
            <a:ext cx="1585080" cy="5319720"/>
            <a:chOff x="-1613880" y="-447840"/>
            <a:chExt cx="1585080" cy="5319720"/>
          </a:xfrm>
        </p:grpSpPr>
        <p:sp>
          <p:nvSpPr>
            <p:cNvPr id="909" name="梯形 1"/>
            <p:cNvSpPr/>
            <p:nvPr/>
          </p:nvSpPr>
          <p:spPr>
            <a:xfrm flipH="1" rot="5400000">
              <a:off x="-2361960" y="301320"/>
              <a:ext cx="3079800" cy="1581480"/>
            </a:xfrm>
            <a:custGeom>
              <a:avLst/>
              <a:gdLst/>
              <a:ahLst/>
              <a:rect l="l" t="t" r="r" b="b"/>
              <a:pathLst>
                <a:path w="3079912" h="6895045">
                  <a:moveTo>
                    <a:pt x="1256382" y="6882783"/>
                  </a:moveTo>
                  <a:lnTo>
                    <a:pt x="0" y="2833"/>
                  </a:lnTo>
                  <a:lnTo>
                    <a:pt x="397089" y="0"/>
                  </a:lnTo>
                  <a:lnTo>
                    <a:pt x="3079912" y="6895045"/>
                  </a:lnTo>
                  <a:lnTo>
                    <a:pt x="1256382" y="6882783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梯形 1"/>
            <p:cNvSpPr/>
            <p:nvPr/>
          </p:nvSpPr>
          <p:spPr>
            <a:xfrm flipH="1" rot="5400000">
              <a:off x="-2208960" y="999720"/>
              <a:ext cx="2773440" cy="1582920"/>
            </a:xfrm>
            <a:custGeom>
              <a:avLst/>
              <a:gdLst/>
              <a:ahLst/>
              <a:rect l="l" t="t" r="r" b="b"/>
              <a:pathLst>
                <a:path w="2773301" h="6900815">
                  <a:moveTo>
                    <a:pt x="1791597" y="6900815"/>
                  </a:moveTo>
                  <a:lnTo>
                    <a:pt x="0" y="0"/>
                  </a:lnTo>
                  <a:lnTo>
                    <a:pt x="554932" y="3517"/>
                  </a:lnTo>
                  <a:lnTo>
                    <a:pt x="2773301" y="6884051"/>
                  </a:lnTo>
                  <a:lnTo>
                    <a:pt x="1791597" y="6900815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梯形 1"/>
            <p:cNvSpPr/>
            <p:nvPr/>
          </p:nvSpPr>
          <p:spPr>
            <a:xfrm flipH="1" rot="5400000">
              <a:off x="-2103120" y="1579320"/>
              <a:ext cx="2560680" cy="1582920"/>
            </a:xfrm>
            <a:custGeom>
              <a:avLst/>
              <a:gdLst/>
              <a:ahLst/>
              <a:rect l="l" t="t" r="r" b="b"/>
              <a:pathLst>
                <a:path w="2560582" h="6899590">
                  <a:moveTo>
                    <a:pt x="1883674" y="6897301"/>
                  </a:moveTo>
                  <a:lnTo>
                    <a:pt x="0" y="2835"/>
                  </a:lnTo>
                  <a:lnTo>
                    <a:pt x="475557" y="0"/>
                  </a:lnTo>
                  <a:lnTo>
                    <a:pt x="2560582" y="6899590"/>
                  </a:lnTo>
                  <a:lnTo>
                    <a:pt x="1883674" y="6897301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梯形 1"/>
            <p:cNvSpPr/>
            <p:nvPr/>
          </p:nvSpPr>
          <p:spPr>
            <a:xfrm flipH="1" rot="5400000">
              <a:off x="-2045160" y="2111760"/>
              <a:ext cx="2446200" cy="1581480"/>
            </a:xfrm>
            <a:custGeom>
              <a:avLst/>
              <a:gdLst/>
              <a:ahLst/>
              <a:rect l="l" t="t" r="r" b="b"/>
              <a:pathLst>
                <a:path w="2446282" h="6899590">
                  <a:moveTo>
                    <a:pt x="1616974" y="6897301"/>
                  </a:moveTo>
                  <a:lnTo>
                    <a:pt x="0" y="2835"/>
                  </a:lnTo>
                  <a:lnTo>
                    <a:pt x="475557" y="0"/>
                  </a:lnTo>
                  <a:lnTo>
                    <a:pt x="2446282" y="6899590"/>
                  </a:lnTo>
                  <a:lnTo>
                    <a:pt x="1616974" y="6897301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梯形 1"/>
            <p:cNvSpPr/>
            <p:nvPr/>
          </p:nvSpPr>
          <p:spPr>
            <a:xfrm flipH="1" rot="5400000">
              <a:off x="-1932480" y="2667600"/>
              <a:ext cx="2219400" cy="1582920"/>
            </a:xfrm>
            <a:custGeom>
              <a:avLst/>
              <a:gdLst/>
              <a:ahLst/>
              <a:rect l="l" t="t" r="r" b="b"/>
              <a:pathLst>
                <a:path w="2220140" h="6897304">
                  <a:moveTo>
                    <a:pt x="1366251" y="6897304"/>
                  </a:moveTo>
                  <a:lnTo>
                    <a:pt x="0" y="2835"/>
                  </a:lnTo>
                  <a:lnTo>
                    <a:pt x="475557" y="0"/>
                  </a:lnTo>
                  <a:lnTo>
                    <a:pt x="2220140" y="6893445"/>
                  </a:lnTo>
                  <a:lnTo>
                    <a:pt x="1366251" y="6897304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梯形 1"/>
            <p:cNvSpPr/>
            <p:nvPr/>
          </p:nvSpPr>
          <p:spPr>
            <a:xfrm flipH="1" rot="5400000">
              <a:off x="-1749960" y="3150720"/>
              <a:ext cx="1859040" cy="1582920"/>
            </a:xfrm>
            <a:custGeom>
              <a:avLst/>
              <a:gdLst/>
              <a:ahLst/>
              <a:rect l="l" t="t" r="r" b="b"/>
              <a:pathLst>
                <a:path w="1858394" h="6903102">
                  <a:moveTo>
                    <a:pt x="1073333" y="6900813"/>
                  </a:moveTo>
                  <a:lnTo>
                    <a:pt x="0" y="0"/>
                  </a:lnTo>
                  <a:lnTo>
                    <a:pt x="342207" y="3512"/>
                  </a:lnTo>
                  <a:lnTo>
                    <a:pt x="1858394" y="6903102"/>
                  </a:lnTo>
                  <a:lnTo>
                    <a:pt x="1073333" y="6900813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TextBox 34"/>
          <p:cNvSpPr/>
          <p:nvPr/>
        </p:nvSpPr>
        <p:spPr>
          <a:xfrm>
            <a:off x="1546200" y="2631960"/>
            <a:ext cx="593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21900"/>
                </a:solidFill>
                <a:latin typeface="Broadway BT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圆角矩形 26"/>
          <p:cNvSpPr/>
          <p:nvPr/>
        </p:nvSpPr>
        <p:spPr>
          <a:xfrm rot="5400000">
            <a:off x="4371120" y="2367720"/>
            <a:ext cx="539640" cy="7128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7"/>
          <p:cNvSpPr/>
          <p:nvPr/>
        </p:nvSpPr>
        <p:spPr>
          <a:xfrm rot="7213800">
            <a:off x="4818600" y="2481480"/>
            <a:ext cx="539640" cy="7164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8"/>
          <p:cNvSpPr/>
          <p:nvPr/>
        </p:nvSpPr>
        <p:spPr>
          <a:xfrm flipH="1" rot="19798800">
            <a:off x="5162400" y="2803320"/>
            <a:ext cx="540000" cy="7272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9"/>
          <p:cNvSpPr/>
          <p:nvPr/>
        </p:nvSpPr>
        <p:spPr>
          <a:xfrm rot="10800000">
            <a:off x="5256000" y="3281400"/>
            <a:ext cx="539640" cy="7128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0"/>
          <p:cNvSpPr/>
          <p:nvPr/>
        </p:nvSpPr>
        <p:spPr>
          <a:xfrm flipH="1" rot="10800000">
            <a:off x="3406680" y="3281400"/>
            <a:ext cx="540000" cy="7128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2"/>
          <p:cNvSpPr/>
          <p:nvPr/>
        </p:nvSpPr>
        <p:spPr>
          <a:xfrm rot="5400000">
            <a:off x="4360680" y="4219560"/>
            <a:ext cx="539640" cy="7308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3"/>
          <p:cNvSpPr/>
          <p:nvPr/>
        </p:nvSpPr>
        <p:spPr>
          <a:xfrm rot="1665000">
            <a:off x="5167080" y="3757680"/>
            <a:ext cx="539640" cy="7128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4"/>
          <p:cNvSpPr/>
          <p:nvPr/>
        </p:nvSpPr>
        <p:spPr>
          <a:xfrm rot="9116400">
            <a:off x="3522240" y="3766680"/>
            <a:ext cx="541440" cy="7164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25"/>
          <p:cNvSpPr/>
          <p:nvPr/>
        </p:nvSpPr>
        <p:spPr>
          <a:xfrm rot="7047600">
            <a:off x="3887280" y="4105080"/>
            <a:ext cx="540000" cy="7272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31"/>
          <p:cNvSpPr/>
          <p:nvPr/>
        </p:nvSpPr>
        <p:spPr>
          <a:xfrm rot="14323800">
            <a:off x="4815360" y="4069080"/>
            <a:ext cx="539640" cy="7164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32"/>
          <p:cNvSpPr/>
          <p:nvPr/>
        </p:nvSpPr>
        <p:spPr>
          <a:xfrm rot="3378000">
            <a:off x="3830760" y="2478600"/>
            <a:ext cx="540000" cy="7164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33"/>
          <p:cNvSpPr/>
          <p:nvPr/>
        </p:nvSpPr>
        <p:spPr>
          <a:xfrm rot="12591000">
            <a:off x="3528360" y="2821680"/>
            <a:ext cx="539640" cy="73080"/>
          </a:xfrm>
          <a:prstGeom prst="roundRect">
            <a:avLst>
              <a:gd name="adj" fmla="val 16667"/>
            </a:avLst>
          </a:prstGeom>
          <a:solidFill>
            <a:srgbClr val="321900"/>
          </a:solidFill>
          <a:ln w="25560">
            <a:solidFill>
              <a:srgbClr val="32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"/>
          <p:cNvSpPr/>
          <p:nvPr/>
        </p:nvSpPr>
        <p:spPr>
          <a:xfrm>
            <a:off x="-36360" y="-100080"/>
            <a:ext cx="1563480" cy="79236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8"/>
          <p:cNvSpPr/>
          <p:nvPr/>
        </p:nvSpPr>
        <p:spPr>
          <a:xfrm>
            <a:off x="1527120" y="-100080"/>
            <a:ext cx="1525680" cy="7923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9"/>
          <p:cNvSpPr/>
          <p:nvPr/>
        </p:nvSpPr>
        <p:spPr>
          <a:xfrm>
            <a:off x="3052800" y="-100080"/>
            <a:ext cx="1525680" cy="79236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20"/>
          <p:cNvSpPr/>
          <p:nvPr/>
        </p:nvSpPr>
        <p:spPr>
          <a:xfrm>
            <a:off x="7624800" y="-100080"/>
            <a:ext cx="1527120" cy="79236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1"/>
          <p:cNvSpPr/>
          <p:nvPr/>
        </p:nvSpPr>
        <p:spPr>
          <a:xfrm>
            <a:off x="6099120" y="-100080"/>
            <a:ext cx="1525680" cy="79236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34"/>
          <p:cNvSpPr/>
          <p:nvPr/>
        </p:nvSpPr>
        <p:spPr>
          <a:xfrm>
            <a:off x="4572000" y="-100080"/>
            <a:ext cx="1527120" cy="79236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46"/>
          <p:cNvSpPr/>
          <p:nvPr/>
        </p:nvSpPr>
        <p:spPr>
          <a:xfrm>
            <a:off x="7616880" y="6173640"/>
            <a:ext cx="1535040" cy="68436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7"/>
          <p:cNvSpPr/>
          <p:nvPr/>
        </p:nvSpPr>
        <p:spPr>
          <a:xfrm>
            <a:off x="6093000" y="6168960"/>
            <a:ext cx="1525320" cy="68904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48"/>
          <p:cNvSpPr/>
          <p:nvPr/>
        </p:nvSpPr>
        <p:spPr>
          <a:xfrm>
            <a:off x="4565520" y="6165720"/>
            <a:ext cx="1527480" cy="69228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49"/>
          <p:cNvSpPr/>
          <p:nvPr/>
        </p:nvSpPr>
        <p:spPr>
          <a:xfrm>
            <a:off x="-36360" y="6165720"/>
            <a:ext cx="1563480" cy="69228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50"/>
          <p:cNvSpPr/>
          <p:nvPr/>
        </p:nvSpPr>
        <p:spPr>
          <a:xfrm>
            <a:off x="1527120" y="6165720"/>
            <a:ext cx="1525680" cy="69228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51"/>
          <p:cNvSpPr/>
          <p:nvPr/>
        </p:nvSpPr>
        <p:spPr>
          <a:xfrm>
            <a:off x="3046320" y="6165720"/>
            <a:ext cx="1525680" cy="69228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52"/>
          <p:cNvSpPr/>
          <p:nvPr/>
        </p:nvSpPr>
        <p:spPr>
          <a:xfrm>
            <a:off x="-36360" y="4653000"/>
            <a:ext cx="1563480" cy="22050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53"/>
          <p:cNvSpPr/>
          <p:nvPr/>
        </p:nvSpPr>
        <p:spPr>
          <a:xfrm>
            <a:off x="1527120" y="4653000"/>
            <a:ext cx="1525680" cy="220500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54"/>
          <p:cNvSpPr/>
          <p:nvPr/>
        </p:nvSpPr>
        <p:spPr>
          <a:xfrm>
            <a:off x="3059280" y="4653000"/>
            <a:ext cx="1506240" cy="220500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55"/>
          <p:cNvSpPr/>
          <p:nvPr/>
        </p:nvSpPr>
        <p:spPr>
          <a:xfrm>
            <a:off x="4591080" y="4653000"/>
            <a:ext cx="1525680" cy="220500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57"/>
          <p:cNvSpPr/>
          <p:nvPr/>
        </p:nvSpPr>
        <p:spPr>
          <a:xfrm>
            <a:off x="6099120" y="4653000"/>
            <a:ext cx="1525680" cy="220500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58"/>
          <p:cNvSpPr/>
          <p:nvPr/>
        </p:nvSpPr>
        <p:spPr>
          <a:xfrm>
            <a:off x="7618320" y="4653000"/>
            <a:ext cx="1533600" cy="220500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60"/>
          <p:cNvSpPr/>
          <p:nvPr/>
        </p:nvSpPr>
        <p:spPr>
          <a:xfrm>
            <a:off x="-36360" y="-100080"/>
            <a:ext cx="1562040" cy="20890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1"/>
          <p:cNvSpPr/>
          <p:nvPr/>
        </p:nvSpPr>
        <p:spPr>
          <a:xfrm>
            <a:off x="1519200" y="-100080"/>
            <a:ext cx="1527120" cy="208908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62"/>
          <p:cNvSpPr/>
          <p:nvPr/>
        </p:nvSpPr>
        <p:spPr>
          <a:xfrm>
            <a:off x="3052800" y="-100080"/>
            <a:ext cx="1512720" cy="210672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63"/>
          <p:cNvSpPr/>
          <p:nvPr/>
        </p:nvSpPr>
        <p:spPr>
          <a:xfrm>
            <a:off x="4572000" y="-100080"/>
            <a:ext cx="1521000" cy="208908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64"/>
          <p:cNvSpPr/>
          <p:nvPr/>
        </p:nvSpPr>
        <p:spPr>
          <a:xfrm>
            <a:off x="6093000" y="-100080"/>
            <a:ext cx="1531800" cy="210672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65"/>
          <p:cNvSpPr/>
          <p:nvPr/>
        </p:nvSpPr>
        <p:spPr>
          <a:xfrm>
            <a:off x="7624800" y="-100080"/>
            <a:ext cx="1527120" cy="210672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395280" y="183024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21900"/>
                </a:solidFill>
                <a:latin typeface="Broadway BT"/>
              </a:rPr>
              <a:t>Technology Progre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1"/>
          <p:cNvGrpSpPr/>
          <p:nvPr/>
        </p:nvGrpSpPr>
        <p:grpSpPr>
          <a:xfrm>
            <a:off x="-36360" y="-1395360"/>
            <a:ext cx="9188280" cy="2104920"/>
            <a:chOff x="-36360" y="-1395360"/>
            <a:chExt cx="9188280" cy="2104920"/>
          </a:xfrm>
        </p:grpSpPr>
        <p:sp>
          <p:nvSpPr>
            <p:cNvPr id="533" name="矩形 38"/>
            <p:cNvSpPr/>
            <p:nvPr/>
          </p:nvSpPr>
          <p:spPr>
            <a:xfrm>
              <a:off x="-36360" y="-1395360"/>
              <a:ext cx="1563480" cy="79200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39"/>
            <p:cNvSpPr/>
            <p:nvPr/>
          </p:nvSpPr>
          <p:spPr>
            <a:xfrm>
              <a:off x="1527120" y="-1395360"/>
              <a:ext cx="1525320" cy="79200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40"/>
            <p:cNvSpPr/>
            <p:nvPr/>
          </p:nvSpPr>
          <p:spPr>
            <a:xfrm>
              <a:off x="3052800" y="-1395360"/>
              <a:ext cx="1525320" cy="79200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1"/>
            <p:cNvSpPr/>
            <p:nvPr/>
          </p:nvSpPr>
          <p:spPr>
            <a:xfrm>
              <a:off x="7624800" y="-1395360"/>
              <a:ext cx="1527120" cy="79200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2"/>
            <p:cNvSpPr/>
            <p:nvPr/>
          </p:nvSpPr>
          <p:spPr>
            <a:xfrm>
              <a:off x="6099120" y="-1395360"/>
              <a:ext cx="1525320" cy="79200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3"/>
            <p:cNvSpPr/>
            <p:nvPr/>
          </p:nvSpPr>
          <p:spPr>
            <a:xfrm>
              <a:off x="4572000" y="-1395360"/>
              <a:ext cx="1527120" cy="79200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44"/>
            <p:cNvSpPr/>
            <p:nvPr/>
          </p:nvSpPr>
          <p:spPr>
            <a:xfrm>
              <a:off x="-36360" y="-1395360"/>
              <a:ext cx="1562040" cy="208764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45"/>
            <p:cNvSpPr/>
            <p:nvPr/>
          </p:nvSpPr>
          <p:spPr>
            <a:xfrm>
              <a:off x="1519200" y="-1395360"/>
              <a:ext cx="1527120" cy="208764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56"/>
            <p:cNvSpPr/>
            <p:nvPr/>
          </p:nvSpPr>
          <p:spPr>
            <a:xfrm>
              <a:off x="3052800" y="-1395360"/>
              <a:ext cx="1514160" cy="210492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59"/>
            <p:cNvSpPr/>
            <p:nvPr/>
          </p:nvSpPr>
          <p:spPr>
            <a:xfrm>
              <a:off x="4572000" y="-1395360"/>
              <a:ext cx="1520640" cy="210492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66"/>
            <p:cNvSpPr/>
            <p:nvPr/>
          </p:nvSpPr>
          <p:spPr>
            <a:xfrm>
              <a:off x="6093000" y="-1395360"/>
              <a:ext cx="1531800" cy="210492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67"/>
            <p:cNvSpPr/>
            <p:nvPr/>
          </p:nvSpPr>
          <p:spPr>
            <a:xfrm>
              <a:off x="7626600" y="-1395360"/>
              <a:ext cx="1525320" cy="210492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"/>
          <p:cNvGrpSpPr/>
          <p:nvPr/>
        </p:nvGrpSpPr>
        <p:grpSpPr>
          <a:xfrm>
            <a:off x="-36360" y="6192720"/>
            <a:ext cx="9188280" cy="2087640"/>
            <a:chOff x="-36360" y="6192720"/>
            <a:chExt cx="9188280" cy="2087640"/>
          </a:xfrm>
        </p:grpSpPr>
        <p:sp>
          <p:nvSpPr>
            <p:cNvPr id="546" name="矩形 68"/>
            <p:cNvSpPr/>
            <p:nvPr/>
          </p:nvSpPr>
          <p:spPr>
            <a:xfrm>
              <a:off x="7618680" y="7632720"/>
              <a:ext cx="1533240" cy="64764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9"/>
            <p:cNvSpPr/>
            <p:nvPr/>
          </p:nvSpPr>
          <p:spPr>
            <a:xfrm>
              <a:off x="6093000" y="7628040"/>
              <a:ext cx="1527120" cy="65232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70"/>
            <p:cNvSpPr/>
            <p:nvPr/>
          </p:nvSpPr>
          <p:spPr>
            <a:xfrm>
              <a:off x="4565880" y="7624800"/>
              <a:ext cx="1527120" cy="65556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71"/>
            <p:cNvSpPr/>
            <p:nvPr/>
          </p:nvSpPr>
          <p:spPr>
            <a:xfrm>
              <a:off x="-36360" y="7624800"/>
              <a:ext cx="1563480" cy="65556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72"/>
            <p:cNvSpPr/>
            <p:nvPr/>
          </p:nvSpPr>
          <p:spPr>
            <a:xfrm>
              <a:off x="1527120" y="7624800"/>
              <a:ext cx="1525320" cy="65556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73"/>
            <p:cNvSpPr/>
            <p:nvPr/>
          </p:nvSpPr>
          <p:spPr>
            <a:xfrm>
              <a:off x="3046320" y="7624800"/>
              <a:ext cx="1525320" cy="65556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74"/>
            <p:cNvSpPr/>
            <p:nvPr/>
          </p:nvSpPr>
          <p:spPr>
            <a:xfrm>
              <a:off x="-36360" y="6192720"/>
              <a:ext cx="1563480" cy="208764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75"/>
            <p:cNvSpPr/>
            <p:nvPr/>
          </p:nvSpPr>
          <p:spPr>
            <a:xfrm>
              <a:off x="1527120" y="6192720"/>
              <a:ext cx="1525320" cy="208764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76"/>
            <p:cNvSpPr/>
            <p:nvPr/>
          </p:nvSpPr>
          <p:spPr>
            <a:xfrm>
              <a:off x="3060720" y="6192720"/>
              <a:ext cx="1504800" cy="208764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77"/>
            <p:cNvSpPr/>
            <p:nvPr/>
          </p:nvSpPr>
          <p:spPr>
            <a:xfrm>
              <a:off x="4591080" y="6192720"/>
              <a:ext cx="1525320" cy="208764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78"/>
            <p:cNvSpPr/>
            <p:nvPr/>
          </p:nvSpPr>
          <p:spPr>
            <a:xfrm>
              <a:off x="6099120" y="6192720"/>
              <a:ext cx="1525320" cy="208764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79"/>
            <p:cNvSpPr/>
            <p:nvPr/>
          </p:nvSpPr>
          <p:spPr>
            <a:xfrm>
              <a:off x="7620120" y="6192720"/>
              <a:ext cx="1531800" cy="208764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1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1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2" presetSubtype="1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1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1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2" presetSubtype="1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2" presetSubtype="4">
                                  <p:stCondLst>
                                    <p:cond delay="2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2" presetSubtype="4">
                                  <p:stCondLst>
                                    <p:cond delay="3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4">
                                  <p:stCondLst>
                                    <p:cond delay="3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1.45052 -0.00648 E">
                                      <p:cBhvr>
                                        <p:cTn id="267" dur="75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L -1.42379 -0.00347 E">
                                      <p:cBhvr>
                                        <p:cTn id="295" dur="75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梯形 5" hidden="1"/>
          <p:cNvSpPr/>
          <p:nvPr/>
        </p:nvSpPr>
        <p:spPr>
          <a:xfrm rot="5400000">
            <a:off x="6402600" y="3240720"/>
            <a:ext cx="6059520" cy="5730840"/>
          </a:xfrm>
          <a:custGeom>
            <a:avLst/>
            <a:gdLst/>
            <a:ahLst/>
            <a:rect l="l" t="t" r="r" b="b"/>
            <a:pathLst>
              <a:path w="6517346" h="4177842">
                <a:moveTo>
                  <a:pt x="5531756" y="4177842"/>
                </a:moveTo>
                <a:lnTo>
                  <a:pt x="0" y="0"/>
                </a:lnTo>
                <a:lnTo>
                  <a:pt x="486047" y="8890"/>
                </a:lnTo>
                <a:lnTo>
                  <a:pt x="6517346" y="4177841"/>
                </a:lnTo>
                <a:lnTo>
                  <a:pt x="5531756" y="4177842"/>
                </a:lnTo>
                <a:close/>
              </a:path>
            </a:pathLst>
          </a:custGeom>
          <a:solidFill>
            <a:srgbClr val="ffa33e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6" hidden="1"/>
          <p:cNvSpPr/>
          <p:nvPr/>
        </p:nvSpPr>
        <p:spPr>
          <a:xfrm rot="16023000">
            <a:off x="3747240" y="4248720"/>
            <a:ext cx="1557360" cy="5359320"/>
          </a:xfrm>
          <a:custGeom>
            <a:avLst/>
            <a:gdLst/>
            <a:ahLst/>
            <a:rect l="l" t="t" r="r" b="b"/>
            <a:pathLst>
              <a:path w="2226885" h="4231315">
                <a:moveTo>
                  <a:pt x="-1" y="4199371"/>
                </a:moveTo>
                <a:lnTo>
                  <a:pt x="1286582" y="32"/>
                </a:lnTo>
                <a:cubicBezTo>
                  <a:pt x="1297787" y="-865"/>
                  <a:pt x="1668548" y="17067"/>
                  <a:pt x="1679753" y="16170"/>
                </a:cubicBezTo>
                <a:lnTo>
                  <a:pt x="2226885" y="38428"/>
                </a:lnTo>
                <a:lnTo>
                  <a:pt x="1355671" y="4231315"/>
                </a:lnTo>
                <a:lnTo>
                  <a:pt x="-1" y="4199371"/>
                </a:lnTo>
                <a:close/>
              </a:path>
            </a:pathLst>
          </a:custGeom>
          <a:solidFill>
            <a:srgbClr val="c75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6" hidden="1"/>
          <p:cNvSpPr/>
          <p:nvPr/>
        </p:nvSpPr>
        <p:spPr>
          <a:xfrm flipV="1" rot="16026000">
            <a:off x="-911880" y="5428440"/>
            <a:ext cx="1824120" cy="3666960"/>
          </a:xfrm>
          <a:custGeom>
            <a:avLst/>
            <a:gdLst/>
            <a:ahLst/>
            <a:rect l="l" t="t" r="r" b="b"/>
            <a:pathLst>
              <a:path w="2185142" h="3429533">
                <a:moveTo>
                  <a:pt x="0" y="3429533"/>
                </a:moveTo>
                <a:lnTo>
                  <a:pt x="1418075" y="34290"/>
                </a:lnTo>
                <a:cubicBezTo>
                  <a:pt x="1703843" y="8212"/>
                  <a:pt x="1919485" y="17207"/>
                  <a:pt x="2185142" y="0"/>
                </a:cubicBezTo>
                <a:lnTo>
                  <a:pt x="1554774" y="3345140"/>
                </a:lnTo>
                <a:lnTo>
                  <a:pt x="0" y="3429533"/>
                </a:lnTo>
                <a:close/>
              </a:path>
            </a:pathLst>
          </a:cu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6"/>
          <p:cNvSpPr/>
          <p:nvPr/>
        </p:nvSpPr>
        <p:spPr>
          <a:xfrm flipV="1" rot="16200000">
            <a:off x="-1301400" y="1132200"/>
            <a:ext cx="2700360" cy="3508200"/>
          </a:xfrm>
          <a:custGeom>
            <a:avLst/>
            <a:gdLst/>
            <a:ahLst/>
            <a:rect l="l" t="t" r="r" b="b"/>
            <a:pathLst>
              <a:path w="2700333" h="3189539">
                <a:moveTo>
                  <a:pt x="1078662" y="3189539"/>
                </a:moveTo>
                <a:lnTo>
                  <a:pt x="0" y="0"/>
                </a:lnTo>
                <a:lnTo>
                  <a:pt x="889413" y="5290"/>
                </a:lnTo>
                <a:lnTo>
                  <a:pt x="2700333" y="3164493"/>
                </a:lnTo>
                <a:lnTo>
                  <a:pt x="1078662" y="3189539"/>
                </a:lnTo>
                <a:close/>
              </a:path>
            </a:pathLst>
          </a:cu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6"/>
          <p:cNvSpPr/>
          <p:nvPr/>
        </p:nvSpPr>
        <p:spPr>
          <a:xfrm rot="16200000">
            <a:off x="3493080" y="513360"/>
            <a:ext cx="2060640" cy="5348520"/>
          </a:xfrm>
          <a:custGeom>
            <a:avLst/>
            <a:gdLst/>
            <a:ahLst/>
            <a:rect l="l" t="t" r="r" b="b"/>
            <a:pathLst>
              <a:path w="2587913" h="3302440">
                <a:moveTo>
                  <a:pt x="1383527" y="3299524"/>
                </a:moveTo>
                <a:lnTo>
                  <a:pt x="0" y="14154"/>
                </a:lnTo>
                <a:lnTo>
                  <a:pt x="1097345" y="0"/>
                </a:lnTo>
                <a:lnTo>
                  <a:pt x="2587912" y="3302440"/>
                </a:lnTo>
                <a:lnTo>
                  <a:pt x="1383527" y="3299524"/>
                </a:lnTo>
                <a:close/>
              </a:path>
            </a:pathLst>
          </a:custGeom>
          <a:solidFill>
            <a:srgbClr val="f98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6"/>
          <p:cNvSpPr/>
          <p:nvPr/>
        </p:nvSpPr>
        <p:spPr>
          <a:xfrm flipV="1" rot="16026000">
            <a:off x="-964080" y="2335680"/>
            <a:ext cx="1987560" cy="3521520"/>
          </a:xfrm>
          <a:custGeom>
            <a:avLst/>
            <a:gdLst/>
            <a:ahLst/>
            <a:rect l="l" t="t" r="r" b="b"/>
            <a:pathLst>
              <a:path w="2383310" h="3291122">
                <a:moveTo>
                  <a:pt x="1020751" y="3291122"/>
                </a:moveTo>
                <a:lnTo>
                  <a:pt x="0" y="32725"/>
                </a:lnTo>
                <a:lnTo>
                  <a:pt x="863698" y="0"/>
                </a:lnTo>
                <a:lnTo>
                  <a:pt x="2383310" y="3219714"/>
                </a:lnTo>
                <a:lnTo>
                  <a:pt x="1020751" y="3291122"/>
                </a:lnTo>
                <a:close/>
              </a:path>
            </a:pathLst>
          </a:cu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6"/>
          <p:cNvSpPr/>
          <p:nvPr/>
        </p:nvSpPr>
        <p:spPr>
          <a:xfrm rot="16023000">
            <a:off x="3724200" y="1396800"/>
            <a:ext cx="1606680" cy="5384520"/>
          </a:xfrm>
          <a:custGeom>
            <a:avLst/>
            <a:gdLst/>
            <a:ahLst/>
            <a:rect l="l" t="t" r="r" b="b"/>
            <a:pathLst>
              <a:path w="2297252" h="3677962">
                <a:moveTo>
                  <a:pt x="466057" y="3642255"/>
                </a:moveTo>
                <a:lnTo>
                  <a:pt x="0" y="6"/>
                </a:lnTo>
                <a:cubicBezTo>
                  <a:pt x="141837" y="-167"/>
                  <a:pt x="4288" y="2789"/>
                  <a:pt x="1020383" y="22231"/>
                </a:cubicBezTo>
                <a:lnTo>
                  <a:pt x="2297252" y="3677962"/>
                </a:lnTo>
                <a:lnTo>
                  <a:pt x="466057" y="3642255"/>
                </a:lnTo>
                <a:close/>
              </a:path>
            </a:pathLst>
          </a:cu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梯形 5"/>
          <p:cNvSpPr/>
          <p:nvPr/>
        </p:nvSpPr>
        <p:spPr>
          <a:xfrm rot="5400000">
            <a:off x="8036640" y="174960"/>
            <a:ext cx="3432240" cy="5068800"/>
          </a:xfrm>
          <a:custGeom>
            <a:avLst/>
            <a:gdLst/>
            <a:ahLst/>
            <a:rect l="l" t="t" r="r" b="b"/>
            <a:pathLst>
              <a:path w="3690489" h="3694429">
                <a:moveTo>
                  <a:pt x="489663" y="1086125"/>
                </a:moveTo>
                <a:cubicBezTo>
                  <a:pt x="605937" y="1172774"/>
                  <a:pt x="-50302" y="-7602"/>
                  <a:pt x="3097" y="37"/>
                </a:cubicBezTo>
                <a:lnTo>
                  <a:pt x="1196507" y="872818"/>
                </a:lnTo>
                <a:cubicBezTo>
                  <a:pt x="2237995" y="2109231"/>
                  <a:pt x="2643613" y="2465320"/>
                  <a:pt x="3690489" y="3694429"/>
                </a:cubicBezTo>
                <a:lnTo>
                  <a:pt x="2301341" y="3691075"/>
                </a:lnTo>
                <a:cubicBezTo>
                  <a:pt x="1461213" y="2430124"/>
                  <a:pt x="1319015" y="2350728"/>
                  <a:pt x="489663" y="1086125"/>
                </a:cubicBezTo>
                <a:close/>
              </a:path>
            </a:pathLst>
          </a:cu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梯形 5"/>
          <p:cNvSpPr/>
          <p:nvPr/>
        </p:nvSpPr>
        <p:spPr>
          <a:xfrm rot="5400000">
            <a:off x="8599320" y="-1231920"/>
            <a:ext cx="2959200" cy="5711760"/>
          </a:xfrm>
          <a:custGeom>
            <a:avLst/>
            <a:gdLst/>
            <a:ahLst/>
            <a:rect l="l" t="t" r="r" b="b"/>
            <a:pathLst>
              <a:path w="2098698" h="2455380">
                <a:moveTo>
                  <a:pt x="1426066" y="2454186"/>
                </a:moveTo>
                <a:lnTo>
                  <a:pt x="886441" y="1514991"/>
                </a:lnTo>
                <a:lnTo>
                  <a:pt x="0" y="0"/>
                </a:lnTo>
                <a:lnTo>
                  <a:pt x="396966" y="252882"/>
                </a:lnTo>
                <a:lnTo>
                  <a:pt x="1312929" y="1460141"/>
                </a:lnTo>
                <a:lnTo>
                  <a:pt x="2098698" y="2455380"/>
                </a:lnTo>
                <a:lnTo>
                  <a:pt x="1426066" y="2454186"/>
                </a:lnTo>
                <a:close/>
              </a:path>
            </a:pathLst>
          </a:cu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梯形 5"/>
          <p:cNvSpPr/>
          <p:nvPr/>
        </p:nvSpPr>
        <p:spPr>
          <a:xfrm rot="5400000">
            <a:off x="7700760" y="1036440"/>
            <a:ext cx="4102200" cy="5038560"/>
          </a:xfrm>
          <a:custGeom>
            <a:avLst/>
            <a:gdLst/>
            <a:ahLst/>
            <a:rect l="l" t="t" r="r" b="b"/>
            <a:pathLst>
              <a:path w="4410390" h="3671573">
                <a:moveTo>
                  <a:pt x="3194871" y="3671573"/>
                </a:moveTo>
                <a:lnTo>
                  <a:pt x="1309773" y="1606793"/>
                </a:lnTo>
                <a:lnTo>
                  <a:pt x="0" y="12431"/>
                </a:lnTo>
                <a:lnTo>
                  <a:pt x="611615" y="0"/>
                </a:lnTo>
                <a:lnTo>
                  <a:pt x="2238593" y="1614371"/>
                </a:lnTo>
                <a:lnTo>
                  <a:pt x="4410390" y="3668685"/>
                </a:lnTo>
              </a:path>
            </a:pathLst>
          </a:cu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梯形 5"/>
          <p:cNvSpPr/>
          <p:nvPr/>
        </p:nvSpPr>
        <p:spPr>
          <a:xfrm rot="5400000">
            <a:off x="7520760" y="1802520"/>
            <a:ext cx="4478040" cy="5054400"/>
          </a:xfrm>
          <a:custGeom>
            <a:avLst/>
            <a:gdLst/>
            <a:ahLst/>
            <a:rect l="l" t="t" r="r" b="b"/>
            <a:pathLst>
              <a:path w="4816821" h="3683972">
                <a:moveTo>
                  <a:pt x="3803562" y="3683972"/>
                </a:moveTo>
                <a:lnTo>
                  <a:pt x="1991623" y="1985736"/>
                </a:lnTo>
                <a:lnTo>
                  <a:pt x="0" y="17059"/>
                </a:lnTo>
                <a:lnTo>
                  <a:pt x="594786" y="0"/>
                </a:lnTo>
                <a:lnTo>
                  <a:pt x="2814066" y="1951203"/>
                </a:lnTo>
                <a:lnTo>
                  <a:pt x="4816821" y="3674360"/>
                </a:lnTo>
                <a:lnTo>
                  <a:pt x="3803562" y="3683972"/>
                </a:lnTo>
                <a:close/>
              </a:path>
            </a:pathLst>
          </a:cu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梯形 5"/>
          <p:cNvSpPr/>
          <p:nvPr/>
        </p:nvSpPr>
        <p:spPr>
          <a:xfrm rot="5400000">
            <a:off x="7282440" y="2629440"/>
            <a:ext cx="4965840" cy="5052960"/>
          </a:xfrm>
          <a:custGeom>
            <a:avLst/>
            <a:gdLst/>
            <a:ahLst/>
            <a:rect l="l" t="t" r="r" b="b"/>
            <a:pathLst>
              <a:path w="5339575" h="3681894">
                <a:moveTo>
                  <a:pt x="4207446" y="3681894"/>
                </a:moveTo>
                <a:lnTo>
                  <a:pt x="1998458" y="1793486"/>
                </a:lnTo>
                <a:lnTo>
                  <a:pt x="0" y="29491"/>
                </a:lnTo>
                <a:lnTo>
                  <a:pt x="474766" y="0"/>
                </a:lnTo>
                <a:lnTo>
                  <a:pt x="2818397" y="1804557"/>
                </a:lnTo>
                <a:lnTo>
                  <a:pt x="5339575" y="3669036"/>
                </a:lnTo>
                <a:lnTo>
                  <a:pt x="4207446" y="3681894"/>
                </a:lnTo>
                <a:close/>
              </a:path>
            </a:pathLst>
          </a:cu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6"/>
          <p:cNvSpPr/>
          <p:nvPr/>
        </p:nvSpPr>
        <p:spPr>
          <a:xfrm flipV="1" rot="16026000">
            <a:off x="-698040" y="3228120"/>
            <a:ext cx="1419480" cy="3564360"/>
          </a:xfrm>
          <a:custGeom>
            <a:avLst/>
            <a:gdLst/>
            <a:ahLst/>
            <a:rect l="l" t="t" r="r" b="b"/>
            <a:pathLst>
              <a:path w="1701413" h="3332259">
                <a:moveTo>
                  <a:pt x="216806" y="3332259"/>
                </a:moveTo>
                <a:lnTo>
                  <a:pt x="0" y="31294"/>
                </a:lnTo>
                <a:cubicBezTo>
                  <a:pt x="230124" y="15494"/>
                  <a:pt x="460945" y="10431"/>
                  <a:pt x="691417" y="0"/>
                </a:cubicBezTo>
                <a:lnTo>
                  <a:pt x="1701413" y="3229110"/>
                </a:lnTo>
                <a:lnTo>
                  <a:pt x="216806" y="3332259"/>
                </a:lnTo>
                <a:close/>
              </a:path>
            </a:pathLst>
          </a:cu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6"/>
          <p:cNvSpPr/>
          <p:nvPr/>
        </p:nvSpPr>
        <p:spPr>
          <a:xfrm rot="16023000">
            <a:off x="3958920" y="2474280"/>
            <a:ext cx="1143000" cy="5394240"/>
          </a:xfrm>
          <a:custGeom>
            <a:avLst/>
            <a:gdLst/>
            <a:ahLst/>
            <a:rect l="l" t="t" r="r" b="b"/>
            <a:pathLst>
              <a:path w="1634825" h="3608294">
                <a:moveTo>
                  <a:pt x="0" y="3566125"/>
                </a:moveTo>
                <a:lnTo>
                  <a:pt x="339272" y="0"/>
                </a:lnTo>
                <a:lnTo>
                  <a:pt x="1133156" y="20977"/>
                </a:lnTo>
                <a:lnTo>
                  <a:pt x="1634826" y="3608294"/>
                </a:lnTo>
                <a:lnTo>
                  <a:pt x="0" y="3566125"/>
                </a:lnTo>
                <a:close/>
              </a:path>
            </a:pathLst>
          </a:custGeom>
          <a:solidFill>
            <a:srgbClr val="d3b5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6"/>
          <p:cNvSpPr/>
          <p:nvPr/>
        </p:nvSpPr>
        <p:spPr>
          <a:xfrm rot="16023000">
            <a:off x="3776400" y="3633480"/>
            <a:ext cx="1514520" cy="5371920"/>
          </a:xfrm>
          <a:custGeom>
            <a:avLst/>
            <a:gdLst/>
            <a:ahLst/>
            <a:rect l="l" t="t" r="r" b="b"/>
            <a:pathLst>
              <a:path w="2164970" h="3589462">
                <a:moveTo>
                  <a:pt x="1" y="3550247"/>
                </a:moveTo>
                <a:lnTo>
                  <a:pt x="1281971" y="68"/>
                </a:lnTo>
                <a:cubicBezTo>
                  <a:pt x="1293176" y="-829"/>
                  <a:pt x="1592622" y="7550"/>
                  <a:pt x="1603827" y="6653"/>
                </a:cubicBezTo>
                <a:lnTo>
                  <a:pt x="2164970" y="33299"/>
                </a:lnTo>
                <a:lnTo>
                  <a:pt x="1854956" y="3589462"/>
                </a:lnTo>
                <a:lnTo>
                  <a:pt x="1" y="3550247"/>
                </a:lnTo>
                <a:close/>
              </a:path>
            </a:pathLst>
          </a:custGeom>
          <a:solidFill>
            <a:srgbClr val="b6b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6"/>
          <p:cNvSpPr/>
          <p:nvPr/>
        </p:nvSpPr>
        <p:spPr>
          <a:xfrm flipV="1" rot="16026000">
            <a:off x="-642600" y="4431240"/>
            <a:ext cx="1298520" cy="3626280"/>
          </a:xfrm>
          <a:custGeom>
            <a:avLst/>
            <a:gdLst/>
            <a:ahLst/>
            <a:rect l="l" t="t" r="r" b="b"/>
            <a:pathLst>
              <a:path w="1554774" h="3388832">
                <a:moveTo>
                  <a:pt x="0" y="3388832"/>
                </a:moveTo>
                <a:lnTo>
                  <a:pt x="634585" y="32656"/>
                </a:lnTo>
                <a:lnTo>
                  <a:pt x="1360388" y="0"/>
                </a:lnTo>
                <a:lnTo>
                  <a:pt x="1554774" y="3304439"/>
                </a:lnTo>
                <a:lnTo>
                  <a:pt x="0" y="3388832"/>
                </a:lnTo>
                <a:close/>
              </a:path>
            </a:pathLst>
          </a:cu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2592360" y="630360"/>
            <a:ext cx="38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21900"/>
                </a:solidFill>
                <a:latin typeface="Broadway BT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 rot="20877600">
            <a:off x="2771280" y="294012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oadway BT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2"/>
          <p:cNvSpPr/>
          <p:nvPr/>
        </p:nvSpPr>
        <p:spPr>
          <a:xfrm rot="21058800">
            <a:off x="3062160" y="4033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oadway BT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53"/>
          <p:cNvSpPr/>
          <p:nvPr/>
        </p:nvSpPr>
        <p:spPr>
          <a:xfrm rot="21337200">
            <a:off x="3426480" y="491616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oadway BT"/>
              </a:rPr>
              <a:t>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4"/>
          <p:cNvSpPr/>
          <p:nvPr/>
        </p:nvSpPr>
        <p:spPr>
          <a:xfrm rot="308400">
            <a:off x="3072600" y="587232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oadway BT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梯形 5"/>
          <p:cNvSpPr/>
          <p:nvPr/>
        </p:nvSpPr>
        <p:spPr>
          <a:xfrm rot="4263600">
            <a:off x="7927560" y="3222360"/>
            <a:ext cx="3085920" cy="5689800"/>
          </a:xfrm>
          <a:custGeom>
            <a:avLst/>
            <a:gdLst/>
            <a:ahLst/>
            <a:rect l="l" t="t" r="r" b="b"/>
            <a:pathLst>
              <a:path w="2187393" h="2445788">
                <a:moveTo>
                  <a:pt x="1613934" y="2332866"/>
                </a:moveTo>
                <a:lnTo>
                  <a:pt x="721728" y="1062007"/>
                </a:lnTo>
                <a:lnTo>
                  <a:pt x="0" y="0"/>
                </a:lnTo>
                <a:lnTo>
                  <a:pt x="385363" y="147019"/>
                </a:lnTo>
                <a:cubicBezTo>
                  <a:pt x="578835" y="334867"/>
                  <a:pt x="844778" y="747596"/>
                  <a:pt x="1145116" y="1130724"/>
                </a:cubicBezTo>
                <a:cubicBezTo>
                  <a:pt x="1427000" y="1518299"/>
                  <a:pt x="2111877" y="2244825"/>
                  <a:pt x="2187393" y="2445788"/>
                </a:cubicBezTo>
                <a:lnTo>
                  <a:pt x="1613934" y="2332866"/>
                </a:lnTo>
                <a:close/>
              </a:path>
            </a:pathLst>
          </a:cu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67"/>
          <p:cNvGrpSpPr/>
          <p:nvPr/>
        </p:nvGrpSpPr>
        <p:grpSpPr>
          <a:xfrm>
            <a:off x="4587480" y="-4040280"/>
            <a:ext cx="14417640" cy="16603920"/>
            <a:chOff x="4587480" y="-4040280"/>
            <a:chExt cx="14417640" cy="16603920"/>
          </a:xfrm>
        </p:grpSpPr>
        <p:grpSp>
          <p:nvGrpSpPr>
            <p:cNvPr id="581" name="组合 68"/>
            <p:cNvGrpSpPr/>
            <p:nvPr/>
          </p:nvGrpSpPr>
          <p:grpSpPr>
            <a:xfrm>
              <a:off x="4587480" y="-4040280"/>
              <a:ext cx="14417640" cy="16603920"/>
              <a:chOff x="4587480" y="-4040280"/>
              <a:chExt cx="14417640" cy="16603920"/>
            </a:xfrm>
          </p:grpSpPr>
          <p:pic>
            <p:nvPicPr>
              <p:cNvPr id="582" name="Picture 2" descr="C:\Users\lychee\Desktop\PPT彩条\大标题\大标题.gif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3494160" y="-2946960"/>
                <a:ext cx="16603920" cy="144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等腰三角形 3"/>
              <p:cNvSpPr/>
              <p:nvPr/>
            </p:nvSpPr>
            <p:spPr>
              <a:xfrm flipV="1" rot="5400000">
                <a:off x="12107520" y="224640"/>
                <a:ext cx="911160" cy="682560"/>
              </a:xfrm>
              <a:custGeom>
                <a:avLst/>
                <a:gdLst/>
                <a:ahLst/>
                <a:rect l="l" t="t" r="r" b="b"/>
                <a:pathLst>
                  <a:path w="978520" h="497706">
                    <a:moveTo>
                      <a:pt x="0" y="478656"/>
                    </a:moveTo>
                    <a:lnTo>
                      <a:pt x="876605" y="0"/>
                    </a:lnTo>
                    <a:lnTo>
                      <a:pt x="978520" y="497706"/>
                    </a:lnTo>
                    <a:lnTo>
                      <a:pt x="0" y="4786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5400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3040" dir="5400000" blurRad="0" rotWithShape="0">
                  <a:srgbClr val="000000">
                    <a:alpha val="3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梯形 5"/>
            <p:cNvSpPr/>
            <p:nvPr/>
          </p:nvSpPr>
          <p:spPr>
            <a:xfrm rot="5400000">
              <a:off x="9510120" y="355320"/>
              <a:ext cx="2509920" cy="3265560"/>
            </a:xfrm>
            <a:custGeom>
              <a:avLst/>
              <a:gdLst/>
              <a:ahLst/>
              <a:rect l="l" t="t" r="r" b="b"/>
              <a:pathLst>
                <a:path w="2697783" h="2380968">
                  <a:moveTo>
                    <a:pt x="0" y="0"/>
                  </a:moveTo>
                  <a:cubicBezTo>
                    <a:pt x="116274" y="86649"/>
                    <a:pt x="170297" y="91477"/>
                    <a:pt x="223696" y="99116"/>
                  </a:cubicBezTo>
                  <a:lnTo>
                    <a:pt x="777175" y="106180"/>
                  </a:lnTo>
                  <a:lnTo>
                    <a:pt x="2697783" y="2374618"/>
                  </a:lnTo>
                  <a:lnTo>
                    <a:pt x="1578658" y="23809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梯形 5"/>
            <p:cNvSpPr/>
            <p:nvPr/>
          </p:nvSpPr>
          <p:spPr>
            <a:xfrm rot="5400000">
              <a:off x="9964440" y="-711360"/>
              <a:ext cx="2049480" cy="3738600"/>
            </a:xfrm>
            <a:custGeom>
              <a:avLst/>
              <a:gdLst/>
              <a:ahLst/>
              <a:rect l="l" t="t" r="r" b="b"/>
              <a:pathLst>
                <a:path w="2204811" h="2725688">
                  <a:moveTo>
                    <a:pt x="1466396" y="2725688"/>
                  </a:moveTo>
                  <a:lnTo>
                    <a:pt x="0" y="0"/>
                  </a:lnTo>
                  <a:lnTo>
                    <a:pt x="635907" y="355600"/>
                  </a:lnTo>
                  <a:lnTo>
                    <a:pt x="2204811" y="2725688"/>
                  </a:lnTo>
                  <a:lnTo>
                    <a:pt x="1466396" y="2725688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梯形 5"/>
            <p:cNvSpPr/>
            <p:nvPr/>
          </p:nvSpPr>
          <p:spPr>
            <a:xfrm rot="5400000">
              <a:off x="9338040" y="1276920"/>
              <a:ext cx="2738520" cy="3120840"/>
            </a:xfrm>
            <a:custGeom>
              <a:avLst/>
              <a:gdLst/>
              <a:ahLst/>
              <a:rect l="l" t="t" r="r" b="b"/>
              <a:pathLst>
                <a:path w="2944586" h="2274838">
                  <a:moveTo>
                    <a:pt x="1926771" y="2274838"/>
                  </a:moveTo>
                  <a:lnTo>
                    <a:pt x="0" y="3175"/>
                  </a:lnTo>
                  <a:lnTo>
                    <a:pt x="618444" y="0"/>
                  </a:lnTo>
                  <a:lnTo>
                    <a:pt x="2944586" y="2262138"/>
                  </a:lnTo>
                  <a:lnTo>
                    <a:pt x="1926771" y="2274838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梯形 5"/>
            <p:cNvSpPr/>
            <p:nvPr/>
          </p:nvSpPr>
          <p:spPr>
            <a:xfrm rot="5400000">
              <a:off x="9201600" y="1996200"/>
              <a:ext cx="3017880" cy="3133440"/>
            </a:xfrm>
            <a:custGeom>
              <a:avLst/>
              <a:gdLst/>
              <a:ahLst/>
              <a:rect l="l" t="t" r="r" b="b"/>
              <a:pathLst>
                <a:path w="3246211" h="2284363">
                  <a:moveTo>
                    <a:pt x="2342696" y="2284363"/>
                  </a:moveTo>
                  <a:lnTo>
                    <a:pt x="0" y="3175"/>
                  </a:lnTo>
                  <a:lnTo>
                    <a:pt x="615270" y="0"/>
                  </a:lnTo>
                  <a:lnTo>
                    <a:pt x="3246211" y="2284363"/>
                  </a:lnTo>
                  <a:lnTo>
                    <a:pt x="2342696" y="2284363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梯形 5"/>
            <p:cNvSpPr/>
            <p:nvPr/>
          </p:nvSpPr>
          <p:spPr>
            <a:xfrm rot="5400000">
              <a:off x="9093600" y="2697840"/>
              <a:ext cx="3255840" cy="3120840"/>
            </a:xfrm>
            <a:custGeom>
              <a:avLst/>
              <a:gdLst/>
              <a:ahLst/>
              <a:rect l="l" t="t" r="r" b="b"/>
              <a:pathLst>
                <a:path w="3500211" h="2274838">
                  <a:moveTo>
                    <a:pt x="2609396" y="2274838"/>
                  </a:moveTo>
                  <a:lnTo>
                    <a:pt x="0" y="6350"/>
                  </a:lnTo>
                  <a:lnTo>
                    <a:pt x="508907" y="0"/>
                  </a:lnTo>
                  <a:lnTo>
                    <a:pt x="3500211" y="2274838"/>
                  </a:lnTo>
                  <a:lnTo>
                    <a:pt x="2609396" y="2274838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梯形 5"/>
            <p:cNvSpPr/>
            <p:nvPr/>
          </p:nvSpPr>
          <p:spPr>
            <a:xfrm rot="5400000">
              <a:off x="8961840" y="3282120"/>
              <a:ext cx="3510000" cy="3130560"/>
            </a:xfrm>
            <a:custGeom>
              <a:avLst/>
              <a:gdLst/>
              <a:ahLst/>
              <a:rect l="l" t="t" r="r" b="b"/>
              <a:pathLst>
                <a:path w="3774531" h="2283728">
                  <a:moveTo>
                    <a:pt x="3020876" y="2283728"/>
                  </a:moveTo>
                  <a:lnTo>
                    <a:pt x="0" y="0"/>
                  </a:lnTo>
                  <a:lnTo>
                    <a:pt x="486047" y="8890"/>
                  </a:lnTo>
                  <a:lnTo>
                    <a:pt x="3774531" y="2283728"/>
                  </a:lnTo>
                  <a:lnTo>
                    <a:pt x="3020876" y="2283728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TextBox 4" descr=""/>
          <p:cNvPicPr/>
          <p:nvPr/>
        </p:nvPicPr>
        <p:blipFill>
          <a:blip r:embed="rId2"/>
          <a:stretch/>
        </p:blipFill>
        <p:spPr>
          <a:xfrm>
            <a:off x="974880" y="3297240"/>
            <a:ext cx="512640" cy="615960"/>
          </a:xfrm>
          <a:prstGeom prst="rect">
            <a:avLst/>
          </a:prstGeom>
          <a:ln w="0">
            <a:noFill/>
          </a:ln>
        </p:spPr>
      </p:pic>
      <p:pic>
        <p:nvPicPr>
          <p:cNvPr id="591" name="TextBox 35" descr=""/>
          <p:cNvPicPr/>
          <p:nvPr/>
        </p:nvPicPr>
        <p:blipFill>
          <a:blip r:embed="rId3"/>
          <a:stretch/>
        </p:blipFill>
        <p:spPr>
          <a:xfrm>
            <a:off x="974880" y="4194000"/>
            <a:ext cx="512640" cy="615960"/>
          </a:xfrm>
          <a:prstGeom prst="rect">
            <a:avLst/>
          </a:prstGeom>
          <a:ln w="0">
            <a:noFill/>
          </a:ln>
        </p:spPr>
      </p:pic>
      <p:pic>
        <p:nvPicPr>
          <p:cNvPr id="592" name="TextBox 36" descr=""/>
          <p:cNvPicPr/>
          <p:nvPr/>
        </p:nvPicPr>
        <p:blipFill>
          <a:blip r:embed="rId4"/>
          <a:stretch/>
        </p:blipFill>
        <p:spPr>
          <a:xfrm>
            <a:off x="957240" y="4956120"/>
            <a:ext cx="506520" cy="615960"/>
          </a:xfrm>
          <a:prstGeom prst="rect">
            <a:avLst/>
          </a:prstGeom>
          <a:ln w="0">
            <a:noFill/>
          </a:ln>
        </p:spPr>
      </p:pic>
      <p:pic>
        <p:nvPicPr>
          <p:cNvPr id="593" name="TextBox 37" descr=""/>
          <p:cNvPicPr/>
          <p:nvPr/>
        </p:nvPicPr>
        <p:blipFill>
          <a:blip r:embed="rId5"/>
          <a:stretch/>
        </p:blipFill>
        <p:spPr>
          <a:xfrm>
            <a:off x="974880" y="5742000"/>
            <a:ext cx="475920" cy="585720"/>
          </a:xfrm>
          <a:prstGeom prst="rect">
            <a:avLst/>
          </a:prstGeom>
          <a:ln w="0">
            <a:noFill/>
          </a:ln>
        </p:spPr>
      </p:pic>
      <p:sp>
        <p:nvSpPr>
          <p:cNvPr id="5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4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组合 12"/>
          <p:cNvGrpSpPr/>
          <p:nvPr/>
        </p:nvGrpSpPr>
        <p:grpSpPr>
          <a:xfrm>
            <a:off x="-4575240" y="-4040280"/>
            <a:ext cx="14427360" cy="16603920"/>
            <a:chOff x="-4575240" y="-4040280"/>
            <a:chExt cx="14427360" cy="16603920"/>
          </a:xfrm>
        </p:grpSpPr>
        <p:grpSp>
          <p:nvGrpSpPr>
            <p:cNvPr id="596" name="组合 4"/>
            <p:cNvGrpSpPr/>
            <p:nvPr/>
          </p:nvGrpSpPr>
          <p:grpSpPr>
            <a:xfrm>
              <a:off x="-4575240" y="-4040280"/>
              <a:ext cx="14427360" cy="16603920"/>
              <a:chOff x="-4575240" y="-4040280"/>
              <a:chExt cx="14427360" cy="16603920"/>
            </a:xfrm>
          </p:grpSpPr>
          <p:pic>
            <p:nvPicPr>
              <p:cNvPr id="597" name="Picture 2" descr="C:\Users\lychee\Desktop\PPT彩条\大标题\大标题.gif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-5663520" y="-2952000"/>
                <a:ext cx="16603920" cy="144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等腰三角形 3"/>
              <p:cNvSpPr/>
              <p:nvPr/>
            </p:nvSpPr>
            <p:spPr>
              <a:xfrm flipV="1" rot="5400000">
                <a:off x="2950560" y="225000"/>
                <a:ext cx="911160" cy="682560"/>
              </a:xfrm>
              <a:custGeom>
                <a:avLst/>
                <a:gdLst/>
                <a:ahLst/>
                <a:rect l="l" t="t" r="r" b="b"/>
                <a:pathLst>
                  <a:path w="978520" h="497706">
                    <a:moveTo>
                      <a:pt x="0" y="478656"/>
                    </a:moveTo>
                    <a:lnTo>
                      <a:pt x="876605" y="0"/>
                    </a:lnTo>
                    <a:lnTo>
                      <a:pt x="978520" y="497706"/>
                    </a:lnTo>
                    <a:lnTo>
                      <a:pt x="0" y="4786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5400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3040" dir="5400000" blurRad="0" rotWithShape="0">
                  <a:srgbClr val="000000">
                    <a:alpha val="3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梯形 5"/>
            <p:cNvSpPr/>
            <p:nvPr/>
          </p:nvSpPr>
          <p:spPr>
            <a:xfrm rot="5400000">
              <a:off x="367920" y="354600"/>
              <a:ext cx="2509920" cy="3267360"/>
            </a:xfrm>
            <a:custGeom>
              <a:avLst/>
              <a:gdLst/>
              <a:ahLst/>
              <a:rect l="l" t="t" r="r" b="b"/>
              <a:pathLst>
                <a:path w="2697783" h="2380968">
                  <a:moveTo>
                    <a:pt x="0" y="0"/>
                  </a:moveTo>
                  <a:cubicBezTo>
                    <a:pt x="116274" y="86649"/>
                    <a:pt x="170297" y="91477"/>
                    <a:pt x="223696" y="99116"/>
                  </a:cubicBezTo>
                  <a:lnTo>
                    <a:pt x="777175" y="106180"/>
                  </a:lnTo>
                  <a:lnTo>
                    <a:pt x="2697783" y="2374618"/>
                  </a:lnTo>
                  <a:lnTo>
                    <a:pt x="1578658" y="23809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"/>
            <p:cNvSpPr/>
            <p:nvPr/>
          </p:nvSpPr>
          <p:spPr>
            <a:xfrm rot="5400000">
              <a:off x="815760" y="-703800"/>
              <a:ext cx="2049480" cy="3740400"/>
            </a:xfrm>
            <a:custGeom>
              <a:avLst/>
              <a:gdLst/>
              <a:ahLst/>
              <a:rect l="l" t="t" r="r" b="b"/>
              <a:pathLst>
                <a:path w="2204811" h="2725688">
                  <a:moveTo>
                    <a:pt x="1466396" y="2725688"/>
                  </a:moveTo>
                  <a:lnTo>
                    <a:pt x="0" y="0"/>
                  </a:lnTo>
                  <a:lnTo>
                    <a:pt x="635907" y="355600"/>
                  </a:lnTo>
                  <a:lnTo>
                    <a:pt x="2204811" y="2725688"/>
                  </a:lnTo>
                  <a:lnTo>
                    <a:pt x="1466396" y="2725688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"/>
            <p:cNvSpPr/>
            <p:nvPr/>
          </p:nvSpPr>
          <p:spPr>
            <a:xfrm rot="5400000">
              <a:off x="187200" y="1277280"/>
              <a:ext cx="2738520" cy="3121200"/>
            </a:xfrm>
            <a:custGeom>
              <a:avLst/>
              <a:gdLst/>
              <a:ahLst/>
              <a:rect l="l" t="t" r="r" b="b"/>
              <a:pathLst>
                <a:path w="2944586" h="2274838">
                  <a:moveTo>
                    <a:pt x="1926771" y="2274838"/>
                  </a:moveTo>
                  <a:lnTo>
                    <a:pt x="0" y="3175"/>
                  </a:lnTo>
                  <a:lnTo>
                    <a:pt x="618444" y="0"/>
                  </a:lnTo>
                  <a:lnTo>
                    <a:pt x="2944586" y="2262138"/>
                  </a:lnTo>
                  <a:lnTo>
                    <a:pt x="1926771" y="2274838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梯形 5"/>
            <p:cNvSpPr/>
            <p:nvPr/>
          </p:nvSpPr>
          <p:spPr>
            <a:xfrm rot="5400000">
              <a:off x="50400" y="1995840"/>
              <a:ext cx="3017880" cy="3134160"/>
            </a:xfrm>
            <a:custGeom>
              <a:avLst/>
              <a:gdLst/>
              <a:ahLst/>
              <a:rect l="l" t="t" r="r" b="b"/>
              <a:pathLst>
                <a:path w="3246211" h="2284363">
                  <a:moveTo>
                    <a:pt x="2342696" y="2284363"/>
                  </a:moveTo>
                  <a:lnTo>
                    <a:pt x="0" y="3175"/>
                  </a:lnTo>
                  <a:lnTo>
                    <a:pt x="615270" y="0"/>
                  </a:lnTo>
                  <a:lnTo>
                    <a:pt x="3246211" y="2284363"/>
                  </a:lnTo>
                  <a:lnTo>
                    <a:pt x="2342696" y="2284363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梯形 5"/>
            <p:cNvSpPr/>
            <p:nvPr/>
          </p:nvSpPr>
          <p:spPr>
            <a:xfrm rot="5400000">
              <a:off x="-57240" y="2697480"/>
              <a:ext cx="3255840" cy="3121200"/>
            </a:xfrm>
            <a:custGeom>
              <a:avLst/>
              <a:gdLst/>
              <a:ahLst/>
              <a:rect l="l" t="t" r="r" b="b"/>
              <a:pathLst>
                <a:path w="3500211" h="2274838">
                  <a:moveTo>
                    <a:pt x="2609396" y="2274838"/>
                  </a:moveTo>
                  <a:lnTo>
                    <a:pt x="0" y="6350"/>
                  </a:lnTo>
                  <a:lnTo>
                    <a:pt x="508907" y="0"/>
                  </a:lnTo>
                  <a:lnTo>
                    <a:pt x="3500211" y="2274838"/>
                  </a:lnTo>
                  <a:lnTo>
                    <a:pt x="2609396" y="2274838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梯形 5"/>
            <p:cNvSpPr/>
            <p:nvPr/>
          </p:nvSpPr>
          <p:spPr>
            <a:xfrm rot="5400000">
              <a:off x="-189000" y="3280320"/>
              <a:ext cx="3510000" cy="3134160"/>
            </a:xfrm>
            <a:custGeom>
              <a:avLst/>
              <a:gdLst/>
              <a:ahLst/>
              <a:rect l="l" t="t" r="r" b="b"/>
              <a:pathLst>
                <a:path w="3774531" h="2283728">
                  <a:moveTo>
                    <a:pt x="3020876" y="2283728"/>
                  </a:moveTo>
                  <a:lnTo>
                    <a:pt x="0" y="0"/>
                  </a:lnTo>
                  <a:lnTo>
                    <a:pt x="486047" y="8890"/>
                  </a:lnTo>
                  <a:lnTo>
                    <a:pt x="3774531" y="2283728"/>
                  </a:lnTo>
                  <a:lnTo>
                    <a:pt x="3020876" y="2283728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Picture 5" descr="C:\Users\lychee\Desktop\PPT彩条\大标题\四边形.gif"/>
          <p:cNvPicPr/>
          <p:nvPr/>
        </p:nvPicPr>
        <p:blipFill>
          <a:blip r:embed="rId2"/>
          <a:stretch/>
        </p:blipFill>
        <p:spPr>
          <a:xfrm>
            <a:off x="-560520" y="-1971720"/>
            <a:ext cx="9309240" cy="1144908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"/>
          <p:cNvGrpSpPr/>
          <p:nvPr/>
        </p:nvGrpSpPr>
        <p:grpSpPr>
          <a:xfrm>
            <a:off x="6517800" y="-1859040"/>
            <a:ext cx="6443640" cy="7578720"/>
            <a:chOff x="6517800" y="-1859040"/>
            <a:chExt cx="6443640" cy="7578720"/>
          </a:xfrm>
        </p:grpSpPr>
        <p:sp>
          <p:nvSpPr>
            <p:cNvPr id="607" name="等腰三角形 14"/>
            <p:cNvSpPr/>
            <p:nvPr/>
          </p:nvSpPr>
          <p:spPr>
            <a:xfrm rot="5400000">
              <a:off x="5965920" y="-1275480"/>
              <a:ext cx="7578720" cy="6411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等腰三角形 14"/>
            <p:cNvSpPr/>
            <p:nvPr/>
          </p:nvSpPr>
          <p:spPr>
            <a:xfrm rot="5400000">
              <a:off x="6241680" y="-1535040"/>
              <a:ext cx="6994800" cy="639144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14"/>
            <p:cNvSpPr/>
            <p:nvPr/>
          </p:nvSpPr>
          <p:spPr>
            <a:xfrm rot="5400000">
              <a:off x="6591240" y="-1896120"/>
              <a:ext cx="6284880" cy="6404040"/>
            </a:xfrm>
            <a:custGeom>
              <a:avLst/>
              <a:gdLst/>
              <a:ahLst/>
              <a:rect l="l" t="t" r="r" b="b"/>
              <a:pathLst>
                <a:path w="6283774" h="6404099">
                  <a:moveTo>
                    <a:pt x="5560028" y="6404099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5560028" y="6404099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等腰三角形 14"/>
            <p:cNvSpPr/>
            <p:nvPr/>
          </p:nvSpPr>
          <p:spPr>
            <a:xfrm rot="5400000">
              <a:off x="6953040" y="-2222280"/>
              <a:ext cx="5508720" cy="6353280"/>
            </a:xfrm>
            <a:custGeom>
              <a:avLst/>
              <a:gdLst/>
              <a:ahLst/>
              <a:rect l="l" t="t" r="r" b="b"/>
              <a:pathLst>
                <a:path w="5509075" h="6353301">
                  <a:moveTo>
                    <a:pt x="4721829" y="6353301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4721829" y="6353301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等腰三角形 14"/>
            <p:cNvSpPr/>
            <p:nvPr/>
          </p:nvSpPr>
          <p:spPr>
            <a:xfrm rot="5400000">
              <a:off x="7357320" y="-2647800"/>
              <a:ext cx="4721400" cy="6378840"/>
            </a:xfrm>
            <a:custGeom>
              <a:avLst/>
              <a:gdLst/>
              <a:ahLst/>
              <a:rect l="l" t="t" r="r" b="b"/>
              <a:pathLst>
                <a:path w="4721681" h="6378701">
                  <a:moveTo>
                    <a:pt x="3807429" y="6378701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3807429" y="6378701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等腰三角形 14"/>
            <p:cNvSpPr/>
            <p:nvPr/>
          </p:nvSpPr>
          <p:spPr>
            <a:xfrm rot="5400000">
              <a:off x="7810200" y="-3116160"/>
              <a:ext cx="3832200" cy="6417000"/>
            </a:xfrm>
            <a:custGeom>
              <a:avLst/>
              <a:gdLst/>
              <a:ahLst/>
              <a:rect l="l" t="t" r="r" b="b"/>
              <a:pathLst>
                <a:path w="3832681" h="6416801">
                  <a:moveTo>
                    <a:pt x="3210529" y="6416801"/>
                  </a:moveTo>
                  <a:lnTo>
                    <a:pt x="0" y="0"/>
                  </a:lnTo>
                  <a:lnTo>
                    <a:pt x="3832681" y="6408160"/>
                  </a:lnTo>
                  <a:lnTo>
                    <a:pt x="3210529" y="6416801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24"/>
          <p:cNvSpPr/>
          <p:nvPr/>
        </p:nvSpPr>
        <p:spPr>
          <a:xfrm rot="2626200">
            <a:off x="2794320" y="2921400"/>
            <a:ext cx="403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Broadway BT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任意多边形 4" hidden="1"/>
          <p:cNvSpPr/>
          <p:nvPr/>
        </p:nvSpPr>
        <p:spPr>
          <a:xfrm rot="21004200">
            <a:off x="5681160" y="3269880"/>
            <a:ext cx="3062520" cy="365040"/>
          </a:xfrm>
          <a:custGeom>
            <a:avLst/>
            <a:gdLst/>
            <a:ahLst/>
            <a:rect l="l" t="t" r="r" b="b"/>
            <a:pathLst>
              <a:path w="2540000" h="246743">
                <a:moveTo>
                  <a:pt x="0" y="246743"/>
                </a:moveTo>
                <a:cubicBezTo>
                  <a:pt x="441476" y="238276"/>
                  <a:pt x="882953" y="229810"/>
                  <a:pt x="1306286" y="188686"/>
                </a:cubicBezTo>
                <a:cubicBezTo>
                  <a:pt x="1729619" y="147562"/>
                  <a:pt x="2134809" y="73781"/>
                  <a:pt x="2540000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5" hidden="1"/>
          <p:cNvSpPr/>
          <p:nvPr/>
        </p:nvSpPr>
        <p:spPr>
          <a:xfrm rot="21004200">
            <a:off x="5881320" y="3852360"/>
            <a:ext cx="347760" cy="1874880"/>
          </a:xfrm>
          <a:custGeom>
            <a:avLst/>
            <a:gdLst/>
            <a:ahLst/>
            <a:rect l="l" t="t" r="r" b="b"/>
            <a:pathLst>
              <a:path w="266743" h="1494972">
                <a:moveTo>
                  <a:pt x="0" y="0"/>
                </a:moveTo>
                <a:cubicBezTo>
                  <a:pt x="94343" y="455990"/>
                  <a:pt x="188686" y="911981"/>
                  <a:pt x="232229" y="1161143"/>
                </a:cubicBezTo>
                <a:cubicBezTo>
                  <a:pt x="275772" y="1410305"/>
                  <a:pt x="268514" y="1452638"/>
                  <a:pt x="261257" y="1494972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 hidden="1"/>
          <p:cNvSpPr/>
          <p:nvPr/>
        </p:nvSpPr>
        <p:spPr>
          <a:xfrm rot="21004200">
            <a:off x="6346440" y="5208480"/>
            <a:ext cx="2981520" cy="220680"/>
          </a:xfrm>
          <a:custGeom>
            <a:avLst/>
            <a:gdLst/>
            <a:ahLst/>
            <a:rect l="l" t="t" r="r" b="b"/>
            <a:pathLst>
              <a:path w="2423885" h="130628">
                <a:moveTo>
                  <a:pt x="0" y="130628"/>
                </a:moveTo>
                <a:lnTo>
                  <a:pt x="1306285" y="43543"/>
                </a:lnTo>
                <a:cubicBezTo>
                  <a:pt x="1710266" y="21772"/>
                  <a:pt x="2423885" y="0"/>
                  <a:pt x="2423885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7" hidden="1"/>
          <p:cNvSpPr/>
          <p:nvPr/>
        </p:nvSpPr>
        <p:spPr>
          <a:xfrm rot="21004200">
            <a:off x="8865720" y="2904840"/>
            <a:ext cx="195480" cy="2077920"/>
          </a:xfrm>
          <a:custGeom>
            <a:avLst/>
            <a:gdLst/>
            <a:ahLst/>
            <a:rect l="l" t="t" r="r" b="b"/>
            <a:pathLst>
              <a:path w="174171" h="1625600">
                <a:moveTo>
                  <a:pt x="0" y="0"/>
                </a:moveTo>
                <a:cubicBezTo>
                  <a:pt x="21771" y="328990"/>
                  <a:pt x="43543" y="657981"/>
                  <a:pt x="72571" y="928914"/>
                </a:cubicBezTo>
                <a:cubicBezTo>
                  <a:pt x="101600" y="1199847"/>
                  <a:pt x="137885" y="1412723"/>
                  <a:pt x="174171" y="162560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9" hidden="1"/>
          <p:cNvSpPr/>
          <p:nvPr/>
        </p:nvSpPr>
        <p:spPr>
          <a:xfrm rot="21004200">
            <a:off x="5765400" y="3270240"/>
            <a:ext cx="3098880" cy="1332000"/>
          </a:xfrm>
          <a:custGeom>
            <a:avLst/>
            <a:gdLst/>
            <a:ahLst/>
            <a:rect l="l" t="t" r="r" b="b"/>
            <a:pathLst>
              <a:path w="2525486" h="1039181">
                <a:moveTo>
                  <a:pt x="0" y="261257"/>
                </a:moveTo>
                <a:cubicBezTo>
                  <a:pt x="457200" y="596295"/>
                  <a:pt x="914400" y="931333"/>
                  <a:pt x="1233714" y="1016000"/>
                </a:cubicBezTo>
                <a:cubicBezTo>
                  <a:pt x="1553028" y="1100667"/>
                  <a:pt x="1700591" y="938590"/>
                  <a:pt x="1915886" y="769257"/>
                </a:cubicBezTo>
                <a:cubicBezTo>
                  <a:pt x="2131181" y="599924"/>
                  <a:pt x="2328333" y="299962"/>
                  <a:pt x="2525486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10" hidden="1"/>
          <p:cNvSpPr/>
          <p:nvPr/>
        </p:nvSpPr>
        <p:spPr>
          <a:xfrm rot="21004200">
            <a:off x="6276600" y="4665240"/>
            <a:ext cx="1057320" cy="966960"/>
          </a:xfrm>
          <a:custGeom>
            <a:avLst/>
            <a:gdLst/>
            <a:ahLst/>
            <a:rect l="l" t="t" r="r" b="b"/>
            <a:pathLst>
              <a:path w="870857" h="740228">
                <a:moveTo>
                  <a:pt x="0" y="740228"/>
                </a:moveTo>
                <a:cubicBezTo>
                  <a:pt x="224971" y="518885"/>
                  <a:pt x="449942" y="297542"/>
                  <a:pt x="595085" y="174171"/>
                </a:cubicBezTo>
                <a:cubicBezTo>
                  <a:pt x="740228" y="50800"/>
                  <a:pt x="805542" y="25400"/>
                  <a:pt x="870857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12" hidden="1"/>
          <p:cNvSpPr/>
          <p:nvPr/>
        </p:nvSpPr>
        <p:spPr>
          <a:xfrm rot="21004200">
            <a:off x="7911720" y="4311360"/>
            <a:ext cx="1270080" cy="768240"/>
          </a:xfrm>
          <a:custGeom>
            <a:avLst/>
            <a:gdLst/>
            <a:ahLst/>
            <a:rect l="l" t="t" r="r" b="b"/>
            <a:pathLst>
              <a:path w="1074057" h="624373">
                <a:moveTo>
                  <a:pt x="1074057" y="624373"/>
                </a:moveTo>
                <a:cubicBezTo>
                  <a:pt x="778933" y="415125"/>
                  <a:pt x="483809" y="205878"/>
                  <a:pt x="304800" y="101859"/>
                </a:cubicBezTo>
                <a:cubicBezTo>
                  <a:pt x="125790" y="-2160"/>
                  <a:pt x="62895" y="-951"/>
                  <a:pt x="0" y="259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组合 24"/>
          <p:cNvGrpSpPr/>
          <p:nvPr/>
        </p:nvGrpSpPr>
        <p:grpSpPr>
          <a:xfrm>
            <a:off x="8758440" y="-1860480"/>
            <a:ext cx="2980080" cy="10439280"/>
            <a:chOff x="8758440" y="-1860480"/>
            <a:chExt cx="2980080" cy="10439280"/>
          </a:xfrm>
        </p:grpSpPr>
        <p:sp>
          <p:nvSpPr>
            <p:cNvPr id="622" name="矩形 25"/>
            <p:cNvSpPr/>
            <p:nvPr/>
          </p:nvSpPr>
          <p:spPr>
            <a:xfrm rot="15777000">
              <a:off x="4813200" y="3238560"/>
              <a:ext cx="10315800" cy="3340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26"/>
            <p:cNvSpPr/>
            <p:nvPr/>
          </p:nvSpPr>
          <p:spPr>
            <a:xfrm rot="15777000">
              <a:off x="5129640" y="3195360"/>
              <a:ext cx="10315800" cy="3358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矩形 27"/>
            <p:cNvSpPr/>
            <p:nvPr/>
          </p:nvSpPr>
          <p:spPr>
            <a:xfrm rot="15777000">
              <a:off x="5457600" y="3149280"/>
              <a:ext cx="10315800" cy="3358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4"/>
            <p:cNvSpPr/>
            <p:nvPr/>
          </p:nvSpPr>
          <p:spPr>
            <a:xfrm rot="15777000">
              <a:off x="5780520" y="3111120"/>
              <a:ext cx="10315800" cy="33588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"/>
            <p:cNvSpPr/>
            <p:nvPr/>
          </p:nvSpPr>
          <p:spPr>
            <a:xfrm rot="15777000">
              <a:off x="4482360" y="3272040"/>
              <a:ext cx="10315800" cy="33408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矩形 36"/>
            <p:cNvSpPr/>
            <p:nvPr/>
          </p:nvSpPr>
          <p:spPr>
            <a:xfrm rot="15777000">
              <a:off x="5319000" y="2243520"/>
              <a:ext cx="7933680" cy="820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37"/>
          <p:cNvGrpSpPr/>
          <p:nvPr/>
        </p:nvGrpSpPr>
        <p:grpSpPr>
          <a:xfrm>
            <a:off x="-1609200" y="-5155560"/>
            <a:ext cx="14250240" cy="18918720"/>
            <a:chOff x="-1609200" y="-5155560"/>
            <a:chExt cx="14250240" cy="18918720"/>
          </a:xfrm>
        </p:grpSpPr>
        <p:sp>
          <p:nvSpPr>
            <p:cNvPr id="629" name="等腰三角形 14"/>
            <p:cNvSpPr/>
            <p:nvPr/>
          </p:nvSpPr>
          <p:spPr>
            <a:xfrm flipH="1" rot="14009400">
              <a:off x="-4005000" y="3275280"/>
              <a:ext cx="18962640" cy="3594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等腰三角形 14"/>
            <p:cNvSpPr/>
            <p:nvPr/>
          </p:nvSpPr>
          <p:spPr>
            <a:xfrm flipH="1" rot="14009400">
              <a:off x="-3670200" y="2732040"/>
              <a:ext cx="17500680" cy="358200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等腰三角形 14"/>
            <p:cNvSpPr/>
            <p:nvPr/>
          </p:nvSpPr>
          <p:spPr>
            <a:xfrm flipH="1" rot="14009400">
              <a:off x="-3231000" y="1886040"/>
              <a:ext cx="16965720" cy="4385880"/>
            </a:xfrm>
            <a:custGeom>
              <a:avLst/>
              <a:gdLst/>
              <a:ahLst/>
              <a:rect l="l" t="t" r="r" b="b"/>
              <a:pathLst>
                <a:path w="6780958" h="7826057">
                  <a:moveTo>
                    <a:pt x="6780958" y="7826057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6780958" y="7826057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等腰三角形 14"/>
            <p:cNvSpPr/>
            <p:nvPr/>
          </p:nvSpPr>
          <p:spPr>
            <a:xfrm flipH="1" rot="14009400">
              <a:off x="-2759400" y="1144440"/>
              <a:ext cx="15735240" cy="4759200"/>
            </a:xfrm>
            <a:custGeom>
              <a:avLst/>
              <a:gdLst/>
              <a:ahLst/>
              <a:rect l="l" t="t" r="r" b="b"/>
              <a:pathLst>
                <a:path w="6288987" h="8492482">
                  <a:moveTo>
                    <a:pt x="6288987" y="8492483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6288987" y="849248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等腰三角形 14"/>
            <p:cNvSpPr/>
            <p:nvPr/>
          </p:nvSpPr>
          <p:spPr>
            <a:xfrm flipH="1" rot="14009400">
              <a:off x="-2345760" y="221040"/>
              <a:ext cx="15810120" cy="5919120"/>
            </a:xfrm>
            <a:custGeom>
              <a:avLst/>
              <a:gdLst/>
              <a:ahLst/>
              <a:rect l="l" t="t" r="r" b="b"/>
              <a:pathLst>
                <a:path w="6319004" h="10558078">
                  <a:moveTo>
                    <a:pt x="6319004" y="10558078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6319004" y="10558078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等腰三角形 14"/>
            <p:cNvSpPr/>
            <p:nvPr/>
          </p:nvSpPr>
          <p:spPr>
            <a:xfrm flipH="1" rot="14009400">
              <a:off x="-2022480" y="-482760"/>
              <a:ext cx="14790960" cy="6279480"/>
            </a:xfrm>
            <a:custGeom>
              <a:avLst/>
              <a:gdLst/>
              <a:ahLst/>
              <a:rect l="l" t="t" r="r" b="b"/>
              <a:pathLst>
                <a:path w="5911233" h="11204454">
                  <a:moveTo>
                    <a:pt x="5576576" y="11204454"/>
                  </a:moveTo>
                  <a:lnTo>
                    <a:pt x="0" y="0"/>
                  </a:lnTo>
                  <a:lnTo>
                    <a:pt x="5911233" y="9861089"/>
                  </a:lnTo>
                  <a:lnTo>
                    <a:pt x="5576576" y="11204454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2"/>
          <p:cNvGrpSpPr/>
          <p:nvPr/>
        </p:nvGrpSpPr>
        <p:grpSpPr>
          <a:xfrm>
            <a:off x="-360" y="328320"/>
            <a:ext cx="10612440" cy="2348280"/>
            <a:chOff x="-360" y="328320"/>
            <a:chExt cx="10612440" cy="2348280"/>
          </a:xfrm>
        </p:grpSpPr>
        <p:sp>
          <p:nvSpPr>
            <p:cNvPr id="636" name="矩形 22"/>
            <p:cNvSpPr/>
            <p:nvPr/>
          </p:nvSpPr>
          <p:spPr>
            <a:xfrm rot="10800000">
              <a:off x="-360" y="2293920"/>
              <a:ext cx="10612440" cy="38232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21"/>
            <p:cNvSpPr/>
            <p:nvPr/>
          </p:nvSpPr>
          <p:spPr>
            <a:xfrm rot="10800000">
              <a:off x="-360" y="1814040"/>
              <a:ext cx="10612440" cy="52236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17"/>
            <p:cNvSpPr/>
            <p:nvPr/>
          </p:nvSpPr>
          <p:spPr>
            <a:xfrm rot="10800000">
              <a:off x="-360" y="1468080"/>
              <a:ext cx="10612440" cy="4348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8"/>
            <p:cNvSpPr/>
            <p:nvPr/>
          </p:nvSpPr>
          <p:spPr>
            <a:xfrm rot="10800000">
              <a:off x="-360" y="794520"/>
              <a:ext cx="10612440" cy="6634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19"/>
            <p:cNvSpPr/>
            <p:nvPr/>
          </p:nvSpPr>
          <p:spPr>
            <a:xfrm rot="10800000">
              <a:off x="-360" y="327960"/>
              <a:ext cx="10612440" cy="6490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矩形 20"/>
          <p:cNvSpPr/>
          <p:nvPr/>
        </p:nvSpPr>
        <p:spPr>
          <a:xfrm rot="10800000">
            <a:off x="1080" y="50400"/>
            <a:ext cx="10612440" cy="3888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"/>
          <p:cNvSpPr/>
          <p:nvPr/>
        </p:nvSpPr>
        <p:spPr>
          <a:xfrm>
            <a:off x="225360" y="652320"/>
            <a:ext cx="8588520" cy="36403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2"/>
          <p:cNvSpPr/>
          <p:nvPr/>
        </p:nvSpPr>
        <p:spPr>
          <a:xfrm>
            <a:off x="484200" y="2381400"/>
            <a:ext cx="610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From letters to phones and emails, the wide spread of advanced communication tools narrow the distance of people and speed up the pace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3"/>
          <p:cNvSpPr/>
          <p:nvPr/>
        </p:nvSpPr>
        <p:spPr>
          <a:xfrm>
            <a:off x="1162080" y="129852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Communic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7034040" y="1444680"/>
            <a:ext cx="860760" cy="811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"/>
          <p:cNvPicPr/>
          <p:nvPr/>
        </p:nvPicPr>
        <p:blipFill>
          <a:blip r:embed="rId2"/>
          <a:stretch/>
        </p:blipFill>
        <p:spPr>
          <a:xfrm>
            <a:off x="7040520" y="2286000"/>
            <a:ext cx="847800" cy="828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3"/>
          <a:stretch/>
        </p:blipFill>
        <p:spPr>
          <a:xfrm>
            <a:off x="7034040" y="3181320"/>
            <a:ext cx="871560" cy="8240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2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2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2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2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2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2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1.66667E-006 0.59607 E">
                                      <p:cBhvr>
                                        <p:cTn id="450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28"/>
          <p:cNvSpPr/>
          <p:nvPr/>
        </p:nvSpPr>
        <p:spPr>
          <a:xfrm>
            <a:off x="225360" y="1157400"/>
            <a:ext cx="8588520" cy="3639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" hidden="1"/>
          <p:cNvSpPr/>
          <p:nvPr/>
        </p:nvSpPr>
        <p:spPr>
          <a:xfrm rot="21004200">
            <a:off x="5681160" y="3269880"/>
            <a:ext cx="3062520" cy="365040"/>
          </a:xfrm>
          <a:custGeom>
            <a:avLst/>
            <a:gdLst/>
            <a:ahLst/>
            <a:rect l="l" t="t" r="r" b="b"/>
            <a:pathLst>
              <a:path w="2540000" h="246743">
                <a:moveTo>
                  <a:pt x="0" y="246743"/>
                </a:moveTo>
                <a:cubicBezTo>
                  <a:pt x="441476" y="238276"/>
                  <a:pt x="882953" y="229810"/>
                  <a:pt x="1306286" y="188686"/>
                </a:cubicBezTo>
                <a:cubicBezTo>
                  <a:pt x="1729619" y="147562"/>
                  <a:pt x="2134809" y="73781"/>
                  <a:pt x="2540000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任意多边形 5" hidden="1"/>
          <p:cNvSpPr/>
          <p:nvPr/>
        </p:nvSpPr>
        <p:spPr>
          <a:xfrm rot="21004200">
            <a:off x="5881320" y="3852360"/>
            <a:ext cx="347760" cy="1874880"/>
          </a:xfrm>
          <a:custGeom>
            <a:avLst/>
            <a:gdLst/>
            <a:ahLst/>
            <a:rect l="l" t="t" r="r" b="b"/>
            <a:pathLst>
              <a:path w="266743" h="1494972">
                <a:moveTo>
                  <a:pt x="0" y="0"/>
                </a:moveTo>
                <a:cubicBezTo>
                  <a:pt x="94343" y="455990"/>
                  <a:pt x="188686" y="911981"/>
                  <a:pt x="232229" y="1161143"/>
                </a:cubicBezTo>
                <a:cubicBezTo>
                  <a:pt x="275772" y="1410305"/>
                  <a:pt x="268514" y="1452638"/>
                  <a:pt x="261257" y="1494972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6" hidden="1"/>
          <p:cNvSpPr/>
          <p:nvPr/>
        </p:nvSpPr>
        <p:spPr>
          <a:xfrm rot="21004200">
            <a:off x="6346440" y="5208480"/>
            <a:ext cx="2981520" cy="220680"/>
          </a:xfrm>
          <a:custGeom>
            <a:avLst/>
            <a:gdLst/>
            <a:ahLst/>
            <a:rect l="l" t="t" r="r" b="b"/>
            <a:pathLst>
              <a:path w="2423885" h="130628">
                <a:moveTo>
                  <a:pt x="0" y="130628"/>
                </a:moveTo>
                <a:lnTo>
                  <a:pt x="1306285" y="43543"/>
                </a:lnTo>
                <a:cubicBezTo>
                  <a:pt x="1710266" y="21772"/>
                  <a:pt x="2423885" y="0"/>
                  <a:pt x="2423885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7" hidden="1"/>
          <p:cNvSpPr/>
          <p:nvPr/>
        </p:nvSpPr>
        <p:spPr>
          <a:xfrm rot="21004200">
            <a:off x="8865720" y="2904840"/>
            <a:ext cx="195480" cy="2077920"/>
          </a:xfrm>
          <a:custGeom>
            <a:avLst/>
            <a:gdLst/>
            <a:ahLst/>
            <a:rect l="l" t="t" r="r" b="b"/>
            <a:pathLst>
              <a:path w="174171" h="1625600">
                <a:moveTo>
                  <a:pt x="0" y="0"/>
                </a:moveTo>
                <a:cubicBezTo>
                  <a:pt x="21771" y="328990"/>
                  <a:pt x="43543" y="657981"/>
                  <a:pt x="72571" y="928914"/>
                </a:cubicBezTo>
                <a:cubicBezTo>
                  <a:pt x="101600" y="1199847"/>
                  <a:pt x="137885" y="1412723"/>
                  <a:pt x="174171" y="162560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9" hidden="1"/>
          <p:cNvSpPr/>
          <p:nvPr/>
        </p:nvSpPr>
        <p:spPr>
          <a:xfrm rot="21004200">
            <a:off x="5765400" y="3270240"/>
            <a:ext cx="3098880" cy="1332000"/>
          </a:xfrm>
          <a:custGeom>
            <a:avLst/>
            <a:gdLst/>
            <a:ahLst/>
            <a:rect l="l" t="t" r="r" b="b"/>
            <a:pathLst>
              <a:path w="2525486" h="1039181">
                <a:moveTo>
                  <a:pt x="0" y="261257"/>
                </a:moveTo>
                <a:cubicBezTo>
                  <a:pt x="457200" y="596295"/>
                  <a:pt x="914400" y="931333"/>
                  <a:pt x="1233714" y="1016000"/>
                </a:cubicBezTo>
                <a:cubicBezTo>
                  <a:pt x="1553028" y="1100667"/>
                  <a:pt x="1700591" y="938590"/>
                  <a:pt x="1915886" y="769257"/>
                </a:cubicBezTo>
                <a:cubicBezTo>
                  <a:pt x="2131181" y="599924"/>
                  <a:pt x="2328333" y="299962"/>
                  <a:pt x="2525486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10" hidden="1"/>
          <p:cNvSpPr/>
          <p:nvPr/>
        </p:nvSpPr>
        <p:spPr>
          <a:xfrm rot="21004200">
            <a:off x="6276600" y="4665240"/>
            <a:ext cx="1057320" cy="966960"/>
          </a:xfrm>
          <a:custGeom>
            <a:avLst/>
            <a:gdLst/>
            <a:ahLst/>
            <a:rect l="l" t="t" r="r" b="b"/>
            <a:pathLst>
              <a:path w="870857" h="740228">
                <a:moveTo>
                  <a:pt x="0" y="740228"/>
                </a:moveTo>
                <a:cubicBezTo>
                  <a:pt x="224971" y="518885"/>
                  <a:pt x="449942" y="297542"/>
                  <a:pt x="595085" y="174171"/>
                </a:cubicBezTo>
                <a:cubicBezTo>
                  <a:pt x="740228" y="50800"/>
                  <a:pt x="805542" y="25400"/>
                  <a:pt x="870857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任意多边形 12" hidden="1"/>
          <p:cNvSpPr/>
          <p:nvPr/>
        </p:nvSpPr>
        <p:spPr>
          <a:xfrm rot="21004200">
            <a:off x="7911720" y="4311360"/>
            <a:ext cx="1270080" cy="768240"/>
          </a:xfrm>
          <a:custGeom>
            <a:avLst/>
            <a:gdLst/>
            <a:ahLst/>
            <a:rect l="l" t="t" r="r" b="b"/>
            <a:pathLst>
              <a:path w="1074057" h="624373">
                <a:moveTo>
                  <a:pt x="1074057" y="624373"/>
                </a:moveTo>
                <a:cubicBezTo>
                  <a:pt x="778933" y="415125"/>
                  <a:pt x="483809" y="205878"/>
                  <a:pt x="304800" y="101859"/>
                </a:cubicBezTo>
                <a:cubicBezTo>
                  <a:pt x="125790" y="-2160"/>
                  <a:pt x="62895" y="-951"/>
                  <a:pt x="0" y="259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24"/>
          <p:cNvGrpSpPr/>
          <p:nvPr/>
        </p:nvGrpSpPr>
        <p:grpSpPr>
          <a:xfrm>
            <a:off x="8758440" y="-1860480"/>
            <a:ext cx="2980080" cy="10439280"/>
            <a:chOff x="8758440" y="-1860480"/>
            <a:chExt cx="2980080" cy="10439280"/>
          </a:xfrm>
        </p:grpSpPr>
        <p:sp>
          <p:nvSpPr>
            <p:cNvPr id="657" name="矩形 25"/>
            <p:cNvSpPr/>
            <p:nvPr/>
          </p:nvSpPr>
          <p:spPr>
            <a:xfrm rot="15777000">
              <a:off x="4813200" y="3238560"/>
              <a:ext cx="10315800" cy="3340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26"/>
            <p:cNvSpPr/>
            <p:nvPr/>
          </p:nvSpPr>
          <p:spPr>
            <a:xfrm rot="15777000">
              <a:off x="5129640" y="3195360"/>
              <a:ext cx="10315800" cy="3358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27"/>
            <p:cNvSpPr/>
            <p:nvPr/>
          </p:nvSpPr>
          <p:spPr>
            <a:xfrm rot="15777000">
              <a:off x="5457600" y="3149280"/>
              <a:ext cx="10315800" cy="3358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34"/>
            <p:cNvSpPr/>
            <p:nvPr/>
          </p:nvSpPr>
          <p:spPr>
            <a:xfrm rot="15777000">
              <a:off x="5780520" y="3111120"/>
              <a:ext cx="10315800" cy="33588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35"/>
            <p:cNvSpPr/>
            <p:nvPr/>
          </p:nvSpPr>
          <p:spPr>
            <a:xfrm rot="15777000">
              <a:off x="4482360" y="3272040"/>
              <a:ext cx="10315800" cy="33408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36"/>
            <p:cNvSpPr/>
            <p:nvPr/>
          </p:nvSpPr>
          <p:spPr>
            <a:xfrm rot="15777000">
              <a:off x="5319000" y="2243520"/>
              <a:ext cx="7933680" cy="820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37"/>
          <p:cNvGrpSpPr/>
          <p:nvPr/>
        </p:nvGrpSpPr>
        <p:grpSpPr>
          <a:xfrm>
            <a:off x="-1609200" y="-5155560"/>
            <a:ext cx="14250240" cy="18918720"/>
            <a:chOff x="-1609200" y="-5155560"/>
            <a:chExt cx="14250240" cy="18918720"/>
          </a:xfrm>
        </p:grpSpPr>
        <p:sp>
          <p:nvSpPr>
            <p:cNvPr id="664" name="等腰三角形 14"/>
            <p:cNvSpPr/>
            <p:nvPr/>
          </p:nvSpPr>
          <p:spPr>
            <a:xfrm flipH="1" rot="14009400">
              <a:off x="-4005000" y="3275280"/>
              <a:ext cx="18962640" cy="3594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等腰三角形 14"/>
            <p:cNvSpPr/>
            <p:nvPr/>
          </p:nvSpPr>
          <p:spPr>
            <a:xfrm flipH="1" rot="14009400">
              <a:off x="-3670200" y="2732040"/>
              <a:ext cx="17500680" cy="358200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等腰三角形 14"/>
            <p:cNvSpPr/>
            <p:nvPr/>
          </p:nvSpPr>
          <p:spPr>
            <a:xfrm flipH="1" rot="14009400">
              <a:off x="-3231000" y="1886040"/>
              <a:ext cx="16965720" cy="4385880"/>
            </a:xfrm>
            <a:custGeom>
              <a:avLst/>
              <a:gdLst/>
              <a:ahLst/>
              <a:rect l="l" t="t" r="r" b="b"/>
              <a:pathLst>
                <a:path w="6780958" h="7826057">
                  <a:moveTo>
                    <a:pt x="6780958" y="7826057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6780958" y="7826057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等腰三角形 14"/>
            <p:cNvSpPr/>
            <p:nvPr/>
          </p:nvSpPr>
          <p:spPr>
            <a:xfrm flipH="1" rot="14009400">
              <a:off x="-2759400" y="1144440"/>
              <a:ext cx="15735240" cy="4759200"/>
            </a:xfrm>
            <a:custGeom>
              <a:avLst/>
              <a:gdLst/>
              <a:ahLst/>
              <a:rect l="l" t="t" r="r" b="b"/>
              <a:pathLst>
                <a:path w="6288987" h="8492482">
                  <a:moveTo>
                    <a:pt x="6288987" y="8492483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6288987" y="849248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14"/>
            <p:cNvSpPr/>
            <p:nvPr/>
          </p:nvSpPr>
          <p:spPr>
            <a:xfrm flipH="1" rot="14009400">
              <a:off x="-2345760" y="221040"/>
              <a:ext cx="15810120" cy="5919120"/>
            </a:xfrm>
            <a:custGeom>
              <a:avLst/>
              <a:gdLst/>
              <a:ahLst/>
              <a:rect l="l" t="t" r="r" b="b"/>
              <a:pathLst>
                <a:path w="6319004" h="10558078">
                  <a:moveTo>
                    <a:pt x="6319004" y="10558078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6319004" y="10558078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等腰三角形 14"/>
            <p:cNvSpPr/>
            <p:nvPr/>
          </p:nvSpPr>
          <p:spPr>
            <a:xfrm flipH="1" rot="14009400">
              <a:off x="-2022480" y="-482760"/>
              <a:ext cx="14790960" cy="6279480"/>
            </a:xfrm>
            <a:custGeom>
              <a:avLst/>
              <a:gdLst/>
              <a:ahLst/>
              <a:rect l="l" t="t" r="r" b="b"/>
              <a:pathLst>
                <a:path w="5911233" h="11204454">
                  <a:moveTo>
                    <a:pt x="5576576" y="11204454"/>
                  </a:moveTo>
                  <a:lnTo>
                    <a:pt x="0" y="0"/>
                  </a:lnTo>
                  <a:lnTo>
                    <a:pt x="5911233" y="9861089"/>
                  </a:lnTo>
                  <a:lnTo>
                    <a:pt x="5576576" y="11204454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矩形 22"/>
          <p:cNvSpPr/>
          <p:nvPr/>
        </p:nvSpPr>
        <p:spPr>
          <a:xfrm rot="10800000">
            <a:off x="-360" y="6389280"/>
            <a:ext cx="10612440" cy="3826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21"/>
          <p:cNvSpPr/>
          <p:nvPr/>
        </p:nvSpPr>
        <p:spPr>
          <a:xfrm rot="10800000">
            <a:off x="-360" y="5910120"/>
            <a:ext cx="10612440" cy="5241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"/>
          <p:cNvSpPr/>
          <p:nvPr/>
        </p:nvSpPr>
        <p:spPr>
          <a:xfrm rot="10800000">
            <a:off x="-360" y="5565240"/>
            <a:ext cx="10612440" cy="43344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8"/>
          <p:cNvSpPr/>
          <p:nvPr/>
        </p:nvSpPr>
        <p:spPr>
          <a:xfrm rot="10800000">
            <a:off x="-360" y="4890600"/>
            <a:ext cx="10612440" cy="66384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9"/>
          <p:cNvSpPr/>
          <p:nvPr/>
        </p:nvSpPr>
        <p:spPr>
          <a:xfrm rot="10800000">
            <a:off x="-360" y="4423680"/>
            <a:ext cx="10612440" cy="64908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20"/>
          <p:cNvSpPr/>
          <p:nvPr/>
        </p:nvSpPr>
        <p:spPr>
          <a:xfrm rot="10800000">
            <a:off x="1080" y="50400"/>
            <a:ext cx="10612440" cy="3888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9"/>
          <p:cNvSpPr/>
          <p:nvPr/>
        </p:nvSpPr>
        <p:spPr>
          <a:xfrm>
            <a:off x="1085760" y="152892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Chatting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30"/>
          <p:cNvSpPr/>
          <p:nvPr/>
        </p:nvSpPr>
        <p:spPr>
          <a:xfrm>
            <a:off x="714240" y="2346480"/>
            <a:ext cx="61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Getting over the long distance between, the online chatting enables us to communicate at any time and  in any pl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7034040" y="1420920"/>
            <a:ext cx="860760" cy="858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"/>
          <p:cNvPicPr/>
          <p:nvPr/>
        </p:nvPicPr>
        <p:blipFill>
          <a:blip r:embed="rId2"/>
          <a:stretch/>
        </p:blipFill>
        <p:spPr>
          <a:xfrm>
            <a:off x="7034040" y="2286000"/>
            <a:ext cx="860760" cy="8287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" descr=""/>
          <p:cNvPicPr/>
          <p:nvPr/>
        </p:nvPicPr>
        <p:blipFill>
          <a:blip r:embed="rId3"/>
          <a:stretch/>
        </p:blipFill>
        <p:spPr>
          <a:xfrm>
            <a:off x="7034040" y="3176640"/>
            <a:ext cx="8715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2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2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2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1.66667E-006 -0.59143 E">
                                      <p:cBhvr>
                                        <p:cTn id="511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任意多边形 4" hidden="1"/>
          <p:cNvSpPr/>
          <p:nvPr/>
        </p:nvSpPr>
        <p:spPr>
          <a:xfrm rot="21004200">
            <a:off x="5681160" y="3269880"/>
            <a:ext cx="3062520" cy="365040"/>
          </a:xfrm>
          <a:custGeom>
            <a:avLst/>
            <a:gdLst/>
            <a:ahLst/>
            <a:rect l="l" t="t" r="r" b="b"/>
            <a:pathLst>
              <a:path w="2540000" h="246743">
                <a:moveTo>
                  <a:pt x="0" y="246743"/>
                </a:moveTo>
                <a:cubicBezTo>
                  <a:pt x="441476" y="238276"/>
                  <a:pt x="882953" y="229810"/>
                  <a:pt x="1306286" y="188686"/>
                </a:cubicBezTo>
                <a:cubicBezTo>
                  <a:pt x="1729619" y="147562"/>
                  <a:pt x="2134809" y="73781"/>
                  <a:pt x="2540000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任意多边形 5" hidden="1"/>
          <p:cNvSpPr/>
          <p:nvPr/>
        </p:nvSpPr>
        <p:spPr>
          <a:xfrm rot="21004200">
            <a:off x="5881320" y="3852360"/>
            <a:ext cx="347760" cy="1874880"/>
          </a:xfrm>
          <a:custGeom>
            <a:avLst/>
            <a:gdLst/>
            <a:ahLst/>
            <a:rect l="l" t="t" r="r" b="b"/>
            <a:pathLst>
              <a:path w="266743" h="1494972">
                <a:moveTo>
                  <a:pt x="0" y="0"/>
                </a:moveTo>
                <a:cubicBezTo>
                  <a:pt x="94343" y="455990"/>
                  <a:pt x="188686" y="911981"/>
                  <a:pt x="232229" y="1161143"/>
                </a:cubicBezTo>
                <a:cubicBezTo>
                  <a:pt x="275772" y="1410305"/>
                  <a:pt x="268514" y="1452638"/>
                  <a:pt x="261257" y="1494972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任意多边形 6" hidden="1"/>
          <p:cNvSpPr/>
          <p:nvPr/>
        </p:nvSpPr>
        <p:spPr>
          <a:xfrm rot="21004200">
            <a:off x="6346440" y="5208480"/>
            <a:ext cx="2981520" cy="220680"/>
          </a:xfrm>
          <a:custGeom>
            <a:avLst/>
            <a:gdLst/>
            <a:ahLst/>
            <a:rect l="l" t="t" r="r" b="b"/>
            <a:pathLst>
              <a:path w="2423885" h="130628">
                <a:moveTo>
                  <a:pt x="0" y="130628"/>
                </a:moveTo>
                <a:lnTo>
                  <a:pt x="1306285" y="43543"/>
                </a:lnTo>
                <a:cubicBezTo>
                  <a:pt x="1710266" y="21772"/>
                  <a:pt x="2423885" y="0"/>
                  <a:pt x="2423885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任意多边形 7" hidden="1"/>
          <p:cNvSpPr/>
          <p:nvPr/>
        </p:nvSpPr>
        <p:spPr>
          <a:xfrm rot="21004200">
            <a:off x="8865720" y="2904840"/>
            <a:ext cx="195480" cy="2077920"/>
          </a:xfrm>
          <a:custGeom>
            <a:avLst/>
            <a:gdLst/>
            <a:ahLst/>
            <a:rect l="l" t="t" r="r" b="b"/>
            <a:pathLst>
              <a:path w="174171" h="1625600">
                <a:moveTo>
                  <a:pt x="0" y="0"/>
                </a:moveTo>
                <a:cubicBezTo>
                  <a:pt x="21771" y="328990"/>
                  <a:pt x="43543" y="657981"/>
                  <a:pt x="72571" y="928914"/>
                </a:cubicBezTo>
                <a:cubicBezTo>
                  <a:pt x="101600" y="1199847"/>
                  <a:pt x="137885" y="1412723"/>
                  <a:pt x="174171" y="162560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任意多边形 9" hidden="1"/>
          <p:cNvSpPr/>
          <p:nvPr/>
        </p:nvSpPr>
        <p:spPr>
          <a:xfrm rot="21004200">
            <a:off x="5765400" y="3270240"/>
            <a:ext cx="3098880" cy="1332000"/>
          </a:xfrm>
          <a:custGeom>
            <a:avLst/>
            <a:gdLst/>
            <a:ahLst/>
            <a:rect l="l" t="t" r="r" b="b"/>
            <a:pathLst>
              <a:path w="2525486" h="1039181">
                <a:moveTo>
                  <a:pt x="0" y="261257"/>
                </a:moveTo>
                <a:cubicBezTo>
                  <a:pt x="457200" y="596295"/>
                  <a:pt x="914400" y="931333"/>
                  <a:pt x="1233714" y="1016000"/>
                </a:cubicBezTo>
                <a:cubicBezTo>
                  <a:pt x="1553028" y="1100667"/>
                  <a:pt x="1700591" y="938590"/>
                  <a:pt x="1915886" y="769257"/>
                </a:cubicBezTo>
                <a:cubicBezTo>
                  <a:pt x="2131181" y="599924"/>
                  <a:pt x="2328333" y="299962"/>
                  <a:pt x="2525486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任意多边形 10" hidden="1"/>
          <p:cNvSpPr/>
          <p:nvPr/>
        </p:nvSpPr>
        <p:spPr>
          <a:xfrm rot="21004200">
            <a:off x="6276600" y="4665240"/>
            <a:ext cx="1057320" cy="966960"/>
          </a:xfrm>
          <a:custGeom>
            <a:avLst/>
            <a:gdLst/>
            <a:ahLst/>
            <a:rect l="l" t="t" r="r" b="b"/>
            <a:pathLst>
              <a:path w="870857" h="740228">
                <a:moveTo>
                  <a:pt x="0" y="740228"/>
                </a:moveTo>
                <a:cubicBezTo>
                  <a:pt x="224971" y="518885"/>
                  <a:pt x="449942" y="297542"/>
                  <a:pt x="595085" y="174171"/>
                </a:cubicBezTo>
                <a:cubicBezTo>
                  <a:pt x="740228" y="50800"/>
                  <a:pt x="805542" y="25400"/>
                  <a:pt x="870857" y="0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任意多边形 12" hidden="1"/>
          <p:cNvSpPr/>
          <p:nvPr/>
        </p:nvSpPr>
        <p:spPr>
          <a:xfrm rot="21004200">
            <a:off x="7911720" y="4311360"/>
            <a:ext cx="1270080" cy="768240"/>
          </a:xfrm>
          <a:custGeom>
            <a:avLst/>
            <a:gdLst/>
            <a:ahLst/>
            <a:rect l="l" t="t" r="r" b="b"/>
            <a:pathLst>
              <a:path w="1074057" h="624373">
                <a:moveTo>
                  <a:pt x="1074057" y="624373"/>
                </a:moveTo>
                <a:cubicBezTo>
                  <a:pt x="778933" y="415125"/>
                  <a:pt x="483809" y="205878"/>
                  <a:pt x="304800" y="101859"/>
                </a:cubicBezTo>
                <a:cubicBezTo>
                  <a:pt x="125790" y="-2160"/>
                  <a:pt x="62895" y="-951"/>
                  <a:pt x="0" y="259"/>
                </a:cubicBezTo>
              </a:path>
            </a:pathLst>
          </a:custGeom>
          <a:noFill/>
          <a:ln w="76320">
            <a:solidFill>
              <a:srgbClr val="2f35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组合 24"/>
          <p:cNvGrpSpPr/>
          <p:nvPr/>
        </p:nvGrpSpPr>
        <p:grpSpPr>
          <a:xfrm>
            <a:off x="8758440" y="-1860480"/>
            <a:ext cx="2980080" cy="10439280"/>
            <a:chOff x="8758440" y="-1860480"/>
            <a:chExt cx="2980080" cy="10439280"/>
          </a:xfrm>
        </p:grpSpPr>
        <p:sp>
          <p:nvSpPr>
            <p:cNvPr id="689" name="矩形 25"/>
            <p:cNvSpPr/>
            <p:nvPr/>
          </p:nvSpPr>
          <p:spPr>
            <a:xfrm rot="15777000">
              <a:off x="4813200" y="3238560"/>
              <a:ext cx="10315800" cy="33408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6"/>
            <p:cNvSpPr/>
            <p:nvPr/>
          </p:nvSpPr>
          <p:spPr>
            <a:xfrm rot="15777000">
              <a:off x="5129640" y="3195360"/>
              <a:ext cx="10315800" cy="3358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7"/>
            <p:cNvSpPr/>
            <p:nvPr/>
          </p:nvSpPr>
          <p:spPr>
            <a:xfrm rot="15777000">
              <a:off x="5457600" y="3149280"/>
              <a:ext cx="10315800" cy="3358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34"/>
            <p:cNvSpPr/>
            <p:nvPr/>
          </p:nvSpPr>
          <p:spPr>
            <a:xfrm rot="15777000">
              <a:off x="5780520" y="3111120"/>
              <a:ext cx="10315800" cy="33588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35"/>
            <p:cNvSpPr/>
            <p:nvPr/>
          </p:nvSpPr>
          <p:spPr>
            <a:xfrm rot="15777000">
              <a:off x="4482360" y="3272040"/>
              <a:ext cx="10315800" cy="33408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36"/>
            <p:cNvSpPr/>
            <p:nvPr/>
          </p:nvSpPr>
          <p:spPr>
            <a:xfrm rot="15777000">
              <a:off x="5319000" y="2243520"/>
              <a:ext cx="7933680" cy="820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组合 37"/>
          <p:cNvGrpSpPr/>
          <p:nvPr/>
        </p:nvGrpSpPr>
        <p:grpSpPr>
          <a:xfrm>
            <a:off x="-1609200" y="-5155560"/>
            <a:ext cx="14250240" cy="18918720"/>
            <a:chOff x="-1609200" y="-5155560"/>
            <a:chExt cx="14250240" cy="18918720"/>
          </a:xfrm>
        </p:grpSpPr>
        <p:sp>
          <p:nvSpPr>
            <p:cNvPr id="696" name="等腰三角形 14"/>
            <p:cNvSpPr/>
            <p:nvPr/>
          </p:nvSpPr>
          <p:spPr>
            <a:xfrm flipH="1" rot="14009400">
              <a:off x="-4005000" y="3275280"/>
              <a:ext cx="18962640" cy="3594960"/>
            </a:xfrm>
            <a:custGeom>
              <a:avLst/>
              <a:gdLst/>
              <a:ahLst/>
              <a:rect l="l" t="t" r="r" b="b"/>
              <a:pathLst>
                <a:path w="7579010" h="6412210">
                  <a:moveTo>
                    <a:pt x="6975190" y="6393160"/>
                  </a:moveTo>
                  <a:lnTo>
                    <a:pt x="0" y="0"/>
                  </a:lnTo>
                  <a:lnTo>
                    <a:pt x="7579010" y="6412210"/>
                  </a:lnTo>
                  <a:lnTo>
                    <a:pt x="6975190" y="6393160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等腰三角形 14"/>
            <p:cNvSpPr/>
            <p:nvPr/>
          </p:nvSpPr>
          <p:spPr>
            <a:xfrm flipH="1" rot="14009400">
              <a:off x="-3670200" y="2732040"/>
              <a:ext cx="17500680" cy="3582000"/>
            </a:xfrm>
            <a:custGeom>
              <a:avLst/>
              <a:gdLst/>
              <a:ahLst/>
              <a:rect l="l" t="t" r="r" b="b"/>
              <a:pathLst>
                <a:path w="6994973" h="6391396">
                  <a:moveTo>
                    <a:pt x="6271227" y="6391396"/>
                  </a:moveTo>
                  <a:lnTo>
                    <a:pt x="0" y="0"/>
                  </a:lnTo>
                  <a:lnTo>
                    <a:pt x="6994973" y="6382755"/>
                  </a:lnTo>
                  <a:lnTo>
                    <a:pt x="6271227" y="6391396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等腰三角形 14"/>
            <p:cNvSpPr/>
            <p:nvPr/>
          </p:nvSpPr>
          <p:spPr>
            <a:xfrm flipH="1" rot="14009400">
              <a:off x="-3231000" y="1886040"/>
              <a:ext cx="16965720" cy="4385880"/>
            </a:xfrm>
            <a:custGeom>
              <a:avLst/>
              <a:gdLst/>
              <a:ahLst/>
              <a:rect l="l" t="t" r="r" b="b"/>
              <a:pathLst>
                <a:path w="6780958" h="7826057">
                  <a:moveTo>
                    <a:pt x="6780958" y="7826057"/>
                  </a:moveTo>
                  <a:lnTo>
                    <a:pt x="0" y="0"/>
                  </a:lnTo>
                  <a:lnTo>
                    <a:pt x="6283774" y="6395458"/>
                  </a:lnTo>
                  <a:lnTo>
                    <a:pt x="6780958" y="7826057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等腰三角形 14"/>
            <p:cNvSpPr/>
            <p:nvPr/>
          </p:nvSpPr>
          <p:spPr>
            <a:xfrm flipH="1" rot="14009400">
              <a:off x="-2759400" y="1144440"/>
              <a:ext cx="15735240" cy="4759200"/>
            </a:xfrm>
            <a:custGeom>
              <a:avLst/>
              <a:gdLst/>
              <a:ahLst/>
              <a:rect l="l" t="t" r="r" b="b"/>
              <a:pathLst>
                <a:path w="6288987" h="8492482">
                  <a:moveTo>
                    <a:pt x="6288987" y="8492483"/>
                  </a:moveTo>
                  <a:lnTo>
                    <a:pt x="0" y="0"/>
                  </a:lnTo>
                  <a:lnTo>
                    <a:pt x="5509075" y="6344660"/>
                  </a:lnTo>
                  <a:lnTo>
                    <a:pt x="6288987" y="8492483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等腰三角形 14"/>
            <p:cNvSpPr/>
            <p:nvPr/>
          </p:nvSpPr>
          <p:spPr>
            <a:xfrm flipH="1" rot="14009400">
              <a:off x="-2345760" y="221040"/>
              <a:ext cx="15810120" cy="5919120"/>
            </a:xfrm>
            <a:custGeom>
              <a:avLst/>
              <a:gdLst/>
              <a:ahLst/>
              <a:rect l="l" t="t" r="r" b="b"/>
              <a:pathLst>
                <a:path w="6319004" h="10558078">
                  <a:moveTo>
                    <a:pt x="6319004" y="10558078"/>
                  </a:moveTo>
                  <a:lnTo>
                    <a:pt x="0" y="0"/>
                  </a:lnTo>
                  <a:lnTo>
                    <a:pt x="4721681" y="6370060"/>
                  </a:lnTo>
                  <a:lnTo>
                    <a:pt x="6319004" y="10558078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等腰三角形 14"/>
            <p:cNvSpPr/>
            <p:nvPr/>
          </p:nvSpPr>
          <p:spPr>
            <a:xfrm flipH="1" rot="14009400">
              <a:off x="-2022480" y="-482760"/>
              <a:ext cx="14790960" cy="6279480"/>
            </a:xfrm>
            <a:custGeom>
              <a:avLst/>
              <a:gdLst/>
              <a:ahLst/>
              <a:rect l="l" t="t" r="r" b="b"/>
              <a:pathLst>
                <a:path w="5911233" h="11204454">
                  <a:moveTo>
                    <a:pt x="5576576" y="11204454"/>
                  </a:moveTo>
                  <a:lnTo>
                    <a:pt x="0" y="0"/>
                  </a:lnTo>
                  <a:lnTo>
                    <a:pt x="5911233" y="9861089"/>
                  </a:lnTo>
                  <a:lnTo>
                    <a:pt x="5576576" y="11204454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矩形 22"/>
          <p:cNvSpPr/>
          <p:nvPr/>
        </p:nvSpPr>
        <p:spPr>
          <a:xfrm rot="10800000">
            <a:off x="-360" y="6389280"/>
            <a:ext cx="10612440" cy="3826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1"/>
          <p:cNvSpPr/>
          <p:nvPr/>
        </p:nvSpPr>
        <p:spPr>
          <a:xfrm rot="10800000">
            <a:off x="-360" y="5910120"/>
            <a:ext cx="10612440" cy="5241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7"/>
          <p:cNvSpPr/>
          <p:nvPr/>
        </p:nvSpPr>
        <p:spPr>
          <a:xfrm rot="10800000">
            <a:off x="-360" y="5565240"/>
            <a:ext cx="10612440" cy="43344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8"/>
          <p:cNvSpPr/>
          <p:nvPr/>
        </p:nvSpPr>
        <p:spPr>
          <a:xfrm rot="10800000">
            <a:off x="-360" y="4890600"/>
            <a:ext cx="10612440" cy="663840"/>
          </a:xfrm>
          <a:prstGeom prst="rect">
            <a:avLst/>
          </a:pr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9"/>
          <p:cNvSpPr/>
          <p:nvPr/>
        </p:nvSpPr>
        <p:spPr>
          <a:xfrm rot="10800000">
            <a:off x="-360" y="362880"/>
            <a:ext cx="10612440" cy="649080"/>
          </a:xfrm>
          <a:prstGeom prst="rect">
            <a:avLst/>
          </a:pr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20"/>
          <p:cNvSpPr/>
          <p:nvPr/>
        </p:nvSpPr>
        <p:spPr>
          <a:xfrm rot="10800000">
            <a:off x="1080" y="50400"/>
            <a:ext cx="10612440" cy="388800"/>
          </a:xfrm>
          <a:prstGeom prst="rect">
            <a:avLst/>
          </a:pr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28"/>
          <p:cNvSpPr/>
          <p:nvPr/>
        </p:nvSpPr>
        <p:spPr>
          <a:xfrm>
            <a:off x="225360" y="1660680"/>
            <a:ext cx="8588520" cy="3639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29"/>
          <p:cNvSpPr/>
          <p:nvPr/>
        </p:nvSpPr>
        <p:spPr>
          <a:xfrm>
            <a:off x="1161000" y="217476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Distanc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30"/>
          <p:cNvSpPr/>
          <p:nvPr/>
        </p:nvSpPr>
        <p:spPr>
          <a:xfrm>
            <a:off x="714240" y="2992320"/>
            <a:ext cx="610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It changes people’s learning behaviors. Because it has come over the limits of time and distance, it improves the quality of education, encourages the fairness and promotes the educational revolu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7034040" y="2066760"/>
            <a:ext cx="860760" cy="8589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" descr=""/>
          <p:cNvPicPr/>
          <p:nvPr/>
        </p:nvPicPr>
        <p:blipFill>
          <a:blip r:embed="rId2"/>
          <a:stretch/>
        </p:blipFill>
        <p:spPr>
          <a:xfrm>
            <a:off x="7034040" y="2962440"/>
            <a:ext cx="860760" cy="7682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3"/>
          <a:stretch/>
        </p:blipFill>
        <p:spPr>
          <a:xfrm>
            <a:off x="7034040" y="3822840"/>
            <a:ext cx="798840" cy="8283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2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2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2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2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1.66667E-006 -0.59143 E">
                                      <p:cBhvr>
                                        <p:cTn id="572" dur="500" fill="hold"/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72"/>
          <p:cNvGrpSpPr/>
          <p:nvPr/>
        </p:nvGrpSpPr>
        <p:grpSpPr>
          <a:xfrm>
            <a:off x="-360" y="5909760"/>
            <a:ext cx="10612440" cy="862200"/>
            <a:chOff x="-360" y="5909760"/>
            <a:chExt cx="10612440" cy="862200"/>
          </a:xfrm>
        </p:grpSpPr>
        <p:sp>
          <p:nvSpPr>
            <p:cNvPr id="715" name="矩形 73"/>
            <p:cNvSpPr/>
            <p:nvPr/>
          </p:nvSpPr>
          <p:spPr>
            <a:xfrm rot="10800000">
              <a:off x="-360" y="6389280"/>
              <a:ext cx="10612440" cy="382680"/>
            </a:xfrm>
            <a:prstGeom prst="rect">
              <a:avLst/>
            </a:pr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74"/>
            <p:cNvSpPr/>
            <p:nvPr/>
          </p:nvSpPr>
          <p:spPr>
            <a:xfrm rot="10800000">
              <a:off x="-360" y="5909760"/>
              <a:ext cx="10612440" cy="522360"/>
            </a:xfrm>
            <a:prstGeom prst="rect">
              <a:avLst/>
            </a:pr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矩形 22"/>
          <p:cNvSpPr/>
          <p:nvPr/>
        </p:nvSpPr>
        <p:spPr>
          <a:xfrm rot="10800000">
            <a:off x="-360" y="6389280"/>
            <a:ext cx="10612440" cy="382680"/>
          </a:xfrm>
          <a:prstGeom prst="rect">
            <a:avLst/>
          </a:pr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21"/>
          <p:cNvSpPr/>
          <p:nvPr/>
        </p:nvSpPr>
        <p:spPr>
          <a:xfrm rot="10800000">
            <a:off x="-360" y="5910120"/>
            <a:ext cx="10612440" cy="524160"/>
          </a:xfrm>
          <a:prstGeom prst="rect">
            <a:avLst/>
          </a:pr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17"/>
          <p:cNvSpPr/>
          <p:nvPr/>
        </p:nvSpPr>
        <p:spPr>
          <a:xfrm rot="10800000">
            <a:off x="-360" y="5565240"/>
            <a:ext cx="10612440" cy="433440"/>
          </a:xfrm>
          <a:prstGeom prst="rect">
            <a:avLst/>
          </a:pr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1"/>
          <p:cNvGrpSpPr/>
          <p:nvPr/>
        </p:nvGrpSpPr>
        <p:grpSpPr>
          <a:xfrm>
            <a:off x="-360" y="50760"/>
            <a:ext cx="10613880" cy="1452600"/>
            <a:chOff x="-360" y="50760"/>
            <a:chExt cx="10613880" cy="1452600"/>
          </a:xfrm>
        </p:grpSpPr>
        <p:sp>
          <p:nvSpPr>
            <p:cNvPr id="721" name="矩形 18"/>
            <p:cNvSpPr/>
            <p:nvPr/>
          </p:nvSpPr>
          <p:spPr>
            <a:xfrm rot="10800000">
              <a:off x="-360" y="837720"/>
              <a:ext cx="10612440" cy="6652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矩形 19"/>
            <p:cNvSpPr/>
            <p:nvPr/>
          </p:nvSpPr>
          <p:spPr>
            <a:xfrm rot="10800000">
              <a:off x="-360" y="362880"/>
              <a:ext cx="10612440" cy="64944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矩形 20"/>
            <p:cNvSpPr/>
            <p:nvPr/>
          </p:nvSpPr>
          <p:spPr>
            <a:xfrm rot="10800000">
              <a:off x="1080" y="50400"/>
              <a:ext cx="10612440" cy="38880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61"/>
          <p:cNvGrpSpPr/>
          <p:nvPr/>
        </p:nvGrpSpPr>
        <p:grpSpPr>
          <a:xfrm>
            <a:off x="-360" y="46080"/>
            <a:ext cx="10613880" cy="1868400"/>
            <a:chOff x="-360" y="46080"/>
            <a:chExt cx="10613880" cy="1868400"/>
          </a:xfrm>
        </p:grpSpPr>
        <p:sp>
          <p:nvSpPr>
            <p:cNvPr id="725" name="矩形 62"/>
            <p:cNvSpPr/>
            <p:nvPr/>
          </p:nvSpPr>
          <p:spPr>
            <a:xfrm rot="10800000">
              <a:off x="-360" y="1480680"/>
              <a:ext cx="10612440" cy="433440"/>
            </a:xfrm>
            <a:prstGeom prst="rect">
              <a:avLst/>
            </a:pr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63"/>
            <p:cNvSpPr/>
            <p:nvPr/>
          </p:nvSpPr>
          <p:spPr>
            <a:xfrm rot="10800000">
              <a:off x="-360" y="834120"/>
              <a:ext cx="10612440" cy="663480"/>
            </a:xfrm>
            <a:prstGeom prst="rect">
              <a:avLst/>
            </a:pr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矩形 64"/>
            <p:cNvSpPr/>
            <p:nvPr/>
          </p:nvSpPr>
          <p:spPr>
            <a:xfrm rot="10800000">
              <a:off x="-360" y="357840"/>
              <a:ext cx="10612440" cy="649080"/>
            </a:xfrm>
            <a:prstGeom prst="rect">
              <a:avLst/>
            </a:pr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65"/>
            <p:cNvSpPr/>
            <p:nvPr/>
          </p:nvSpPr>
          <p:spPr>
            <a:xfrm rot="10800000">
              <a:off x="1080" y="45720"/>
              <a:ext cx="10612440" cy="388800"/>
            </a:xfrm>
            <a:prstGeom prst="rect">
              <a:avLst/>
            </a:pr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矩形 23"/>
          <p:cNvSpPr/>
          <p:nvPr/>
        </p:nvSpPr>
        <p:spPr>
          <a:xfrm>
            <a:off x="225360" y="2021040"/>
            <a:ext cx="8588520" cy="3639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24"/>
          <p:cNvSpPr/>
          <p:nvPr/>
        </p:nvSpPr>
        <p:spPr>
          <a:xfrm>
            <a:off x="1081440" y="25304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Broadway BT"/>
              </a:rPr>
              <a:t>Video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5"/>
          <p:cNvSpPr/>
          <p:nvPr/>
        </p:nvSpPr>
        <p:spPr>
          <a:xfrm>
            <a:off x="714240" y="3348000"/>
            <a:ext cx="61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1900"/>
                </a:solidFill>
                <a:latin typeface="Calligraph421 BT"/>
              </a:rPr>
              <a:t>It provides a more convenient method to hold a meeting with people far away. Also, it can accelerate the flow of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7034040" y="2419200"/>
            <a:ext cx="854280" cy="860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" descr=""/>
          <p:cNvPicPr/>
          <p:nvPr/>
        </p:nvPicPr>
        <p:blipFill>
          <a:blip r:embed="rId2"/>
          <a:stretch/>
        </p:blipFill>
        <p:spPr>
          <a:xfrm>
            <a:off x="7083360" y="3316320"/>
            <a:ext cx="755640" cy="7682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7070760" y="4206960"/>
            <a:ext cx="798480" cy="77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1.66667E-006 -0.59143 E">
                                      <p:cBhvr>
                                        <p:cTn id="599" dur="5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1041 L -1.94444E-006 0.31491 E">
                                      <p:cBhvr>
                                        <p:cTn id="634" dur="5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9191E-006 L 1.66667E-006 -0.27723 E">
                                      <p:cBhvr>
                                        <p:cTn id="636" dur="5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组合 1"/>
          <p:cNvGrpSpPr/>
          <p:nvPr/>
        </p:nvGrpSpPr>
        <p:grpSpPr>
          <a:xfrm>
            <a:off x="-36360" y="-448200"/>
            <a:ext cx="4824720" cy="5320080"/>
            <a:chOff x="-36360" y="-448200"/>
            <a:chExt cx="4824720" cy="5320080"/>
          </a:xfrm>
        </p:grpSpPr>
        <p:sp>
          <p:nvSpPr>
            <p:cNvPr id="736" name="梯形 1"/>
            <p:cNvSpPr/>
            <p:nvPr/>
          </p:nvSpPr>
          <p:spPr>
            <a:xfrm rot="16200000">
              <a:off x="837720" y="-1315800"/>
              <a:ext cx="3079800" cy="4815000"/>
            </a:xfrm>
            <a:custGeom>
              <a:avLst/>
              <a:gdLst/>
              <a:ahLst/>
              <a:rect l="l" t="t" r="r" b="b"/>
              <a:pathLst>
                <a:path w="3079912" h="6895045">
                  <a:moveTo>
                    <a:pt x="1256382" y="6882783"/>
                  </a:moveTo>
                  <a:lnTo>
                    <a:pt x="0" y="2833"/>
                  </a:lnTo>
                  <a:lnTo>
                    <a:pt x="397089" y="0"/>
                  </a:lnTo>
                  <a:lnTo>
                    <a:pt x="3079912" y="6895045"/>
                  </a:lnTo>
                  <a:lnTo>
                    <a:pt x="1256382" y="6882783"/>
                  </a:lnTo>
                  <a:close/>
                </a:path>
              </a:pathLst>
            </a:custGeom>
            <a:solidFill>
              <a:srgbClr val="ffa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梯形 1"/>
            <p:cNvSpPr/>
            <p:nvPr/>
          </p:nvSpPr>
          <p:spPr>
            <a:xfrm rot="16200000">
              <a:off x="990000" y="-618480"/>
              <a:ext cx="2773440" cy="4819680"/>
            </a:xfrm>
            <a:custGeom>
              <a:avLst/>
              <a:gdLst/>
              <a:ahLst/>
              <a:rect l="l" t="t" r="r" b="b"/>
              <a:pathLst>
                <a:path w="2773301" h="6900815">
                  <a:moveTo>
                    <a:pt x="1791597" y="6900815"/>
                  </a:moveTo>
                  <a:lnTo>
                    <a:pt x="0" y="0"/>
                  </a:lnTo>
                  <a:lnTo>
                    <a:pt x="554932" y="3517"/>
                  </a:lnTo>
                  <a:lnTo>
                    <a:pt x="2773301" y="6884051"/>
                  </a:lnTo>
                  <a:lnTo>
                    <a:pt x="1791597" y="6900815"/>
                  </a:lnTo>
                  <a:close/>
                </a:path>
              </a:pathLst>
            </a:custGeom>
            <a:solidFill>
              <a:srgbClr val="fc6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梯形 1"/>
            <p:cNvSpPr/>
            <p:nvPr/>
          </p:nvSpPr>
          <p:spPr>
            <a:xfrm rot="16200000">
              <a:off x="1098720" y="-38520"/>
              <a:ext cx="2560680" cy="4818240"/>
            </a:xfrm>
            <a:custGeom>
              <a:avLst/>
              <a:gdLst/>
              <a:ahLst/>
              <a:rect l="l" t="t" r="r" b="b"/>
              <a:pathLst>
                <a:path w="2560582" h="6899590">
                  <a:moveTo>
                    <a:pt x="1883674" y="6897301"/>
                  </a:moveTo>
                  <a:lnTo>
                    <a:pt x="0" y="2835"/>
                  </a:lnTo>
                  <a:lnTo>
                    <a:pt x="475557" y="0"/>
                  </a:lnTo>
                  <a:lnTo>
                    <a:pt x="2560582" y="6899590"/>
                  </a:lnTo>
                  <a:lnTo>
                    <a:pt x="1883674" y="6897301"/>
                  </a:lnTo>
                  <a:close/>
                </a:path>
              </a:pathLst>
            </a:custGeom>
            <a:solidFill>
              <a:srgbClr val="ffb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梯形 1"/>
            <p:cNvSpPr/>
            <p:nvPr/>
          </p:nvSpPr>
          <p:spPr>
            <a:xfrm rot="16200000">
              <a:off x="1152720" y="492840"/>
              <a:ext cx="2446200" cy="4818240"/>
            </a:xfrm>
            <a:custGeom>
              <a:avLst/>
              <a:gdLst/>
              <a:ahLst/>
              <a:rect l="l" t="t" r="r" b="b"/>
              <a:pathLst>
                <a:path w="2446282" h="6899590">
                  <a:moveTo>
                    <a:pt x="1616974" y="6897301"/>
                  </a:moveTo>
                  <a:lnTo>
                    <a:pt x="0" y="2835"/>
                  </a:lnTo>
                  <a:lnTo>
                    <a:pt x="475557" y="0"/>
                  </a:lnTo>
                  <a:lnTo>
                    <a:pt x="2446282" y="6899590"/>
                  </a:lnTo>
                  <a:lnTo>
                    <a:pt x="1616974" y="6897301"/>
                  </a:lnTo>
                  <a:close/>
                </a:path>
              </a:pathLst>
            </a:custGeom>
            <a:solidFill>
              <a:srgbClr val="fff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梯形 1"/>
            <p:cNvSpPr/>
            <p:nvPr/>
          </p:nvSpPr>
          <p:spPr>
            <a:xfrm rot="16200000">
              <a:off x="1268640" y="1050480"/>
              <a:ext cx="2219400" cy="4816440"/>
            </a:xfrm>
            <a:custGeom>
              <a:avLst/>
              <a:gdLst/>
              <a:ahLst/>
              <a:rect l="l" t="t" r="r" b="b"/>
              <a:pathLst>
                <a:path w="2220140" h="6897304">
                  <a:moveTo>
                    <a:pt x="1366251" y="6897304"/>
                  </a:moveTo>
                  <a:lnTo>
                    <a:pt x="0" y="2835"/>
                  </a:lnTo>
                  <a:lnTo>
                    <a:pt x="475557" y="0"/>
                  </a:lnTo>
                  <a:lnTo>
                    <a:pt x="2220140" y="6893445"/>
                  </a:lnTo>
                  <a:lnTo>
                    <a:pt x="1366251" y="6897304"/>
                  </a:lnTo>
                  <a:close/>
                </a:path>
              </a:pathLst>
            </a:custGeom>
            <a:solidFill>
              <a:srgbClr val="88a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梯形 1"/>
            <p:cNvSpPr/>
            <p:nvPr/>
          </p:nvSpPr>
          <p:spPr>
            <a:xfrm rot="16200000">
              <a:off x="1444680" y="1531440"/>
              <a:ext cx="1859040" cy="4821480"/>
            </a:xfrm>
            <a:custGeom>
              <a:avLst/>
              <a:gdLst/>
              <a:ahLst/>
              <a:rect l="l" t="t" r="r" b="b"/>
              <a:pathLst>
                <a:path w="1858394" h="6903102">
                  <a:moveTo>
                    <a:pt x="1073333" y="6900813"/>
                  </a:moveTo>
                  <a:lnTo>
                    <a:pt x="0" y="0"/>
                  </a:lnTo>
                  <a:lnTo>
                    <a:pt x="342207" y="3512"/>
                  </a:lnTo>
                  <a:lnTo>
                    <a:pt x="1858394" y="6903102"/>
                  </a:lnTo>
                  <a:lnTo>
                    <a:pt x="1073333" y="6900813"/>
                  </a:lnTo>
                  <a:close/>
                </a:path>
              </a:pathLst>
            </a:custGeom>
            <a:solidFill>
              <a:srgbClr val="2f35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梯形 1"/>
          <p:cNvSpPr/>
          <p:nvPr/>
        </p:nvSpPr>
        <p:spPr>
          <a:xfrm flipH="1" rot="5400000">
            <a:off x="5685480" y="-1301040"/>
            <a:ext cx="2647800" cy="4348080"/>
          </a:xfrm>
          <a:custGeom>
            <a:avLst/>
            <a:gdLst/>
            <a:ahLst/>
            <a:rect l="l" t="t" r="r" b="b"/>
            <a:pathLst>
              <a:path w="3254359" h="6228096">
                <a:moveTo>
                  <a:pt x="2203549" y="6228096"/>
                </a:moveTo>
                <a:lnTo>
                  <a:pt x="0" y="30101"/>
                </a:lnTo>
                <a:lnTo>
                  <a:pt x="858381" y="0"/>
                </a:lnTo>
                <a:lnTo>
                  <a:pt x="3254359" y="6226719"/>
                </a:lnTo>
                <a:lnTo>
                  <a:pt x="2203549" y="6228096"/>
                </a:lnTo>
                <a:close/>
              </a:path>
            </a:pathLst>
          </a:custGeom>
          <a:solidFill>
            <a:srgbClr val="ffa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梯形 1"/>
          <p:cNvSpPr/>
          <p:nvPr/>
        </p:nvSpPr>
        <p:spPr>
          <a:xfrm flipH="1" rot="5400000">
            <a:off x="5576040" y="-339480"/>
            <a:ext cx="2820960" cy="4319640"/>
          </a:xfrm>
          <a:custGeom>
            <a:avLst/>
            <a:gdLst/>
            <a:ahLst/>
            <a:rect l="l" t="t" r="r" b="b"/>
            <a:pathLst>
              <a:path w="7794268" h="6184931">
                <a:moveTo>
                  <a:pt x="5904846" y="6174416"/>
                </a:moveTo>
                <a:lnTo>
                  <a:pt x="1" y="5564"/>
                </a:lnTo>
                <a:lnTo>
                  <a:pt x="2810643" y="0"/>
                </a:lnTo>
                <a:lnTo>
                  <a:pt x="7794268" y="6184931"/>
                </a:lnTo>
                <a:lnTo>
                  <a:pt x="5904846" y="6174416"/>
                </a:lnTo>
                <a:close/>
              </a:path>
            </a:pathLst>
          </a:custGeom>
          <a:solidFill>
            <a:srgbClr val="fc6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梯形 1"/>
          <p:cNvSpPr/>
          <p:nvPr/>
        </p:nvSpPr>
        <p:spPr>
          <a:xfrm rot="5400000">
            <a:off x="5438880" y="497520"/>
            <a:ext cx="3113280" cy="4321080"/>
          </a:xfrm>
          <a:custGeom>
            <a:avLst/>
            <a:gdLst/>
            <a:ahLst/>
            <a:rect l="l" t="t" r="r" b="b"/>
            <a:pathLst>
              <a:path w="3113086" h="6187511">
                <a:moveTo>
                  <a:pt x="0" y="6185223"/>
                </a:moveTo>
                <a:lnTo>
                  <a:pt x="2142235" y="0"/>
                </a:lnTo>
                <a:lnTo>
                  <a:pt x="3113086" y="15351"/>
                </a:lnTo>
                <a:lnTo>
                  <a:pt x="562611" y="6187511"/>
                </a:lnTo>
                <a:lnTo>
                  <a:pt x="0" y="6185223"/>
                </a:lnTo>
                <a:close/>
              </a:path>
            </a:pathLst>
          </a:custGeom>
          <a:solidFill>
            <a:srgbClr val="ffb6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梯形 1"/>
          <p:cNvSpPr/>
          <p:nvPr/>
        </p:nvSpPr>
        <p:spPr>
          <a:xfrm rot="5400000">
            <a:off x="5275080" y="1213920"/>
            <a:ext cx="3440160" cy="4300560"/>
          </a:xfrm>
          <a:custGeom>
            <a:avLst/>
            <a:gdLst/>
            <a:ahLst/>
            <a:rect l="l" t="t" r="r" b="b"/>
            <a:pathLst>
              <a:path w="3440111" h="6158521">
                <a:moveTo>
                  <a:pt x="0" y="6156232"/>
                </a:moveTo>
                <a:lnTo>
                  <a:pt x="2596263" y="7380"/>
                </a:lnTo>
                <a:lnTo>
                  <a:pt x="3440111" y="0"/>
                </a:lnTo>
                <a:lnTo>
                  <a:pt x="692148" y="6158521"/>
                </a:lnTo>
                <a:lnTo>
                  <a:pt x="0" y="6156232"/>
                </a:lnTo>
                <a:close/>
              </a:path>
            </a:pathLst>
          </a:custGeom>
          <a:solidFill>
            <a:srgbClr val="fff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梯形 1"/>
          <p:cNvSpPr/>
          <p:nvPr/>
        </p:nvSpPr>
        <p:spPr>
          <a:xfrm rot="5400000">
            <a:off x="5208480" y="1945800"/>
            <a:ext cx="3587760" cy="4314960"/>
          </a:xfrm>
          <a:custGeom>
            <a:avLst/>
            <a:gdLst/>
            <a:ahLst/>
            <a:rect l="l" t="t" r="r" b="b"/>
            <a:pathLst>
              <a:path w="3587657" h="6179242">
                <a:moveTo>
                  <a:pt x="0" y="6179242"/>
                </a:moveTo>
                <a:lnTo>
                  <a:pt x="2759367" y="0"/>
                </a:lnTo>
                <a:lnTo>
                  <a:pt x="3587657" y="6317"/>
                </a:lnTo>
                <a:lnTo>
                  <a:pt x="682442" y="6161744"/>
                </a:lnTo>
                <a:lnTo>
                  <a:pt x="0" y="6179242"/>
                </a:lnTo>
                <a:close/>
              </a:path>
            </a:pathLst>
          </a:custGeom>
          <a:solidFill>
            <a:srgbClr val="88a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梯形 1"/>
          <p:cNvSpPr/>
          <p:nvPr/>
        </p:nvSpPr>
        <p:spPr>
          <a:xfrm rot="5400000">
            <a:off x="5196600" y="2629080"/>
            <a:ext cx="3602160" cy="4305600"/>
          </a:xfrm>
          <a:custGeom>
            <a:avLst/>
            <a:gdLst/>
            <a:ahLst/>
            <a:rect l="l" t="t" r="r" b="b"/>
            <a:pathLst>
              <a:path w="3601754" h="6164762">
                <a:moveTo>
                  <a:pt x="0" y="6162473"/>
                </a:moveTo>
                <a:lnTo>
                  <a:pt x="2923544" y="0"/>
                </a:lnTo>
                <a:lnTo>
                  <a:pt x="3601754" y="1436"/>
                </a:lnTo>
                <a:lnTo>
                  <a:pt x="785061" y="6164762"/>
                </a:lnTo>
                <a:lnTo>
                  <a:pt x="0" y="6162473"/>
                </a:lnTo>
                <a:close/>
              </a:path>
            </a:pathLst>
          </a:custGeom>
          <a:solidFill>
            <a:srgbClr val="2f3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梯形 8"/>
          <p:cNvGrpSpPr/>
          <p:nvPr/>
        </p:nvGrpSpPr>
        <p:grpSpPr>
          <a:xfrm>
            <a:off x="4768560" y="-109440"/>
            <a:ext cx="4503960" cy="6418080"/>
            <a:chOff x="4768560" y="-109440"/>
            <a:chExt cx="4503960" cy="6418080"/>
          </a:xfrm>
        </p:grpSpPr>
        <p:pic>
          <p:nvPicPr>
            <p:cNvPr id="749" name="梯形 8" descr=""/>
            <p:cNvPicPr/>
            <p:nvPr/>
          </p:nvPicPr>
          <p:blipFill>
            <a:blip r:embed="rId1"/>
            <a:stretch/>
          </p:blipFill>
          <p:spPr>
            <a:xfrm>
              <a:off x="4913280" y="-109440"/>
              <a:ext cx="4359240" cy="64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17"/>
            <p:cNvSpPr/>
            <p:nvPr/>
          </p:nvSpPr>
          <p:spPr>
            <a:xfrm rot="16387800">
              <a:off x="4145760" y="935640"/>
              <a:ext cx="570024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梯形 8"/>
          <p:cNvGrpSpPr/>
          <p:nvPr/>
        </p:nvGrpSpPr>
        <p:grpSpPr>
          <a:xfrm>
            <a:off x="-30240" y="-230040"/>
            <a:ext cx="4937040" cy="5149440"/>
            <a:chOff x="-30240" y="-230040"/>
            <a:chExt cx="4937040" cy="5149440"/>
          </a:xfrm>
        </p:grpSpPr>
        <p:pic>
          <p:nvPicPr>
            <p:cNvPr id="752" name="梯形 8" descr=""/>
            <p:cNvPicPr/>
            <p:nvPr/>
          </p:nvPicPr>
          <p:blipFill>
            <a:blip r:embed="rId2"/>
            <a:stretch/>
          </p:blipFill>
          <p:spPr>
            <a:xfrm>
              <a:off x="-30240" y="-165240"/>
              <a:ext cx="493704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20"/>
            <p:cNvSpPr/>
            <p:nvPr/>
          </p:nvSpPr>
          <p:spPr>
            <a:xfrm rot="16387800">
              <a:off x="-7920" y="68040"/>
              <a:ext cx="483876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16T08:43:2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