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4D9-E477-4E37-B828-E09353E4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30A-B14A-432C-A7E3-C9DFD5A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534-764C-4E36-BCD5-B3762143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F88-7A38-466F-9236-679306D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A8A7-2EA7-4E0B-8DD2-E439598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109D-15FF-4886-818C-C305148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58AA-BA40-4E74-93FE-E8DF6CB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822-23B1-4EF6-AF48-94811E52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FE9D-FDEF-4CDF-9558-7317AC25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35E-65AD-4506-BF26-AE2517B1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9285-9C13-4C6B-A720-0AB8D15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2E6-6820-4E81-AC01-FAAA238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339B-344D-40A6-B5FE-3503F5E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C466-593C-4994-BB1B-54B728F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472-7374-4D70-9221-837CD4DC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147E-94A9-4EB5-9BA8-A63260C8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7A8C-C346-405F-B69F-7A581E07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073-A098-4316-BA99-410277DF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D3A-866D-4C62-A7DF-5DA3AA48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F0B-AA13-4BB8-9250-4D6CBE9C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2E-08B0-41B1-AE63-A4BC3B2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950-70FA-40C3-B64B-B53F429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CEB-4E10-4D74-B509-F846A77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4F5-52A6-4DE9-BF06-6EB5F97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4A82-3766-41CF-A010-6F167625A95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0FF-6C92-49E7-9B3C-2EDE1A2E2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538560" y="4806360"/>
            <a:ext cx="1445400" cy="1296360"/>
            <a:chOff x="538560" y="4806360"/>
            <a:chExt cx="1445400" cy="1296360"/>
          </a:xfrm>
        </p:grpSpPr>
        <p:sp>
          <p:nvSpPr>
            <p:cNvPr id="85" name="椭圆 7"/>
            <p:cNvSpPr/>
            <p:nvPr/>
          </p:nvSpPr>
          <p:spPr>
            <a:xfrm>
              <a:off x="610560" y="4806360"/>
              <a:ext cx="129636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8"/>
            <p:cNvSpPr/>
            <p:nvPr/>
          </p:nvSpPr>
          <p:spPr>
            <a:xfrm>
              <a:off x="648720" y="484452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3"/>
            <p:cNvSpPr/>
            <p:nvPr/>
          </p:nvSpPr>
          <p:spPr>
            <a:xfrm>
              <a:off x="543600" y="516636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4"/>
            <p:cNvSpPr/>
            <p:nvPr/>
          </p:nvSpPr>
          <p:spPr>
            <a:xfrm>
              <a:off x="538560" y="572364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90" name="TextBox 19"/>
          <p:cNvSpPr/>
          <p:nvPr/>
        </p:nvSpPr>
        <p:spPr>
          <a:xfrm>
            <a:off x="679320" y="5261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日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2152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1120" y="2104920"/>
            <a:ext cx="7048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Base 05"/>
              </a:rPr>
              <a:t>a powerful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278160" y="14637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一款功能强大的软件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396000" y="4357080"/>
            <a:ext cx="1445040" cy="1296360"/>
            <a:chOff x="396000" y="4357080"/>
            <a:chExt cx="1445040" cy="1296360"/>
          </a:xfrm>
        </p:grpSpPr>
        <p:sp>
          <p:nvSpPr>
            <p:cNvPr id="97" name="椭圆 7"/>
            <p:cNvSpPr/>
            <p:nvPr/>
          </p:nvSpPr>
          <p:spPr>
            <a:xfrm>
              <a:off x="468000" y="4357080"/>
              <a:ext cx="129600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505800" y="439524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10"/>
            <p:cNvSpPr/>
            <p:nvPr/>
          </p:nvSpPr>
          <p:spPr>
            <a:xfrm>
              <a:off x="401040" y="471708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11"/>
            <p:cNvSpPr/>
            <p:nvPr/>
          </p:nvSpPr>
          <p:spPr>
            <a:xfrm>
              <a:off x="396000" y="527436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2" name="TextBox 15"/>
          <p:cNvSpPr/>
          <p:nvPr/>
        </p:nvSpPr>
        <p:spPr>
          <a:xfrm>
            <a:off x="324000" y="48117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e 05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5007960" y="1815480"/>
            <a:ext cx="3465360" cy="505800"/>
            <a:chOff x="5007960" y="1815480"/>
            <a:chExt cx="3465360" cy="505800"/>
          </a:xfrm>
        </p:grpSpPr>
        <p:sp>
          <p:nvSpPr>
            <p:cNvPr id="104" name="圆角矩形 5"/>
            <p:cNvSpPr/>
            <p:nvPr/>
          </p:nvSpPr>
          <p:spPr>
            <a:xfrm>
              <a:off x="5007960" y="1815480"/>
              <a:ext cx="3465360" cy="5058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6"/>
            <p:cNvSpPr/>
            <p:nvPr/>
          </p:nvSpPr>
          <p:spPr>
            <a:xfrm>
              <a:off x="5008680" y="1884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0"/>
          <p:cNvGrpSpPr/>
          <p:nvPr/>
        </p:nvGrpSpPr>
        <p:grpSpPr>
          <a:xfrm>
            <a:off x="5007960" y="2787480"/>
            <a:ext cx="3465360" cy="505440"/>
            <a:chOff x="5007960" y="2787480"/>
            <a:chExt cx="3465360" cy="505440"/>
          </a:xfrm>
        </p:grpSpPr>
        <p:sp>
          <p:nvSpPr>
            <p:cNvPr id="107" name="圆角矩形 5"/>
            <p:cNvSpPr/>
            <p:nvPr/>
          </p:nvSpPr>
          <p:spPr>
            <a:xfrm>
              <a:off x="5007960" y="278748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5008680" y="285732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5007960" y="3759120"/>
            <a:ext cx="3465360" cy="505440"/>
            <a:chOff x="5007960" y="3759120"/>
            <a:chExt cx="3465360" cy="505440"/>
          </a:xfrm>
        </p:grpSpPr>
        <p:sp>
          <p:nvSpPr>
            <p:cNvPr id="110" name="圆角矩形 5"/>
            <p:cNvSpPr/>
            <p:nvPr/>
          </p:nvSpPr>
          <p:spPr>
            <a:xfrm>
              <a:off x="5007960" y="375912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6"/>
            <p:cNvSpPr/>
            <p:nvPr/>
          </p:nvSpPr>
          <p:spPr>
            <a:xfrm>
              <a:off x="5008680" y="3828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5007960" y="4732200"/>
            <a:ext cx="3465360" cy="505440"/>
            <a:chOff x="5007960" y="4732200"/>
            <a:chExt cx="3465360" cy="505440"/>
          </a:xfrm>
        </p:grpSpPr>
        <p:sp>
          <p:nvSpPr>
            <p:cNvPr id="113" name="圆角矩形 5"/>
            <p:cNvSpPr/>
            <p:nvPr/>
          </p:nvSpPr>
          <p:spPr>
            <a:xfrm>
              <a:off x="5007960" y="473220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5008680" y="480204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圆角矩形 5"/>
          <p:cNvSpPr/>
          <p:nvPr/>
        </p:nvSpPr>
        <p:spPr>
          <a:xfrm>
            <a:off x="1527120" y="3129120"/>
            <a:ext cx="5743800" cy="8380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e9b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901880" y="3222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39640" y="304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340760" y="1990800"/>
            <a:ext cx="1295280" cy="1060200"/>
            <a:chOff x="7340760" y="1990800"/>
            <a:chExt cx="1295280" cy="1060200"/>
          </a:xfrm>
        </p:grpSpPr>
        <p:grpSp>
          <p:nvGrpSpPr>
            <p:cNvPr id="121" name="Group 5"/>
            <p:cNvGrpSpPr/>
            <p:nvPr/>
          </p:nvGrpSpPr>
          <p:grpSpPr>
            <a:xfrm>
              <a:off x="7399440" y="1990800"/>
              <a:ext cx="1181880" cy="1060200"/>
              <a:chOff x="7399440" y="1990800"/>
              <a:chExt cx="1181880" cy="1060200"/>
            </a:xfrm>
          </p:grpSpPr>
          <p:sp>
            <p:nvSpPr>
              <p:cNvPr id="122" name="椭圆 7"/>
              <p:cNvSpPr/>
              <p:nvPr/>
            </p:nvSpPr>
            <p:spPr>
              <a:xfrm>
                <a:off x="7458480" y="1990800"/>
                <a:ext cx="1059840" cy="106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8"/>
              <p:cNvSpPr/>
              <p:nvPr/>
            </p:nvSpPr>
            <p:spPr>
              <a:xfrm>
                <a:off x="7489440" y="2021760"/>
                <a:ext cx="997560" cy="997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10"/>
              <p:cNvSpPr/>
              <p:nvPr/>
            </p:nvSpPr>
            <p:spPr>
              <a:xfrm>
                <a:off x="7403760" y="228528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11"/>
              <p:cNvSpPr/>
              <p:nvPr/>
            </p:nvSpPr>
            <p:spPr>
              <a:xfrm>
                <a:off x="7399440" y="274104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7" name="TextBox 15"/>
            <p:cNvSpPr/>
            <p:nvPr/>
          </p:nvSpPr>
          <p:spPr>
            <a:xfrm>
              <a:off x="7340760" y="23623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ase 05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直接连接符 5"/>
          <p:cNvSpPr/>
          <p:nvPr/>
        </p:nvSpPr>
        <p:spPr>
          <a:xfrm>
            <a:off x="790560" y="4653000"/>
            <a:ext cx="6481800" cy="144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1008000" y="425772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"/>
          <p:cNvSpPr/>
          <p:nvPr/>
        </p:nvSpPr>
        <p:spPr>
          <a:xfrm>
            <a:off x="1008000" y="386064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8"/>
          <p:cNvSpPr/>
          <p:nvPr/>
        </p:nvSpPr>
        <p:spPr>
          <a:xfrm>
            <a:off x="1008000" y="3465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1008000" y="3068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0"/>
          <p:cNvSpPr/>
          <p:nvPr/>
        </p:nvSpPr>
        <p:spPr>
          <a:xfrm>
            <a:off x="1008000" y="2673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1"/>
          <p:cNvSpPr/>
          <p:nvPr/>
        </p:nvSpPr>
        <p:spPr>
          <a:xfrm>
            <a:off x="1008000" y="2276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"/>
          <p:cNvSpPr/>
          <p:nvPr/>
        </p:nvSpPr>
        <p:spPr>
          <a:xfrm>
            <a:off x="1008000" y="2060640"/>
            <a:ext cx="0" cy="2808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1"/>
          <p:cNvSpPr/>
          <p:nvPr/>
        </p:nvSpPr>
        <p:spPr>
          <a:xfrm>
            <a:off x="137808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4"/>
          <p:cNvSpPr/>
          <p:nvPr/>
        </p:nvSpPr>
        <p:spPr>
          <a:xfrm>
            <a:off x="174960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212076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6"/>
          <p:cNvSpPr/>
          <p:nvPr/>
        </p:nvSpPr>
        <p:spPr>
          <a:xfrm>
            <a:off x="24922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7"/>
          <p:cNvSpPr/>
          <p:nvPr/>
        </p:nvSpPr>
        <p:spPr>
          <a:xfrm>
            <a:off x="28638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8"/>
          <p:cNvSpPr/>
          <p:nvPr/>
        </p:nvSpPr>
        <p:spPr>
          <a:xfrm>
            <a:off x="32353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9"/>
          <p:cNvSpPr/>
          <p:nvPr/>
        </p:nvSpPr>
        <p:spPr>
          <a:xfrm>
            <a:off x="36068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0"/>
          <p:cNvSpPr/>
          <p:nvPr/>
        </p:nvSpPr>
        <p:spPr>
          <a:xfrm>
            <a:off x="39765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1"/>
          <p:cNvSpPr/>
          <p:nvPr/>
        </p:nvSpPr>
        <p:spPr>
          <a:xfrm>
            <a:off x="434808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2"/>
          <p:cNvSpPr/>
          <p:nvPr/>
        </p:nvSpPr>
        <p:spPr>
          <a:xfrm>
            <a:off x="47196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33"/>
          <p:cNvSpPr/>
          <p:nvPr/>
        </p:nvSpPr>
        <p:spPr>
          <a:xfrm>
            <a:off x="50911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34"/>
          <p:cNvSpPr/>
          <p:nvPr/>
        </p:nvSpPr>
        <p:spPr>
          <a:xfrm>
            <a:off x="546084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35"/>
          <p:cNvSpPr/>
          <p:nvPr/>
        </p:nvSpPr>
        <p:spPr>
          <a:xfrm>
            <a:off x="58323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36"/>
          <p:cNvSpPr/>
          <p:nvPr/>
        </p:nvSpPr>
        <p:spPr>
          <a:xfrm>
            <a:off x="62038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7"/>
          <p:cNvSpPr/>
          <p:nvPr/>
        </p:nvSpPr>
        <p:spPr>
          <a:xfrm>
            <a:off x="65754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8"/>
          <p:cNvSpPr/>
          <p:nvPr/>
        </p:nvSpPr>
        <p:spPr>
          <a:xfrm>
            <a:off x="69469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9"/>
          <p:cNvSpPr/>
          <p:nvPr/>
        </p:nvSpPr>
        <p:spPr>
          <a:xfrm>
            <a:off x="73184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0"/>
          <p:cNvSpPr/>
          <p:nvPr/>
        </p:nvSpPr>
        <p:spPr>
          <a:xfrm>
            <a:off x="539640" y="42703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9640" y="3867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2"/>
          <p:cNvSpPr/>
          <p:nvPr/>
        </p:nvSpPr>
        <p:spPr>
          <a:xfrm>
            <a:off x="539640" y="3463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3"/>
          <p:cNvSpPr/>
          <p:nvPr/>
        </p:nvSpPr>
        <p:spPr>
          <a:xfrm>
            <a:off x="539640" y="3060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4"/>
          <p:cNvSpPr/>
          <p:nvPr/>
        </p:nvSpPr>
        <p:spPr>
          <a:xfrm>
            <a:off x="539640" y="2658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5"/>
          <p:cNvSpPr/>
          <p:nvPr/>
        </p:nvSpPr>
        <p:spPr>
          <a:xfrm>
            <a:off x="539640" y="22557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1079640" y="4869000"/>
            <a:ext cx="61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b3130"/>
                </a:solidFill>
                <a:latin typeface="微软雅黑"/>
                <a:ea typeface="微软雅黑"/>
              </a:rPr>
              <a:t>Add Your Content   </a:t>
            </a:r>
            <a:r>
              <a:rPr b="0" lang="zh-CN" sz="1600" spc="-1" strike="noStrike">
                <a:solidFill>
                  <a:srgbClr val="3b3130"/>
                </a:solidFill>
                <a:latin typeface="Arial"/>
              </a:rPr>
              <a:t>Add Your Content    Add You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8"/>
          <p:cNvSpPr/>
          <p:nvPr/>
        </p:nvSpPr>
        <p:spPr>
          <a:xfrm rot="15480000">
            <a:off x="137952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169640 h 1563840"/>
            </a:gdLst>
            <a:ahLst/>
            <a:rect l="textAreaLeft" t="textAreaTop" r="textAreaRight" b="textAreaBottom"/>
            <a:pathLst>
              <a:path w="21600" h="21600">
                <a:moveTo>
                  <a:pt x="9581" y="11913"/>
                </a:moveTo>
                <a:cubicBezTo>
                  <a:pt x="9303" y="11609"/>
                  <a:pt x="9149" y="11212"/>
                  <a:pt x="9149" y="10800"/>
                </a:cubicBezTo>
                <a:cubicBezTo>
                  <a:pt x="9149" y="9888"/>
                  <a:pt x="9888" y="9149"/>
                  <a:pt x="10800" y="9149"/>
                </a:cubicBezTo>
                <a:cubicBezTo>
                  <a:pt x="11711" y="9149"/>
                  <a:pt x="12451" y="9888"/>
                  <a:pt x="12451" y="10800"/>
                </a:cubicBezTo>
                <a:cubicBezTo>
                  <a:pt x="12451" y="11212"/>
                  <a:pt x="12296" y="11609"/>
                  <a:pt x="12018" y="11913"/>
                </a:cubicBezTo>
                <a:lnTo>
                  <a:pt x="18772" y="18085"/>
                </a:lnTo>
                <a:cubicBezTo>
                  <a:pt x="20591" y="16095"/>
                  <a:pt x="21600" y="1349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3496"/>
                  <a:pt x="1008" y="16095"/>
                  <a:pt x="2827" y="18085"/>
                </a:cubicBezTo>
                <a:lnTo>
                  <a:pt x="9581" y="119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 rot="15480000">
            <a:off x="3381480" y="2706120"/>
            <a:ext cx="1563480" cy="156348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480"/>
              <a:gd name="textAreaBottom" fmla="*/ 1385640 h 1563480"/>
            </a:gdLst>
            <a:ahLst/>
            <a:rect l="textAreaLeft" t="textAreaTop" r="textAreaRight" b="textAreaBottom"/>
            <a:pathLst>
              <a:path w="21600" h="21600">
                <a:moveTo>
                  <a:pt x="9914" y="12431"/>
                </a:moveTo>
                <a:cubicBezTo>
                  <a:pt x="9316" y="12106"/>
                  <a:pt x="8944" y="11480"/>
                  <a:pt x="8944" y="10800"/>
                </a:cubicBezTo>
                <a:cubicBezTo>
                  <a:pt x="8944" y="9774"/>
                  <a:pt x="9774" y="8944"/>
                  <a:pt x="10800" y="8944"/>
                </a:cubicBezTo>
                <a:cubicBezTo>
                  <a:pt x="11825" y="8944"/>
                  <a:pt x="12656" y="9774"/>
                  <a:pt x="12656" y="10800"/>
                </a:cubicBezTo>
                <a:cubicBezTo>
                  <a:pt x="12656" y="11480"/>
                  <a:pt x="12283" y="12106"/>
                  <a:pt x="11685" y="12431"/>
                </a:cubicBezTo>
                <a:lnTo>
                  <a:pt x="15952" y="20291"/>
                </a:lnTo>
                <a:cubicBezTo>
                  <a:pt x="19432" y="18402"/>
                  <a:pt x="21600" y="1475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4759"/>
                  <a:pt x="2167" y="18402"/>
                  <a:pt x="5647" y="20291"/>
                </a:cubicBezTo>
                <a:lnTo>
                  <a:pt x="9914" y="1243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0"/>
          <p:cNvSpPr/>
          <p:nvPr/>
        </p:nvSpPr>
        <p:spPr>
          <a:xfrm rot="15480000">
            <a:off x="538308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495800 h 1563840"/>
            </a:gdLst>
            <a:ahLst/>
            <a:rect l="textAreaLeft" t="textAreaTop" r="textAreaRight" b="textAreaBottom"/>
            <a:pathLst>
              <a:path w="21600" h="21600">
                <a:moveTo>
                  <a:pt x="10300" y="12738"/>
                </a:moveTo>
                <a:cubicBezTo>
                  <a:pt x="9415" y="12510"/>
                  <a:pt x="8798" y="11713"/>
                  <a:pt x="8798" y="10800"/>
                </a:cubicBezTo>
                <a:cubicBezTo>
                  <a:pt x="8798" y="9694"/>
                  <a:pt x="9694" y="8798"/>
                  <a:pt x="10800" y="8798"/>
                </a:cubicBezTo>
                <a:cubicBezTo>
                  <a:pt x="11905" y="8798"/>
                  <a:pt x="12802" y="9694"/>
                  <a:pt x="12802" y="10800"/>
                </a:cubicBezTo>
                <a:cubicBezTo>
                  <a:pt x="12802" y="11713"/>
                  <a:pt x="12184" y="12510"/>
                  <a:pt x="11299" y="12738"/>
                </a:cubicBezTo>
                <a:lnTo>
                  <a:pt x="13496" y="21257"/>
                </a:lnTo>
                <a:cubicBezTo>
                  <a:pt x="18266" y="20027"/>
                  <a:pt x="21600" y="1572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5726"/>
                  <a:pt x="3333" y="20027"/>
                  <a:pt x="8103" y="21257"/>
                </a:cubicBezTo>
                <a:lnTo>
                  <a:pt x="10300" y="1273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"/>
          <p:cNvPicPr/>
          <p:nvPr/>
        </p:nvPicPr>
        <p:blipFill>
          <a:blip r:embed="rId2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sp>
        <p:nvSpPr>
          <p:cNvPr id="165" name="标题 1"/>
          <p:cNvSpPr/>
          <p:nvPr/>
        </p:nvSpPr>
        <p:spPr>
          <a:xfrm>
            <a:off x="68580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se 05"/>
                <a:ea typeface="微软雅黑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 hidden="1"/>
          <p:cNvSpPr/>
          <p:nvPr/>
        </p:nvSpPr>
        <p:spPr>
          <a:xfrm>
            <a:off x="1434960" y="2781360"/>
            <a:ext cx="6513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炫酷牛仔风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538560" y="4797000"/>
            <a:ext cx="1445400" cy="1296360"/>
            <a:chOff x="538560" y="4797000"/>
            <a:chExt cx="1445400" cy="1296360"/>
          </a:xfrm>
        </p:grpSpPr>
        <p:sp>
          <p:nvSpPr>
            <p:cNvPr id="168" name="椭圆 7"/>
            <p:cNvSpPr/>
            <p:nvPr/>
          </p:nvSpPr>
          <p:spPr>
            <a:xfrm>
              <a:off x="610560" y="4797000"/>
              <a:ext cx="129636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8"/>
            <p:cNvSpPr/>
            <p:nvPr/>
          </p:nvSpPr>
          <p:spPr>
            <a:xfrm>
              <a:off x="648720" y="483516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13"/>
            <p:cNvSpPr/>
            <p:nvPr/>
          </p:nvSpPr>
          <p:spPr>
            <a:xfrm>
              <a:off x="543600" y="515700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4"/>
            <p:cNvSpPr/>
            <p:nvPr/>
          </p:nvSpPr>
          <p:spPr>
            <a:xfrm>
              <a:off x="538560" y="571428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3" name="TextBox 19"/>
          <p:cNvSpPr/>
          <p:nvPr/>
        </p:nvSpPr>
        <p:spPr>
          <a:xfrm>
            <a:off x="679320" y="5261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日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0920" y="6362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690560" y="470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您在寻找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90560" y="5373720"/>
            <a:ext cx="62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是一款开放、高效、安全的办公软件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TU"/>
          <p:cNvPicPr/>
          <p:nvPr/>
        </p:nvPicPr>
        <p:blipFill>
          <a:blip r:embed="rId1"/>
          <a:stretch/>
        </p:blipFill>
        <p:spPr>
          <a:xfrm>
            <a:off x="1547640" y="2139840"/>
            <a:ext cx="7594920" cy="257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拉链1"/>
          <p:cNvPicPr/>
          <p:nvPr/>
        </p:nvPicPr>
        <p:blipFill>
          <a:blip r:embed="rId2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4000" y="1359000"/>
            <a:ext cx="61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切尽在其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它将使您的办公更加轻松自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324000" y="30240"/>
            <a:ext cx="2152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  <a:ea typeface="微软雅黑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  <a:ea typeface="微软雅黑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24T03:31:2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9</vt:lpwstr>
  </property>
</Properties>
</file>