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699-0D99-4C83-93D1-59B369D2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2072-CE6B-4F4C-9132-736A332C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A7E-AFE6-41D2-9D09-A18D72CC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741-720F-41D9-BE52-FF82AE14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8AC-4FC7-4E93-95E0-FDA53BBA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67E5-7F87-4DC0-A67E-0C3C30F3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9B3-0C3F-491E-945A-E47A1B03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342-3CB9-4058-A481-DCBF1AFF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300-0943-48F6-82F2-10C0EA17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9DD-786F-43B5-92B2-6A56809E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E7F-5864-4C4A-A01C-8172B126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586-54E9-44BF-9899-065E98CB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34D6-76A7-4E1A-A562-ACB0032D5B47}" type="datetime">
              <a:rPr b="0" lang="zh-CN" sz="10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7C90-7E80-46B0-9C80-7276B0A717BA}" type="slidenum">
              <a:rPr b="0" lang="zh-CN" sz="10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3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8月桌面文件\新增3D人物素材集\3DSYRW_4016.jpg"/>
          <p:cNvPicPr/>
          <p:nvPr/>
        </p:nvPicPr>
        <p:blipFill>
          <a:blip r:embed="rId2"/>
          <a:stretch/>
        </p:blipFill>
        <p:spPr>
          <a:xfrm>
            <a:off x="2457360" y="96840"/>
            <a:ext cx="4206960" cy="36482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42" name="矩形 4"/>
          <p:cNvSpPr/>
          <p:nvPr/>
        </p:nvSpPr>
        <p:spPr>
          <a:xfrm>
            <a:off x="0" y="41227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00" y="473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27120" y="38322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握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EE3-676C-48ED-A3EC-5AEA029335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6:19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21:59Z</dcterms:modified>
  <cp:revision>6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