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6794-A238-46C7-A256-52BB7949D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D13B-9EA2-4772-842C-5ACD8390A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C5DA-BBD1-4FCB-89A0-BF90750CA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BAF7-2D96-44E8-94F4-DAC3751B2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652AD-4995-4D66-A9EC-9EE2BD79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B2B57-BDE2-4D47-960A-670CA59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C533E-CC5A-460D-AE8B-A1BF51BF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6F425-FC7E-4BB8-9E4F-E0D20D44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C7FEE-3C83-4C76-A39C-7B1BA6BE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66280" y="415800"/>
            <a:ext cx="8008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7C69F-9E78-4FEB-8213-078366DE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2220-8FCF-4B30-A7CF-8DD56FF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E500-D309-4889-BD84-06D27FF3F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004D-4920-4755-BEB8-423A4A1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42B47-EB6E-406F-BA9C-8EFDB20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7F636-70F0-4023-9391-E2A86A8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685D8-19AE-4116-86B7-19277B38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5A254-FEB9-4D89-9481-737B8FE3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FF6001-AA34-4044-BEC9-5E8B031F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03007-1504-4764-86B1-B3DDDC48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CE9CE-1AFF-4425-ACC0-C6984F43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CAFBF-0F47-49D7-86B8-7AC79316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CA6CE-59CD-4E88-87FA-0AF2EBAA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59B1-DA4D-4F07-8FCF-F2DB26A48B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66280" y="415800"/>
            <a:ext cx="8008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63BBA-B17E-4E48-9778-59F2B931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E8673-C71E-4A8A-B927-A3E44F3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061D7-C277-47F7-82E3-55824F1A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63F55-BC60-488E-9C93-E44343D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63C34E-FBFE-4B1F-B48D-844E76BE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A27FA-5D46-4D02-9F5E-EF23DA4C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624AE-264A-47B2-BC8B-389BAEA9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5AD30-2DBF-4F03-B9DE-FFFF4332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98D2C-3437-47C0-A4B0-2C06BC68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BBE60-3680-4C1C-AF70-5C661888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D6D5-0C91-4399-8887-3808B4AC33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36FC3-20F0-45E6-A6E8-B36A0DBE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9707B-FDBA-4A6E-8B24-11A90B14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66280" y="415800"/>
            <a:ext cx="8008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5BA2A-D0B8-4D5C-BC91-0DBBC858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76D04-7AA5-4D31-9AA4-582FD15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76A97-DC25-4992-A580-E01C1EE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D5F8F-97B3-405C-8225-2DD84C0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2F2D18-348A-4B61-9F45-93DDC59E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F0134-CBEA-482F-9D39-F1EB69D9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FCC67-CB78-4B91-8ACA-1BB3D86B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163A-8240-4ED5-9D80-6CEBAFEC7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6280" y="415800"/>
            <a:ext cx="8008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BA65-CF6A-4F07-92E0-491C70F58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43D4-A6DE-4029-8CB0-A079066FA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9A7F-3BE2-41A9-8FC0-541CE7AC4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EDB9-B173-4AC5-BAD1-660620399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BF43-4647-4FC3-89FB-4BFA8EF7E778}" type="slidenum">
              <a:rPr b="1" lang="zh-CN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直接连接符​​ 6"/>
          <p:cNvSpPr/>
          <p:nvPr/>
        </p:nvSpPr>
        <p:spPr>
          <a:xfrm>
            <a:off x="0" y="404640"/>
            <a:ext cx="9144000" cy="180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2"/>
          <p:cNvSpPr/>
          <p:nvPr/>
        </p:nvSpPr>
        <p:spPr>
          <a:xfrm>
            <a:off x="4035600" y="64641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Group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5294-6CCF-4CF0-A120-6F4D1EE184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2"/>
          <p:cNvSpPr/>
          <p:nvPr/>
        </p:nvSpPr>
        <p:spPr>
          <a:xfrm>
            <a:off x="133200" y="122400"/>
            <a:ext cx="8858520" cy="6599160"/>
          </a:xfrm>
          <a:prstGeom prst="rect">
            <a:avLst/>
          </a:prstGeom>
          <a:solidFill>
            <a:srgbClr val="db42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189000" y="193680"/>
            <a:ext cx="8739000" cy="644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f7ceab"/>
              </a:buClr>
              <a:buSzPct val="60000"/>
              <a:buFont typeface="Wingdings 2" charset="2"/>
              <a:buChar char="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CC7-6CDD-4208-AD8A-F1B694EE1AA5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title"/>
          </p:nvPr>
        </p:nvSpPr>
        <p:spPr>
          <a:xfrm>
            <a:off x="566280" y="41580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askerville Old Face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8"/>
          <p:cNvSpPr/>
          <p:nvPr/>
        </p:nvSpPr>
        <p:spPr>
          <a:xfrm>
            <a:off x="133200" y="130320"/>
            <a:ext cx="8858520" cy="6591240"/>
          </a:xfrm>
          <a:prstGeom prst="rect">
            <a:avLst/>
          </a:prstGeom>
          <a:solidFill>
            <a:srgbClr val="db42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189000" y="206280"/>
            <a:ext cx="8739000" cy="643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矩形 10"/>
          <p:cNvGrpSpPr/>
          <p:nvPr/>
        </p:nvGrpSpPr>
        <p:grpSpPr>
          <a:xfrm>
            <a:off x="195120" y="208080"/>
            <a:ext cx="8735760" cy="4583160"/>
            <a:chOff x="195120" y="208080"/>
            <a:chExt cx="8735760" cy="4583160"/>
          </a:xfrm>
        </p:grpSpPr>
        <p:pic>
          <p:nvPicPr>
            <p:cNvPr id="141" name="矩形 10" descr=""/>
            <p:cNvPicPr/>
            <p:nvPr/>
          </p:nvPicPr>
          <p:blipFill>
            <a:blip r:embed="rId2"/>
            <a:stretch/>
          </p:blipFill>
          <p:spPr>
            <a:xfrm>
              <a:off x="196200" y="209160"/>
              <a:ext cx="873468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5120" y="208080"/>
              <a:ext cx="8732880" cy="45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"/>
          <p:cNvSpPr/>
          <p:nvPr/>
        </p:nvSpPr>
        <p:spPr>
          <a:xfrm>
            <a:off x="1625760" y="5846760"/>
            <a:ext cx="5822640" cy="0"/>
          </a:xfrm>
          <a:prstGeom prst="line">
            <a:avLst/>
          </a:prstGeom>
          <a:ln w="64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4"/>
          <p:cNvSpPr/>
          <p:nvPr/>
        </p:nvSpPr>
        <p:spPr>
          <a:xfrm>
            <a:off x="1625760" y="5884920"/>
            <a:ext cx="5822640" cy="0"/>
          </a:xfrm>
          <a:prstGeom prst="line">
            <a:avLst/>
          </a:prstGeom>
          <a:ln w="64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5"/>
          <p:cNvSpPr/>
          <p:nvPr/>
        </p:nvSpPr>
        <p:spPr>
          <a:xfrm>
            <a:off x="1623960" y="5740560"/>
            <a:ext cx="0" cy="250560"/>
          </a:xfrm>
          <a:prstGeom prst="line">
            <a:avLst/>
          </a:prstGeom>
          <a:ln w="64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6"/>
          <p:cNvSpPr/>
          <p:nvPr/>
        </p:nvSpPr>
        <p:spPr>
          <a:xfrm>
            <a:off x="7448400" y="5740560"/>
            <a:ext cx="0" cy="250560"/>
          </a:xfrm>
          <a:prstGeom prst="line">
            <a:avLst/>
          </a:prstGeom>
          <a:ln w="64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4224-9B28-4941-9580-0E3E68BF364B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1612440" y="4848120"/>
            <a:ext cx="586764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askerville Old Face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​​ 6"/>
          <p:cNvSpPr/>
          <p:nvPr/>
        </p:nvSpPr>
        <p:spPr>
          <a:xfrm>
            <a:off x="71280" y="4618080"/>
            <a:ext cx="894420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7" descr="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840" cy="403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1600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6160" y="4689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d1d"/>
                </a:solidFill>
                <a:latin typeface="Arial"/>
              </a:rPr>
              <a:t>握手</a:t>
            </a:r>
            <a:r>
              <a:rPr b="0" lang="zh-CN" sz="4000" spc="-1" strike="noStrike">
                <a:solidFill>
                  <a:srgbClr val="1d1d1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1d1d1d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1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869760" y="140148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3"/>
          <p:cNvSpPr/>
          <p:nvPr/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9891-9A99-4482-9226-BAE3A27F32F5}" type="slidenum">
              <a:rPr b="1" lang="zh-CN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3"/>
          <p:cNvSpPr/>
          <p:nvPr/>
        </p:nvSpPr>
        <p:spPr>
          <a:xfrm>
            <a:off x="4738680" y="251460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4"/>
          <p:cNvSpPr/>
          <p:nvPr/>
        </p:nvSpPr>
        <p:spPr>
          <a:xfrm>
            <a:off x="4738680" y="404496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3" descr="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三、运营模式</a:t>
            </a:r>
            <a:endParaRPr b="1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24280" y="2362320"/>
            <a:ext cx="129240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直销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7920" y="3884760"/>
            <a:ext cx="129384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社会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001960" y="2451240"/>
            <a:ext cx="863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e3d3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政企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01960" y="298944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广源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01960" y="352584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e3d3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新市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001960" y="406404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汇侨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001960" y="460044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e3d3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同德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6"/>
          <p:cNvSpPr/>
          <p:nvPr/>
        </p:nvSpPr>
        <p:spPr>
          <a:xfrm>
            <a:off x="3782160" y="2286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7"/>
          <p:cNvSpPr/>
          <p:nvPr/>
        </p:nvSpPr>
        <p:spPr>
          <a:xfrm>
            <a:off x="3536640" y="3968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0"/>
          <p:cNvSpPr/>
          <p:nvPr/>
        </p:nvSpPr>
        <p:spPr>
          <a:xfrm>
            <a:off x="3584160" y="2992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2"/>
          <p:cNvSpPr/>
          <p:nvPr/>
        </p:nvSpPr>
        <p:spPr>
          <a:xfrm>
            <a:off x="3596040" y="464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554960" y="3348000"/>
            <a:ext cx="71604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1ad7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164760" y="3794760"/>
            <a:ext cx="4757760" cy="1881000"/>
            <a:chOff x="3164760" y="3794760"/>
            <a:chExt cx="4757760" cy="1881000"/>
          </a:xfrm>
        </p:grpSpPr>
        <p:cxnSp>
          <p:nvCxnSpPr>
            <p:cNvPr id="262" name="AutoShape 59"/>
            <p:cNvCxnSpPr/>
            <p:nvPr/>
          </p:nvCxnSpPr>
          <p:spPr>
            <a:xfrm flipH="1">
              <a:off x="3164760" y="3794760"/>
              <a:ext cx="4747320" cy="18802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3" name=""/>
            <p:cNvSpPr txBox="1"/>
            <p:nvPr/>
          </p:nvSpPr>
          <p:spPr>
            <a:xfrm>
              <a:off x="3165840" y="3796200"/>
              <a:ext cx="4746600" cy="18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58"/>
          <p:cNvSpPr/>
          <p:nvPr/>
        </p:nvSpPr>
        <p:spPr>
          <a:xfrm>
            <a:off x="8097840" y="43322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13040" y="5495760"/>
            <a:ext cx="1163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1ad7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换机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0"/>
          <p:cNvSpPr/>
          <p:nvPr/>
        </p:nvSpPr>
        <p:spPr>
          <a:xfrm>
            <a:off x="2239200" y="5972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0600" y="361620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总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肘形连接符 9"/>
          <p:cNvCxnSpPr>
            <a:stCxn id="244" idx="1"/>
            <a:endCxn id="245" idx="1"/>
          </p:cNvCxnSpPr>
          <p:nvPr/>
        </p:nvCxnSpPr>
        <p:spPr>
          <a:xfrm flipV="1" rot="10800000">
            <a:off x="4957200" y="2908800"/>
            <a:ext cx="13320" cy="31356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269" name="肘形连接符 15"/>
          <p:cNvCxnSpPr>
            <a:stCxn id="245" idx="1"/>
            <a:endCxn id="246" idx="1"/>
          </p:cNvCxnSpPr>
          <p:nvPr/>
        </p:nvCxnSpPr>
        <p:spPr>
          <a:xfrm flipV="1" rot="10800000">
            <a:off x="4957200" y="322272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270" name="Picture 65" descr=""/>
          <p:cNvPicPr/>
          <p:nvPr/>
        </p:nvPicPr>
        <p:blipFill>
          <a:blip r:embed="rId2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271" name="肘形连接符 19"/>
          <p:cNvCxnSpPr>
            <a:stCxn id="248" idx="1"/>
            <a:endCxn id="249" idx="1"/>
          </p:cNvCxnSpPr>
          <p:nvPr/>
        </p:nvCxnSpPr>
        <p:spPr>
          <a:xfrm flipV="1" rot="10800000">
            <a:off x="4957200" y="4385160"/>
            <a:ext cx="13320" cy="35964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272" name="肘形连接符 21"/>
          <p:cNvCxnSpPr>
            <a:stCxn id="249" idx="1"/>
            <a:endCxn id="250" idx="1"/>
          </p:cNvCxnSpPr>
          <p:nvPr/>
        </p:nvCxnSpPr>
        <p:spPr>
          <a:xfrm flipV="1" rot="10800000">
            <a:off x="4957200" y="474516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273" name="Picture 69" descr=""/>
          <p:cNvPicPr/>
          <p:nvPr/>
        </p:nvPicPr>
        <p:blipFill>
          <a:blip r:embed="rId3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1" descr=""/>
          <p:cNvPicPr/>
          <p:nvPr/>
        </p:nvPicPr>
        <p:blipFill>
          <a:blip r:embed="rId4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3" descr=""/>
          <p:cNvPicPr/>
          <p:nvPr/>
        </p:nvPicPr>
        <p:blipFill>
          <a:blip r:embed="rId5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5" descr=""/>
          <p:cNvPicPr/>
          <p:nvPr/>
        </p:nvPicPr>
        <p:blipFill>
          <a:blip r:embed="rId6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7" descr=""/>
          <p:cNvPicPr/>
          <p:nvPr/>
        </p:nvPicPr>
        <p:blipFill>
          <a:blip r:embed="rId7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9" descr=""/>
          <p:cNvPicPr/>
          <p:nvPr/>
        </p:nvPicPr>
        <p:blipFill>
          <a:blip r:embed="rId8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9" descr=""/>
          <p:cNvPicPr/>
          <p:nvPr/>
        </p:nvPicPr>
        <p:blipFill>
          <a:blip r:embed="rId9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9" descr=""/>
          <p:cNvPicPr/>
          <p:nvPr/>
        </p:nvPicPr>
        <p:blipFill>
          <a:blip r:embed="rId10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3"/>
          <p:cNvSpPr/>
          <p:nvPr/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88A8-75C6-4C40-8980-997FD6822552}" type="slidenum">
              <a:rPr b="1" lang="zh-CN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1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7"/>
          <p:cNvGrpSpPr/>
          <p:nvPr/>
        </p:nvGrpSpPr>
        <p:grpSpPr>
          <a:xfrm>
            <a:off x="228600" y="1441440"/>
            <a:ext cx="3348000" cy="4952880"/>
            <a:chOff x="228600" y="1441440"/>
            <a:chExt cx="3348000" cy="4952880"/>
          </a:xfrm>
        </p:grpSpPr>
        <p:sp>
          <p:nvSpPr>
            <p:cNvPr id="288" name="上箭头 2"/>
            <p:cNvSpPr/>
            <p:nvPr/>
          </p:nvSpPr>
          <p:spPr>
            <a:xfrm>
              <a:off x="228600" y="1441440"/>
              <a:ext cx="3348000" cy="4952880"/>
            </a:xfrm>
            <a:prstGeom prst="upArrow">
              <a:avLst>
                <a:gd name="adj1" fmla="val 50000"/>
                <a:gd name="adj2" fmla="val 49997"/>
              </a:avLst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"/>
            <p:cNvSpPr/>
            <p:nvPr/>
          </p:nvSpPr>
          <p:spPr>
            <a:xfrm>
              <a:off x="838080" y="2590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>
              <a:off x="838080" y="3452760"/>
              <a:ext cx="216000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9"/>
            <p:cNvSpPr/>
            <p:nvPr/>
          </p:nvSpPr>
          <p:spPr>
            <a:xfrm>
              <a:off x="838080" y="4460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6"/>
            <p:cNvSpPr/>
            <p:nvPr/>
          </p:nvSpPr>
          <p:spPr>
            <a:xfrm>
              <a:off x="838080" y="5299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838080" y="1751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2"/>
          <p:cNvSpPr/>
          <p:nvPr/>
        </p:nvSpPr>
        <p:spPr>
          <a:xfrm>
            <a:off x="6858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13"/>
          <p:cNvSpPr/>
          <p:nvPr/>
        </p:nvSpPr>
        <p:spPr>
          <a:xfrm>
            <a:off x="373392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4291920" y="1828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17"/>
          <p:cNvSpPr/>
          <p:nvPr/>
        </p:nvSpPr>
        <p:spPr>
          <a:xfrm>
            <a:off x="66294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肘形连接符 19"/>
          <p:cNvCxnSpPr>
            <a:stCxn id="304" idx="0"/>
            <a:endCxn id="301" idx="0"/>
          </p:cNvCxnSpPr>
          <p:nvPr/>
        </p:nvCxnSpPr>
        <p:spPr>
          <a:xfrm flipV="1" rot="16200000">
            <a:off x="4533480" y="151560"/>
            <a:ext cx="3960" cy="594432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headEnd len="med" type="arrow" w="med"/>
          </a:ln>
        </p:spPr>
      </p:cxnSp>
      <p:grpSp>
        <p:nvGrpSpPr>
          <p:cNvPr id="306" name=""/>
          <p:cNvGrpSpPr/>
          <p:nvPr/>
        </p:nvGrpSpPr>
        <p:grpSpPr>
          <a:xfrm>
            <a:off x="5540040" y="3517560"/>
            <a:ext cx="937080" cy="1800"/>
            <a:chOff x="5540040" y="3517560"/>
            <a:chExt cx="937080" cy="1800"/>
          </a:xfrm>
        </p:grpSpPr>
        <p:cxnSp>
          <p:nvCxnSpPr>
            <p:cNvPr id="307" name="直接箭头连接符 23"/>
            <p:cNvCxnSpPr/>
            <p:nvPr/>
          </p:nvCxnSpPr>
          <p:spPr>
            <a:xfrm flipH="1" flipV="1">
              <a:off x="5540040" y="3517560"/>
              <a:ext cx="937440" cy="216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tailEnd len="med" type="triangle" w="med"/>
            </a:ln>
          </p:spPr>
        </p:cxnSp>
        <p:sp>
          <p:nvSpPr>
            <p:cNvPr id="308" name=""/>
            <p:cNvSpPr txBox="1"/>
            <p:nvPr/>
          </p:nvSpPr>
          <p:spPr>
            <a:xfrm rot="10800000">
              <a:off x="5540400" y="3517920"/>
              <a:ext cx="936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568240" y="3517560"/>
            <a:ext cx="937080" cy="1800"/>
            <a:chOff x="2568240" y="3517560"/>
            <a:chExt cx="937080" cy="1800"/>
          </a:xfrm>
        </p:grpSpPr>
        <p:cxnSp>
          <p:nvCxnSpPr>
            <p:cNvPr id="310" name="直接箭头连接符 24"/>
            <p:cNvCxnSpPr/>
            <p:nvPr/>
          </p:nvCxnSpPr>
          <p:spPr>
            <a:xfrm flipH="1" flipV="1">
              <a:off x="2568240" y="3517560"/>
              <a:ext cx="937440" cy="216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tailEnd len="med" type="triangle" w="med"/>
            </a:ln>
          </p:spPr>
        </p:cxnSp>
        <p:sp>
          <p:nvSpPr>
            <p:cNvPr id="311" name=""/>
            <p:cNvSpPr txBox="1"/>
            <p:nvPr/>
          </p:nvSpPr>
          <p:spPr>
            <a:xfrm rot="10800000">
              <a:off x="2568600" y="3517920"/>
              <a:ext cx="936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90200" y="4113000"/>
            <a:ext cx="937080" cy="1800"/>
            <a:chOff x="2590200" y="4113000"/>
            <a:chExt cx="937080" cy="1800"/>
          </a:xfrm>
        </p:grpSpPr>
        <p:cxnSp>
          <p:nvCxnSpPr>
            <p:cNvPr id="313" name="直接箭头连接符 27"/>
            <p:cNvCxnSpPr/>
            <p:nvPr/>
          </p:nvCxnSpPr>
          <p:spPr>
            <a:xfrm flipH="1" flipV="1">
              <a:off x="2590200" y="4113000"/>
              <a:ext cx="937080" cy="216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triangle" w="med"/>
            </a:ln>
          </p:spPr>
        </p:cxnSp>
        <p:sp>
          <p:nvSpPr>
            <p:cNvPr id="314" name=""/>
            <p:cNvSpPr txBox="1"/>
            <p:nvPr/>
          </p:nvSpPr>
          <p:spPr>
            <a:xfrm rot="10800000">
              <a:off x="2590920" y="4113360"/>
              <a:ext cx="93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562000" y="4113000"/>
            <a:ext cx="937080" cy="1800"/>
            <a:chOff x="5562000" y="4113000"/>
            <a:chExt cx="937080" cy="1800"/>
          </a:xfrm>
        </p:grpSpPr>
        <p:cxnSp>
          <p:nvCxnSpPr>
            <p:cNvPr id="316" name="直接箭头连接符 28"/>
            <p:cNvCxnSpPr/>
            <p:nvPr/>
          </p:nvCxnSpPr>
          <p:spPr>
            <a:xfrm flipH="1" flipV="1">
              <a:off x="5562000" y="4113000"/>
              <a:ext cx="937080" cy="216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arrow" w="med"/>
            </a:ln>
          </p:spPr>
        </p:cxnSp>
        <p:sp>
          <p:nvSpPr>
            <p:cNvPr id="317" name=""/>
            <p:cNvSpPr txBox="1"/>
            <p:nvPr/>
          </p:nvSpPr>
          <p:spPr>
            <a:xfrm rot="10800000">
              <a:off x="5562720" y="4113360"/>
              <a:ext cx="93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29"/>
          <p:cNvSpPr/>
          <p:nvPr/>
        </p:nvSpPr>
        <p:spPr>
          <a:xfrm>
            <a:off x="56970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0"/>
          <p:cNvSpPr/>
          <p:nvPr/>
        </p:nvSpPr>
        <p:spPr>
          <a:xfrm>
            <a:off x="26568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肘形连接符 33"/>
          <p:cNvCxnSpPr>
            <a:stCxn id="301" idx="0"/>
            <a:endCxn id="302" idx="0"/>
          </p:cNvCxnSpPr>
          <p:nvPr/>
        </p:nvCxnSpPr>
        <p:spPr>
          <a:xfrm flipH="1" flipV="1" rot="5400000">
            <a:off x="3085920" y="1599840"/>
            <a:ext cx="3960" cy="304848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321" name="椭圆 16"/>
          <p:cNvSpPr/>
          <p:nvPr/>
        </p:nvSpPr>
        <p:spPr>
          <a:xfrm>
            <a:off x="655308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8"/>
          <p:cNvSpPr/>
          <p:nvPr/>
        </p:nvSpPr>
        <p:spPr>
          <a:xfrm>
            <a:off x="53352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3583080" y="452592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3"/>
          <p:cNvSpPr/>
          <p:nvPr/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CC6-473D-4FF0-BFD6-2E4DF19AE5BE}" type="slidenum">
              <a:rPr b="1" lang="zh-CN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582920" y="2743200"/>
            <a:ext cx="174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7160" y="4572000"/>
            <a:ext cx="3503520" cy="1800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askerville Old Face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7E629-C559-4D51-9D88-136B09032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askerville Old Face"/>
              </a:rPr>
              <a:t>本模版快速换色方法</a:t>
            </a: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1990800" cy="50007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3769920" y="2581200"/>
            <a:ext cx="32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于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颜色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1695600" cy="1009800"/>
          </a:xfrm>
          <a:prstGeom prst="rect">
            <a:avLst/>
          </a:prstGeom>
          <a:ln w="0">
            <a:noFill/>
          </a:ln>
        </p:spPr>
      </p:pic>
      <p:sp>
        <p:nvSpPr>
          <p:cNvPr id="197" name="矩形 6"/>
          <p:cNvSpPr/>
          <p:nvPr/>
        </p:nvSpPr>
        <p:spPr>
          <a:xfrm>
            <a:off x="4495680" y="3286080"/>
            <a:ext cx="30492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3390840" y="4410000"/>
            <a:ext cx="552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设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修改右边第三个的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Arial"/>
              </a:rPr>
              <a:t>就可以轻松变色！快试试吧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3593880" y="175248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1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askerville Old Face"/>
              </a:rPr>
              <a:t>修改图片，打造属于自己的年终总结</a:t>
            </a: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327640" cy="40003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6289560" y="240048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到合适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替换它！打造自己的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5918040" y="167652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2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askerville Old Face"/>
              </a:rPr>
              <a:t>模版快速运用</a:t>
            </a:r>
            <a:endParaRPr b="1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91000" cy="28101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4641120" y="54608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选中，可以快速引用模版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481760" y="14572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3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快速切换模版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3494520" y="2754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addc"/>
                </a:solidFill>
                <a:latin typeface="微软雅黑"/>
                <a:ea typeface="微软雅黑"/>
              </a:rPr>
              <a:t>是的！就这么简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3"/>
          <p:cNvSpPr/>
          <p:nvPr/>
        </p:nvSpPr>
        <p:spPr>
          <a:xfrm flipV="1" rot="5400000">
            <a:off x="1451520" y="3349080"/>
            <a:ext cx="1079640" cy="216072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43222">
                <a:moveTo>
                  <a:pt x="4995" y="0"/>
                </a:moveTo>
                <a:arcTo wR="4995" hR="4995" stAng="16200000" swAng="-5400000"/>
                <a:lnTo>
                  <a:pt x="0" y="38227"/>
                </a:lnTo>
                <a:arcTo wR="4995" hR="4995" stAng="10800000" swAng="-5400000"/>
                <a:lnTo>
                  <a:pt x="16605" y="43222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再看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387440" y="42084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4"/>
          <p:cNvSpPr/>
          <p:nvPr/>
        </p:nvSpPr>
        <p:spPr>
          <a:xfrm flipV="1" rot="5400000">
            <a:off x="410760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可以开始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10"/>
          <p:cNvSpPr/>
          <p:nvPr/>
        </p:nvSpPr>
        <p:spPr>
          <a:xfrm flipV="1" rot="5400000">
            <a:off x="676188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联系面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220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229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1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2" name="Rectangle 298"/>
          <p:cNvSpPr/>
          <p:nvPr/>
        </p:nvSpPr>
        <p:spPr>
          <a:xfrm>
            <a:off x="294120" y="13705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90520" y="2209680"/>
          <a:ext cx="7267680" cy="299088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21:07Z</dcterms:modified>
  <cp:revision>2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