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9CD-C238-4D10-8EB8-412F63C9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706-63E1-43AD-92BC-8B229E3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FF2-D4A6-4772-9B32-44943C42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C7C-D251-4038-ACBD-511FF485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FAD-9BC9-4B14-9433-E8B197F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D15-E1D3-4535-9D63-8491741E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9D9-9F29-4399-AC94-332FAE30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08A-777F-49B0-A37F-3C7FC26C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5B0-748D-4B48-A017-0DE5D1B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28F-D912-4F86-A3CB-2435C5A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F0D-D318-466A-AFA1-044B29E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231-0802-4C3A-93AE-DC51339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E10-6E07-4260-BB32-A6A3071C89C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B50B-D6D6-4C31-8265-552D21CDCD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2" descr=""/>
          <p:cNvPicPr/>
          <p:nvPr/>
        </p:nvPicPr>
        <p:blipFill>
          <a:blip r:embed="rId2"/>
          <a:stretch/>
        </p:blipFill>
        <p:spPr>
          <a:xfrm>
            <a:off x="3449520" y="1557360"/>
            <a:ext cx="3257640" cy="398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tdz\桌面\未标题-1 拷贝.png"/>
          <p:cNvPicPr/>
          <p:nvPr/>
        </p:nvPicPr>
        <p:blipFill>
          <a:blip r:embed="rId3"/>
          <a:stretch/>
        </p:blipFill>
        <p:spPr>
          <a:xfrm>
            <a:off x="179280" y="1339920"/>
            <a:ext cx="2916360" cy="4201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6" descr=""/>
          <p:cNvPicPr/>
          <p:nvPr/>
        </p:nvPicPr>
        <p:blipFill>
          <a:blip r:embed="rId4"/>
          <a:stretch/>
        </p:blipFill>
        <p:spPr>
          <a:xfrm>
            <a:off x="6254640" y="1152360"/>
            <a:ext cx="2638440" cy="552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4720" y="-25560"/>
            <a:ext cx="42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微笑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991-E3C9-4DAB-AD9E-70E92F3432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50:31Z</dcterms:modified>
  <cp:revision>10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