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3A9F-8DD9-4864-AC9C-6E778854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ED4F-6CD5-420C-B9D4-7C9133E0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7044-341A-43B2-AF9F-BB4BA2C8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429-D1F9-46CB-826D-8037BBCE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1F18-D898-482E-8AB6-321A2F6F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45BC-165B-4F24-8911-CD6309B6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72E3-03CE-49C8-A7FB-F81CE27E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DCB8-A4EC-4E1D-97AC-2EDE3FA9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E0E8-8DE9-446D-9B81-E544F6F6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5AD4-A2FC-4F6E-BC17-1CF4001F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D1C8-39FE-45B8-9F20-E8F95B74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CCD6-D4CA-4438-859B-8786F761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22D8B8-9842-459E-96D4-3B3795FB84C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539640" y="4714920"/>
            <a:ext cx="76755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五颜六色的衣服简洁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286080" y="5549760"/>
            <a:ext cx="41428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7274160" y="6840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521172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356868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1854360" y="4929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8001000" y="0"/>
            <a:ext cx="1142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592632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292572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5640480" y="4643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06864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7234560" y="6840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35464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857160" y="3500280"/>
            <a:ext cx="1569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714060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321156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7131240" y="6840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399744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4140360" y="5715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649764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21148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7091640" y="7128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6929280" y="3643200"/>
            <a:ext cx="1785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142560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506880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349740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23720" y="610380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7131240" y="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6715080" y="3643200"/>
            <a:ext cx="1785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163980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506880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342576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6877440" y="1429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314028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435456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492588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7020360" y="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649764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228276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/>
          <p:cNvSpPr/>
          <p:nvPr/>
        </p:nvSpPr>
        <p:spPr>
          <a:xfrm>
            <a:off x="471168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7163280" y="7128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571176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185436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  <Words>145</Words>
  <Paragraphs>4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24T02:37:37Z</dcterms:modified>
  <cp:revision>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