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8212-599C-4153-AD7C-09BE6BB6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751B-B857-48AA-BB1E-AB20AC88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131-3E27-42F9-A9F4-286AA15A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B23-4049-42C6-87EF-678E32AC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1604-EE6B-429A-BDD4-AB401320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C6D-6E7D-423E-8346-69F1156E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953-5C57-4EA0-926D-5989E9BA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97B-0B75-482A-970E-378FFF91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80A-F89E-4B29-8511-5F4551AE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9DF-1978-46B5-B792-53E57D1D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C42-E825-445C-8668-38080A37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307-F546-4868-9ED1-65A4C1B7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17C5-A2FE-4177-B43B-6A5987DB139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D69B-0DED-4DD6-B882-A96F0CA594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rcRect l="0" t="2572" r="0" b="14507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b3612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1"/>
          <p:cNvSpPr/>
          <p:nvPr/>
        </p:nvSpPr>
        <p:spPr>
          <a:xfrm>
            <a:off x="6424560" y="4835520"/>
            <a:ext cx="27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Arial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image" Target="../media/image2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9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fanwen/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6" descr=""/>
          <p:cNvPicPr/>
          <p:nvPr/>
        </p:nvPicPr>
        <p:blipFill>
          <a:blip r:embed="rId10"/>
          <a:srcRect l="0" t="7879" r="0" b="8639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6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11">
              <a:alphaModFix amt="9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b3612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0" y="950760"/>
            <a:ext cx="9144000" cy="1800360"/>
          </a:xfrm>
          <a:prstGeom prst="rect">
            <a:avLst/>
          </a:prstGeom>
          <a:solidFill>
            <a:srgbClr val="e8e3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2"/>
          <a:srcRect l="0" t="22221" r="-86" b="51462"/>
          <a:stretch/>
        </p:blipFill>
        <p:spPr>
          <a:xfrm>
            <a:off x="0" y="1041480"/>
            <a:ext cx="9144000" cy="1620720"/>
          </a:xfrm>
          <a:prstGeom prst="rect">
            <a:avLst/>
          </a:prstGeom>
          <a:ln w="0">
            <a:noFill/>
          </a:ln>
        </p:spPr>
      </p:pic>
      <p:sp>
        <p:nvSpPr>
          <p:cNvPr id="50" name="矩形 9"/>
          <p:cNvSpPr/>
          <p:nvPr/>
        </p:nvSpPr>
        <p:spPr>
          <a:xfrm>
            <a:off x="0" y="1103400"/>
            <a:ext cx="9144000" cy="1493640"/>
          </a:xfrm>
          <a:prstGeom prst="rect">
            <a:avLst/>
          </a:prstGeom>
          <a:solidFill>
            <a:srgbClr val="b3612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extBox 6" descr=""/>
          <p:cNvPicPr/>
          <p:nvPr/>
        </p:nvPicPr>
        <p:blipFill>
          <a:blip r:embed="rId13"/>
          <a:stretch/>
        </p:blipFill>
        <p:spPr>
          <a:xfrm>
            <a:off x="0" y="1401840"/>
            <a:ext cx="914400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矩形 12"/>
          <p:cNvSpPr/>
          <p:nvPr/>
        </p:nvSpPr>
        <p:spPr>
          <a:xfrm>
            <a:off x="446040" y="46688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288" name="Group 5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289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3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Group 11"/>
          <p:cNvGrpSpPr/>
          <p:nvPr/>
        </p:nvGrpSpPr>
        <p:grpSpPr>
          <a:xfrm>
            <a:off x="431640" y="1987560"/>
            <a:ext cx="8280720" cy="847440"/>
            <a:chOff x="431640" y="1987560"/>
            <a:chExt cx="8280720" cy="847440"/>
          </a:xfrm>
        </p:grpSpPr>
        <p:grpSp>
          <p:nvGrpSpPr>
            <p:cNvPr id="295" name="Group 12"/>
            <p:cNvGrpSpPr/>
            <p:nvPr/>
          </p:nvGrpSpPr>
          <p:grpSpPr>
            <a:xfrm>
              <a:off x="431640" y="1987560"/>
              <a:ext cx="8280720" cy="847440"/>
              <a:chOff x="431640" y="1987560"/>
              <a:chExt cx="8280720" cy="847440"/>
            </a:xfrm>
          </p:grpSpPr>
          <p:sp>
            <p:nvSpPr>
              <p:cNvPr id="296" name="矩形 7"/>
              <p:cNvSpPr/>
              <p:nvPr/>
            </p:nvSpPr>
            <p:spPr>
              <a:xfrm>
                <a:off x="431640" y="198756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Box 8"/>
              <p:cNvSpPr/>
              <p:nvPr/>
            </p:nvSpPr>
            <p:spPr>
              <a:xfrm>
                <a:off x="1331640" y="206928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Box 9"/>
              <p:cNvSpPr/>
              <p:nvPr/>
            </p:nvSpPr>
            <p:spPr>
              <a:xfrm>
                <a:off x="635760" y="20098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同心圆 10"/>
              <p:cNvSpPr/>
              <p:nvPr/>
            </p:nvSpPr>
            <p:spPr>
              <a:xfrm>
                <a:off x="511920" y="1987560"/>
                <a:ext cx="819360" cy="820440"/>
              </a:xfrm>
              <a:custGeom>
                <a:avLst/>
                <a:gdLst>
                  <a:gd name="textAreaLeft" fmla="*/ 119880 w 819360"/>
                  <a:gd name="textAreaRight" fmla="*/ 699480 w 81936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0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15560" y="203148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18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302" name="Group 19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303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7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Group 25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309" name="Group 26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310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4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50" dur="75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55" dur="75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60" dur="75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316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5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319" name="Group 6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320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4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Group 12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326" name="Group 13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327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1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Group 19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333" name="Group 20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334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8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Group 26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340" name="Group 27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341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5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Group 33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47" name="矩形 64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35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49" name="圆角矩形 66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圆角矩形 67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圆角矩形 68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圆角矩形 69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圆角矩形 70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圆角矩形 71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圆角矩形 72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圆角矩形 73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Box 78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Box 79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Box 80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Text Box 9"/>
          <p:cNvSpPr/>
          <p:nvPr/>
        </p:nvSpPr>
        <p:spPr>
          <a:xfrm>
            <a:off x="0" y="473076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4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4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4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1.23457E-006 L -0.00086 -0.50802 E">
                                      <p:cBhvr>
                                        <p:cTn id="178" dur="25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4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5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187" dur="75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2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66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4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68" name="圆角矩形 5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圆角矩形 6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圆角矩形 7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圆角矩形 8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圆角矩形 9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圆角矩形 10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圆角矩形 11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圆角矩形 12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Box 17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Box 18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Box 19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Group 20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384" name="Group 21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385" name="矩形 2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Box 2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Box 25"/>
              <p:cNvSpPr/>
              <p:nvPr/>
            </p:nvSpPr>
            <p:spPr>
              <a:xfrm>
                <a:off x="63828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同心圆 26"/>
              <p:cNvSpPr/>
              <p:nvPr/>
            </p:nvSpPr>
            <p:spPr>
              <a:xfrm>
                <a:off x="558000" y="41112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9" name="Picture 2" descr=""/>
            <p:cNvPicPr/>
            <p:nvPr/>
          </p:nvPicPr>
          <p:blipFill>
            <a:blip r:embed="rId2"/>
            <a:srcRect l="11953" t="52514" r="33858" b="35761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2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91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4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93" name="圆角矩形 5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圆角矩形 6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圆角矩形 7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圆角矩形 8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圆角矩形 9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圆角矩形 10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圆角矩形 11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圆角矩形 12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Box 17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Box 18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Box 19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20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09" name="Group 21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10" name="矩形 2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Box 2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Box 25"/>
              <p:cNvSpPr/>
              <p:nvPr/>
            </p:nvSpPr>
            <p:spPr>
              <a:xfrm>
                <a:off x="63828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同心圆 26"/>
              <p:cNvSpPr/>
              <p:nvPr/>
            </p:nvSpPr>
            <p:spPr>
              <a:xfrm>
                <a:off x="558000" y="41112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4" name="Picture 2" descr=""/>
            <p:cNvPicPr/>
            <p:nvPr/>
          </p:nvPicPr>
          <p:blipFill>
            <a:blip r:embed="rId2"/>
            <a:srcRect l="11953" t="52514" r="33858" b="35761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49722 L -0.00208 0.02253 E">
                                      <p:cBhvr>
                                        <p:cTn id="193" dur="5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25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5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4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418" name="Group 5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419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3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Group 11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425" name="Group 12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426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0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Group 18"/>
          <p:cNvGrpSpPr/>
          <p:nvPr/>
        </p:nvGrpSpPr>
        <p:grpSpPr>
          <a:xfrm>
            <a:off x="431640" y="2932200"/>
            <a:ext cx="8280720" cy="847440"/>
            <a:chOff x="431640" y="2932200"/>
            <a:chExt cx="8280720" cy="847440"/>
          </a:xfrm>
        </p:grpSpPr>
        <p:grpSp>
          <p:nvGrpSpPr>
            <p:cNvPr id="432" name="Group 19"/>
            <p:cNvGrpSpPr/>
            <p:nvPr/>
          </p:nvGrpSpPr>
          <p:grpSpPr>
            <a:xfrm>
              <a:off x="431640" y="2932200"/>
              <a:ext cx="8280720" cy="847440"/>
              <a:chOff x="431640" y="2932200"/>
              <a:chExt cx="8280720" cy="847440"/>
            </a:xfrm>
          </p:grpSpPr>
          <p:sp>
            <p:nvSpPr>
              <p:cNvPr id="433" name="矩形 12"/>
              <p:cNvSpPr/>
              <p:nvPr/>
            </p:nvSpPr>
            <p:spPr>
              <a:xfrm>
                <a:off x="431640" y="2932200"/>
                <a:ext cx="828072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TextBox 13"/>
              <p:cNvSpPr/>
              <p:nvPr/>
            </p:nvSpPr>
            <p:spPr>
              <a:xfrm>
                <a:off x="1331640" y="301392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Box 14"/>
              <p:cNvSpPr/>
              <p:nvPr/>
            </p:nvSpPr>
            <p:spPr>
              <a:xfrm>
                <a:off x="592200" y="29545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同心圆 15"/>
              <p:cNvSpPr/>
              <p:nvPr/>
            </p:nvSpPr>
            <p:spPr>
              <a:xfrm>
                <a:off x="511920" y="2932200"/>
                <a:ext cx="819360" cy="819000"/>
              </a:xfrm>
              <a:custGeom>
                <a:avLst/>
                <a:gdLst>
                  <a:gd name="textAreaLeft" fmla="*/ 119880 w 819360"/>
                  <a:gd name="textAreaRight" fmla="*/ 699480 w 81936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7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15560" y="2980800"/>
              <a:ext cx="495036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8" name="Group 25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439" name="Group 26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440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4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14" dur="75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5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19" dur="75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24" dur="75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446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5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449" name="Group 6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450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4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5" name="Group 12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456" name="Group 13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457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1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2" name="Group 19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463" name="Group 20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464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8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9" name="Group 26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470" name="Group 27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471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5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6" name="Group 33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77" name="矩形 64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65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图片 66" descr=""/>
            <p:cNvPicPr/>
            <p:nvPr/>
          </p:nvPicPr>
          <p:blipFill>
            <a:blip r:embed="rId9"/>
            <a:srcRect l="7709" t="20033" r="5617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4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4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3.7037E-007 L -0.00017 -0.69167 E">
                                      <p:cBhvr>
                                        <p:cTn id="238" dur="25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4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4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251" dur="75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81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1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" name="图片 3" descr=""/>
            <p:cNvPicPr/>
            <p:nvPr/>
          </p:nvPicPr>
          <p:blipFill>
            <a:blip r:embed="rId1"/>
            <a:srcRect l="7709" t="20033" r="5617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  <p:grpSp>
        <p:nvGrpSpPr>
          <p:cNvPr id="484" name="Group 6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85" name="Group 7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86" name="矩形 22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Box 23"/>
              <p:cNvSpPr/>
              <p:nvPr/>
            </p:nvSpPr>
            <p:spPr>
              <a:xfrm>
                <a:off x="1377720" y="492840"/>
                <a:ext cx="522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TEXT 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Box 27"/>
              <p:cNvSpPr/>
              <p:nvPr/>
            </p:nvSpPr>
            <p:spPr>
              <a:xfrm>
                <a:off x="6674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同心圆 28"/>
              <p:cNvSpPr/>
              <p:nvPr/>
            </p:nvSpPr>
            <p:spPr>
              <a:xfrm>
                <a:off x="558000" y="41112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0" name="Picture 2" descr=""/>
            <p:cNvPicPr/>
            <p:nvPr/>
          </p:nvPicPr>
          <p:blipFill>
            <a:blip r:embed="rId3"/>
            <a:srcRect l="12429" t="68096" r="33382" b="20179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2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92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1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4" name="图片 3" descr=""/>
            <p:cNvPicPr/>
            <p:nvPr/>
          </p:nvPicPr>
          <p:blipFill>
            <a:blip r:embed="rId1"/>
            <a:srcRect l="7709" t="20033" r="5617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  <p:grpSp>
        <p:nvGrpSpPr>
          <p:cNvPr id="495" name="Group 6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96" name="Group 7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97" name="矩形 22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TextBox 23"/>
              <p:cNvSpPr/>
              <p:nvPr/>
            </p:nvSpPr>
            <p:spPr>
              <a:xfrm>
                <a:off x="1377720" y="492840"/>
                <a:ext cx="522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TEXT 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Box 27"/>
              <p:cNvSpPr/>
              <p:nvPr/>
            </p:nvSpPr>
            <p:spPr>
              <a:xfrm>
                <a:off x="6674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同心圆 28"/>
              <p:cNvSpPr/>
              <p:nvPr/>
            </p:nvSpPr>
            <p:spPr>
              <a:xfrm>
                <a:off x="558000" y="41112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1" name="Picture 2" descr=""/>
            <p:cNvPicPr/>
            <p:nvPr/>
          </p:nvPicPr>
          <p:blipFill>
            <a:blip r:embed="rId3"/>
            <a:srcRect l="12429" t="68096" r="33382" b="20179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Text Box 9"/>
          <p:cNvSpPr/>
          <p:nvPr/>
        </p:nvSpPr>
        <p:spPr>
          <a:xfrm>
            <a:off x="0" y="473076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68438 L -0.00278 0.01946 E">
                                      <p:cBhvr>
                                        <p:cTn id="257" dur="75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2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4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506" name="Group 5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507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1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2" name="Group 11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513" name="Group 12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514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8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Group 18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520" name="Group 19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521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5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6" name="Group 25"/>
          <p:cNvGrpSpPr/>
          <p:nvPr/>
        </p:nvGrpSpPr>
        <p:grpSpPr>
          <a:xfrm>
            <a:off x="431640" y="3921120"/>
            <a:ext cx="8280720" cy="847440"/>
            <a:chOff x="431640" y="3921120"/>
            <a:chExt cx="8280720" cy="847440"/>
          </a:xfrm>
        </p:grpSpPr>
        <p:grpSp>
          <p:nvGrpSpPr>
            <p:cNvPr id="527" name="Group 26"/>
            <p:cNvGrpSpPr/>
            <p:nvPr/>
          </p:nvGrpSpPr>
          <p:grpSpPr>
            <a:xfrm>
              <a:off x="431640" y="3921120"/>
              <a:ext cx="8280720" cy="847440"/>
              <a:chOff x="431640" y="3921120"/>
              <a:chExt cx="8280720" cy="847440"/>
            </a:xfrm>
          </p:grpSpPr>
          <p:sp>
            <p:nvSpPr>
              <p:cNvPr id="528" name="矩形 17"/>
              <p:cNvSpPr/>
              <p:nvPr/>
            </p:nvSpPr>
            <p:spPr>
              <a:xfrm>
                <a:off x="431640" y="392112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Box 18"/>
              <p:cNvSpPr/>
              <p:nvPr/>
            </p:nvSpPr>
            <p:spPr>
              <a:xfrm>
                <a:off x="1331640" y="400284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Box 19"/>
              <p:cNvSpPr/>
              <p:nvPr/>
            </p:nvSpPr>
            <p:spPr>
              <a:xfrm>
                <a:off x="621360" y="394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同心圆 20"/>
              <p:cNvSpPr/>
              <p:nvPr/>
            </p:nvSpPr>
            <p:spPr>
              <a:xfrm>
                <a:off x="511920" y="3921120"/>
                <a:ext cx="819360" cy="820440"/>
              </a:xfrm>
              <a:custGeom>
                <a:avLst/>
                <a:gdLst>
                  <a:gd name="textAreaLeft" fmla="*/ 119880 w 819360"/>
                  <a:gd name="textAreaRight" fmla="*/ 699480 w 81936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2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15560" y="396972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78" dur="75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83" dur="75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5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88" dur="75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56" name="Group 5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57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Group 11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63" name="Group 12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64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18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70" name="Group 19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71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5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25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77" name="Group 26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78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7" dur="7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2" dur="75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7" dur="75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32" dur="75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84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87" name="Group 6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88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12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94" name="Group 13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95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9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19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01" name="Group 20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02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26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08" name="Group 27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09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3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Group 33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15" name="矩形 40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4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4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4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4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4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0.01111 L -4.72222E-006 -0.13488 E">
                                      <p:cBhvr>
                                        <p:cTn id="54" dur="25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59" dur="75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477720" y="390600"/>
            <a:ext cx="8282160" cy="826920"/>
            <a:chOff x="477720" y="390600"/>
            <a:chExt cx="8282160" cy="826920"/>
          </a:xfrm>
        </p:grpSpPr>
        <p:grpSp>
          <p:nvGrpSpPr>
            <p:cNvPr id="118" name="Group 3"/>
            <p:cNvGrpSpPr/>
            <p:nvPr/>
          </p:nvGrpSpPr>
          <p:grpSpPr>
            <a:xfrm>
              <a:off x="477720" y="390600"/>
              <a:ext cx="8282160" cy="826920"/>
              <a:chOff x="477720" y="390600"/>
              <a:chExt cx="8282160" cy="826920"/>
            </a:xfrm>
          </p:grpSpPr>
          <p:sp>
            <p:nvSpPr>
              <p:cNvPr id="119" name="矩形 11"/>
              <p:cNvSpPr/>
              <p:nvPr/>
            </p:nvSpPr>
            <p:spPr>
              <a:xfrm>
                <a:off x="477720" y="3970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Box 13"/>
              <p:cNvSpPr/>
              <p:nvPr/>
            </p:nvSpPr>
            <p:spPr>
              <a:xfrm>
                <a:off x="1377720" y="4788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Box 16"/>
              <p:cNvSpPr/>
              <p:nvPr/>
            </p:nvSpPr>
            <p:spPr>
              <a:xfrm>
                <a:off x="652680" y="3906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同心圆 17"/>
              <p:cNvSpPr/>
              <p:nvPr/>
            </p:nvSpPr>
            <p:spPr>
              <a:xfrm>
                <a:off x="558000" y="3970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433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9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25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477720" y="390600"/>
            <a:ext cx="8282160" cy="826920"/>
            <a:chOff x="477720" y="390600"/>
            <a:chExt cx="8282160" cy="826920"/>
          </a:xfrm>
        </p:grpSpPr>
        <p:grpSp>
          <p:nvGrpSpPr>
            <p:cNvPr id="128" name="Group 3"/>
            <p:cNvGrpSpPr/>
            <p:nvPr/>
          </p:nvGrpSpPr>
          <p:grpSpPr>
            <a:xfrm>
              <a:off x="477720" y="390600"/>
              <a:ext cx="8282160" cy="826920"/>
              <a:chOff x="477720" y="390600"/>
              <a:chExt cx="8282160" cy="826920"/>
            </a:xfrm>
          </p:grpSpPr>
          <p:sp>
            <p:nvSpPr>
              <p:cNvPr id="129" name="矩形 11"/>
              <p:cNvSpPr/>
              <p:nvPr/>
            </p:nvSpPr>
            <p:spPr>
              <a:xfrm>
                <a:off x="477720" y="3970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Box 13"/>
              <p:cNvSpPr/>
              <p:nvPr/>
            </p:nvSpPr>
            <p:spPr>
              <a:xfrm>
                <a:off x="1377720" y="4788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Box 16"/>
              <p:cNvSpPr/>
              <p:nvPr/>
            </p:nvSpPr>
            <p:spPr>
              <a:xfrm>
                <a:off x="652680" y="3906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同心圆 17"/>
              <p:cNvSpPr/>
              <p:nvPr/>
            </p:nvSpPr>
            <p:spPr>
              <a:xfrm>
                <a:off x="558000" y="3970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3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433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9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35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12716 L -0.0007 0.01111 E">
                                      <p:cBhvr>
                                        <p:cTn id="65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25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431640" y="1041480"/>
            <a:ext cx="8280720" cy="826920"/>
            <a:chOff x="431640" y="1041480"/>
            <a:chExt cx="8280720" cy="826920"/>
          </a:xfrm>
        </p:grpSpPr>
        <p:grpSp>
          <p:nvGrpSpPr>
            <p:cNvPr id="140" name="Group 5"/>
            <p:cNvGrpSpPr/>
            <p:nvPr/>
          </p:nvGrpSpPr>
          <p:grpSpPr>
            <a:xfrm>
              <a:off x="431640" y="1041480"/>
              <a:ext cx="8280720" cy="826920"/>
              <a:chOff x="431640" y="1041480"/>
              <a:chExt cx="8280720" cy="826920"/>
            </a:xfrm>
          </p:grpSpPr>
          <p:sp>
            <p:nvSpPr>
              <p:cNvPr id="141" name="矩形 2"/>
              <p:cNvSpPr/>
              <p:nvPr/>
            </p:nvSpPr>
            <p:spPr>
              <a:xfrm>
                <a:off x="431640" y="104796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Box 3"/>
              <p:cNvSpPr/>
              <p:nvPr/>
            </p:nvSpPr>
            <p:spPr>
              <a:xfrm>
                <a:off x="1331640" y="112968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Box 4"/>
              <p:cNvSpPr/>
              <p:nvPr/>
            </p:nvSpPr>
            <p:spPr>
              <a:xfrm>
                <a:off x="606600" y="10414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同心圆 5"/>
              <p:cNvSpPr/>
              <p:nvPr/>
            </p:nvSpPr>
            <p:spPr>
              <a:xfrm>
                <a:off x="511920" y="1047960"/>
                <a:ext cx="819360" cy="820440"/>
              </a:xfrm>
              <a:custGeom>
                <a:avLst/>
                <a:gdLst>
                  <a:gd name="textAreaLeft" fmla="*/ 119880 w 819360"/>
                  <a:gd name="textAreaRight" fmla="*/ 699480 w 81936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5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15560" y="108396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11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147" name="Group 12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148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2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18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54" name="Group 19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55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25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61" name="Group 26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62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6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Text Box 9"/>
          <p:cNvSpPr/>
          <p:nvPr/>
        </p:nvSpPr>
        <p:spPr>
          <a:xfrm>
            <a:off x="0" y="473076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86" dur="75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91" dur="75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96" dur="75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169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5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172" name="Group 6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173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oup 12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179" name="Group 13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180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4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19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86" name="Group 20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87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1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26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93" name="Group 27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94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8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oup 33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200" name="矩形 37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35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02" name="直接连接符 42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直接连接符 43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矩形 44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矩形 45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矩形 46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47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48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矩形 49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50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1" name="直接箭头连接符 51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12" name="直接箭头连接符 52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13" name="TextBox 53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Box 54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Box 55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Box 56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57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Box 58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Box 59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Box 60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Box 61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Box 62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4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4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4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3.7037E-007 L -4.72222E-006 -0.32037 E">
                                      <p:cBhvr>
                                        <p:cTn id="114" dur="25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119" dur="7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4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224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4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26" name="直接连接符 8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9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矩形 10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矩形 11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矩形 12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矩形 13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矩形 14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15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16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5" name="直接箭头连接符 17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36" name="直接箭头连接符 18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37" name="TextBox 19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Box 20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Box 21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Box 22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Box 23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Box 24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Box 25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Box 26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Box 27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Box 28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Group 26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248" name="Group 27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249" name="矩形 3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Box 3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Box 35"/>
              <p:cNvSpPr/>
              <p:nvPr/>
            </p:nvSpPr>
            <p:spPr>
              <a:xfrm>
                <a:off x="6818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同心圆 36"/>
              <p:cNvSpPr/>
              <p:nvPr/>
            </p:nvSpPr>
            <p:spPr>
              <a:xfrm>
                <a:off x="558000" y="41112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3" name="Picture 2" descr=""/>
            <p:cNvPicPr/>
            <p:nvPr/>
          </p:nvPicPr>
          <p:blipFill>
            <a:blip r:embed="rId2"/>
            <a:srcRect l="12114" t="35231" r="33698" b="53048"/>
            <a:stretch/>
          </p:blipFill>
          <p:spPr>
            <a:xfrm>
              <a:off x="3762000" y="45504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255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4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57" name="直接连接符 8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直接连接符 9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矩形 10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矩形 11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矩形 12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矩形 13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矩形 14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矩形 15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矩形 16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6" name="直接箭头连接符 17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67" name="直接箭头连接符 18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68" name="TextBox 19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Box 20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Box 21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Box 22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Box 23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Box 24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Box 25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Box 26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Box 27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Box 28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Group 26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279" name="Group 27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280" name="矩形 3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Box 3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Box 35"/>
              <p:cNvSpPr/>
              <p:nvPr/>
            </p:nvSpPr>
            <p:spPr>
              <a:xfrm>
                <a:off x="6818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同心圆 36"/>
              <p:cNvSpPr/>
              <p:nvPr/>
            </p:nvSpPr>
            <p:spPr>
              <a:xfrm>
                <a:off x="558000" y="41112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4" name="Picture 2" descr=""/>
            <p:cNvPicPr/>
            <p:nvPr/>
          </p:nvPicPr>
          <p:blipFill>
            <a:blip r:embed="rId2"/>
            <a:srcRect l="12114" t="35231" r="33698" b="53048"/>
            <a:stretch/>
          </p:blipFill>
          <p:spPr>
            <a:xfrm>
              <a:off x="3762000" y="45504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3108 L -0.00139 0.01975 E">
                                      <p:cBhvr>
                                        <p:cTn id="129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2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0T08:31:00Z</dcterms:created>
  <dc:creator>微软中国</dc:creator>
  <dc:description/>
  <cp:keywords/>
  <dc:language>en-US</dc:language>
  <cp:lastModifiedBy>王玉清</cp:lastModifiedBy>
  <cp:lastPrinted>1899-12-30T00:00:00Z</cp:lastPrinted>
  <dcterms:modified xsi:type="dcterms:W3CDTF">2016-02-21T03:50:48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