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209-8288-4F12-9D88-AB7F1505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B0E-FF9F-4461-BC03-AEA3222C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0E9-E443-4FE1-A940-B091C1D0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83F-4276-4F41-B5F3-017964A7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149-92BD-49B4-8836-8F94C573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1E3-EB4B-4BCD-AEB8-8BDBBD6B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F8C-3DD5-4E68-B8AD-43A69B32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C74-DAC8-46B7-848B-D7412BA0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B7E-78B5-4099-8AE5-217B8535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1C1-688D-464C-AC6F-87A9BFD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61C-EE63-477A-8C34-F12019F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C5A-9A80-42E7-B3BA-1652534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4712-B1C5-4584-A63F-A380195163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F1C-5EA1-4C78-9A88-01CC3D298C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5e5e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4"/>
          <p:cNvSpPr/>
          <p:nvPr/>
        </p:nvSpPr>
        <p:spPr>
          <a:xfrm>
            <a:off x="1606680" y="7061040"/>
            <a:ext cx="944280" cy="94644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4610160" y="7074000"/>
            <a:ext cx="944640" cy="94608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2550960" y="7257960"/>
            <a:ext cx="944640" cy="946080"/>
          </a:xfrm>
          <a:prstGeom prst="ellipse">
            <a:avLst/>
          </a:prstGeom>
          <a:solidFill>
            <a:srgbClr val="ffffff">
              <a:alpha val="4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6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1001880" y="2386080"/>
            <a:ext cx="6825960" cy="1995480"/>
            <a:chOff x="1001880" y="2386080"/>
            <a:chExt cx="6825960" cy="1995480"/>
          </a:xfrm>
        </p:grpSpPr>
        <p:sp>
          <p:nvSpPr>
            <p:cNvPr id="46" name="TextBox 2"/>
            <p:cNvSpPr/>
            <p:nvPr/>
          </p:nvSpPr>
          <p:spPr>
            <a:xfrm>
              <a:off x="1594080" y="2637360"/>
              <a:ext cx="6031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方正粗黑宋简体"/>
                  <a:ea typeface="方正粗黑宋简体"/>
                </a:rPr>
                <a:t>爱你一生一世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粗黑宋简体"/>
                  <a:ea typeface="方正粗黑宋简体"/>
                </a:rPr>
                <a:t>甜蜜恋人相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1001880" y="2386080"/>
              <a:ext cx="6825960" cy="19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media1.wav" descr=""/>
          <p:cNvPicPr/>
          <p:nvPr/>
        </p:nvPicPr>
        <p:blipFill>
          <a:blip r:embed="rId3"/>
          <a:stretch/>
        </p:blipFill>
        <p:spPr>
          <a:xfrm>
            <a:off x="9793440" y="6240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1918440" y="4827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福恋人相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C 0.00364 -0.02986 0.00555 -0.06157 0.01666 -0.08866 C 0.03472 -0.13287 0.02864 -0.11088 0.05 -0.14421 C 0.05955 -0.15926 0.05885 -0.16574 0.06666 -0.18333 C 0.07187 -0.19467 0.08021 -0.20393 0.08333 -0.21667 C 0.09166 -0.25 0.10937 -0.27685 0.11666 -0.31088 C 0.12135 -0.33287 0.12656 -0.35532 0.12916 -0.37778 C 0.13593 -0.43588 0.12899 -0.40463 0.1375 -0.43866 C 0.13593 -0.49977 0.14375 -0.56412 0.12916 -0.62222 C 0.12587 -0.63565 0.12187 -0.64861 0.11666 -0.66088 C 0.1118 -0.67245 0.10312 -0.68148 0.1 -0.69421 C 0.0908 -0.73102 0.10295 -0.68819 0.08333 -0.7331 C 0.07708 -0.74745 0.07222 -0.76273 0.06666 -0.77755 C 0.04948 -0.82315 0.05087 -0.80116 0.04166 -0.84977 C 0.04305 -0.93495 0.04323 -1.02014 0.04583 -1.10532 C 0.0467 -1.13356 0.05087 -1.12153 0.05833 -1.14421 C 0.06614 -1.16759 0.07152 -1.19282 0.07916 -1.2162 C 0.08524 -1.25741 0.07934 -1.23634 0.1 -1.27755 C 0.10243 -1.28241 0.1026 -1.28866 0.10416 -1.29421 C 0.11284 -1.32523 0.10937 -1.31574 0.12083 -1.33866 C 0.12222 -1.35162 0.12309 -1.36481 0.125 -1.37755 C 0.12587 -1.38333 0.12847 -1.3912 0.12916 -1.39398 E">
                                      <p:cBhvr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33333E-006 3.7037E-006 C 0.00364 -0.02917 0.00555 -0.05996 0.01666 -0.08635 C 0.03472 -0.1294 0.02864 -0.10787 0.05 -0.14028 C 0.05955 -0.1551 0.05885 -0.16135 0.06666 -0.17848 C 0.07187 -0.18936 0.08021 -0.19838 0.08333 -0.21088 C 0.09166 -0.24329 0.10937 -0.26945 0.11666 -0.30255 C 0.12135 -0.32385 0.12656 -0.34561 0.12916 -0.3676 C 0.13593 -0.42408 0.12899 -0.39375 0.1375 -0.42686 C 0.13593 -0.48611 0.14375 -0.54885 0.12916 -0.60533 C 0.12586 -0.61829 0.12187 -0.63102 0.11666 -0.64283 C 0.1118 -0.65417 0.10312 -0.66297 0.1 -0.67524 C 0.0908 -0.71111 0.10295 -0.66945 0.08333 -0.7132 C 0.07708 -0.72709 0.07222 -0.7419 0.06666 -0.75625 C 0.04948 -0.8007 0.05086 -0.7794 0.04166 -0.82662 C 0.04305 -0.90949 0.04323 -0.99236 0.04583 -1.07524 C 0.0467 -1.10255 0.05086 -1.09098 0.05833 -1.11297 C 0.06614 -1.13565 0.07152 -1.16019 0.07916 -1.18311 C 0.08524 -1.22315 0.07934 -1.20255 0.1 -1.2426 C 0.10243 -1.24746 0.1026 -1.25348 0.10416 -1.2588 C 0.11284 -1.28889 0.10937 -1.27963 0.12083 -1.30186 C 0.12222 -1.31459 0.12309 -1.32732 0.125 -1.33959 C 0.12586 -1.34537 0.12847 -1.35301 0.12916 -1.35579 E">
                                      <p:cBhvr>
                                        <p:cTn id="10" dur="4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4.81481E-006 C 0.00365 -0.04398 0.00555 -0.0905 0.01667 -0.13009 C 0.03472 -0.19513 0.02865 -0.16273 0.05 -0.21157 C 0.05955 -0.23379 0.05885 -0.24328 0.06667 -0.26898 C 0.07187 -0.28564 0.08021 -0.2993 0.08333 -0.31805 C 0.09167 -0.36689 0.10937 -0.40625 0.11667 -0.45625 C 0.12135 -0.48842 0.12656 -0.52129 0.12917 -0.55439 C 0.13594 -0.63958 0.12899 -0.59375 0.1375 -0.64351 C 0.13594 -0.73333 0.14375 -0.82754 0.12917 -0.91296 C 0.12587 -0.93263 0.12187 -0.95162 0.11667 -0.96967 C 0.1118 -0.98657 0.10312 -0.99976 0.1 -1.01851 C 0.0908 -1.07245 0.10295 -1.00972 0.08333 -1.07546 C 0.07708 -1.09652 0.07222 -1.11898 0.06667 -1.1405 C 0.04948 -1.2074 0.05087 -1.17523 0.04167 -1.24652 C 0.04305 -1.37152 0.04323 -1.49629 0.04583 -1.62129 C 0.0467 -1.66273 0.05087 -1.64513 0.05833 -1.67847 C 0.06615 -1.71273 0.07153 -1.74976 0.07917 -1.78402 C 0.08524 -1.84444 0.07934 -1.81365 0.1 -1.87407 C 0.10243 -1.88101 0.1026 -1.89027 0.10417 -1.89837 C 0.11285 -1.94398 0.10937 -1.93009 0.12083 -1.96365 C 0.12222 -1.98263 0.12309 -2.00208 0.125 -2.0206 C 0.12587 -2.02916 0.12847 -2.04074 0.12917 -2.0449 E">
                                      <p:cBhvr>
                                        <p:cTn id="12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心形 6"/>
          <p:cNvSpPr/>
          <p:nvPr/>
        </p:nvSpPr>
        <p:spPr>
          <a:xfrm rot="20835000">
            <a:off x="1201320" y="1015920"/>
            <a:ext cx="6485040" cy="5461200"/>
          </a:xfrm>
          <a:custGeom>
            <a:avLst/>
            <a:gdLst>
              <a:gd name="textAreaLeft" fmla="*/ 1512000 w 6485040"/>
              <a:gd name="textAreaRight" fmla="*/ 4970880 w 6485040"/>
              <a:gd name="textAreaTop" fmla="*/ 575640 h 5461200"/>
              <a:gd name="textAreaBottom" fmla="*/ 3458160 h 5461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45e5e">
              <a:alpha val="6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"/>
          <p:cNvPicPr/>
          <p:nvPr/>
        </p:nvPicPr>
        <p:blipFill>
          <a:blip r:embed="rId2"/>
          <a:srcRect l="5999" t="0" r="0" b="8458"/>
          <a:stretch/>
        </p:blipFill>
        <p:spPr>
          <a:xfrm rot="20349600">
            <a:off x="3854520" y="1866600"/>
            <a:ext cx="4071960" cy="2641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图片 1" descr=""/>
          <p:cNvPicPr/>
          <p:nvPr/>
        </p:nvPicPr>
        <p:blipFill>
          <a:blip r:embed="rId3"/>
          <a:srcRect l="0" t="0" r="0" b="2053"/>
          <a:stretch/>
        </p:blipFill>
        <p:spPr>
          <a:xfrm rot="1348800">
            <a:off x="2022480" y="2026800"/>
            <a:ext cx="3828960" cy="281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图片 2" descr=""/>
          <p:cNvPicPr/>
          <p:nvPr/>
        </p:nvPicPr>
        <p:blipFill>
          <a:blip r:embed="rId4"/>
          <a:srcRect l="0" t="0" r="0" b="7081"/>
          <a:stretch/>
        </p:blipFill>
        <p:spPr>
          <a:xfrm>
            <a:off x="503280" y="1227240"/>
            <a:ext cx="3556080" cy="22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图片 3" descr=""/>
          <p:cNvPicPr/>
          <p:nvPr/>
        </p:nvPicPr>
        <p:blipFill>
          <a:blip r:embed="rId5"/>
          <a:stretch/>
        </p:blipFill>
        <p:spPr>
          <a:xfrm rot="387000">
            <a:off x="3823920" y="4311720"/>
            <a:ext cx="2789280" cy="239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图片 4" descr=""/>
          <p:cNvPicPr/>
          <p:nvPr/>
        </p:nvPicPr>
        <p:blipFill>
          <a:blip r:embed="rId6"/>
          <a:stretch/>
        </p:blipFill>
        <p:spPr>
          <a:xfrm rot="20193600">
            <a:off x="3887280" y="344520"/>
            <a:ext cx="3538800" cy="23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图片 7" descr=""/>
          <p:cNvPicPr/>
          <p:nvPr/>
        </p:nvPicPr>
        <p:blipFill>
          <a:blip r:embed="rId7"/>
          <a:srcRect l="5999" t="0" r="13105" b="6340"/>
          <a:stretch/>
        </p:blipFill>
        <p:spPr>
          <a:xfrm rot="21391800">
            <a:off x="1128240" y="3540240"/>
            <a:ext cx="3711600" cy="216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图片 8" descr=""/>
          <p:cNvPicPr/>
          <p:nvPr/>
        </p:nvPicPr>
        <p:blipFill>
          <a:blip r:embed="rId8"/>
          <a:stretch/>
        </p:blipFill>
        <p:spPr>
          <a:xfrm rot="20209200">
            <a:off x="510840" y="2545920"/>
            <a:ext cx="2681280" cy="1893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图片 9" descr=""/>
          <p:cNvPicPr/>
          <p:nvPr/>
        </p:nvPicPr>
        <p:blipFill>
          <a:blip r:embed="rId9"/>
          <a:srcRect l="0" t="0" r="0" b="16394"/>
          <a:stretch/>
        </p:blipFill>
        <p:spPr>
          <a:xfrm rot="19594800">
            <a:off x="5162400" y="434880"/>
            <a:ext cx="2384640" cy="2679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图片 10" descr=""/>
          <p:cNvPicPr/>
          <p:nvPr/>
        </p:nvPicPr>
        <p:blipFill>
          <a:blip r:embed="rId10"/>
          <a:stretch/>
        </p:blipFill>
        <p:spPr>
          <a:xfrm rot="316200">
            <a:off x="4792680" y="2220480"/>
            <a:ext cx="2548080" cy="383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图片 11" descr=""/>
          <p:cNvPicPr/>
          <p:nvPr/>
        </p:nvPicPr>
        <p:blipFill>
          <a:blip r:embed="rId11"/>
          <a:srcRect l="0" t="0" r="0" b="8088"/>
          <a:stretch/>
        </p:blipFill>
        <p:spPr>
          <a:xfrm rot="346800">
            <a:off x="2971440" y="1650960"/>
            <a:ext cx="2509920" cy="1811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图片 12" descr=""/>
          <p:cNvPicPr/>
          <p:nvPr/>
        </p:nvPicPr>
        <p:blipFill>
          <a:blip r:embed="rId12"/>
          <a:stretch/>
        </p:blipFill>
        <p:spPr>
          <a:xfrm rot="1623600">
            <a:off x="2366640" y="4029120"/>
            <a:ext cx="2917800" cy="2336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图片 13" descr=""/>
          <p:cNvPicPr/>
          <p:nvPr/>
        </p:nvPicPr>
        <p:blipFill>
          <a:blip r:embed="rId13"/>
          <a:srcRect l="0" t="0" r="0" b="2536"/>
          <a:stretch/>
        </p:blipFill>
        <p:spPr>
          <a:xfrm rot="21018000">
            <a:off x="1417320" y="2122560"/>
            <a:ext cx="3287520" cy="2131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图片 14" descr=""/>
          <p:cNvPicPr/>
          <p:nvPr/>
        </p:nvPicPr>
        <p:blipFill>
          <a:blip r:embed="rId14"/>
          <a:srcRect l="0" t="0" r="11422" b="13268"/>
          <a:stretch/>
        </p:blipFill>
        <p:spPr>
          <a:xfrm rot="457200">
            <a:off x="2943360" y="2568600"/>
            <a:ext cx="3919320" cy="2560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心形 16"/>
          <p:cNvSpPr/>
          <p:nvPr/>
        </p:nvSpPr>
        <p:spPr>
          <a:xfrm rot="20835000">
            <a:off x="1209240" y="1015560"/>
            <a:ext cx="6483600" cy="5461200"/>
          </a:xfrm>
          <a:custGeom>
            <a:avLst/>
            <a:gdLst>
              <a:gd name="textAreaLeft" fmla="*/ 1512000 w 6483600"/>
              <a:gd name="textAreaRight" fmla="*/ 4969800 w 6483600"/>
              <a:gd name="textAreaTop" fmla="*/ 575640 h 5461200"/>
              <a:gd name="textAreaBottom" fmla="*/ 3458160 h 5461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45e5e">
              <a:alpha val="6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8"/>
          <p:cNvGrpSpPr/>
          <p:nvPr/>
        </p:nvGrpSpPr>
        <p:grpSpPr>
          <a:xfrm>
            <a:off x="1908000" y="2782800"/>
            <a:ext cx="4803840" cy="1927440"/>
            <a:chOff x="1908000" y="2782800"/>
            <a:chExt cx="4803840" cy="1927440"/>
          </a:xfrm>
        </p:grpSpPr>
        <p:pic>
          <p:nvPicPr>
            <p:cNvPr id="68" name="Picture 2" descr=""/>
            <p:cNvPicPr/>
            <p:nvPr/>
          </p:nvPicPr>
          <p:blipFill>
            <a:blip r:embed="rId15"/>
            <a:stretch/>
          </p:blipFill>
          <p:spPr>
            <a:xfrm>
              <a:off x="1951920" y="2782800"/>
              <a:ext cx="47599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"/>
            <p:cNvPicPr/>
            <p:nvPr/>
          </p:nvPicPr>
          <p:blipFill>
            <a:blip r:embed="rId16"/>
            <a:stretch/>
          </p:blipFill>
          <p:spPr>
            <a:xfrm>
              <a:off x="1908000" y="2782800"/>
              <a:ext cx="4759920" cy="192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" dur="250" fill="hold"/>
                                        <p:tgtEl>
                                          <p:spTgt spid="5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39" dur="250" fill="hold"/>
                                        <p:tgtEl>
                                          <p:spTgt spid="54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300000">
                                      <p:cBhvr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1" dur="250" fill="hold"/>
                                        <p:tgtEl>
                                          <p:spTgt spid="5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20000">
                                      <p:cBhvr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75" dur="250" fill="hold"/>
                                        <p:tgtEl>
                                          <p:spTgt spid="57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40000">
                                      <p:cBhvr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87" dur="250" fill="hold"/>
                                        <p:tgtEl>
                                          <p:spTgt spid="5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">
                                      <p:cBhvr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99" dur="250" fill="hold"/>
                                        <p:tgtEl>
                                          <p:spTgt spid="5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40000">
                                      <p:cBhvr>
                                        <p:cTn id="10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11" dur="250" fill="hold"/>
                                        <p:tgtEl>
                                          <p:spTgt spid="60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25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300000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135" dur="250" fill="hold"/>
                                        <p:tgtEl>
                                          <p:spTgt spid="6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20000"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47" dur="250" fill="hold"/>
                                        <p:tgtEl>
                                          <p:spTgt spid="6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725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1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59" dur="250" fill="hold"/>
                                        <p:tgtEl>
                                          <p:spTgt spid="64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20000">
                                      <p:cBhvr>
                                        <p:cTn id="1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171" dur="250" fill="hold"/>
                                        <p:tgtEl>
                                          <p:spTgt spid="6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6250"/>
                            </p:stCondLst>
                            <p:childTnLst>
                              <p:par>
                                <p:cTn id="1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360000">
                                      <p:cBhvr>
                                        <p:cTn id="185" dur="1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486360" y="6302520"/>
            <a:ext cx="20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心形 6"/>
          <p:cNvSpPr/>
          <p:nvPr/>
        </p:nvSpPr>
        <p:spPr>
          <a:xfrm rot="20835000">
            <a:off x="1331640" y="885600"/>
            <a:ext cx="6119640" cy="5153040"/>
          </a:xfrm>
          <a:custGeom>
            <a:avLst/>
            <a:gdLst>
              <a:gd name="textAreaLeft" fmla="*/ 1427040 w 6119640"/>
              <a:gd name="textAreaRight" fmla="*/ 4690800 w 6119640"/>
              <a:gd name="textAreaTop" fmla="*/ 543240 h 5153040"/>
              <a:gd name="textAreaBottom" fmla="*/ 3263040 h 5153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"/>
          <p:cNvPicPr/>
          <p:nvPr/>
        </p:nvPicPr>
        <p:blipFill>
          <a:blip r:embed="rId2"/>
          <a:srcRect l="6004" t="0" r="0" b="8469"/>
          <a:stretch/>
        </p:blipFill>
        <p:spPr>
          <a:xfrm rot="20014800">
            <a:off x="3929040" y="2057040"/>
            <a:ext cx="2905200" cy="188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">
                                      <p:cBhvr>
                                        <p:cTn id="2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1.66667E-006 1.48148E-006 L 0.03941 0.0162 E">
                                      <p:cBhvr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3:09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0T03:56:22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