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B5D9-659B-4F64-9B37-3CDB4FA7A2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F1F4-94DB-4098-9005-2FC91298CCA5}" type="slidenum">
              <a:rPr b="0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F25D-0D66-4DA7-806B-0C1CDA475C91}" type="slidenum">
              <a:rPr b="0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C100-DBBE-4F78-8327-4754958EE920}" type="slidenum">
              <a:rPr b="0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58F9-E6FF-4E0A-9FAE-E6E84E9099A0}" type="slidenum">
              <a:rPr b="0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8FDD-453E-4A9A-BFA5-86E1A04D7817}" type="slidenum">
              <a:rPr b="0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332-798E-4199-92A1-59EBC268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AD0-03EE-41AE-8121-B14C8FE3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CA8-6BBE-4036-AC2C-3F6C87A9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B98-24F0-4FDE-AE90-7D9A629E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70F5-2A5E-4ACC-8FC2-DF2DA9A1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8B27-7BF8-4E87-8C3E-AB66B971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2401-E655-4BD4-A308-CAA20F0A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9D64-5CB4-4818-B027-6B9E7931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5D14-9239-41CF-B6DE-0DC55EED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5A21-FC28-4E02-8A76-D1DCCEDF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E01D-6AA6-44B6-8354-BC5625C2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EA4-72BA-45EB-BD73-8EC5D789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8ACB-A707-4883-8EB3-F1DF1E3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1C05-7457-447D-BF4A-8234C33D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23CA-7C25-4523-BE16-DCCF1B11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5B69-E98E-48C6-89CC-090782BC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D372-BB5E-4C21-BB45-1CE2AB8F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404-C553-44CD-8E81-D137AE6E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6F8-6A98-4F48-B14C-5EE6E53D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20F-6458-48DF-8E10-3B84B536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9D6-4EA1-4497-9A28-C3FC4FE4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3A0-53F9-4E0C-A23B-8BE0083D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000-43E5-457A-B4E5-85B18326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BDE-A78A-47B3-9840-642D9AA5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computermush"/>
          <p:cNvPicPr/>
          <p:nvPr/>
        </p:nvPicPr>
        <p:blipFill>
          <a:blip r:embed="rId2"/>
          <a:srcRect l="5512" t="98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F3AE-7D08-4960-899B-2AFF61C1E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4" descr="computermush"/>
          <p:cNvPicPr/>
          <p:nvPr/>
        </p:nvPicPr>
        <p:blipFill>
          <a:blip r:embed="rId2"/>
          <a:srcRect l="5512" t="98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99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2EFF-5124-4028-A923-45889C75617D}" type="slidenum">
              <a:rPr b="0" lang="en-US" sz="1400" spc="-1" strike="noStrike">
                <a:solidFill>
                  <a:srgbClr val="999999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Text Box 55"/>
          <p:cNvSpPr/>
          <p:nvPr/>
        </p:nvSpPr>
        <p:spPr>
          <a:xfrm>
            <a:off x="8611920" y="6324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181080" y="50796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项目黑色风格商务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模板在线下载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79560" y="53341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宋体"/>
              </a:rPr>
              <a:t>Your project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Text Box 66"/>
          <p:cNvSpPr/>
          <p:nvPr/>
        </p:nvSpPr>
        <p:spPr>
          <a:xfrm>
            <a:off x="77760" y="4740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roject date</a:t>
            </a:r>
            <a:r>
              <a:rPr b="1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  <a:ea typeface="宋体"/>
              </a:rPr>
              <a:t>20/09/2007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9999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99999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9999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3"/>
          <p:cNvGraphicFramePr/>
          <p:nvPr/>
        </p:nvGraphicFramePr>
        <p:xfrm>
          <a:off x="-1143000" y="760320"/>
          <a:ext cx="982980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3000" y="760320"/>
                    <a:ext cx="982980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26"/>
          <p:cNvSpPr/>
          <p:nvPr/>
        </p:nvSpPr>
        <p:spPr>
          <a:xfrm>
            <a:off x="6244560" y="-15840"/>
            <a:ext cx="243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f2fdf7"/>
                </a:solidFill>
                <a:latin typeface="Arial"/>
                <a:ea typeface="宋体"/>
              </a:rPr>
              <a:t>02</a:t>
            </a:r>
            <a:endParaRPr b="0" lang="en-US" sz="16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685800" y="228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  <a:ea typeface="宋体"/>
              </a:rPr>
              <a:t>CHART OBJECT &gt;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402600" y="2057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99"/>
                </a:solidFill>
                <a:latin typeface="Arial"/>
                <a:ea typeface="宋体"/>
              </a:rPr>
              <a:t>page</a:t>
            </a:r>
            <a:r>
              <a:rPr b="1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  <a:ea typeface="宋体"/>
              </a:rPr>
              <a:t>number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1"/>
          <p:cNvSpPr/>
          <p:nvPr/>
        </p:nvSpPr>
        <p:spPr>
          <a:xfrm>
            <a:off x="6174720" y="-92160"/>
            <a:ext cx="243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f2fdf7"/>
                </a:solidFill>
                <a:latin typeface="Arial"/>
                <a:ea typeface="宋体"/>
              </a:rPr>
              <a:t>03</a:t>
            </a:r>
            <a:endParaRPr b="0" lang="en-US" sz="16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6e6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6e6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6e6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Text Box 34"/>
          <p:cNvSpPr/>
          <p:nvPr/>
        </p:nvSpPr>
        <p:spPr>
          <a:xfrm>
            <a:off x="68580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Arial"/>
                <a:ea typeface="宋体"/>
              </a:rPr>
              <a:t>BULLET LIST &gt;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6402600" y="2057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99"/>
                </a:solidFill>
                <a:latin typeface="Arial"/>
                <a:ea typeface="宋体"/>
              </a:rPr>
              <a:t>page</a:t>
            </a:r>
            <a:r>
              <a:rPr b="1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  <a:ea typeface="宋体"/>
              </a:rPr>
              <a:t>number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0" descr="vectorflower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43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1"/>
          <p:cNvSpPr/>
          <p:nvPr/>
        </p:nvSpPr>
        <p:spPr>
          <a:xfrm>
            <a:off x="6168240" y="-15840"/>
            <a:ext cx="243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333333"/>
                </a:solidFill>
                <a:latin typeface="Arial"/>
                <a:ea typeface="宋体"/>
              </a:rPr>
              <a:t>04</a:t>
            </a:r>
            <a:endParaRPr b="0" lang="en-US" sz="16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685800" y="380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df7"/>
                </a:solidFill>
                <a:latin typeface="Arial"/>
                <a:ea typeface="宋体"/>
              </a:rPr>
              <a:t>PICTURE OBJECT &gt;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6402600" y="2057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宋体"/>
              </a:rPr>
              <a:t>page</a:t>
            </a:r>
            <a:r>
              <a:rPr b="1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number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0"/>
          <p:cNvSpPr/>
          <p:nvPr/>
        </p:nvSpPr>
        <p:spPr>
          <a:xfrm>
            <a:off x="6182640" y="-92160"/>
            <a:ext cx="243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f2fdf7"/>
                </a:solidFill>
                <a:latin typeface="Arial"/>
                <a:ea typeface="宋体"/>
              </a:rPr>
              <a:t>05</a:t>
            </a:r>
            <a:endParaRPr b="0" lang="en-US" sz="16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947520"/>
            <a:ext cx="85485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99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cc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80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94280" y="4648320"/>
          <a:ext cx="3630600" cy="172692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9999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1368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13680">
                      <a:solidFill>
                        <a:srgbClr val="999999"/>
                      </a:solidFill>
                    </a:lnR>
                    <a:lnT w="1368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13680">
                      <a:solidFill>
                        <a:srgbClr val="999999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1368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13680">
                      <a:solidFill>
                        <a:srgbClr val="999999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16"/>
          <p:cNvSpPr/>
          <p:nvPr/>
        </p:nvSpPr>
        <p:spPr>
          <a:xfrm>
            <a:off x="533520" y="4646520"/>
            <a:ext cx="3429000" cy="1728720"/>
          </a:xfrm>
          <a:prstGeom prst="rect">
            <a:avLst/>
          </a:prstGeom>
          <a:solidFill>
            <a:srgbClr val="66ccff">
              <a:alpha val="38000"/>
            </a:srgbClr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9999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685800" y="22860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df7"/>
                </a:solidFill>
                <a:latin typeface="Arial"/>
                <a:ea typeface="宋体"/>
              </a:rPr>
              <a:t>DEFAULT STYLES &gt;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02600" y="2057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99"/>
                </a:solidFill>
                <a:latin typeface="Arial"/>
                <a:ea typeface="宋体"/>
              </a:rPr>
              <a:t>page</a:t>
            </a:r>
            <a:r>
              <a:rPr b="1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  <a:ea typeface="宋体"/>
              </a:rPr>
              <a:t>number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1285920" y="137484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9999"/>
                </a:solidFill>
                <a:latin typeface="Arial"/>
                <a:ea typeface="宋体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51000" y="2803680"/>
            <a:ext cx="34099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999999"/>
                </a:solidFill>
                <a:uFillTx/>
                <a:latin typeface="Arial"/>
                <a:ea typeface="宋体"/>
              </a:rPr>
              <a:t>Do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Use these templates for your presentations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99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595760" y="2803680"/>
            <a:ext cx="36403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999999"/>
                </a:solidFill>
                <a:uFillTx/>
                <a:latin typeface="Arial"/>
                <a:ea typeface="宋体"/>
              </a:rPr>
              <a:t>Don’t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Resell or distribute these templates or include the graphics in your work for re-sale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Pass off any of our created content as your own work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143000" y="5457960"/>
            <a:ext cx="71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309680" y="2271600"/>
            <a:ext cx="69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宝藏</dc:creator>
  <dc:description/>
  <dc:language>en-US</dc:language>
  <cp:lastModifiedBy>a</cp:lastModifiedBy>
  <dcterms:modified xsi:type="dcterms:W3CDTF">2015-07-25T06:51:56Z</dcterms:modified>
  <cp:revision>72</cp:revision>
  <dc:subject/>
  <dc:title>www.pptbz.com</dc:title>
</cp:coreProperties>
</file>