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925-68CA-40C0-9EAE-FD28D320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C96-F7C1-4A06-A03C-44A47FFE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753-86C3-492B-8387-2A1131DD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3C19-0362-4B2D-82D1-A9BCC36E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8CA-06E8-4B75-BCBE-A3098985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93C-1CC6-40C9-ABE0-CB9D789E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1E8B-BCEE-467C-B6BD-6B0D0FD5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857F-6A88-4439-A1A4-9CC32299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70B-4EF7-4B04-B603-11FF89D9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C948-DF32-4647-9886-86CB2356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DC8-8A19-4A46-AC90-C76BEE8C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3D7-5B2E-419E-917E-76F9BBE9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DFDE-B6F5-4C4F-BF60-9E2FE346942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F9DB-FA9A-44CF-9368-B9910E88B5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3"/>
          <p:cNvSpPr/>
          <p:nvPr/>
        </p:nvSpPr>
        <p:spPr>
          <a:xfrm>
            <a:off x="942840" y="3168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-6336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6743520" cy="4789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250920" y="1682640"/>
            <a:ext cx="5526000" cy="3508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1440" y="3289320"/>
            <a:ext cx="7035840" cy="357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5"/>
          <a:stretch/>
        </p:blipFill>
        <p:spPr>
          <a:xfrm>
            <a:off x="0" y="4824360"/>
            <a:ext cx="6558120" cy="20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6"/>
          <a:stretch/>
        </p:blipFill>
        <p:spPr>
          <a:xfrm>
            <a:off x="1670040" y="1776240"/>
            <a:ext cx="3611520" cy="6142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7"/>
          <a:stretch/>
        </p:blipFill>
        <p:spPr>
          <a:xfrm>
            <a:off x="-11160" y="1628640"/>
            <a:ext cx="1087560" cy="2149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"/>
          <p:cNvPicPr/>
          <p:nvPr/>
        </p:nvPicPr>
        <p:blipFill>
          <a:blip r:embed="rId8"/>
          <a:stretch/>
        </p:blipFill>
        <p:spPr>
          <a:xfrm>
            <a:off x="0" y="-203040"/>
            <a:ext cx="9828360" cy="1504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340640" y="3589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680" y="65023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96640" y="2160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学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30240" y="9360"/>
            <a:ext cx="9174240" cy="685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6743520" cy="478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250920" y="1682640"/>
            <a:ext cx="5526000" cy="3508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4"/>
          <a:stretch/>
        </p:blipFill>
        <p:spPr>
          <a:xfrm>
            <a:off x="-36360" y="3274920"/>
            <a:ext cx="7035480" cy="3576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5"/>
          <a:stretch/>
        </p:blipFill>
        <p:spPr>
          <a:xfrm>
            <a:off x="-36360" y="4826160"/>
            <a:ext cx="6557760" cy="2031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6"/>
          <a:stretch/>
        </p:blipFill>
        <p:spPr>
          <a:xfrm>
            <a:off x="-20520" y="1268280"/>
            <a:ext cx="1392120" cy="275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"/>
          <p:cNvPicPr/>
          <p:nvPr/>
        </p:nvPicPr>
        <p:blipFill>
          <a:blip r:embed="rId7"/>
          <a:stretch/>
        </p:blipFill>
        <p:spPr>
          <a:xfrm>
            <a:off x="0" y="-520560"/>
            <a:ext cx="9972720" cy="150156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3724560" y="36360"/>
            <a:ext cx="42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生健康成长教育教学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119700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9320" cy="686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6743520" cy="478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250920" y="1682640"/>
            <a:ext cx="5526000" cy="3508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>
            <a:off x="-7920" y="3274920"/>
            <a:ext cx="7035840" cy="3576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5"/>
          <a:stretch/>
        </p:blipFill>
        <p:spPr>
          <a:xfrm>
            <a:off x="-3240" y="4827600"/>
            <a:ext cx="6558120" cy="203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6"/>
          <a:stretch/>
        </p:blipFill>
        <p:spPr>
          <a:xfrm>
            <a:off x="-11160" y="1268280"/>
            <a:ext cx="1303560" cy="2579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7"/>
          <a:stretch/>
        </p:blipFill>
        <p:spPr>
          <a:xfrm>
            <a:off x="0" y="-520560"/>
            <a:ext cx="9972720" cy="1501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3724560" y="36360"/>
            <a:ext cx="42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生健康成长教育教学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614F-B06A-45F9-A8F7-9183F55F8C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8T10:34:1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45:35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