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4489-0919-43C7-8A5C-6B0BEE5A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526F-B520-4100-B54C-D1D30497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9E33-41FF-49A2-BD28-65839A03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3CFA-1D79-413B-90E3-F29FB959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F152-6293-447B-96CD-2B713208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8075-1E64-465A-BA59-1CED4A5B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589B-AE35-464B-885A-4496FD9D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DD72-8A3B-4E4D-9B56-7BA4ED3B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EDEB-FD7D-440A-8282-DC1713EB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1981-0D92-4574-AB32-AA8D6BB6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DA61-BDAF-4B82-AAFF-613FD107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06CD-45D4-42C5-AEB4-D7AC8589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DE44-DCBC-4913-A1A8-061DBE25F6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1360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Verdana"/>
                <a:ea typeface="宋体"/>
              </a:rPr>
              <a:t>业绩节节高商务</a:t>
            </a:r>
            <a:r>
              <a:rPr b="1" lang="en-US" sz="4000" spc="-1" strike="noStrike">
                <a:solidFill>
                  <a:srgbClr val="006699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006699"/>
                </a:solidFill>
                <a:latin typeface="Verdana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73080" y="981000"/>
            <a:ext cx="3851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  <a:ea typeface="宋体"/>
              </a:rPr>
              <a:t>2005 Compan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477360"/>
            <a:ext cx="33829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Content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987200"/>
            <a:ext cx="5976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Lorem ipsum dolor sit amet, consectet adipiscing elit, sed diam nonummy nibh euismod tincidunt ut laoreet dolore magna aliquam erat volutp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Ut wisi enim ad minim veniam, quis nostrud exerci tation ullamcorper suscipit lobortis nisl ut aliquip ex ea commodo consequ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250920" y="5300640"/>
            <a:ext cx="820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Lorem ipsum dolor sit amet, consectet adipiscing elit, sed diam nonummy nibh euismod tincidunt ut laoreet dolore magna aliquam erat volutp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06:19:00Z</dcterms:created>
  <dc:creator>ppt宝藏</dc:creator>
  <dc:description/>
  <dc:language>en-US</dc:language>
  <cp:lastModifiedBy>a</cp:lastModifiedBy>
  <dcterms:modified xsi:type="dcterms:W3CDTF">2015-07-25T07:02:20Z</dcterms:modified>
  <cp:revision>14</cp:revision>
  <dc:subject/>
  <dc:title>www.pptbz.com</dc:title>
</cp:coreProperties>
</file>