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hdphoto1.wdp" ContentType="image/vnd.ms-photo"/>
  <Override PartName="/ppt/media/image16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129-6FAD-473E-8E01-291B2C3F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4DA-F711-43D4-9E8A-E93A5586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552-FD85-440C-957A-34944FAE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CF7-44A5-419A-9B83-52843330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800-8189-4889-BADD-609226B5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2EA-9D31-432C-84FB-2512C0B6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CC9-1C0E-46E2-B39A-75FABCF2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269-12E0-403A-8FA7-425D2B56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EC5A-D685-41DE-B5BB-185E0624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79D-61B3-4091-8850-F996782A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835-C992-4F3E-AD1E-3ADBAC3A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EE1-9DC2-42DA-B582-2162B874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E5657F-FEC5-492C-80AE-C55FB34B9F9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microsoft.com/office/2007/relationships/hdphoto" Target="../media/hdphoto1.wdp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矩形 19"/>
          <p:cNvSpPr/>
          <p:nvPr/>
        </p:nvSpPr>
        <p:spPr>
          <a:xfrm>
            <a:off x="1030680" y="0"/>
            <a:ext cx="3225960" cy="6857640"/>
          </a:xfrm>
          <a:prstGeom prst="rect">
            <a:avLst/>
          </a:prstGeom>
          <a:solidFill>
            <a:schemeClr val="bg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矩形 20"/>
          <p:cNvSpPr/>
          <p:nvPr/>
        </p:nvSpPr>
        <p:spPr>
          <a:xfrm>
            <a:off x="2017800" y="0"/>
            <a:ext cx="2705400" cy="6857640"/>
          </a:xfrm>
          <a:prstGeom prst="rect">
            <a:avLst/>
          </a:prstGeom>
          <a:solidFill>
            <a:schemeClr val="bg1">
              <a:alpha val="3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005200" y="2662560"/>
            <a:ext cx="3891960" cy="9126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《</a:t>
            </a:r>
            <a:r>
              <a:rPr b="1" lang="zh-CN" sz="5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伊丽莎白女王传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3839040" y="3908880"/>
            <a:ext cx="2453400" cy="69912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读书笔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15"/>
          <p:cNvGrpSpPr/>
          <p:nvPr/>
        </p:nvGrpSpPr>
        <p:grpSpPr>
          <a:xfrm>
            <a:off x="6850080" y="909360"/>
            <a:ext cx="4631400" cy="4631400"/>
            <a:chOff x="6850080" y="909360"/>
            <a:chExt cx="4631400" cy="4631400"/>
          </a:xfrm>
        </p:grpSpPr>
        <p:sp>
          <p:nvSpPr>
            <p:cNvPr id="47" name="图片 9"/>
            <p:cNvSpPr/>
            <p:nvPr/>
          </p:nvSpPr>
          <p:spPr>
            <a:xfrm>
              <a:off x="7316280" y="1413000"/>
              <a:ext cx="3697920" cy="36230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空心弧 12"/>
            <p:cNvSpPr/>
            <p:nvPr/>
          </p:nvSpPr>
          <p:spPr>
            <a:xfrm rot="10359600">
              <a:off x="7097400" y="1156680"/>
              <a:ext cx="4136760" cy="4136760"/>
            </a:xfrm>
            <a:prstGeom prst="blockArc">
              <a:avLst>
                <a:gd name="adj1" fmla="val 1220643"/>
                <a:gd name="adj2" fmla="val 30119"/>
                <a:gd name="adj3" fmla="val 917"/>
              </a:avLst>
            </a:prstGeom>
            <a:solidFill>
              <a:srgbClr val="c00000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空心弧 13"/>
          <p:cNvSpPr/>
          <p:nvPr/>
        </p:nvSpPr>
        <p:spPr>
          <a:xfrm flipH="1" rot="11464200">
            <a:off x="1657800" y="3702600"/>
            <a:ext cx="1444680" cy="1445040"/>
          </a:xfrm>
          <a:prstGeom prst="blockArc">
            <a:avLst>
              <a:gd name="adj1" fmla="val 4166515"/>
              <a:gd name="adj2" fmla="val 30119"/>
              <a:gd name="adj3" fmla="val 917"/>
            </a:avLst>
          </a:pr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等腰三角形 14"/>
          <p:cNvSpPr/>
          <p:nvPr/>
        </p:nvSpPr>
        <p:spPr>
          <a:xfrm rot="3700200">
            <a:off x="2873160" y="3784320"/>
            <a:ext cx="613800" cy="5292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等腰三角形 16"/>
          <p:cNvSpPr/>
          <p:nvPr/>
        </p:nvSpPr>
        <p:spPr>
          <a:xfrm rot="16200000">
            <a:off x="6753960" y="2906640"/>
            <a:ext cx="435960" cy="3758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文本框 18"/>
          <p:cNvSpPr/>
          <p:nvPr/>
        </p:nvSpPr>
        <p:spPr>
          <a:xfrm>
            <a:off x="1744920" y="4163400"/>
            <a:ext cx="1185480" cy="51588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Design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@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花生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1"/>
          <p:cNvSpPr/>
          <p:nvPr/>
        </p:nvSpPr>
        <p:spPr>
          <a:xfrm>
            <a:off x="3553920" y="3547800"/>
            <a:ext cx="3052440" cy="39456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ELIZABETH THE QU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5476320" cy="685764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4"/>
          <p:cNvSpPr/>
          <p:nvPr/>
        </p:nvSpPr>
        <p:spPr>
          <a:xfrm>
            <a:off x="1447920" y="460440"/>
            <a:ext cx="402876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录制电视节目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1830240" y="1349280"/>
            <a:ext cx="3646440" cy="57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文本框 7"/>
          <p:cNvSpPr/>
          <p:nvPr/>
        </p:nvSpPr>
        <p:spPr>
          <a:xfrm>
            <a:off x="5632200" y="1751400"/>
            <a:ext cx="59565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苏伊士危机，媒体报纸的质疑与炮轰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··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伊丽莎白在圣诞电视直播致辞给予了有力的反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电视直播的被允许引入，不仅适应了时代的发展，同时为宣传王室起到了很好的帮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60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日，伊丽莎白的第二个儿子安德鲁出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角三角形 9"/>
          <p:cNvSpPr/>
          <p:nvPr/>
        </p:nvSpPr>
        <p:spPr>
          <a:xfrm>
            <a:off x="0" y="3788280"/>
            <a:ext cx="3069360" cy="3069360"/>
          </a:xfrm>
          <a:prstGeom prst="rtTriangle">
            <a:avLst/>
          </a:prstGeom>
          <a:solidFill>
            <a:schemeClr val="bg1">
              <a:alpha val="4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矩形 10"/>
          <p:cNvSpPr/>
          <p:nvPr/>
        </p:nvSpPr>
        <p:spPr>
          <a:xfrm>
            <a:off x="12020400" y="1443960"/>
            <a:ext cx="171000" cy="3970080"/>
          </a:xfrm>
          <a:prstGeom prst="rect">
            <a:avLst/>
          </a:pr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28" name="图片 2" descr=""/>
          <p:cNvPicPr/>
          <p:nvPr/>
        </p:nvPicPr>
        <p:blipFill>
          <a:blip r:embed="rId1"/>
          <a:stretch/>
        </p:blipFill>
        <p:spPr>
          <a:xfrm>
            <a:off x="7363800" y="0"/>
            <a:ext cx="4827600" cy="685764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3"/>
          <p:cNvSpPr/>
          <p:nvPr/>
        </p:nvSpPr>
        <p:spPr>
          <a:xfrm>
            <a:off x="3335040" y="460440"/>
            <a:ext cx="402876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的开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812880" y="1349280"/>
            <a:ext cx="6550920" cy="5832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文本框 5"/>
          <p:cNvSpPr/>
          <p:nvPr/>
        </p:nvSpPr>
        <p:spPr>
          <a:xfrm rot="440400">
            <a:off x="914400" y="3383640"/>
            <a:ext cx="5732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60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日，妹妹玛格丽大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64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日，迎来第四个孩子的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对加纳国的访问，使加纳国从美联邦分离的风险大大降低，同时也更好的树立了女王的地位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0" y="5130720"/>
            <a:ext cx="8568360" cy="1726920"/>
          </a:xfrm>
          <a:custGeom>
            <a:avLst/>
            <a:gdLst>
              <a:gd name="textAreaLeft" fmla="*/ 0 w 8568360"/>
              <a:gd name="textAreaRight" fmla="*/ 8568720 w 856836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8568652" h="1727200">
                <a:moveTo>
                  <a:pt x="0" y="0"/>
                </a:moveTo>
                <a:lnTo>
                  <a:pt x="8046139" y="943428"/>
                </a:lnTo>
                <a:lnTo>
                  <a:pt x="8568652" y="1727200"/>
                </a:lnTo>
                <a:lnTo>
                  <a:pt x="0" y="1727200"/>
                </a:lnTo>
                <a:lnTo>
                  <a:pt x="0" y="0"/>
                </a:lnTo>
                <a:close/>
              </a:path>
            </a:pathLst>
          </a:cu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4" name="图片 2" descr=""/>
          <p:cNvPicPr/>
          <p:nvPr/>
        </p:nvPicPr>
        <p:blipFill>
          <a:blip r:embed="rId1"/>
          <a:stretch/>
        </p:blipFill>
        <p:spPr>
          <a:xfrm>
            <a:off x="7398720" y="0"/>
            <a:ext cx="4793040" cy="6857640"/>
          </a:xfrm>
          <a:prstGeom prst="rect">
            <a:avLst/>
          </a:prstGeom>
          <a:ln w="0">
            <a:noFill/>
          </a:ln>
        </p:spPr>
      </p:pic>
      <p:sp>
        <p:nvSpPr>
          <p:cNvPr id="135" name="矩形 6"/>
          <p:cNvSpPr/>
          <p:nvPr/>
        </p:nvSpPr>
        <p:spPr>
          <a:xfrm flipH="1">
            <a:off x="0" y="2917440"/>
            <a:ext cx="7645680" cy="3940200"/>
          </a:xfrm>
          <a:custGeom>
            <a:avLst/>
            <a:gdLst>
              <a:gd name="textAreaLeft" fmla="*/ 360 w 7645680"/>
              <a:gd name="textAreaRight" fmla="*/ 7646400 w 7645680"/>
              <a:gd name="textAreaTop" fmla="*/ 0 h 3940200"/>
              <a:gd name="textAreaBottom" fmla="*/ 3940560 h 3940200"/>
            </a:gdLst>
            <a:ahLst/>
            <a:rect l="textAreaLeft" t="textAreaTop" r="textAreaRight" b="textAreaBottom"/>
            <a:pathLst>
              <a:path w="8855468" h="1610417">
                <a:moveTo>
                  <a:pt x="0" y="0"/>
                </a:moveTo>
                <a:lnTo>
                  <a:pt x="7684902" y="441784"/>
                </a:lnTo>
                <a:lnTo>
                  <a:pt x="8855468" y="1610417"/>
                </a:lnTo>
                <a:lnTo>
                  <a:pt x="286816" y="1610417"/>
                </a:lnTo>
                <a:lnTo>
                  <a:pt x="0" y="0"/>
                </a:lnTo>
                <a:close/>
              </a:path>
            </a:pathLst>
          </a:cu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矩形 6"/>
          <p:cNvSpPr/>
          <p:nvPr/>
        </p:nvSpPr>
        <p:spPr>
          <a:xfrm flipV="1">
            <a:off x="0" y="0"/>
            <a:ext cx="8867880" cy="2322000"/>
          </a:xfrm>
          <a:custGeom>
            <a:avLst/>
            <a:gdLst>
              <a:gd name="textAreaLeft" fmla="*/ 0 w 8867880"/>
              <a:gd name="textAreaRight" fmla="*/ 8868240 w 8867880"/>
              <a:gd name="textAreaTop" fmla="*/ 360 h 2322000"/>
              <a:gd name="textAreaBottom" fmla="*/ 2322720 h 2322000"/>
            </a:gdLst>
            <a:ahLst/>
            <a:rect l="textAreaLeft" t="textAreaTop" r="textAreaRight" b="textAreaBottom"/>
            <a:pathLst>
              <a:path w="8568652" h="1727200">
                <a:moveTo>
                  <a:pt x="0" y="0"/>
                </a:moveTo>
                <a:lnTo>
                  <a:pt x="8046139" y="943428"/>
                </a:lnTo>
                <a:lnTo>
                  <a:pt x="8568652" y="1727200"/>
                </a:lnTo>
                <a:lnTo>
                  <a:pt x="0" y="1727200"/>
                </a:lnTo>
                <a:lnTo>
                  <a:pt x="0" y="0"/>
                </a:lnTo>
                <a:close/>
              </a:path>
            </a:pathLst>
          </a:cu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文本框 5"/>
          <p:cNvSpPr/>
          <p:nvPr/>
        </p:nvSpPr>
        <p:spPr>
          <a:xfrm rot="21083400">
            <a:off x="1237680" y="716040"/>
            <a:ext cx="2375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远离喧嚣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6"/>
          <p:cNvSpPr/>
          <p:nvPr/>
        </p:nvSpPr>
        <p:spPr>
          <a:xfrm rot="21097200">
            <a:off x="226800" y="2017440"/>
            <a:ext cx="69426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65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4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日，丘吉尔去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随着女王步入中年，马成为了她热情所在和“心灵港湾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5689800" cy="685764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2"/>
          <p:cNvSpPr/>
          <p:nvPr/>
        </p:nvSpPr>
        <p:spPr>
          <a:xfrm>
            <a:off x="1113840" y="4299840"/>
            <a:ext cx="457632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面纱初解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2043720" y="5189040"/>
            <a:ext cx="3646440" cy="57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5690160" y="2558160"/>
            <a:ext cx="6501240" cy="174132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文本框 5"/>
          <p:cNvSpPr/>
          <p:nvPr/>
        </p:nvSpPr>
        <p:spPr>
          <a:xfrm>
            <a:off x="6328080" y="2828880"/>
            <a:ext cx="5442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英国王室》纪录片的拍摄，让人们更加全面深入的了解伊丽莎白和王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" descr=""/>
          <p:cNvPicPr/>
          <p:nvPr/>
        </p:nvPicPr>
        <p:blipFill>
          <a:blip r:embed="rId1"/>
          <a:stretch/>
        </p:blipFill>
        <p:spPr>
          <a:xfrm>
            <a:off x="0" y="-57240"/>
            <a:ext cx="12191760" cy="6914880"/>
          </a:xfrm>
          <a:prstGeom prst="rect">
            <a:avLst/>
          </a:prstGeom>
          <a:ln w="0">
            <a:noFill/>
          </a:ln>
        </p:spPr>
      </p:pic>
      <p:sp>
        <p:nvSpPr>
          <p:cNvPr id="146" name="矩形 2"/>
          <p:cNvSpPr/>
          <p:nvPr/>
        </p:nvSpPr>
        <p:spPr>
          <a:xfrm>
            <a:off x="263160" y="-57240"/>
            <a:ext cx="3646440" cy="3238200"/>
          </a:xfrm>
          <a:prstGeom prst="rect">
            <a:avLst/>
          </a:prstGeom>
          <a:solidFill>
            <a:srgbClr val="c0000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文本框 3"/>
          <p:cNvSpPr/>
          <p:nvPr/>
        </p:nvSpPr>
        <p:spPr>
          <a:xfrm>
            <a:off x="7615440" y="5462640"/>
            <a:ext cx="457632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声的沉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矩形 4"/>
          <p:cNvSpPr/>
          <p:nvPr/>
        </p:nvSpPr>
        <p:spPr>
          <a:xfrm>
            <a:off x="8545320" y="6351480"/>
            <a:ext cx="3646440" cy="57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文本框 5"/>
          <p:cNvSpPr/>
          <p:nvPr/>
        </p:nvSpPr>
        <p:spPr>
          <a:xfrm>
            <a:off x="438480" y="619920"/>
            <a:ext cx="3295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插曲：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她的建议“很可靠、很实际、也很睿智”。还有一个雷打不动的规矩是不要重复女王说明白的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63160" y="3486600"/>
            <a:ext cx="3646440" cy="2369520"/>
          </a:xfrm>
          <a:prstGeom prst="rect">
            <a:avLst/>
          </a:prstGeom>
          <a:solidFill>
            <a:srgbClr val="c00000">
              <a:alpha val="8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文本框 6"/>
          <p:cNvSpPr/>
          <p:nvPr/>
        </p:nvSpPr>
        <p:spPr>
          <a:xfrm>
            <a:off x="438480" y="3988800"/>
            <a:ext cx="3295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英国经济的不景气，通货膨胀，王室年俸面临着很大压力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3" name="图片 1" descr=""/>
          <p:cNvPicPr/>
          <p:nvPr/>
        </p:nvPicPr>
        <p:blipFill>
          <a:blip r:embed="rId1"/>
          <a:stretch/>
        </p:blipFill>
        <p:spPr>
          <a:xfrm>
            <a:off x="571680" y="1871640"/>
            <a:ext cx="4727880" cy="31237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54" name="矩形 3"/>
          <p:cNvSpPr/>
          <p:nvPr/>
        </p:nvSpPr>
        <p:spPr>
          <a:xfrm>
            <a:off x="5486400" y="3852720"/>
            <a:ext cx="6324120" cy="1142640"/>
          </a:xfrm>
          <a:prstGeom prst="rect">
            <a:avLst/>
          </a:pr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9194760" y="3922920"/>
            <a:ext cx="2305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不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5486400" y="1971720"/>
            <a:ext cx="6324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74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日，安妮公主和丈夫遭受一起恐怖的枪击案，安妮公主的无畏和坚决令人难以置信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75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初，女王的挚友、完美助理帕特里克去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32640" y="65232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9" name="图片 1" descr=""/>
          <p:cNvPicPr/>
          <p:nvPr/>
        </p:nvPicPr>
        <p:blipFill>
          <a:blip r:embed="rId1"/>
          <a:stretch/>
        </p:blipFill>
        <p:spPr>
          <a:xfrm>
            <a:off x="1874160" y="0"/>
            <a:ext cx="10317600" cy="6857640"/>
          </a:xfrm>
          <a:prstGeom prst="rect">
            <a:avLst/>
          </a:prstGeom>
          <a:ln w="0">
            <a:noFill/>
          </a:ln>
        </p:spPr>
      </p:pic>
      <p:sp>
        <p:nvSpPr>
          <p:cNvPr id="160" name="矩形 3"/>
          <p:cNvSpPr/>
          <p:nvPr/>
        </p:nvSpPr>
        <p:spPr>
          <a:xfrm>
            <a:off x="0" y="0"/>
            <a:ext cx="1873800" cy="685764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文本框 4"/>
          <p:cNvSpPr/>
          <p:nvPr/>
        </p:nvSpPr>
        <p:spPr>
          <a:xfrm>
            <a:off x="7615440" y="5462640"/>
            <a:ext cx="457632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受人们的爱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矩形 5"/>
          <p:cNvSpPr/>
          <p:nvPr/>
        </p:nvSpPr>
        <p:spPr>
          <a:xfrm>
            <a:off x="8545320" y="6351480"/>
            <a:ext cx="3646440" cy="57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1874160" y="835560"/>
            <a:ext cx="4412160" cy="2707560"/>
          </a:xfrm>
          <a:prstGeom prst="rect">
            <a:avLst/>
          </a:prstGeom>
          <a:solidFill>
            <a:schemeClr val="bg1"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文本框 6"/>
          <p:cNvSpPr/>
          <p:nvPr/>
        </p:nvSpPr>
        <p:spPr>
          <a:xfrm>
            <a:off x="2112480" y="1216080"/>
            <a:ext cx="37548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77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，在伊丽莎白二世登基</a:t>
            </a: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25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周年庆典活动中，女王头戴一顶饰有</a:t>
            </a: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25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朵编织花的帽子与前来向她表示祝贺的人们会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/>
          <p:cNvSpPr/>
          <p:nvPr/>
        </p:nvSpPr>
        <p:spPr>
          <a:xfrm>
            <a:off x="1874160" y="3587400"/>
            <a:ext cx="4412160" cy="2707560"/>
          </a:xfrm>
          <a:prstGeom prst="rect">
            <a:avLst/>
          </a:prstGeom>
          <a:solidFill>
            <a:schemeClr val="bg1"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文本框 9"/>
          <p:cNvSpPr/>
          <p:nvPr/>
        </p:nvSpPr>
        <p:spPr>
          <a:xfrm>
            <a:off x="2112480" y="3924000"/>
            <a:ext cx="37548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女王重申了</a:t>
            </a: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21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岁生日时所做的终生为国家效力的誓言，“最初立下这个誓言时，我尚小，阅历尚浅，但我从不后悔，也不实验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8" name="图片 1" descr=""/>
          <p:cNvPicPr/>
          <p:nvPr/>
        </p:nvPicPr>
        <p:blipFill>
          <a:blip r:embed="rId1"/>
          <a:stretch/>
        </p:blipFill>
        <p:spPr>
          <a:xfrm>
            <a:off x="7345800" y="0"/>
            <a:ext cx="4845960" cy="685764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3"/>
          <p:cNvSpPr/>
          <p:nvPr/>
        </p:nvSpPr>
        <p:spPr>
          <a:xfrm>
            <a:off x="6400800" y="4583160"/>
            <a:ext cx="579096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铁娘子与英国玫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8545320" y="5472360"/>
            <a:ext cx="3646440" cy="57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文本框 5"/>
          <p:cNvSpPr/>
          <p:nvPr/>
        </p:nvSpPr>
        <p:spPr>
          <a:xfrm>
            <a:off x="1353600" y="2828880"/>
            <a:ext cx="5991480" cy="1186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章节更多的讲述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长子查尔斯与戴安娜的婚姻经历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·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3" name="图片 2" descr=""/>
          <p:cNvPicPr/>
          <p:nvPr/>
        </p:nvPicPr>
        <p:blipFill>
          <a:blip r:embed="rId1"/>
          <a:stretch/>
        </p:blipFill>
        <p:spPr>
          <a:xfrm>
            <a:off x="1132200" y="0"/>
            <a:ext cx="4963680" cy="687420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3"/>
          <p:cNvSpPr/>
          <p:nvPr/>
        </p:nvSpPr>
        <p:spPr>
          <a:xfrm>
            <a:off x="6967800" y="5445720"/>
            <a:ext cx="522360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特殊关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8545320" y="6334920"/>
            <a:ext cx="3646440" cy="57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76" name="图片 5" descr=""/>
          <p:cNvPicPr/>
          <p:nvPr/>
        </p:nvPicPr>
        <p:blipFill>
          <a:blip r:embed="rId2"/>
          <a:stretch/>
        </p:blipFill>
        <p:spPr>
          <a:xfrm>
            <a:off x="6967800" y="0"/>
            <a:ext cx="5223600" cy="409896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6"/>
          <p:cNvSpPr/>
          <p:nvPr/>
        </p:nvSpPr>
        <p:spPr>
          <a:xfrm>
            <a:off x="6967800" y="4118040"/>
            <a:ext cx="52236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82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，经过精心安排，女王与美国总统里根在温莎家庭公园里一同骑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7"/>
          <p:cNvSpPr/>
          <p:nvPr/>
        </p:nvSpPr>
        <p:spPr>
          <a:xfrm>
            <a:off x="0" y="5133600"/>
            <a:ext cx="6095520" cy="5162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85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玛格丽特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撒切尔首相在唐宁街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向女王行屈膝礼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0" name="图片 2" descr=""/>
          <p:cNvPicPr/>
          <p:nvPr/>
        </p:nvPicPr>
        <p:blipFill>
          <a:blip r:embed="rId1"/>
          <a:stretch/>
        </p:blipFill>
        <p:spPr>
          <a:xfrm>
            <a:off x="7455240" y="0"/>
            <a:ext cx="4736160" cy="685764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3"/>
          <p:cNvSpPr/>
          <p:nvPr/>
        </p:nvSpPr>
        <p:spPr>
          <a:xfrm>
            <a:off x="7455240" y="4226400"/>
            <a:ext cx="473616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儿女的家庭危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8545320" y="5115600"/>
            <a:ext cx="3646440" cy="57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文本框 5"/>
          <p:cNvSpPr/>
          <p:nvPr/>
        </p:nvSpPr>
        <p:spPr>
          <a:xfrm>
            <a:off x="871920" y="1563480"/>
            <a:ext cx="52236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92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1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，伊丽莎白二世发表“多灾之年”演讲，就近期王室的麻烦事表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1144800" y="2849760"/>
            <a:ext cx="52236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审查</a:t>
            </a:r>
            <a:r>
              <a:rPr b="1" lang="en-US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····</a:t>
            </a: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只有在亲切、幽默、互谅的基础上才能有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"/>
          <p:cNvSpPr/>
          <p:nvPr/>
        </p:nvSpPr>
        <p:spPr>
          <a:xfrm>
            <a:off x="7455240" y="5231520"/>
            <a:ext cx="473616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灾之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8"/>
          <p:cNvSpPr/>
          <p:nvPr/>
        </p:nvSpPr>
        <p:spPr>
          <a:xfrm>
            <a:off x="8545320" y="6120720"/>
            <a:ext cx="3646440" cy="57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1030680" y="0"/>
            <a:ext cx="3225960" cy="6857640"/>
          </a:xfrm>
          <a:prstGeom prst="rect">
            <a:avLst/>
          </a:prstGeom>
          <a:solidFill>
            <a:schemeClr val="bg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2017800" y="0"/>
            <a:ext cx="2705400" cy="6857640"/>
          </a:xfrm>
          <a:prstGeom prst="rect">
            <a:avLst/>
          </a:prstGeom>
          <a:solidFill>
            <a:schemeClr val="bg1">
              <a:alpha val="3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矩形 2"/>
          <p:cNvSpPr/>
          <p:nvPr/>
        </p:nvSpPr>
        <p:spPr>
          <a:xfrm>
            <a:off x="4426560" y="1298160"/>
            <a:ext cx="70632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伊丽莎白女王极具传奇性，她是当今世界上最神秘也是知名度最高的女性，她是百年来和平时期出席政府内阁会议的第一位英国君主。她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5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岁登基，即位六十二年，经历过种种波澜起伏，但是她一直守口如瓶，对外保持永恒的神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书含有不为人知的第一手资料，多幅少见的精美插图——作者是世界知名报刊杂志《纽约时报》、《名利场》的记者，同时也是著名的畅销书作家，写过多部欧美畅销的传记作品。作者与女王有多次接触，通过多次采访，并查阅了之前从未面世的文件，取得了大量的珍贵照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英国最伟大的历史学家重磅推荐——世界闻名的历史学家保罗•约翰逊强力推荐，称赞本书“将一个棘手的题材写得趣味十足、鞭辟入里、文思巧妙，是不可多得的佳作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967680" y="1264320"/>
            <a:ext cx="3336840" cy="44809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60" name="文本框 6"/>
          <p:cNvSpPr/>
          <p:nvPr/>
        </p:nvSpPr>
        <p:spPr>
          <a:xfrm>
            <a:off x="10298520" y="623700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c00000"/>
                </a:solidFill>
                <a:latin typeface="Calibri"/>
              </a:rPr>
              <a:t>摘自豆瓣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斜纹 7"/>
          <p:cNvSpPr/>
          <p:nvPr/>
        </p:nvSpPr>
        <p:spPr>
          <a:xfrm>
            <a:off x="-36720" y="0"/>
            <a:ext cx="2278800" cy="2278800"/>
          </a:xfrm>
          <a:prstGeom prst="diagStripe">
            <a:avLst>
              <a:gd name="adj" fmla="val 50000"/>
            </a:avLst>
          </a:pr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8"/>
          <p:cNvSpPr/>
          <p:nvPr/>
        </p:nvSpPr>
        <p:spPr>
          <a:xfrm rot="18946800">
            <a:off x="98280" y="485280"/>
            <a:ext cx="1456560" cy="64368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【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书推荐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1948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88" name="矩形 2"/>
          <p:cNvSpPr/>
          <p:nvPr/>
        </p:nvSpPr>
        <p:spPr>
          <a:xfrm>
            <a:off x="95400" y="4900680"/>
            <a:ext cx="8617320" cy="455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97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白金汉宫门前。女王与菲利普亲王走在数千束献给已故王妃戴安娜的鲜花中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·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文本框 4"/>
          <p:cNvSpPr/>
          <p:nvPr/>
        </p:nvSpPr>
        <p:spPr>
          <a:xfrm>
            <a:off x="95400" y="3665520"/>
            <a:ext cx="473616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悲剧与传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矩形 5"/>
          <p:cNvSpPr/>
          <p:nvPr/>
        </p:nvSpPr>
        <p:spPr>
          <a:xfrm>
            <a:off x="95400" y="4554720"/>
            <a:ext cx="3646440" cy="57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2" name="图片 1" descr=""/>
          <p:cNvPicPr/>
          <p:nvPr/>
        </p:nvPicPr>
        <p:blipFill>
          <a:blip r:embed="rId1"/>
          <a:stretch/>
        </p:blipFill>
        <p:spPr>
          <a:xfrm>
            <a:off x="103680" y="348120"/>
            <a:ext cx="4068000" cy="25531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193" name="图片 3" descr=""/>
          <p:cNvPicPr/>
          <p:nvPr/>
        </p:nvPicPr>
        <p:blipFill>
          <a:blip r:embed="rId2"/>
          <a:stretch/>
        </p:blipFill>
        <p:spPr>
          <a:xfrm>
            <a:off x="4302720" y="348120"/>
            <a:ext cx="3891960" cy="25531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194" name="矩形 4"/>
          <p:cNvSpPr/>
          <p:nvPr/>
        </p:nvSpPr>
        <p:spPr>
          <a:xfrm>
            <a:off x="8325360" y="348120"/>
            <a:ext cx="3866400" cy="2553120"/>
          </a:xfrm>
          <a:prstGeom prst="rect">
            <a:avLst/>
          </a:pr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9344880" y="1163520"/>
            <a:ext cx="1827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与悲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6"/>
          <p:cNvSpPr/>
          <p:nvPr/>
        </p:nvSpPr>
        <p:spPr>
          <a:xfrm>
            <a:off x="871920" y="3357720"/>
            <a:ext cx="7067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97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0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日，伊丽莎白与菲利普的金婚纪念日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97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2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1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日，不列颠尼亚号退役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00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8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日，王太后的百岁生日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02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30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日，王太后去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98" name="图片 1" descr=""/>
          <p:cNvPicPr/>
          <p:nvPr/>
        </p:nvPicPr>
        <p:blipFill>
          <a:blip r:embed="rId1"/>
          <a:stretch/>
        </p:blipFill>
        <p:spPr>
          <a:xfrm>
            <a:off x="2780280" y="0"/>
            <a:ext cx="9411480" cy="6857640"/>
          </a:xfrm>
          <a:prstGeom prst="rect">
            <a:avLst/>
          </a:prstGeom>
          <a:ln w="0">
            <a:noFill/>
          </a:ln>
        </p:spPr>
      </p:pic>
      <p:sp>
        <p:nvSpPr>
          <p:cNvPr id="199" name="文本框 3"/>
          <p:cNvSpPr/>
          <p:nvPr/>
        </p:nvSpPr>
        <p:spPr>
          <a:xfrm>
            <a:off x="0" y="568800"/>
            <a:ext cx="473616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颗军人的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矩形 4"/>
          <p:cNvSpPr/>
          <p:nvPr/>
        </p:nvSpPr>
        <p:spPr>
          <a:xfrm>
            <a:off x="1090080" y="1458000"/>
            <a:ext cx="3646440" cy="57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文本框 5"/>
          <p:cNvSpPr/>
          <p:nvPr/>
        </p:nvSpPr>
        <p:spPr>
          <a:xfrm>
            <a:off x="0" y="5311800"/>
            <a:ext cx="7067160" cy="546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6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，查尔斯亲王与两个儿子——王位第二第三顺位继承人威廉王子、哈里王子在一起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32640" y="65232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6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4" name="图片 1" descr=""/>
          <p:cNvPicPr/>
          <p:nvPr/>
        </p:nvPicPr>
        <p:blipFill>
          <a:blip r:embed="rId1"/>
          <a:stretch/>
        </p:blipFill>
        <p:spPr>
          <a:xfrm>
            <a:off x="6791400" y="0"/>
            <a:ext cx="5400360" cy="6857640"/>
          </a:xfrm>
          <a:prstGeom prst="rect">
            <a:avLst/>
          </a:prstGeom>
          <a:ln w="0">
            <a:noFill/>
          </a:ln>
        </p:spPr>
      </p:pic>
      <p:sp>
        <p:nvSpPr>
          <p:cNvPr id="205" name="文本框 3"/>
          <p:cNvSpPr/>
          <p:nvPr/>
        </p:nvSpPr>
        <p:spPr>
          <a:xfrm>
            <a:off x="7808760" y="5169960"/>
            <a:ext cx="438300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女王万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8545320" y="6059160"/>
            <a:ext cx="3646440" cy="57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文本框 5"/>
          <p:cNvSpPr/>
          <p:nvPr/>
        </p:nvSpPr>
        <p:spPr>
          <a:xfrm>
            <a:off x="1045080" y="2306880"/>
            <a:ext cx="48474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迄今为止，英国历史上唯一一个在位时间超过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60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的国王就是维多利亚女王。在位时间共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63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零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16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天，而这个纪录到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2015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9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就会被伊丽莎白二世打破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2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文本框 1"/>
          <p:cNvSpPr/>
          <p:nvPr/>
        </p:nvSpPr>
        <p:spPr>
          <a:xfrm>
            <a:off x="5765760" y="2876760"/>
            <a:ext cx="808920" cy="1004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书中通过更多的实例来表烘托伊丽莎白为人处事、政治头脑、高超交际、应变能力等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·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议通过书中的实际案例来加以体会，以上的只是摘录了其中的一些重要历史片段、镜头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·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0" y="0"/>
            <a:ext cx="4078080" cy="6857640"/>
          </a:xfrm>
          <a:prstGeom prst="rect">
            <a:avLst/>
          </a:prstGeom>
          <a:solidFill>
            <a:srgbClr val="f1ecd9"/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4" name="组合 10"/>
          <p:cNvGrpSpPr/>
          <p:nvPr/>
        </p:nvGrpSpPr>
        <p:grpSpPr>
          <a:xfrm>
            <a:off x="713520" y="870840"/>
            <a:ext cx="2617920" cy="2630520"/>
            <a:chOff x="713520" y="870840"/>
            <a:chExt cx="2617920" cy="2630520"/>
          </a:xfrm>
        </p:grpSpPr>
        <p:sp>
          <p:nvSpPr>
            <p:cNvPr id="65" name="矩形 1"/>
            <p:cNvSpPr/>
            <p:nvPr/>
          </p:nvSpPr>
          <p:spPr>
            <a:xfrm>
              <a:off x="1155600" y="1311120"/>
              <a:ext cx="1755000" cy="175500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6" name="文本框 2"/>
            <p:cNvSpPr/>
            <p:nvPr/>
          </p:nvSpPr>
          <p:spPr>
            <a:xfrm>
              <a:off x="1531800" y="1311120"/>
              <a:ext cx="1004040" cy="1735560"/>
            </a:xfrm>
            <a:prstGeom prst="rect">
              <a:avLst/>
            </a:prstGeom>
            <a:noFill/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书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导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4"/>
            <p:cNvSpPr/>
            <p:nvPr/>
          </p:nvSpPr>
          <p:spPr>
            <a:xfrm>
              <a:off x="1004040" y="1172880"/>
              <a:ext cx="2058120" cy="2058120"/>
            </a:xfrm>
            <a:prstGeom prst="rect">
              <a:avLst/>
            </a:prstGeom>
            <a:noFill/>
            <a:ln>
              <a:solidFill>
                <a:srgbClr val="c00000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" name="矩形 5"/>
            <p:cNvSpPr/>
            <p:nvPr/>
          </p:nvSpPr>
          <p:spPr>
            <a:xfrm>
              <a:off x="2889720" y="870840"/>
              <a:ext cx="441720" cy="441720"/>
            </a:xfrm>
            <a:prstGeom prst="rect">
              <a:avLst/>
            </a:prstGeom>
            <a:noFill/>
            <a:ln>
              <a:solidFill>
                <a:srgbClr val="c00000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" name="矩形 6"/>
            <p:cNvSpPr/>
            <p:nvPr/>
          </p:nvSpPr>
          <p:spPr>
            <a:xfrm>
              <a:off x="713520" y="3059640"/>
              <a:ext cx="441720" cy="441720"/>
            </a:xfrm>
            <a:prstGeom prst="rect">
              <a:avLst/>
            </a:prstGeom>
            <a:noFill/>
            <a:ln>
              <a:solidFill>
                <a:srgbClr val="c00000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0" name="文本框 9"/>
          <p:cNvSpPr/>
          <p:nvPr/>
        </p:nvSpPr>
        <p:spPr>
          <a:xfrm>
            <a:off x="707040" y="4052880"/>
            <a:ext cx="28857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伊丽莎白二世的故事是围绕着一个主题展开的，那就是她如何处理着天降的大任和由此而来的生活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1"/>
          <p:cNvSpPr/>
          <p:nvPr/>
        </p:nvSpPr>
        <p:spPr>
          <a:xfrm>
            <a:off x="5776920" y="712800"/>
            <a:ext cx="4581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20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她是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她的生活是什么样子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她在工作中是怎样学会与各色人打交道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她是怎样体验周围世界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她的策略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她的家庭是什么情况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她是怎么保持均衡又维持自己的基本价值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她是怎样最大限度地生活在公共视线之内却又保护了自己的隐私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她会让位给长子查尔斯王子甚至是长孙威廉王子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她是怎样在她一生中最为艰难的时期维持了君主制的安稳和活力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2160720" y="2340000"/>
            <a:ext cx="3198600" cy="203004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1" lang="zh-CN" sz="6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带着种种疑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我们一起走进伊丽莎白的世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角三角形 5"/>
          <p:cNvSpPr/>
          <p:nvPr/>
        </p:nvSpPr>
        <p:spPr>
          <a:xfrm>
            <a:off x="6606000" y="2568960"/>
            <a:ext cx="1761120" cy="1761120"/>
          </a:xfrm>
          <a:prstGeom prst="rtTriangle">
            <a:avLst/>
          </a:pr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0" y="2568960"/>
            <a:ext cx="914040" cy="1726920"/>
          </a:xfrm>
          <a:prstGeom prst="rect">
            <a:avLst/>
          </a:pr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20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7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5122440" cy="6857640"/>
          </a:xfrm>
          <a:prstGeom prst="rect">
            <a:avLst/>
          </a:prstGeom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</p:pic>
      <p:sp>
        <p:nvSpPr>
          <p:cNvPr id="78" name="文本框 6"/>
          <p:cNvSpPr/>
          <p:nvPr/>
        </p:nvSpPr>
        <p:spPr>
          <a:xfrm>
            <a:off x="0" y="348480"/>
            <a:ext cx="512244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皇家教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直角三角形 7"/>
          <p:cNvSpPr/>
          <p:nvPr/>
        </p:nvSpPr>
        <p:spPr>
          <a:xfrm>
            <a:off x="0" y="3788280"/>
            <a:ext cx="3069360" cy="3069360"/>
          </a:xfrm>
          <a:prstGeom prst="rtTriangle">
            <a:avLst/>
          </a:prstGeom>
          <a:solidFill>
            <a:schemeClr val="bg1">
              <a:alpha val="4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" name="矩形 8"/>
          <p:cNvSpPr/>
          <p:nvPr/>
        </p:nvSpPr>
        <p:spPr>
          <a:xfrm>
            <a:off x="0" y="1237320"/>
            <a:ext cx="4686120" cy="57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文本框 9"/>
          <p:cNvSpPr/>
          <p:nvPr/>
        </p:nvSpPr>
        <p:spPr>
          <a:xfrm>
            <a:off x="5715000" y="385560"/>
            <a:ext cx="6012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26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1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日，伊丽莎白出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36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2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日，伯父爱德华的退位，父亲意外当上了国王，伊丽莎白自然成了公主，按照世袭，也就是下一个女王，此时伊丽莎白已被指定为“准继承人”而不是“女王储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为了让伊丽莎白做好准备，她开始了一系列的学习、积累、培训——广泛的阅读、学习法语、宪法、读报、礼仪等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0"/>
          <p:cNvSpPr/>
          <p:nvPr/>
        </p:nvSpPr>
        <p:spPr>
          <a:xfrm>
            <a:off x="5638680" y="3917880"/>
            <a:ext cx="1487520" cy="1487520"/>
          </a:xfrm>
          <a:prstGeom prst="ellipse">
            <a:avLst/>
          </a:pr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文本框 12"/>
          <p:cNvSpPr/>
          <p:nvPr/>
        </p:nvSpPr>
        <p:spPr>
          <a:xfrm>
            <a:off x="6017760" y="4338720"/>
            <a:ext cx="729720" cy="63828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3"/>
          <p:cNvSpPr/>
          <p:nvPr/>
        </p:nvSpPr>
        <p:spPr>
          <a:xfrm>
            <a:off x="7126560" y="3917880"/>
            <a:ext cx="1487520" cy="1487520"/>
          </a:xfrm>
          <a:prstGeom prst="ellipse">
            <a:avLst/>
          </a:pr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文本框 14"/>
          <p:cNvSpPr/>
          <p:nvPr/>
        </p:nvSpPr>
        <p:spPr>
          <a:xfrm>
            <a:off x="7475040" y="4338720"/>
            <a:ext cx="790560" cy="69948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母亲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言传身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5"/>
          <p:cNvSpPr/>
          <p:nvPr/>
        </p:nvSpPr>
        <p:spPr>
          <a:xfrm>
            <a:off x="8614080" y="3917880"/>
            <a:ext cx="1487520" cy="1487520"/>
          </a:xfrm>
          <a:prstGeom prst="ellipse">
            <a:avLst/>
          </a:pr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文本框 16"/>
          <p:cNvSpPr/>
          <p:nvPr/>
        </p:nvSpPr>
        <p:spPr>
          <a:xfrm>
            <a:off x="9038880" y="4051080"/>
            <a:ext cx="638280" cy="130932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父亲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毅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勇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责任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7"/>
          <p:cNvSpPr/>
          <p:nvPr/>
        </p:nvSpPr>
        <p:spPr>
          <a:xfrm>
            <a:off x="10101960" y="3917880"/>
            <a:ext cx="1487520" cy="1487520"/>
          </a:xfrm>
          <a:prstGeom prst="ellipse">
            <a:avLst/>
          </a:pr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文本框 18"/>
          <p:cNvSpPr/>
          <p:nvPr/>
        </p:nvSpPr>
        <p:spPr>
          <a:xfrm>
            <a:off x="10526400" y="4307760"/>
            <a:ext cx="638280" cy="69948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老师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9"/>
          <p:cNvSpPr/>
          <p:nvPr/>
        </p:nvSpPr>
        <p:spPr>
          <a:xfrm>
            <a:off x="7638480" y="5552280"/>
            <a:ext cx="4356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慢慢的伊丽莎白由一个羞怯的小女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变成一位魅力十足的年轻人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4107960" y="0"/>
            <a:ext cx="8083800" cy="6838560"/>
          </a:xfrm>
          <a:prstGeom prst="rect">
            <a:avLst/>
          </a:prstGeom>
          <a:ln w="0">
            <a:noFill/>
          </a:ln>
        </p:spPr>
      </p:pic>
      <p:sp>
        <p:nvSpPr>
          <p:cNvPr id="92" name="矩形 2"/>
          <p:cNvSpPr/>
          <p:nvPr/>
        </p:nvSpPr>
        <p:spPr>
          <a:xfrm>
            <a:off x="0" y="0"/>
            <a:ext cx="4401360" cy="6857640"/>
          </a:xfrm>
          <a:prstGeom prst="rect">
            <a:avLst/>
          </a:prstGeom>
          <a:solidFill>
            <a:srgbClr val="f1ecd9"/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文本框 3"/>
          <p:cNvSpPr/>
          <p:nvPr/>
        </p:nvSpPr>
        <p:spPr>
          <a:xfrm>
            <a:off x="4401720" y="4891320"/>
            <a:ext cx="716940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的历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4401720" y="5780520"/>
            <a:ext cx="7169400" cy="57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文本框 5"/>
          <p:cNvSpPr/>
          <p:nvPr/>
        </p:nvSpPr>
        <p:spPr>
          <a:xfrm>
            <a:off x="343440" y="812880"/>
            <a:ext cx="371448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39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，她爱上了菲利普王子，也就是她的丈夫，那时她才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3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岁。经过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的时间才正式对外公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伊丽莎白在处理可能导致英联邦分裂的种族问题上，充分展示出了王室的传承不息、团结稳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菲利普也把自己的梦想与伊丽莎白融为一体，开始了美好人生之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"/>
          <p:cNvSpPr/>
          <p:nvPr/>
        </p:nvSpPr>
        <p:spPr>
          <a:xfrm>
            <a:off x="3889800" y="0"/>
            <a:ext cx="8301960" cy="6857640"/>
          </a:xfrm>
          <a:custGeom>
            <a:avLst/>
            <a:gdLst>
              <a:gd name="textAreaLeft" fmla="*/ 0 w 8301960"/>
              <a:gd name="textAreaRight" fmla="*/ 8302320 w 83019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8302172" h="6858000">
                <a:moveTo>
                  <a:pt x="0" y="0"/>
                </a:moveTo>
                <a:lnTo>
                  <a:pt x="8302172" y="0"/>
                </a:lnTo>
                <a:lnTo>
                  <a:pt x="8302172" y="6858000"/>
                </a:lnTo>
                <a:lnTo>
                  <a:pt x="2525486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7910280" y="3106080"/>
            <a:ext cx="4310280" cy="2975040"/>
          </a:xfrm>
          <a:custGeom>
            <a:avLst/>
            <a:gdLst>
              <a:gd name="textAreaLeft" fmla="*/ 0 w 4310280"/>
              <a:gd name="textAreaRight" fmla="*/ 4310640 w 4310280"/>
              <a:gd name="textAreaTop" fmla="*/ 0 h 2975040"/>
              <a:gd name="textAreaBottom" fmla="*/ 2975400 h 2975040"/>
            </a:gdLst>
            <a:ahLst/>
            <a:rect l="textAreaLeft" t="textAreaTop" r="textAreaRight" b="textAreaBottom"/>
            <a:pathLst>
              <a:path w="4310696" h="2975428">
                <a:moveTo>
                  <a:pt x="0" y="1625600"/>
                </a:moveTo>
                <a:lnTo>
                  <a:pt x="2598010" y="0"/>
                </a:lnTo>
                <a:lnTo>
                  <a:pt x="4310696" y="0"/>
                </a:lnTo>
                <a:lnTo>
                  <a:pt x="3004458" y="2975428"/>
                </a:lnTo>
                <a:lnTo>
                  <a:pt x="0" y="1625600"/>
                </a:lnTo>
                <a:close/>
              </a:path>
            </a:pathLst>
          </a:custGeom>
          <a:solidFill>
            <a:schemeClr val="tx1">
              <a:lumMod val="50000"/>
              <a:lumOff val="50000"/>
            </a:schemeClr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523920" cy="685764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3"/>
          <p:cNvSpPr/>
          <p:nvPr/>
        </p:nvSpPr>
        <p:spPr>
          <a:xfrm>
            <a:off x="0" y="5544360"/>
            <a:ext cx="364644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命召唤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0" y="6433560"/>
            <a:ext cx="3646440" cy="57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3657600" y="961560"/>
            <a:ext cx="8562960" cy="2144160"/>
          </a:xfrm>
          <a:custGeom>
            <a:avLst/>
            <a:gdLst>
              <a:gd name="textAreaLeft" fmla="*/ 0 w 8562960"/>
              <a:gd name="textAreaRight" fmla="*/ 8563320 w 8562960"/>
              <a:gd name="textAreaTop" fmla="*/ 0 h 2144160"/>
              <a:gd name="textAreaBottom" fmla="*/ 2144520 h 2144160"/>
            </a:gdLst>
            <a:ahLst/>
            <a:rect l="textAreaLeft" t="textAreaTop" r="textAreaRight" b="textAreaBottom"/>
            <a:pathLst>
              <a:path w="8534400" h="2144487">
                <a:moveTo>
                  <a:pt x="0" y="14514"/>
                </a:moveTo>
                <a:lnTo>
                  <a:pt x="8534400" y="0"/>
                </a:lnTo>
                <a:lnTo>
                  <a:pt x="8534400" y="2144487"/>
                </a:lnTo>
                <a:lnTo>
                  <a:pt x="406399" y="2129972"/>
                </a:lnTo>
                <a:lnTo>
                  <a:pt x="0" y="14514"/>
                </a:lnTo>
                <a:close/>
              </a:path>
            </a:pathLst>
          </a:cu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文本框 5"/>
          <p:cNvSpPr/>
          <p:nvPr/>
        </p:nvSpPr>
        <p:spPr>
          <a:xfrm>
            <a:off x="5209560" y="1030680"/>
            <a:ext cx="56624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48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爱的结晶——第一位王子查尔斯诞生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5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第二个孩子安妮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伊丽莎白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丽斯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路易斯出生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5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父亲路易六世去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5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岁的伊丽莎白二世在威斯敏斯特大教堂加冕受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7" descr=""/>
          <p:cNvPicPr/>
          <p:nvPr/>
        </p:nvPicPr>
        <p:blipFill>
          <a:blip r:embed="rId2"/>
          <a:stretch/>
        </p:blipFill>
        <p:spPr>
          <a:xfrm rot="20760600">
            <a:off x="7924680" y="3131640"/>
            <a:ext cx="2625840" cy="330156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5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Blur/>
                    </a14:imgEffect>
                  </a14:imgLayer>
                </a14:imgProps>
              </a:ext>
            </a:extLst>
          </a:blip>
          <a:stretch/>
        </p:blipFill>
        <p:spPr>
          <a:xfrm>
            <a:off x="6737760" y="0"/>
            <a:ext cx="5454000" cy="6857640"/>
          </a:xfrm>
          <a:prstGeom prst="rect">
            <a:avLst/>
          </a:prstGeom>
          <a:ln w="0">
            <a:noFill/>
          </a:ln>
        </p:spPr>
      </p:pic>
      <p:sp>
        <p:nvSpPr>
          <p:cNvPr id="106" name="图片 1"/>
          <p:cNvSpPr/>
          <p:nvPr/>
        </p:nvSpPr>
        <p:spPr>
          <a:xfrm>
            <a:off x="9105120" y="3051720"/>
            <a:ext cx="1433520" cy="142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3"/>
          <p:cNvSpPr/>
          <p:nvPr/>
        </p:nvSpPr>
        <p:spPr>
          <a:xfrm>
            <a:off x="8856720" y="2797920"/>
            <a:ext cx="1929960" cy="1929960"/>
          </a:xfrm>
          <a:prstGeom prst="ellipse">
            <a:avLst/>
          </a:prstGeom>
          <a:noFill/>
          <a:ln w="57150">
            <a:solidFill>
              <a:srgbClr val="c00000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文本框 5"/>
          <p:cNvSpPr/>
          <p:nvPr/>
        </p:nvSpPr>
        <p:spPr>
          <a:xfrm>
            <a:off x="7615440" y="5462640"/>
            <a:ext cx="457632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准备好了吗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8545320" y="6351480"/>
            <a:ext cx="3646440" cy="57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任意多边形 7"/>
          <p:cNvSpPr/>
          <p:nvPr/>
        </p:nvSpPr>
        <p:spPr>
          <a:xfrm>
            <a:off x="7629120" y="4530960"/>
            <a:ext cx="1582920" cy="98244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982440"/>
              <a:gd name="textAreaBottom" fmla="*/ 982800 h 982440"/>
            </a:gdLst>
            <a:ahLst/>
            <a:rect l="textAreaLeft" t="textAreaTop" r="textAreaRight" b="textAreaBottom"/>
            <a:pathLst>
              <a:path w="1583140" h="982639">
                <a:moveTo>
                  <a:pt x="1583140" y="0"/>
                </a:moveTo>
                <a:lnTo>
                  <a:pt x="0" y="982639"/>
                </a:lnTo>
              </a:path>
            </a:pathLst>
          </a:custGeom>
          <a:noFill/>
          <a:ln w="57150">
            <a:solidFill>
              <a:srgbClr val="c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文本框 9"/>
          <p:cNvSpPr/>
          <p:nvPr/>
        </p:nvSpPr>
        <p:spPr>
          <a:xfrm>
            <a:off x="559080" y="1443960"/>
            <a:ext cx="5448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父亲路易六世的去世，重任落在了伊丽莎白的肩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53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，沿用“温莎王朝”作为本朝称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53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24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日，玛丽太王太后去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"/>
            </a:pPr>
            <a:r>
              <a:rPr b="0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1953</a:t>
            </a:r>
            <a:r>
              <a:rPr b="0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年伊丽莎白加冕典礼使得英国的团队和凝聚力达到了空前的高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0"/>
          <p:cNvSpPr/>
          <p:nvPr/>
        </p:nvSpPr>
        <p:spPr>
          <a:xfrm>
            <a:off x="0" y="1443960"/>
            <a:ext cx="171000" cy="3970080"/>
          </a:xfrm>
          <a:prstGeom prst="rect">
            <a:avLst/>
          </a:pr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f1ecd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矩形 8"/>
          <p:cNvSpPr/>
          <p:nvPr/>
        </p:nvSpPr>
        <p:spPr>
          <a:xfrm>
            <a:off x="0" y="2400840"/>
            <a:ext cx="7169760" cy="3700800"/>
          </a:xfrm>
          <a:custGeom>
            <a:avLst/>
            <a:gdLst>
              <a:gd name="textAreaLeft" fmla="*/ 0 w 7169760"/>
              <a:gd name="textAreaRight" fmla="*/ 7170120 w 7169760"/>
              <a:gd name="textAreaTop" fmla="*/ 0 h 3700800"/>
              <a:gd name="textAreaBottom" fmla="*/ 3701160 h 3700800"/>
            </a:gdLst>
            <a:ahLst/>
            <a:rect l="textAreaLeft" t="textAreaTop" r="textAreaRight" b="textAreaBottom"/>
            <a:pathLst>
              <a:path w="7170011" h="3701143">
                <a:moveTo>
                  <a:pt x="0" y="1625600"/>
                </a:moveTo>
                <a:lnTo>
                  <a:pt x="2598010" y="0"/>
                </a:lnTo>
                <a:lnTo>
                  <a:pt x="7170011" y="2670629"/>
                </a:lnTo>
                <a:lnTo>
                  <a:pt x="4572001" y="3701143"/>
                </a:lnTo>
                <a:lnTo>
                  <a:pt x="0" y="1625600"/>
                </a:lnTo>
                <a:close/>
              </a:path>
            </a:pathLst>
          </a:custGeom>
          <a:solidFill>
            <a:schemeClr val="tx1">
              <a:lumMod val="50000"/>
              <a:lumOff val="50000"/>
            </a:schemeClr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15" name="图片 2" descr=""/>
          <p:cNvPicPr/>
          <p:nvPr/>
        </p:nvPicPr>
        <p:blipFill>
          <a:blip r:embed="rId1"/>
          <a:stretch/>
        </p:blipFill>
        <p:spPr>
          <a:xfrm>
            <a:off x="6730920" y="0"/>
            <a:ext cx="5460840" cy="6857640"/>
          </a:xfrm>
          <a:prstGeom prst="rect">
            <a:avLst/>
          </a:prstGeom>
          <a:ln w="0">
            <a:noFill/>
          </a:ln>
        </p:spPr>
      </p:pic>
      <p:sp>
        <p:nvSpPr>
          <p:cNvPr id="116" name="矩形 6"/>
          <p:cNvSpPr/>
          <p:nvPr/>
        </p:nvSpPr>
        <p:spPr>
          <a:xfrm rot="963000">
            <a:off x="-730440" y="2009160"/>
            <a:ext cx="10625760" cy="3252240"/>
          </a:xfrm>
          <a:custGeom>
            <a:avLst/>
            <a:gdLst>
              <a:gd name="textAreaLeft" fmla="*/ 0 w 10625760"/>
              <a:gd name="textAreaRight" fmla="*/ 10626120 w 10625760"/>
              <a:gd name="textAreaTop" fmla="*/ 0 h 3252240"/>
              <a:gd name="textAreaBottom" fmla="*/ 3252600 h 3252240"/>
            </a:gdLst>
            <a:ahLst/>
            <a:rect l="textAreaLeft" t="textAreaTop" r="textAreaRight" b="textAreaBottom"/>
            <a:pathLst>
              <a:path w="10626171" h="3252598">
                <a:moveTo>
                  <a:pt x="0" y="17437"/>
                </a:moveTo>
                <a:lnTo>
                  <a:pt x="10626171" y="0"/>
                </a:lnTo>
                <a:lnTo>
                  <a:pt x="10216914" y="2332256"/>
                </a:lnTo>
                <a:lnTo>
                  <a:pt x="1000128" y="3252598"/>
                </a:lnTo>
                <a:lnTo>
                  <a:pt x="0" y="17437"/>
                </a:lnTo>
                <a:close/>
              </a:path>
            </a:pathLst>
          </a:custGeom>
          <a:solidFill>
            <a:srgbClr val="c00000"/>
          </a:soli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文本框 3"/>
          <p:cNvSpPr/>
          <p:nvPr/>
        </p:nvSpPr>
        <p:spPr>
          <a:xfrm rot="858600">
            <a:off x="422640" y="2006280"/>
            <a:ext cx="8463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月的时间访问联邦成员国，共计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000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英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位环游地球的英国君主，也得到了联邦成员国的认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海外领土和殖民地都将伊丽莎白视为国家元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政党领袖的选择山，使得“新伊丽莎白时代”的幻想在指责声讨中暗淡了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"/>
          <p:cNvSpPr/>
          <p:nvPr/>
        </p:nvSpPr>
        <p:spPr>
          <a:xfrm>
            <a:off x="6730920" y="5544360"/>
            <a:ext cx="3646440" cy="82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家事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6730920" y="6433560"/>
            <a:ext cx="3646440" cy="57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  <Words>1424</Words>
  <Paragraphs>10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7T12:21:50Z</dcterms:created>
  <dc:creator>user</dc:creator>
  <dc:description/>
  <dc:language>en-US</dc:language>
  <cp:lastModifiedBy>王玉清</cp:lastModifiedBy>
  <dcterms:modified xsi:type="dcterms:W3CDTF">2016-02-23T02:25:05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4</vt:r8>
  </property>
</Properties>
</file>