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5"/>
          <p:cNvSpPr/>
          <p:nvPr/>
        </p:nvSpPr>
        <p:spPr>
          <a:xfrm>
            <a:off x="1041120" y="375480"/>
            <a:ext cx="5612760" cy="5612760"/>
          </a:xfrm>
          <a:prstGeom prst="ellipse">
            <a:avLst/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1" name="任意多边形 16"/>
          <p:cNvSpPr/>
          <p:nvPr/>
        </p:nvSpPr>
        <p:spPr>
          <a:xfrm>
            <a:off x="1699920" y="1034640"/>
            <a:ext cx="11180880" cy="4953600"/>
          </a:xfrm>
          <a:custGeom>
            <a:avLst/>
            <a:gdLst>
              <a:gd name="textAreaLeft" fmla="*/ 0 w 11180880"/>
              <a:gd name="textAreaRight" fmla="*/ 11181240 w 11180880"/>
              <a:gd name="textAreaTop" fmla="*/ 0 h 4953600"/>
              <a:gd name="textAreaBottom" fmla="*/ 4953960 h 4953600"/>
            </a:gdLst>
            <a:ahLst/>
            <a:rect l="textAreaLeft" t="textAreaTop" r="textAreaRight" b="textAreaBottom"/>
            <a:pathLst>
              <a:path w="11181278" h="4953990">
                <a:moveTo>
                  <a:pt x="2578272" y="2108"/>
                </a:moveTo>
                <a:cubicBezTo>
                  <a:pt x="3349049" y="33960"/>
                  <a:pt x="4085217" y="425574"/>
                  <a:pt x="4536553" y="1101048"/>
                </a:cubicBezTo>
                <a:cubicBezTo>
                  <a:pt x="5152013" y="2022147"/>
                  <a:pt x="5077128" y="3230579"/>
                  <a:pt x="4376890" y="4066508"/>
                </a:cubicBezTo>
                <a:lnTo>
                  <a:pt x="4230253" y="4226643"/>
                </a:lnTo>
                <a:lnTo>
                  <a:pt x="11181278" y="4226643"/>
                </a:lnTo>
                <a:lnTo>
                  <a:pt x="11181278" y="4946643"/>
                </a:lnTo>
                <a:lnTo>
                  <a:pt x="4953980" y="4946643"/>
                </a:lnTo>
                <a:lnTo>
                  <a:pt x="4953980" y="4953990"/>
                </a:lnTo>
                <a:lnTo>
                  <a:pt x="2477113" y="4953990"/>
                </a:lnTo>
                <a:cubicBezTo>
                  <a:pt x="1295463" y="4953990"/>
                  <a:pt x="278366" y="4119280"/>
                  <a:pt x="47837" y="2960335"/>
                </a:cubicBezTo>
                <a:cubicBezTo>
                  <a:pt x="-182691" y="1801390"/>
                  <a:pt x="437554" y="640992"/>
                  <a:pt x="1529256" y="188794"/>
                </a:cubicBezTo>
                <a:cubicBezTo>
                  <a:pt x="1870413" y="47482"/>
                  <a:pt x="2227918" y="-12371"/>
                  <a:pt x="2578272" y="2108"/>
                </a:cubicBez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2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3292560" y="311040"/>
            <a:ext cx="3881520" cy="29822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" name="对角圆角矩形 18"/>
          <p:cNvSpPr/>
          <p:nvPr/>
        </p:nvSpPr>
        <p:spPr>
          <a:xfrm>
            <a:off x="2834640" y="3293640"/>
            <a:ext cx="5261040" cy="89640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对角圆角矩形 19"/>
          <p:cNvSpPr/>
          <p:nvPr/>
        </p:nvSpPr>
        <p:spPr>
          <a:xfrm>
            <a:off x="3876840" y="4503960"/>
            <a:ext cx="4402800" cy="51516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组合 26"/>
          <p:cNvGrpSpPr/>
          <p:nvPr/>
        </p:nvGrpSpPr>
        <p:grpSpPr>
          <a:xfrm>
            <a:off x="8461440" y="5396040"/>
            <a:ext cx="475560" cy="513360"/>
            <a:chOff x="8461440" y="5396040"/>
            <a:chExt cx="475560" cy="513360"/>
          </a:xfrm>
        </p:grpSpPr>
        <p:sp>
          <p:nvSpPr>
            <p:cNvPr id="6" name="矩形 28"/>
            <p:cNvSpPr/>
            <p:nvPr/>
          </p:nvSpPr>
          <p:spPr>
            <a:xfrm>
              <a:off x="8485200" y="5765760"/>
              <a:ext cx="131760" cy="14364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7" name="矩形 29"/>
            <p:cNvSpPr/>
            <p:nvPr/>
          </p:nvSpPr>
          <p:spPr>
            <a:xfrm>
              <a:off x="8645040" y="5698080"/>
              <a:ext cx="131760" cy="21132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8" name="矩形 30"/>
            <p:cNvSpPr/>
            <p:nvPr/>
          </p:nvSpPr>
          <p:spPr>
            <a:xfrm>
              <a:off x="8805240" y="5516640"/>
              <a:ext cx="131760" cy="39276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9" name="直接箭头连接符 31"/>
            <p:cNvCxnSpPr/>
            <p:nvPr/>
          </p:nvCxnSpPr>
          <p:spPr>
            <a:xfrm flipV="1">
              <a:off x="8461440" y="5396040"/>
              <a:ext cx="453240" cy="269640"/>
            </a:xfrm>
            <a:prstGeom prst="straightConnector1">
              <a:avLst/>
            </a:prstGeom>
            <a:ln>
              <a:solidFill>
                <a:srgbClr val="e20e1d"/>
              </a:solidFill>
              <a:tailEnd len="med" type="triangle" w="med"/>
            </a:ln>
          </p:spPr>
        </p:cxnSp>
      </p:grpSp>
      <p:grpSp>
        <p:nvGrpSpPr>
          <p:cNvPr id="10" name="组合 3"/>
          <p:cNvGrpSpPr/>
          <p:nvPr/>
        </p:nvGrpSpPr>
        <p:grpSpPr>
          <a:xfrm>
            <a:off x="9432720" y="5433840"/>
            <a:ext cx="451080" cy="451080"/>
            <a:chOff x="9432720" y="5433840"/>
            <a:chExt cx="451080" cy="451080"/>
          </a:xfrm>
        </p:grpSpPr>
        <p:sp>
          <p:nvSpPr>
            <p:cNvPr id="11" name="椭圆 33"/>
            <p:cNvSpPr/>
            <p:nvPr/>
          </p:nvSpPr>
          <p:spPr>
            <a:xfrm>
              <a:off x="9433080" y="5434200"/>
              <a:ext cx="450720" cy="450720"/>
            </a:xfrm>
            <a:prstGeom prst="ellipse">
              <a:avLst/>
            </a:prstGeom>
            <a:noFill/>
            <a:ln w="19050"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12" name="直接连接符 34"/>
            <p:cNvCxnSpPr/>
            <p:nvPr/>
          </p:nvCxnSpPr>
          <p:spPr>
            <a:xfrm>
              <a:off x="9432720" y="5659200"/>
              <a:ext cx="451440" cy="36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cxnSp>
          <p:nvCxnSpPr>
            <p:cNvPr id="13" name="直接连接符 35"/>
            <p:cNvCxnSpPr/>
            <p:nvPr/>
          </p:nvCxnSpPr>
          <p:spPr>
            <a:xfrm flipV="1">
              <a:off x="9658080" y="5433840"/>
              <a:ext cx="360" cy="45144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sp>
          <p:nvSpPr>
            <p:cNvPr id="14" name="椭圆 36"/>
            <p:cNvSpPr/>
            <p:nvPr/>
          </p:nvSpPr>
          <p:spPr>
            <a:xfrm>
              <a:off x="9517680" y="5518800"/>
              <a:ext cx="281160" cy="2811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15" name="椭圆 37"/>
            <p:cNvSpPr/>
            <p:nvPr/>
          </p:nvSpPr>
          <p:spPr>
            <a:xfrm>
              <a:off x="9574560" y="5575680"/>
              <a:ext cx="167760" cy="1677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16" name="组合 4"/>
          <p:cNvGrpSpPr/>
          <p:nvPr/>
        </p:nvGrpSpPr>
        <p:grpSpPr>
          <a:xfrm>
            <a:off x="10379160" y="5391360"/>
            <a:ext cx="366120" cy="470520"/>
            <a:chOff x="10379160" y="5391360"/>
            <a:chExt cx="366120" cy="470520"/>
          </a:xfrm>
        </p:grpSpPr>
        <p:sp>
          <p:nvSpPr>
            <p:cNvPr id="17" name="Freeform 108"/>
            <p:cNvSpPr/>
            <p:nvPr/>
          </p:nvSpPr>
          <p:spPr>
            <a:xfrm flipH="1">
              <a:off x="10378800" y="5809680"/>
              <a:ext cx="51480" cy="5220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" name="Freeform 109"/>
            <p:cNvSpPr/>
            <p:nvPr/>
          </p:nvSpPr>
          <p:spPr>
            <a:xfrm flipH="1">
              <a:off x="10379520" y="5391360"/>
              <a:ext cx="365760" cy="470520"/>
            </a:xfrm>
            <a:custGeom>
              <a:avLst/>
              <a:gdLst>
                <a:gd name="textAreaLeft" fmla="*/ 360 w 365760"/>
                <a:gd name="textAreaRight" fmla="*/ 366480 w 36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" name="Rectangle 110"/>
            <p:cNvSpPr/>
            <p:nvPr/>
          </p:nvSpPr>
          <p:spPr>
            <a:xfrm flipH="1">
              <a:off x="10378800" y="5653080"/>
              <a:ext cx="51480" cy="5148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" name="Rectangle 111"/>
            <p:cNvSpPr/>
            <p:nvPr/>
          </p:nvSpPr>
          <p:spPr>
            <a:xfrm flipH="1">
              <a:off x="10378800" y="5731560"/>
              <a:ext cx="51480" cy="5220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" name="文本框 1"/>
          <p:cNvSpPr/>
          <p:nvPr/>
        </p:nvSpPr>
        <p:spPr>
          <a:xfrm>
            <a:off x="9029880" y="3754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6"/>
          <p:cNvGrpSpPr/>
          <p:nvPr/>
        </p:nvGrpSpPr>
        <p:grpSpPr>
          <a:xfrm>
            <a:off x="3766320" y="1449000"/>
            <a:ext cx="6696000" cy="896400"/>
            <a:chOff x="3766320" y="1449000"/>
            <a:chExt cx="6696000" cy="896400"/>
          </a:xfrm>
        </p:grpSpPr>
        <p:sp>
          <p:nvSpPr>
            <p:cNvPr id="61" name="对角圆角矩形 7"/>
            <p:cNvSpPr/>
            <p:nvPr/>
          </p:nvSpPr>
          <p:spPr>
            <a:xfrm>
              <a:off x="3766320" y="144900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对角圆角矩形 8"/>
            <p:cNvSpPr/>
            <p:nvPr/>
          </p:nvSpPr>
          <p:spPr>
            <a:xfrm>
              <a:off x="4006800" y="150732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63" name="组合 9"/>
          <p:cNvGrpSpPr/>
          <p:nvPr/>
        </p:nvGrpSpPr>
        <p:grpSpPr>
          <a:xfrm>
            <a:off x="2777040" y="3170520"/>
            <a:ext cx="6696000" cy="896400"/>
            <a:chOff x="2777040" y="3170520"/>
            <a:chExt cx="6696000" cy="896400"/>
          </a:xfrm>
        </p:grpSpPr>
        <p:sp>
          <p:nvSpPr>
            <p:cNvPr id="64" name="对角圆角矩形 10"/>
            <p:cNvSpPr/>
            <p:nvPr/>
          </p:nvSpPr>
          <p:spPr>
            <a:xfrm>
              <a:off x="2777040" y="317052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对角圆角矩形 11"/>
            <p:cNvSpPr/>
            <p:nvPr/>
          </p:nvSpPr>
          <p:spPr>
            <a:xfrm>
              <a:off x="3017520" y="322884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66" name="组合 12"/>
          <p:cNvGrpSpPr/>
          <p:nvPr/>
        </p:nvGrpSpPr>
        <p:grpSpPr>
          <a:xfrm>
            <a:off x="1541160" y="4861080"/>
            <a:ext cx="6696000" cy="896400"/>
            <a:chOff x="1541160" y="4861080"/>
            <a:chExt cx="6696000" cy="896400"/>
          </a:xfrm>
        </p:grpSpPr>
        <p:sp>
          <p:nvSpPr>
            <p:cNvPr id="67" name="对角圆角矩形 13"/>
            <p:cNvSpPr/>
            <p:nvPr/>
          </p:nvSpPr>
          <p:spPr>
            <a:xfrm>
              <a:off x="1541160" y="486108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对角圆角矩形 14"/>
            <p:cNvSpPr/>
            <p:nvPr/>
          </p:nvSpPr>
          <p:spPr>
            <a:xfrm>
              <a:off x="1782000" y="491940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69" name="任意多边形 15"/>
          <p:cNvSpPr/>
          <p:nvPr/>
        </p:nvSpPr>
        <p:spPr>
          <a:xfrm>
            <a:off x="0" y="410040"/>
            <a:ext cx="12191760" cy="561096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5610960"/>
              <a:gd name="textAreaBottom" fmla="*/ 5611320 h 5610960"/>
            </a:gdLst>
            <a:ahLst/>
            <a:rect l="textAreaLeft" t="textAreaTop" r="textAreaRight" b="textAreaBottom"/>
            <a:pathLst>
              <a:path w="12191999" h="5611364">
                <a:moveTo>
                  <a:pt x="4063218" y="0"/>
                </a:moveTo>
                <a:lnTo>
                  <a:pt x="12191999" y="0"/>
                </a:lnTo>
                <a:lnTo>
                  <a:pt x="12191999" y="755650"/>
                </a:lnTo>
                <a:lnTo>
                  <a:pt x="4484726" y="755650"/>
                </a:lnTo>
                <a:lnTo>
                  <a:pt x="1631852" y="5577246"/>
                </a:lnTo>
                <a:lnTo>
                  <a:pt x="1631852" y="5611363"/>
                </a:lnTo>
                <a:lnTo>
                  <a:pt x="1611666" y="5611363"/>
                </a:lnTo>
                <a:lnTo>
                  <a:pt x="1611665" y="5611364"/>
                </a:lnTo>
                <a:lnTo>
                  <a:pt x="1611664" y="5611363"/>
                </a:lnTo>
                <a:lnTo>
                  <a:pt x="0" y="5611363"/>
                </a:lnTo>
                <a:lnTo>
                  <a:pt x="0" y="4855713"/>
                </a:lnTo>
                <a:lnTo>
                  <a:pt x="1180757" y="4855713"/>
                </a:lnTo>
                <a:lnTo>
                  <a:pt x="4053818" y="0"/>
                </a:lnTo>
                <a:lnTo>
                  <a:pt x="4063218" y="5562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70" name="任意多边形 16"/>
          <p:cNvSpPr/>
          <p:nvPr/>
        </p:nvSpPr>
        <p:spPr>
          <a:xfrm>
            <a:off x="10351440" y="376200"/>
            <a:ext cx="1840320" cy="896400"/>
          </a:xfrm>
          <a:custGeom>
            <a:avLst/>
            <a:gdLst>
              <a:gd name="textAreaLeft" fmla="*/ 0 w 1840320"/>
              <a:gd name="textAreaRight" fmla="*/ 1840680 w 184032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840523" h="896860">
                <a:moveTo>
                  <a:pt x="448430" y="0"/>
                </a:moveTo>
                <a:lnTo>
                  <a:pt x="1840523" y="0"/>
                </a:lnTo>
                <a:lnTo>
                  <a:pt x="1840523" y="896860"/>
                </a:lnTo>
                <a:lnTo>
                  <a:pt x="0" y="896860"/>
                </a:lnTo>
                <a:lnTo>
                  <a:pt x="0" y="448430"/>
                </a:lnTo>
                <a:cubicBezTo>
                  <a:pt x="0" y="200769"/>
                  <a:pt x="200769" y="0"/>
                  <a:pt x="448430" y="0"/>
                </a:cubicBez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7"/>
          <p:cNvGrpSpPr/>
          <p:nvPr/>
        </p:nvGrpSpPr>
        <p:grpSpPr>
          <a:xfrm>
            <a:off x="1086480" y="4444920"/>
            <a:ext cx="1322640" cy="1322640"/>
            <a:chOff x="1086480" y="4444920"/>
            <a:chExt cx="1322640" cy="1322640"/>
          </a:xfrm>
        </p:grpSpPr>
        <p:sp>
          <p:nvSpPr>
            <p:cNvPr id="72" name="椭圆 18"/>
            <p:cNvSpPr/>
            <p:nvPr/>
          </p:nvSpPr>
          <p:spPr>
            <a:xfrm>
              <a:off x="1086480" y="444492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1208880" y="456732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74" name="组合 20"/>
          <p:cNvGrpSpPr/>
          <p:nvPr/>
        </p:nvGrpSpPr>
        <p:grpSpPr>
          <a:xfrm>
            <a:off x="3065040" y="1034280"/>
            <a:ext cx="1322640" cy="1322640"/>
            <a:chOff x="3065040" y="1034280"/>
            <a:chExt cx="1322640" cy="1322640"/>
          </a:xfrm>
        </p:grpSpPr>
        <p:sp>
          <p:nvSpPr>
            <p:cNvPr id="75" name="椭圆 21"/>
            <p:cNvSpPr/>
            <p:nvPr/>
          </p:nvSpPr>
          <p:spPr>
            <a:xfrm>
              <a:off x="3065040" y="103428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22"/>
            <p:cNvSpPr/>
            <p:nvPr/>
          </p:nvSpPr>
          <p:spPr>
            <a:xfrm>
              <a:off x="3187440" y="115704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77" name="组合 23"/>
          <p:cNvGrpSpPr/>
          <p:nvPr/>
        </p:nvGrpSpPr>
        <p:grpSpPr>
          <a:xfrm>
            <a:off x="2075760" y="2739600"/>
            <a:ext cx="1322640" cy="1322640"/>
            <a:chOff x="2075760" y="2739600"/>
            <a:chExt cx="1322640" cy="1322640"/>
          </a:xfrm>
        </p:grpSpPr>
        <p:sp>
          <p:nvSpPr>
            <p:cNvPr id="78" name="椭圆 24"/>
            <p:cNvSpPr/>
            <p:nvPr/>
          </p:nvSpPr>
          <p:spPr>
            <a:xfrm>
              <a:off x="2075760" y="2739600"/>
              <a:ext cx="1322640" cy="1322640"/>
            </a:xfrm>
            <a:prstGeom prst="ellipse">
              <a:avLst/>
            </a:prstGeom>
            <a:solidFill>
              <a:srgbClr val="e20e1d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5"/>
            <p:cNvSpPr/>
            <p:nvPr/>
          </p:nvSpPr>
          <p:spPr>
            <a:xfrm>
              <a:off x="2198160" y="2862000"/>
              <a:ext cx="1077480" cy="1077480"/>
            </a:xfrm>
            <a:prstGeom prst="ellipse">
              <a:avLst/>
            </a:prstGeom>
            <a:noFill/>
            <a:ln>
              <a:solidFill>
                <a:srgbClr val="fcfcfc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pic>
        <p:nvPicPr>
          <p:cNvPr id="80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464400" y="4089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81" name="文本框 28"/>
          <p:cNvSpPr/>
          <p:nvPr/>
        </p:nvSpPr>
        <p:spPr>
          <a:xfrm>
            <a:off x="9588600" y="60825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3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122" name="对角圆角矩形 14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对角圆角矩形 15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124" name="组合 23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125" name="对角圆角矩形 24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对角圆角矩形 25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128" name="对角圆角矩形 27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对角圆角矩形 28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9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131" name="对角圆角矩形 30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对角圆角矩形 31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32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134" name="对角圆角矩形 33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对角圆角矩形 34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37" name="文本框 19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178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179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180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69E45F86-6DA3-46DF-AA51-02EB1629BB57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2"/>
          <p:cNvCxnSpPr>
            <a:stCxn id="176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4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文本框 16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225" name="组合 19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226" name="对角圆角矩形 20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对角圆角矩形 21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228" name="组合 22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229" name="对角圆角矩形 35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对角圆角矩形 37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8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232" name="对角圆角矩形 39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对角圆角矩形 40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41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235" name="对角圆角矩形 42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对角圆角矩形 43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44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238" name="对角圆角矩形 45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对角圆角矩形 46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47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281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282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283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6953E74C-F3B6-4B93-808C-2C983EEA185B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连接符 2"/>
          <p:cNvCxnSpPr>
            <a:stCxn id="279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88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89" name="文本框 15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e20e1d"/>
                </a:solidFill>
                <a:latin typeface="Arial Unicode MS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328" name="组合 43"/>
          <p:cNvGrpSpPr/>
          <p:nvPr/>
        </p:nvGrpSpPr>
        <p:grpSpPr>
          <a:xfrm>
            <a:off x="2747880" y="1350360"/>
            <a:ext cx="6696000" cy="896400"/>
            <a:chOff x="2747880" y="1350360"/>
            <a:chExt cx="6696000" cy="896400"/>
          </a:xfrm>
        </p:grpSpPr>
        <p:sp>
          <p:nvSpPr>
            <p:cNvPr id="329" name="对角圆角矩形 44"/>
            <p:cNvSpPr/>
            <p:nvPr/>
          </p:nvSpPr>
          <p:spPr>
            <a:xfrm>
              <a:off x="2747880" y="1350360"/>
              <a:ext cx="6696000" cy="89640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章节目录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对角圆角矩形 45"/>
            <p:cNvSpPr/>
            <p:nvPr/>
          </p:nvSpPr>
          <p:spPr>
            <a:xfrm>
              <a:off x="2988720" y="1408680"/>
              <a:ext cx="6284160" cy="785160"/>
            </a:xfrm>
            <a:prstGeom prst="round2DiagRect">
              <a:avLst>
                <a:gd name="adj1" fmla="val 50000"/>
                <a:gd name="adj2" fmla="val 0"/>
              </a:avLst>
            </a:prstGeom>
            <a:noFill/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331" name="组合 46"/>
          <p:cNvGrpSpPr/>
          <p:nvPr/>
        </p:nvGrpSpPr>
        <p:grpSpPr>
          <a:xfrm>
            <a:off x="3343320" y="2450160"/>
            <a:ext cx="5504760" cy="736920"/>
            <a:chOff x="3343320" y="2450160"/>
            <a:chExt cx="5504760" cy="736920"/>
          </a:xfrm>
        </p:grpSpPr>
        <p:sp>
          <p:nvSpPr>
            <p:cNvPr id="332" name="对角圆角矩形 47"/>
            <p:cNvSpPr/>
            <p:nvPr/>
          </p:nvSpPr>
          <p:spPr>
            <a:xfrm>
              <a:off x="3343320" y="245016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对角圆角矩形 48"/>
            <p:cNvSpPr/>
            <p:nvPr/>
          </p:nvSpPr>
          <p:spPr>
            <a:xfrm>
              <a:off x="3541320" y="249804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49"/>
          <p:cNvGrpSpPr/>
          <p:nvPr/>
        </p:nvGrpSpPr>
        <p:grpSpPr>
          <a:xfrm>
            <a:off x="3343320" y="3390120"/>
            <a:ext cx="5504760" cy="736920"/>
            <a:chOff x="3343320" y="3390120"/>
            <a:chExt cx="5504760" cy="736920"/>
          </a:xfrm>
        </p:grpSpPr>
        <p:sp>
          <p:nvSpPr>
            <p:cNvPr id="335" name="对角圆角矩形 50"/>
            <p:cNvSpPr/>
            <p:nvPr/>
          </p:nvSpPr>
          <p:spPr>
            <a:xfrm>
              <a:off x="3343320" y="339012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对角圆角矩形 51"/>
            <p:cNvSpPr/>
            <p:nvPr/>
          </p:nvSpPr>
          <p:spPr>
            <a:xfrm>
              <a:off x="3541320" y="343800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52"/>
          <p:cNvGrpSpPr/>
          <p:nvPr/>
        </p:nvGrpSpPr>
        <p:grpSpPr>
          <a:xfrm>
            <a:off x="3343320" y="4330080"/>
            <a:ext cx="5504760" cy="736920"/>
            <a:chOff x="3343320" y="4330080"/>
            <a:chExt cx="5504760" cy="736920"/>
          </a:xfrm>
        </p:grpSpPr>
        <p:sp>
          <p:nvSpPr>
            <p:cNvPr id="338" name="对角圆角矩形 53"/>
            <p:cNvSpPr/>
            <p:nvPr/>
          </p:nvSpPr>
          <p:spPr>
            <a:xfrm>
              <a:off x="3343320" y="433008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对角圆角矩形 54"/>
            <p:cNvSpPr/>
            <p:nvPr/>
          </p:nvSpPr>
          <p:spPr>
            <a:xfrm>
              <a:off x="3541320" y="437796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55"/>
          <p:cNvGrpSpPr/>
          <p:nvPr/>
        </p:nvGrpSpPr>
        <p:grpSpPr>
          <a:xfrm>
            <a:off x="3343320" y="5270040"/>
            <a:ext cx="5504760" cy="736920"/>
            <a:chOff x="3343320" y="5270040"/>
            <a:chExt cx="5504760" cy="736920"/>
          </a:xfrm>
        </p:grpSpPr>
        <p:sp>
          <p:nvSpPr>
            <p:cNvPr id="341" name="对角圆角矩形 56"/>
            <p:cNvSpPr/>
            <p:nvPr/>
          </p:nvSpPr>
          <p:spPr>
            <a:xfrm>
              <a:off x="3343320" y="5270040"/>
              <a:ext cx="5504760" cy="73692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e20e1d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2014·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回顾</a:t>
              </a:r>
              <a:r>
                <a:rPr b="1" lang="en-US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&amp;</a:t>
              </a:r>
              <a:r>
                <a:rPr b="1" lang="zh-CN" sz="2000" spc="-1" strike="noStrike">
                  <a:solidFill>
                    <a:schemeClr val="lt1"/>
                  </a:solidFill>
                  <a:latin typeface="Arial Unicode MS"/>
                  <a:ea typeface="微软雅黑"/>
                </a:rPr>
                <a:t>分析行业综述及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对角圆角矩形 57"/>
            <p:cNvSpPr/>
            <p:nvPr/>
          </p:nvSpPr>
          <p:spPr>
            <a:xfrm>
              <a:off x="3541320" y="5318280"/>
              <a:ext cx="5166360" cy="64548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fcfcfc"/>
            </a:solidFill>
            <a:ln>
              <a:solidFill>
                <a:srgbClr val="fcfcfc"/>
              </a:solidFill>
              <a:prstDash val="dash"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20</a:t>
              </a:r>
              <a:r>
                <a:rPr b="1" lang="zh-CN" sz="2000" spc="-1" strike="noStrike">
                  <a:solidFill>
                    <a:srgbClr val="e20e1d"/>
                  </a:solidFill>
                  <a:latin typeface="Arial Unicode MS"/>
                  <a:ea typeface="微软雅黑"/>
                </a:rPr>
                <a:t>号微软雅黑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文本框 58"/>
          <p:cNvSpPr/>
          <p:nvPr/>
        </p:nvSpPr>
        <p:spPr>
          <a:xfrm>
            <a:off x="4822920" y="621036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5"/>
          <p:cNvSpPr/>
          <p:nvPr/>
        </p:nvSpPr>
        <p:spPr>
          <a:xfrm>
            <a:off x="0" y="404280"/>
            <a:ext cx="1068840" cy="896400"/>
          </a:xfrm>
          <a:custGeom>
            <a:avLst/>
            <a:gdLst>
              <a:gd name="textAreaLeft" fmla="*/ 0 w 1068840"/>
              <a:gd name="textAreaRight" fmla="*/ 1069200 w 1068840"/>
              <a:gd name="textAreaTop" fmla="*/ 0 h 896400"/>
              <a:gd name="textAreaBottom" fmla="*/ 896760 h 896400"/>
            </a:gdLst>
            <a:ahLst/>
            <a:rect l="textAreaLeft" t="textAreaTop" r="textAreaRight" b="textAreaBottom"/>
            <a:pathLst>
              <a:path w="1791291" h="896860">
                <a:moveTo>
                  <a:pt x="0" y="0"/>
                </a:moveTo>
                <a:lnTo>
                  <a:pt x="1791291" y="0"/>
                </a:lnTo>
                <a:lnTo>
                  <a:pt x="1791291" y="448430"/>
                </a:lnTo>
                <a:cubicBezTo>
                  <a:pt x="1791291" y="696091"/>
                  <a:pt x="1590522" y="896860"/>
                  <a:pt x="1342861" y="896860"/>
                </a:cubicBezTo>
                <a:lnTo>
                  <a:pt x="0" y="896860"/>
                </a:lnTo>
                <a:close/>
              </a:path>
            </a:pathLst>
          </a:cu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7"/>
          <p:cNvGrpSpPr/>
          <p:nvPr/>
        </p:nvGrpSpPr>
        <p:grpSpPr>
          <a:xfrm>
            <a:off x="0" y="5889240"/>
            <a:ext cx="12191760" cy="829800"/>
            <a:chOff x="0" y="5889240"/>
            <a:chExt cx="12191760" cy="829800"/>
          </a:xfrm>
        </p:grpSpPr>
        <p:cxnSp>
          <p:nvCxnSpPr>
            <p:cNvPr id="384" name="直接连接符 9"/>
            <p:cNvCxnSpPr/>
            <p:nvPr/>
          </p:nvCxnSpPr>
          <p:spPr>
            <a:xfrm>
              <a:off x="0" y="6303960"/>
              <a:ext cx="12192120" cy="360"/>
            </a:xfrm>
            <a:prstGeom prst="straightConnector1">
              <a:avLst/>
            </a:prstGeom>
            <a:ln>
              <a:solidFill>
                <a:srgbClr val="ff8284"/>
              </a:solidFill>
            </a:ln>
          </p:spPr>
        </p:cxnSp>
        <p:sp>
          <p:nvSpPr>
            <p:cNvPr id="385" name="矩形 10"/>
            <p:cNvSpPr/>
            <p:nvPr/>
          </p:nvSpPr>
          <p:spPr>
            <a:xfrm>
              <a:off x="5042160" y="5889240"/>
              <a:ext cx="2107440" cy="829800"/>
            </a:xfrm>
            <a:prstGeom prst="rect">
              <a:avLst/>
            </a:prstGeom>
            <a:solidFill>
              <a:srgbClr val="fcfcf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sp>
        <p:nvSpPr>
          <p:cNvPr id="386" name="任意多边形 11"/>
          <p:cNvSpPr/>
          <p:nvPr/>
        </p:nvSpPr>
        <p:spPr>
          <a:xfrm>
            <a:off x="5717520" y="6485400"/>
            <a:ext cx="757080" cy="396000"/>
          </a:xfrm>
          <a:custGeom>
            <a:avLst/>
            <a:gdLst>
              <a:gd name="textAreaLeft" fmla="*/ 0 w 757080"/>
              <a:gd name="textAreaRight" fmla="*/ 757440 w 75708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757310" h="396457">
                <a:moveTo>
                  <a:pt x="378655" y="0"/>
                </a:moveTo>
                <a:cubicBezTo>
                  <a:pt x="587780" y="0"/>
                  <a:pt x="757310" y="169530"/>
                  <a:pt x="757310" y="378655"/>
                </a:cubicBezTo>
                <a:lnTo>
                  <a:pt x="755516" y="396457"/>
                </a:lnTo>
                <a:lnTo>
                  <a:pt x="1795" y="396457"/>
                </a:lnTo>
                <a:lnTo>
                  <a:pt x="0" y="378655"/>
                </a:lnTo>
                <a:cubicBezTo>
                  <a:pt x="0" y="169530"/>
                  <a:pt x="169530" y="0"/>
                  <a:pt x="378655" y="0"/>
                </a:cubicBezTo>
                <a:close/>
              </a:path>
            </a:pathLst>
          </a:custGeom>
          <a:solidFill>
            <a:srgbClr val="ff82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5257800" y="6608160"/>
            <a:ext cx="167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P</a:t>
            </a:r>
            <a:fld id="{EE3F9731-0AA3-4914-8928-46E81DD2FAE9}" type="slidenum">
              <a:rPr b="0" lang="en-US" sz="12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2"/>
          <p:cNvCxnSpPr>
            <a:stCxn id="382" idx="2"/>
          </p:cNvCxnSpPr>
          <p:nvPr/>
        </p:nvCxnSpPr>
        <p:spPr>
          <a:xfrm>
            <a:off x="1068840" y="852480"/>
            <a:ext cx="11123280" cy="5760"/>
          </a:xfrm>
          <a:prstGeom prst="straightConnector1">
            <a:avLst/>
          </a:prstGeom>
          <a:ln>
            <a:solidFill>
              <a:srgbClr val="ff8284"/>
            </a:solidFill>
          </a:ln>
        </p:spPr>
      </p:cxn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392840" y="1856880"/>
            <a:ext cx="9959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90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10635120" y="394560"/>
            <a:ext cx="1243800" cy="9554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2800" spc="-1" strike="noStrike">
                <a:solidFill>
                  <a:srgbClr val="e20e1d"/>
                </a:solidFill>
                <a:latin typeface="Arial Rounded MT Bold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2" name="文本框 16"/>
          <p:cNvSpPr/>
          <p:nvPr/>
        </p:nvSpPr>
        <p:spPr>
          <a:xfrm>
            <a:off x="4794120" y="60688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8284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e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5"/>
          <p:cNvSpPr/>
          <p:nvPr/>
        </p:nvSpPr>
        <p:spPr>
          <a:xfrm>
            <a:off x="1041120" y="375480"/>
            <a:ext cx="5612760" cy="5612760"/>
          </a:xfrm>
          <a:prstGeom prst="ellipse">
            <a:avLst/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sp>
        <p:nvSpPr>
          <p:cNvPr id="430" name="任意多边形 16"/>
          <p:cNvSpPr/>
          <p:nvPr/>
        </p:nvSpPr>
        <p:spPr>
          <a:xfrm>
            <a:off x="1699920" y="1034640"/>
            <a:ext cx="11180880" cy="4953600"/>
          </a:xfrm>
          <a:custGeom>
            <a:avLst/>
            <a:gdLst>
              <a:gd name="textAreaLeft" fmla="*/ 0 w 11180880"/>
              <a:gd name="textAreaRight" fmla="*/ 11181240 w 11180880"/>
              <a:gd name="textAreaTop" fmla="*/ 0 h 4953600"/>
              <a:gd name="textAreaBottom" fmla="*/ 4953960 h 4953600"/>
            </a:gdLst>
            <a:ahLst/>
            <a:rect l="textAreaLeft" t="textAreaTop" r="textAreaRight" b="textAreaBottom"/>
            <a:pathLst>
              <a:path w="11181278" h="4953990">
                <a:moveTo>
                  <a:pt x="2578272" y="2108"/>
                </a:moveTo>
                <a:cubicBezTo>
                  <a:pt x="3349049" y="33960"/>
                  <a:pt x="4085217" y="425574"/>
                  <a:pt x="4536553" y="1101048"/>
                </a:cubicBezTo>
                <a:cubicBezTo>
                  <a:pt x="5152013" y="2022147"/>
                  <a:pt x="5077128" y="3230579"/>
                  <a:pt x="4376890" y="4066508"/>
                </a:cubicBezTo>
                <a:lnTo>
                  <a:pt x="4230253" y="4226643"/>
                </a:lnTo>
                <a:lnTo>
                  <a:pt x="11181278" y="4226643"/>
                </a:lnTo>
                <a:lnTo>
                  <a:pt x="11181278" y="4946643"/>
                </a:lnTo>
                <a:lnTo>
                  <a:pt x="4953980" y="4946643"/>
                </a:lnTo>
                <a:lnTo>
                  <a:pt x="4953980" y="4953990"/>
                </a:lnTo>
                <a:lnTo>
                  <a:pt x="2477113" y="4953990"/>
                </a:lnTo>
                <a:cubicBezTo>
                  <a:pt x="1295463" y="4953990"/>
                  <a:pt x="278366" y="4119280"/>
                  <a:pt x="47837" y="2960335"/>
                </a:cubicBezTo>
                <a:cubicBezTo>
                  <a:pt x="-182691" y="1801390"/>
                  <a:pt x="437554" y="640992"/>
                  <a:pt x="1529256" y="188794"/>
                </a:cubicBezTo>
                <a:cubicBezTo>
                  <a:pt x="1870413" y="47482"/>
                  <a:pt x="2227918" y="-12371"/>
                  <a:pt x="2578272" y="2108"/>
                </a:cubicBezTo>
                <a:close/>
              </a:path>
            </a:pathLst>
          </a:custGeom>
          <a:solidFill>
            <a:srgbClr val="fcfcfc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431" name="Picture 2" descr="http://img.sccnn.com/bimg/338/14655.jpg"/>
          <p:cNvPicPr/>
          <p:nvPr/>
        </p:nvPicPr>
        <p:blipFill>
          <a:blip r:embed="rId2">
            <a:grayscl/>
          </a:blip>
          <a:stretch/>
        </p:blipFill>
        <p:spPr>
          <a:xfrm>
            <a:off x="3292560" y="311040"/>
            <a:ext cx="3881520" cy="2982240"/>
          </a:xfrm>
          <a:prstGeom prst="rect">
            <a:avLst/>
          </a:prstGeom>
          <a:ln w="0">
            <a:noFill/>
          </a:ln>
          <a:effectLst>
            <a:glow rad="50760">
              <a:srgbClr val="ffffff">
                <a:alpha val="95000"/>
              </a:srgbClr>
            </a:glow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432" name="对角圆角矩形 18"/>
          <p:cNvSpPr/>
          <p:nvPr/>
        </p:nvSpPr>
        <p:spPr>
          <a:xfrm>
            <a:off x="2834640" y="3293640"/>
            <a:ext cx="5261040" cy="89640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主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对角圆角矩形 19"/>
          <p:cNvSpPr/>
          <p:nvPr/>
        </p:nvSpPr>
        <p:spPr>
          <a:xfrm>
            <a:off x="3876840" y="4503960"/>
            <a:ext cx="4402800" cy="515160"/>
          </a:xfrm>
          <a:prstGeom prst="round2DiagRect">
            <a:avLst>
              <a:gd name="adj1" fmla="val 50000"/>
              <a:gd name="adj2" fmla="val 0"/>
            </a:avLst>
          </a:prstGeom>
          <a:solidFill>
            <a:srgbClr val="e20e1d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Arial Unicode MS"/>
                <a:ea typeface="微软雅黑"/>
              </a:rPr>
              <a:t>此处键入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6"/>
          <p:cNvGrpSpPr/>
          <p:nvPr/>
        </p:nvGrpSpPr>
        <p:grpSpPr>
          <a:xfrm>
            <a:off x="8461440" y="5396040"/>
            <a:ext cx="475560" cy="513360"/>
            <a:chOff x="8461440" y="5396040"/>
            <a:chExt cx="475560" cy="513360"/>
          </a:xfrm>
        </p:grpSpPr>
        <p:sp>
          <p:nvSpPr>
            <p:cNvPr id="435" name="矩形 28"/>
            <p:cNvSpPr/>
            <p:nvPr/>
          </p:nvSpPr>
          <p:spPr>
            <a:xfrm>
              <a:off x="8485200" y="5765760"/>
              <a:ext cx="131760" cy="14364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36" name="矩形 29"/>
            <p:cNvSpPr/>
            <p:nvPr/>
          </p:nvSpPr>
          <p:spPr>
            <a:xfrm>
              <a:off x="8645040" y="5698080"/>
              <a:ext cx="131760" cy="21132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37" name="矩形 30"/>
            <p:cNvSpPr/>
            <p:nvPr/>
          </p:nvSpPr>
          <p:spPr>
            <a:xfrm>
              <a:off x="8805240" y="5516640"/>
              <a:ext cx="131760" cy="392760"/>
            </a:xfrm>
            <a:prstGeom prst="rect">
              <a:avLst/>
            </a:prstGeom>
            <a:solidFill>
              <a:srgbClr val="e20e1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438" name="直接箭头连接符 31"/>
            <p:cNvCxnSpPr/>
            <p:nvPr/>
          </p:nvCxnSpPr>
          <p:spPr>
            <a:xfrm flipV="1">
              <a:off x="8461440" y="5396040"/>
              <a:ext cx="453240" cy="269640"/>
            </a:xfrm>
            <a:prstGeom prst="straightConnector1">
              <a:avLst/>
            </a:prstGeom>
            <a:ln>
              <a:solidFill>
                <a:srgbClr val="e20e1d"/>
              </a:solidFill>
              <a:tailEnd len="med" type="triangle" w="med"/>
            </a:ln>
          </p:spPr>
        </p:cxnSp>
      </p:grpSp>
      <p:grpSp>
        <p:nvGrpSpPr>
          <p:cNvPr id="439" name="组合 3"/>
          <p:cNvGrpSpPr/>
          <p:nvPr/>
        </p:nvGrpSpPr>
        <p:grpSpPr>
          <a:xfrm>
            <a:off x="9432720" y="5433840"/>
            <a:ext cx="451080" cy="451080"/>
            <a:chOff x="9432720" y="5433840"/>
            <a:chExt cx="451080" cy="451080"/>
          </a:xfrm>
        </p:grpSpPr>
        <p:sp>
          <p:nvSpPr>
            <p:cNvPr id="440" name="椭圆 33"/>
            <p:cNvSpPr/>
            <p:nvPr/>
          </p:nvSpPr>
          <p:spPr>
            <a:xfrm>
              <a:off x="9433080" y="5434200"/>
              <a:ext cx="450720" cy="450720"/>
            </a:xfrm>
            <a:prstGeom prst="ellipse">
              <a:avLst/>
            </a:prstGeom>
            <a:noFill/>
            <a:ln w="19050"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cxnSp>
          <p:nvCxnSpPr>
            <p:cNvPr id="441" name="直接连接符 34"/>
            <p:cNvCxnSpPr/>
            <p:nvPr/>
          </p:nvCxnSpPr>
          <p:spPr>
            <a:xfrm>
              <a:off x="9432720" y="5659200"/>
              <a:ext cx="451440" cy="36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cxnSp>
          <p:nvCxnSpPr>
            <p:cNvPr id="442" name="直接连接符 35"/>
            <p:cNvCxnSpPr/>
            <p:nvPr/>
          </p:nvCxnSpPr>
          <p:spPr>
            <a:xfrm flipV="1">
              <a:off x="9658080" y="5433840"/>
              <a:ext cx="360" cy="451440"/>
            </a:xfrm>
            <a:prstGeom prst="straightConnector1">
              <a:avLst/>
            </a:prstGeom>
            <a:ln>
              <a:solidFill>
                <a:srgbClr val="e20e1d"/>
              </a:solidFill>
            </a:ln>
          </p:spPr>
        </p:cxnSp>
        <p:sp>
          <p:nvSpPr>
            <p:cNvPr id="443" name="椭圆 36"/>
            <p:cNvSpPr/>
            <p:nvPr/>
          </p:nvSpPr>
          <p:spPr>
            <a:xfrm>
              <a:off x="9517680" y="5518800"/>
              <a:ext cx="281160" cy="2811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444" name="椭圆 37"/>
            <p:cNvSpPr/>
            <p:nvPr/>
          </p:nvSpPr>
          <p:spPr>
            <a:xfrm>
              <a:off x="9574560" y="5575680"/>
              <a:ext cx="167760" cy="167760"/>
            </a:xfrm>
            <a:prstGeom prst="ellipse">
              <a:avLst/>
            </a:prstGeom>
            <a:noFill/>
            <a:ln>
              <a:solidFill>
                <a:srgbClr val="e20e1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</p:grpSp>
      <p:grpSp>
        <p:nvGrpSpPr>
          <p:cNvPr id="445" name="组合 4"/>
          <p:cNvGrpSpPr/>
          <p:nvPr/>
        </p:nvGrpSpPr>
        <p:grpSpPr>
          <a:xfrm>
            <a:off x="10379160" y="5391360"/>
            <a:ext cx="366120" cy="470520"/>
            <a:chOff x="10379160" y="5391360"/>
            <a:chExt cx="366120" cy="470520"/>
          </a:xfrm>
        </p:grpSpPr>
        <p:sp>
          <p:nvSpPr>
            <p:cNvPr id="446" name="Freeform 108"/>
            <p:cNvSpPr/>
            <p:nvPr/>
          </p:nvSpPr>
          <p:spPr>
            <a:xfrm flipH="1">
              <a:off x="10378800" y="5809680"/>
              <a:ext cx="51480" cy="5220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 flipH="1">
              <a:off x="10379520" y="5391360"/>
              <a:ext cx="365760" cy="470520"/>
            </a:xfrm>
            <a:custGeom>
              <a:avLst/>
              <a:gdLst>
                <a:gd name="textAreaLeft" fmla="*/ 360 w 365760"/>
                <a:gd name="textAreaRight" fmla="*/ 366480 w 36576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8" name="Rectangle 110"/>
            <p:cNvSpPr/>
            <p:nvPr/>
          </p:nvSpPr>
          <p:spPr>
            <a:xfrm flipH="1">
              <a:off x="10378800" y="5653080"/>
              <a:ext cx="51480" cy="5148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9" name="Rectangle 111"/>
            <p:cNvSpPr/>
            <p:nvPr/>
          </p:nvSpPr>
          <p:spPr>
            <a:xfrm flipH="1">
              <a:off x="10378800" y="5731560"/>
              <a:ext cx="51480" cy="52200"/>
            </a:xfrm>
            <a:prstGeom prst="rect">
              <a:avLst/>
            </a:prstGeom>
            <a:solidFill>
              <a:srgbClr val="e20e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50" name="文本框 1"/>
          <p:cNvSpPr/>
          <p:nvPr/>
        </p:nvSpPr>
        <p:spPr>
          <a:xfrm>
            <a:off x="9029880" y="375480"/>
            <a:ext cx="260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cfc"/>
                </a:solidFill>
                <a:latin typeface="Arial Unicode MS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3033360" y="0"/>
            <a:ext cx="558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羊年喜庆红色商务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14480" y="6392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527508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019640" y="1856880"/>
            <a:ext cx="433260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，行距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.2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倍；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46960" indent="-246960">
              <a:lnSpc>
                <a:spcPct val="13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内容页，微软雅黑，</a:t>
            </a:r>
            <a:r>
              <a:rPr b="0" lang="en-US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404040"/>
                </a:solidFill>
                <a:latin typeface="Arial Unicode MS"/>
                <a:ea typeface="微软雅黑"/>
              </a:rPr>
              <a:t>号字体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93" name="组合 27"/>
          <p:cNvGrpSpPr/>
          <p:nvPr/>
        </p:nvGrpSpPr>
        <p:grpSpPr>
          <a:xfrm>
            <a:off x="1145520" y="1856880"/>
            <a:ext cx="4619880" cy="3600360"/>
            <a:chOff x="1145520" y="1856880"/>
            <a:chExt cx="4619880" cy="3600360"/>
          </a:xfrm>
        </p:grpSpPr>
        <p:grpSp>
          <p:nvGrpSpPr>
            <p:cNvPr id="494" name="组合 28"/>
            <p:cNvGrpSpPr/>
            <p:nvPr/>
          </p:nvGrpSpPr>
          <p:grpSpPr>
            <a:xfrm>
              <a:off x="1145520" y="2239920"/>
              <a:ext cx="4619880" cy="2863800"/>
              <a:chOff x="1145520" y="2239920"/>
              <a:chExt cx="4619880" cy="2863800"/>
            </a:xfrm>
          </p:grpSpPr>
          <p:sp>
            <p:nvSpPr>
              <p:cNvPr id="495" name="矩形 38"/>
              <p:cNvSpPr/>
              <p:nvPr/>
            </p:nvSpPr>
            <p:spPr>
              <a:xfrm>
                <a:off x="1145520" y="3717000"/>
                <a:ext cx="882000" cy="138672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6" name="矩形 39"/>
              <p:cNvSpPr/>
              <p:nvPr/>
            </p:nvSpPr>
            <p:spPr>
              <a:xfrm>
                <a:off x="2391480" y="3276360"/>
                <a:ext cx="882000" cy="182736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7" name="矩形 40"/>
              <p:cNvSpPr/>
              <p:nvPr/>
            </p:nvSpPr>
            <p:spPr>
              <a:xfrm>
                <a:off x="3637440" y="2678040"/>
                <a:ext cx="882000" cy="241524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8" name="矩形 41"/>
              <p:cNvSpPr/>
              <p:nvPr/>
            </p:nvSpPr>
            <p:spPr>
              <a:xfrm>
                <a:off x="4883400" y="2239920"/>
                <a:ext cx="882000" cy="2863440"/>
              </a:xfrm>
              <a:prstGeom prst="rect">
                <a:avLst/>
              </a:prstGeom>
              <a:solidFill>
                <a:srgbClr val="ea8684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499" name="右箭头 42"/>
              <p:cNvSpPr/>
              <p:nvPr/>
            </p:nvSpPr>
            <p:spPr>
              <a:xfrm rot="20624400">
                <a:off x="1299240" y="3920040"/>
                <a:ext cx="4289040" cy="49212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e0403d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微软雅黑"/>
                </a:endParaRPr>
              </a:p>
            </p:txBody>
          </p:sp>
        </p:grpSp>
        <p:sp>
          <p:nvSpPr>
            <p:cNvPr id="500" name="文本框 29"/>
            <p:cNvSpPr/>
            <p:nvPr/>
          </p:nvSpPr>
          <p:spPr>
            <a:xfrm>
              <a:off x="119952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30"/>
            <p:cNvSpPr/>
            <p:nvPr/>
          </p:nvSpPr>
          <p:spPr>
            <a:xfrm>
              <a:off x="240840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文本框 31"/>
            <p:cNvSpPr/>
            <p:nvPr/>
          </p:nvSpPr>
          <p:spPr>
            <a:xfrm>
              <a:off x="369324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文本框 32"/>
            <p:cNvSpPr/>
            <p:nvPr/>
          </p:nvSpPr>
          <p:spPr>
            <a:xfrm>
              <a:off x="4954320" y="50932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f4756"/>
                  </a:solidFill>
                  <a:latin typeface="Arial Unicode MS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文本框 33"/>
            <p:cNvSpPr/>
            <p:nvPr/>
          </p:nvSpPr>
          <p:spPr>
            <a:xfrm>
              <a:off x="1239120" y="335664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9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文本框 34"/>
            <p:cNvSpPr/>
            <p:nvPr/>
          </p:nvSpPr>
          <p:spPr>
            <a:xfrm>
              <a:off x="2447640" y="284220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文本框 35"/>
            <p:cNvSpPr/>
            <p:nvPr/>
          </p:nvSpPr>
          <p:spPr>
            <a:xfrm>
              <a:off x="3732480" y="222804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文本框 36"/>
            <p:cNvSpPr/>
            <p:nvPr/>
          </p:nvSpPr>
          <p:spPr>
            <a:xfrm>
              <a:off x="4922640" y="1856880"/>
              <a:ext cx="75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37"/>
            <p:cNvSpPr/>
            <p:nvPr/>
          </p:nvSpPr>
          <p:spPr>
            <a:xfrm>
              <a:off x="4034880" y="2785680"/>
              <a:ext cx="1432440" cy="673920"/>
            </a:xfrm>
            <a:prstGeom prst="roundRect">
              <a:avLst>
                <a:gd name="adj" fmla="val 31500"/>
              </a:avLst>
            </a:prstGeom>
            <a:solidFill>
              <a:schemeClr val="bg1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262b35"/>
                  </a:solidFill>
                  <a:latin typeface="Arial Unicode MS"/>
                  <a:ea typeface="微软雅黑"/>
                </a:rPr>
                <a:t>13VS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e0403d"/>
                  </a:solidFill>
                  <a:latin typeface="Arial Unicode MS"/>
                  <a:ea typeface="微软雅黑"/>
                </a:rPr>
                <a:t>+1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sp>
        <p:nvSpPr>
          <p:cNvPr id="510" name="椭圆 3"/>
          <p:cNvSpPr/>
          <p:nvPr/>
        </p:nvSpPr>
        <p:spPr>
          <a:xfrm>
            <a:off x="1386360" y="2454480"/>
            <a:ext cx="2087280" cy="2087280"/>
          </a:xfrm>
          <a:prstGeom prst="ellipse">
            <a:avLst/>
          </a:prstGeom>
          <a:solidFill>
            <a:srgbClr val="ea8684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微软雅黑"/>
            </a:endParaRPr>
          </a:p>
        </p:txBody>
      </p:sp>
      <p:pic>
        <p:nvPicPr>
          <p:cNvPr id="511" name="图片 4" descr=""/>
          <p:cNvPicPr/>
          <p:nvPr/>
        </p:nvPicPr>
        <p:blipFill>
          <a:blip r:embed="rId1"/>
          <a:stretch/>
        </p:blipFill>
        <p:spPr>
          <a:xfrm>
            <a:off x="1576440" y="2846880"/>
            <a:ext cx="1581120" cy="1361880"/>
          </a:xfrm>
          <a:prstGeom prst="rect">
            <a:avLst/>
          </a:prstGeom>
          <a:ln w="0">
            <a:noFill/>
          </a:ln>
        </p:spPr>
      </p:pic>
      <p:sp>
        <p:nvSpPr>
          <p:cNvPr id="512" name="饼形 5"/>
          <p:cNvSpPr/>
          <p:nvPr/>
        </p:nvSpPr>
        <p:spPr>
          <a:xfrm>
            <a:off x="933480" y="2002680"/>
            <a:ext cx="2990880" cy="2990880"/>
          </a:xfrm>
          <a:prstGeom prst="pie">
            <a:avLst>
              <a:gd name="adj1" fmla="val 20980552"/>
              <a:gd name="adj2" fmla="val 3413544"/>
            </a:avLst>
          </a:prstGeom>
          <a:solidFill>
            <a:srgbClr val="e4595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微软雅黑"/>
            </a:endParaRPr>
          </a:p>
        </p:txBody>
      </p:sp>
      <p:sp>
        <p:nvSpPr>
          <p:cNvPr id="513" name="饼形 6"/>
          <p:cNvSpPr/>
          <p:nvPr/>
        </p:nvSpPr>
        <p:spPr>
          <a:xfrm>
            <a:off x="936360" y="2002680"/>
            <a:ext cx="2990880" cy="2990880"/>
          </a:xfrm>
          <a:prstGeom prst="pie">
            <a:avLst>
              <a:gd name="adj1" fmla="val 16762682"/>
              <a:gd name="adj2" fmla="val 20984929"/>
            </a:avLst>
          </a:prstGeom>
          <a:solidFill>
            <a:srgbClr val="e0403d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微软雅黑"/>
            </a:endParaRPr>
          </a:p>
        </p:txBody>
      </p:sp>
      <p:sp>
        <p:nvSpPr>
          <p:cNvPr id="514" name="文本框 7"/>
          <p:cNvSpPr/>
          <p:nvPr/>
        </p:nvSpPr>
        <p:spPr>
          <a:xfrm>
            <a:off x="2811240" y="2791440"/>
            <a:ext cx="66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8"/>
          <p:cNvSpPr/>
          <p:nvPr/>
        </p:nvSpPr>
        <p:spPr>
          <a:xfrm>
            <a:off x="3038040" y="3690720"/>
            <a:ext cx="66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5"/>
          <p:cNvGrpSpPr/>
          <p:nvPr/>
        </p:nvGrpSpPr>
        <p:grpSpPr>
          <a:xfrm>
            <a:off x="5908320" y="1728000"/>
            <a:ext cx="4807080" cy="2124720"/>
            <a:chOff x="5908320" y="1728000"/>
            <a:chExt cx="4807080" cy="2124720"/>
          </a:xfrm>
        </p:grpSpPr>
        <p:grpSp>
          <p:nvGrpSpPr>
            <p:cNvPr id="517" name="组合 16"/>
            <p:cNvGrpSpPr/>
            <p:nvPr/>
          </p:nvGrpSpPr>
          <p:grpSpPr>
            <a:xfrm>
              <a:off x="6369120" y="2189880"/>
              <a:ext cx="4346280" cy="1662840"/>
              <a:chOff x="6369120" y="2189880"/>
              <a:chExt cx="4346280" cy="1662840"/>
            </a:xfrm>
          </p:grpSpPr>
          <p:sp>
            <p:nvSpPr>
              <p:cNvPr id="518" name="圆角矩形 19"/>
              <p:cNvSpPr/>
              <p:nvPr/>
            </p:nvSpPr>
            <p:spPr>
              <a:xfrm>
                <a:off x="6369120" y="2189880"/>
                <a:ext cx="4346280" cy="1662840"/>
              </a:xfrm>
              <a:prstGeom prst="roundRect">
                <a:avLst>
                  <a:gd name="adj" fmla="val 16667"/>
                </a:avLst>
              </a:prstGeom>
              <a:solidFill>
                <a:srgbClr val="3f475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3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519" name="矩形 20"/>
              <p:cNvSpPr/>
              <p:nvPr/>
            </p:nvSpPr>
            <p:spPr>
              <a:xfrm>
                <a:off x="6588360" y="2550960"/>
                <a:ext cx="3201840" cy="80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行距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.2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倍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饼形 17"/>
            <p:cNvSpPr/>
            <p:nvPr/>
          </p:nvSpPr>
          <p:spPr>
            <a:xfrm>
              <a:off x="5908320" y="1728000"/>
              <a:ext cx="915480" cy="91548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e0403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6366240" y="1770840"/>
              <a:ext cx="2913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21"/>
          <p:cNvGrpSpPr/>
          <p:nvPr/>
        </p:nvGrpSpPr>
        <p:grpSpPr>
          <a:xfrm>
            <a:off x="1004040" y="4982040"/>
            <a:ext cx="1779120" cy="765720"/>
            <a:chOff x="1004040" y="4982040"/>
            <a:chExt cx="1779120" cy="765720"/>
          </a:xfrm>
        </p:grpSpPr>
        <p:sp>
          <p:nvSpPr>
            <p:cNvPr id="523" name="饼形 22"/>
            <p:cNvSpPr/>
            <p:nvPr/>
          </p:nvSpPr>
          <p:spPr>
            <a:xfrm>
              <a:off x="1004040" y="4982040"/>
              <a:ext cx="765720" cy="765720"/>
            </a:xfrm>
            <a:prstGeom prst="pie">
              <a:avLst>
                <a:gd name="adj1" fmla="val 16762682"/>
                <a:gd name="adj2" fmla="val 20984929"/>
              </a:avLst>
            </a:prstGeom>
            <a:solidFill>
              <a:srgbClr val="e0403d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4" name="文本框 23"/>
            <p:cNvSpPr/>
            <p:nvPr/>
          </p:nvSpPr>
          <p:spPr>
            <a:xfrm>
              <a:off x="1882440" y="5038920"/>
              <a:ext cx="90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24"/>
          <p:cNvGrpSpPr/>
          <p:nvPr/>
        </p:nvGrpSpPr>
        <p:grpSpPr>
          <a:xfrm>
            <a:off x="2185200" y="4982040"/>
            <a:ext cx="1779120" cy="765720"/>
            <a:chOff x="2185200" y="4982040"/>
            <a:chExt cx="1779120" cy="765720"/>
          </a:xfrm>
        </p:grpSpPr>
        <p:sp>
          <p:nvSpPr>
            <p:cNvPr id="526" name="饼形 25"/>
            <p:cNvSpPr/>
            <p:nvPr/>
          </p:nvSpPr>
          <p:spPr>
            <a:xfrm>
              <a:off x="2185200" y="4982040"/>
              <a:ext cx="765720" cy="765720"/>
            </a:xfrm>
            <a:prstGeom prst="pie">
              <a:avLst>
                <a:gd name="adj1" fmla="val 16762682"/>
                <a:gd name="adj2" fmla="val 20984929"/>
              </a:avLst>
            </a:prstGeom>
            <a:solidFill>
              <a:srgbClr val="e45956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27" name="文本框 26"/>
            <p:cNvSpPr/>
            <p:nvPr/>
          </p:nvSpPr>
          <p:spPr>
            <a:xfrm>
              <a:off x="3063600" y="5038920"/>
              <a:ext cx="900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27"/>
          <p:cNvGrpSpPr/>
          <p:nvPr/>
        </p:nvGrpSpPr>
        <p:grpSpPr>
          <a:xfrm>
            <a:off x="5908320" y="3875040"/>
            <a:ext cx="4807080" cy="2124720"/>
            <a:chOff x="5908320" y="3875040"/>
            <a:chExt cx="4807080" cy="2124720"/>
          </a:xfrm>
        </p:grpSpPr>
        <p:grpSp>
          <p:nvGrpSpPr>
            <p:cNvPr id="529" name="组合 28"/>
            <p:cNvGrpSpPr/>
            <p:nvPr/>
          </p:nvGrpSpPr>
          <p:grpSpPr>
            <a:xfrm>
              <a:off x="6369120" y="4336920"/>
              <a:ext cx="4346280" cy="1662840"/>
              <a:chOff x="6369120" y="4336920"/>
              <a:chExt cx="4346280" cy="1662840"/>
            </a:xfrm>
          </p:grpSpPr>
          <p:sp>
            <p:nvSpPr>
              <p:cNvPr id="530" name="圆角矩形 31"/>
              <p:cNvSpPr/>
              <p:nvPr/>
            </p:nvSpPr>
            <p:spPr>
              <a:xfrm>
                <a:off x="6369120" y="4336920"/>
                <a:ext cx="4346280" cy="1662840"/>
              </a:xfrm>
              <a:prstGeom prst="roundRect">
                <a:avLst>
                  <a:gd name="adj" fmla="val 16667"/>
                </a:avLst>
              </a:prstGeom>
              <a:solidFill>
                <a:srgbClr val="3f475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3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endParaRPr>
              </a:p>
            </p:txBody>
          </p:sp>
          <p:sp>
            <p:nvSpPr>
              <p:cNvPr id="531" name="矩形 32"/>
              <p:cNvSpPr/>
              <p:nvPr/>
            </p:nvSpPr>
            <p:spPr>
              <a:xfrm>
                <a:off x="6588360" y="4697640"/>
                <a:ext cx="3201840" cy="80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行距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.2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倍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内容页，微软雅黑，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18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Arial Unicode MS"/>
                    <a:ea typeface="微软雅黑"/>
                  </a:rPr>
                  <a:t>号字体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饼形 29"/>
            <p:cNvSpPr/>
            <p:nvPr/>
          </p:nvSpPr>
          <p:spPr>
            <a:xfrm>
              <a:off x="5908320" y="3875040"/>
              <a:ext cx="915480" cy="91548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e0403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33" name="文本框 30"/>
            <p:cNvSpPr/>
            <p:nvPr/>
          </p:nvSpPr>
          <p:spPr>
            <a:xfrm>
              <a:off x="6366240" y="3917520"/>
              <a:ext cx="2913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9"/>
          <p:cNvSpPr/>
          <p:nvPr/>
        </p:nvSpPr>
        <p:spPr>
          <a:xfrm>
            <a:off x="351360" y="6375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4473000" cy="9381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e20e1d"/>
              </a:solidFill>
              <a:latin typeface="Arial Rounded MT Bold"/>
              <a:ea typeface="微软雅黑"/>
            </a:endParaRPr>
          </a:p>
        </p:txBody>
      </p:sp>
      <p:pic>
        <p:nvPicPr>
          <p:cNvPr id="536" name="图片 5" descr=""/>
          <p:cNvPicPr/>
          <p:nvPr/>
        </p:nvPicPr>
        <p:blipFill>
          <a:blip r:embed="rId1"/>
          <a:stretch/>
        </p:blipFill>
        <p:spPr>
          <a:xfrm>
            <a:off x="1013040" y="2146680"/>
            <a:ext cx="3910680" cy="31287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grpSp>
        <p:nvGrpSpPr>
          <p:cNvPr id="537" name="组合 6"/>
          <p:cNvGrpSpPr/>
          <p:nvPr/>
        </p:nvGrpSpPr>
        <p:grpSpPr>
          <a:xfrm>
            <a:off x="8410680" y="1764000"/>
            <a:ext cx="2906280" cy="3511440"/>
            <a:chOff x="8410680" y="1764000"/>
            <a:chExt cx="2906280" cy="3511440"/>
          </a:xfrm>
        </p:grpSpPr>
        <p:sp>
          <p:nvSpPr>
            <p:cNvPr id="538" name="文本框 8"/>
            <p:cNvSpPr/>
            <p:nvPr/>
          </p:nvSpPr>
          <p:spPr>
            <a:xfrm>
              <a:off x="9145440" y="1764000"/>
              <a:ext cx="217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圆角矩形 9"/>
            <p:cNvSpPr/>
            <p:nvPr/>
          </p:nvSpPr>
          <p:spPr>
            <a:xfrm>
              <a:off x="8410680" y="2432880"/>
              <a:ext cx="2906280" cy="2842560"/>
            </a:xfrm>
            <a:prstGeom prst="roundRect">
              <a:avLst>
                <a:gd name="adj" fmla="val 7098"/>
              </a:avLst>
            </a:prstGeom>
            <a:solidFill>
              <a:srgbClr val="3f47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40" name="矩形 10"/>
            <p:cNvSpPr/>
            <p:nvPr/>
          </p:nvSpPr>
          <p:spPr>
            <a:xfrm>
              <a:off x="8542080" y="2607840"/>
              <a:ext cx="266328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30000"/>
                </a:lnSpc>
                <a:buSzPct val="100112"/>
                <a:buBlip>
                  <a:blip r:embed="rId2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3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4"/>
                </a:buBlip>
              </a:pP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11"/>
          <p:cNvGrpSpPr/>
          <p:nvPr/>
        </p:nvGrpSpPr>
        <p:grpSpPr>
          <a:xfrm>
            <a:off x="5316840" y="1764000"/>
            <a:ext cx="2906640" cy="3511440"/>
            <a:chOff x="5316840" y="1764000"/>
            <a:chExt cx="2906640" cy="3511440"/>
          </a:xfrm>
        </p:grpSpPr>
        <p:sp>
          <p:nvSpPr>
            <p:cNvPr id="542" name="文本框 13"/>
            <p:cNvSpPr/>
            <p:nvPr/>
          </p:nvSpPr>
          <p:spPr>
            <a:xfrm>
              <a:off x="6051960" y="1764000"/>
              <a:ext cx="217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299" strike="noStrike">
                  <a:solidFill>
                    <a:srgbClr val="595959"/>
                  </a:solidFill>
                  <a:latin typeface="Arial Unicode MS"/>
                  <a:ea typeface="微软雅黑"/>
                </a:rPr>
                <a:t>此处副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圆角矩形 14"/>
            <p:cNvSpPr/>
            <p:nvPr/>
          </p:nvSpPr>
          <p:spPr>
            <a:xfrm>
              <a:off x="5316840" y="2432880"/>
              <a:ext cx="2906280" cy="2842560"/>
            </a:xfrm>
            <a:prstGeom prst="roundRect">
              <a:avLst>
                <a:gd name="adj" fmla="val 7098"/>
              </a:avLst>
            </a:prstGeom>
            <a:solidFill>
              <a:srgbClr val="3f475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95959"/>
                </a:solidFill>
                <a:latin typeface="Arial Unicode MS"/>
                <a:ea typeface="微软雅黑"/>
              </a:endParaRPr>
            </a:p>
          </p:txBody>
        </p:sp>
        <p:sp>
          <p:nvSpPr>
            <p:cNvPr id="544" name="矩形 15"/>
            <p:cNvSpPr/>
            <p:nvPr/>
          </p:nvSpPr>
          <p:spPr>
            <a:xfrm>
              <a:off x="5448240" y="2607840"/>
              <a:ext cx="266328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30000"/>
                </a:lnSpc>
                <a:buSzPct val="100112"/>
                <a:buBlip>
                  <a:blip r:embed="rId5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6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30000"/>
                </a:lnSpc>
                <a:buSzPct val="100112"/>
                <a:buBlip>
                  <a:blip r:embed="rId7"/>
                </a:buBlip>
              </a:pP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内容页，微软雅黑，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号字体，行距</a:t>
              </a:r>
              <a:r>
                <a:rPr b="0" lang="en-US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1.2</a:t>
              </a:r>
              <a:r>
                <a:rPr b="0" lang="zh-CN" sz="1800" spc="-1" strike="noStrike">
                  <a:solidFill>
                    <a:srgbClr val="fcfcfc"/>
                  </a:solidFill>
                  <a:latin typeface="Arial Unicode MS"/>
                  <a:ea typeface="微软雅黑"/>
                </a:rPr>
                <a:t>倍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  <Words>275</Words>
  <Paragraphs>3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6:10:56Z</dcterms:created>
  <dc:creator>www.pptbz.com</dc:creator>
  <dc:description/>
  <cp:keywords>ppt宝藏</cp:keywords>
  <dc:language>en-US</dc:language>
  <cp:lastModifiedBy>a</cp:lastModifiedBy>
  <dcterms:modified xsi:type="dcterms:W3CDTF">2015-07-25T02:42:45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9</vt:r8>
  </property>
</Properties>
</file>