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369-FF5F-493F-8713-6A2132A9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665-3A3B-480E-9FFA-7677EF3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14A-C1C8-4C34-AB65-831F0A18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50E-99D6-4D86-98BB-B85381E0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7C42-310D-48C7-BCBA-54F9722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9C5D-DE04-4ADA-8E27-8DE93B81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5F24-30EC-4DE6-AFBB-12CE33F7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7C50-3CFE-456D-9CB2-381CA01D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82E1-55AF-4CCF-AB7B-D9FF726B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3480-DF25-4429-806D-27D5193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2AC-569E-4261-9A08-B0EC077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C1D-C248-4932-93F4-D9C3246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97A7-0F32-45E7-B73B-A7E641E9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BA8-A8E1-4DD4-A71E-62EA1CC8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F030-71C5-4334-A087-8A92BCB5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2224-4FF6-4B2E-B0DA-628CD923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7C7C-222F-4022-B6D1-05BC3385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DA5-EFBB-437C-A92F-116992C5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E35-21F3-4C9D-B311-4F46CF3C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CD2-D81A-484E-ACA4-1CCFA6B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87E-37BB-4935-B172-8A45669E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543-A09D-4CA3-B998-641F516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184-E779-4091-B9CA-86717BC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966-4F1B-4817-8CD3-8AEEDF6A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05DA-776B-4A9D-96FA-B2CAD1F58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D1D-46A7-437D-BF8D-34DB6ECF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tor\桌面\图片7.png"/>
          <p:cNvPicPr/>
          <p:nvPr/>
        </p:nvPicPr>
        <p:blipFill>
          <a:blip r:embed="rId1"/>
          <a:stretch/>
        </p:blipFill>
        <p:spPr>
          <a:xfrm>
            <a:off x="1639800" y="2343240"/>
            <a:ext cx="5864400" cy="21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桌面\图片7.png"/>
          <p:cNvPicPr/>
          <p:nvPr/>
        </p:nvPicPr>
        <p:blipFill>
          <a:blip r:embed="rId2"/>
          <a:stretch/>
        </p:blipFill>
        <p:spPr>
          <a:xfrm>
            <a:off x="1639800" y="2349360"/>
            <a:ext cx="5864400" cy="2170080"/>
          </a:xfrm>
          <a:prstGeom prst="rect">
            <a:avLst/>
          </a:prstGeom>
          <a:ln w="0">
            <a:noFill/>
          </a:ln>
        </p:spPr>
      </p:pic>
      <p:sp>
        <p:nvSpPr>
          <p:cNvPr id="84" name="矩形 9"/>
          <p:cNvSpPr/>
          <p:nvPr/>
        </p:nvSpPr>
        <p:spPr>
          <a:xfrm rot="21420600">
            <a:off x="-517680" y="5191200"/>
            <a:ext cx="10761840" cy="2152440"/>
          </a:xfrm>
          <a:prstGeom prst="rect">
            <a:avLst/>
          </a:prstGeom>
          <a:solidFill>
            <a:srgbClr val="ddfbff"/>
          </a:solidFill>
          <a:ln w="38160">
            <a:solidFill>
              <a:srgbClr val="ddf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 rot="151800">
            <a:off x="-676080" y="3997080"/>
            <a:ext cx="10761840" cy="2152440"/>
          </a:xfrm>
          <a:prstGeom prst="rect">
            <a:avLst/>
          </a:prstGeom>
          <a:solidFill>
            <a:srgbClr val="e6e6e6"/>
          </a:solidFill>
          <a:ln w="381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 rot="151800">
            <a:off x="-703080" y="2565000"/>
            <a:ext cx="10760400" cy="2152800"/>
          </a:xfrm>
          <a:prstGeom prst="rect">
            <a:avLst/>
          </a:prstGeom>
          <a:solidFill>
            <a:srgbClr val="d1d1f0"/>
          </a:solidFill>
          <a:ln w="381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 rot="21352200">
            <a:off x="-612360" y="1486080"/>
            <a:ext cx="10760040" cy="2060280"/>
          </a:xfrm>
          <a:prstGeom prst="rect">
            <a:avLst/>
          </a:prstGeom>
          <a:solidFill>
            <a:srgbClr val="daedef"/>
          </a:solidFill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667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6720" y="40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教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3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55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5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5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5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5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5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6252840" y="54936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c009c"/>
                </a:solidFill>
                <a:latin typeface="微软雅黑"/>
                <a:ea typeface="微软雅黑"/>
              </a:rPr>
              <a:t>英 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653160" y="2117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9c"/>
                </a:solidFill>
                <a:latin typeface="微软雅黑"/>
                <a:ea typeface="微软雅黑"/>
              </a:rPr>
              <a:t>牛津上海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288840" y="306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009c"/>
                </a:solidFill>
                <a:latin typeface="微软雅黑"/>
                <a:ea typeface="微软雅黑"/>
              </a:rPr>
              <a:t>六年级第二学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5300280" y="3924360"/>
            <a:ext cx="351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c009c"/>
                </a:solidFill>
                <a:latin typeface="Book Antiqua"/>
                <a:ea typeface="微软雅黑"/>
              </a:rPr>
              <a:t>ENGL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1"/>
          <p:cNvGrpSpPr/>
          <p:nvPr/>
        </p:nvGrpSpPr>
        <p:grpSpPr>
          <a:xfrm>
            <a:off x="7056360" y="5435640"/>
            <a:ext cx="1619280" cy="703440"/>
            <a:chOff x="7056360" y="5435640"/>
            <a:chExt cx="1619280" cy="703440"/>
          </a:xfrm>
        </p:grpSpPr>
        <p:sp>
          <p:nvSpPr>
            <p:cNvPr id="96" name="椭圆 9"/>
            <p:cNvSpPr/>
            <p:nvPr/>
          </p:nvSpPr>
          <p:spPr>
            <a:xfrm>
              <a:off x="7056360" y="5469840"/>
              <a:ext cx="1619280" cy="639720"/>
            </a:xfrm>
            <a:prstGeom prst="ellipse">
              <a:avLst/>
            </a:prstGeom>
            <a:solidFill>
              <a:srgbClr val="9c009c"/>
            </a:solidFill>
            <a:ln w="38160">
              <a:solidFill>
                <a:srgbClr val="9c00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0"/>
            <p:cNvSpPr/>
            <p:nvPr/>
          </p:nvSpPr>
          <p:spPr>
            <a:xfrm>
              <a:off x="7416360" y="543564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6564240" y="476280"/>
            <a:ext cx="1081080" cy="431640"/>
          </a:xfrm>
          <a:prstGeom prst="flowChartDocumen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7931160" y="476280"/>
            <a:ext cx="1081080" cy="431640"/>
          </a:xfrm>
          <a:prstGeom prst="flowChartDocumen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previousslide"/>
          </p:cNvPr>
          <p:cNvSpPr/>
          <p:nvPr/>
        </p:nvSpPr>
        <p:spPr>
          <a:xfrm>
            <a:off x="7343640" y="6302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75ffb3"/>
          </a:solidFill>
          <a:ln w="9360">
            <a:solidFill>
              <a:srgbClr val="9ace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 rot="10800000">
            <a:off x="7994520" y="6311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75ffb3"/>
          </a:solidFill>
          <a:ln w="9360">
            <a:solidFill>
              <a:srgbClr val="9ace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618400" y="6313320"/>
            <a:ext cx="370080" cy="392400"/>
          </a:xfrm>
          <a:prstGeom prst="foldedCorner">
            <a:avLst>
              <a:gd name="adj" fmla="val 27037"/>
            </a:avLst>
          </a:prstGeom>
          <a:solidFill>
            <a:srgbClr val="75ffb3"/>
          </a:solidFill>
          <a:ln w="9360">
            <a:solidFill>
              <a:srgbClr val="9a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969d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968400" y="6324480"/>
            <a:ext cx="380880" cy="35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1395360" y="6329520"/>
            <a:ext cx="380880" cy="358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1819440" y="6330960"/>
            <a:ext cx="380880" cy="35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2246400" y="6335640"/>
            <a:ext cx="380880" cy="35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8362800" y="1023840"/>
            <a:ext cx="781200" cy="324000"/>
          </a:xfrm>
          <a:custGeom>
            <a:avLst/>
            <a:gdLst>
              <a:gd name="textAreaLeft" fmla="*/ 0 w 781200"/>
              <a:gd name="textAreaRight" fmla="*/ 781560 w 781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微软雅黑"/>
                <a:ea typeface="微软雅黑"/>
              </a:rPr>
              <a:t>页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07000" y="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点击添加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123840" y="950760"/>
            <a:ext cx="8480520" cy="606600"/>
            <a:chOff x="123840" y="950760"/>
            <a:chExt cx="8480520" cy="606600"/>
          </a:xfrm>
        </p:grpSpPr>
        <p:sp>
          <p:nvSpPr>
            <p:cNvPr id="110" name="Oval 3"/>
            <p:cNvSpPr/>
            <p:nvPr/>
          </p:nvSpPr>
          <p:spPr>
            <a:xfrm>
              <a:off x="123840" y="1198440"/>
              <a:ext cx="7380360" cy="35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374400" y="950760"/>
              <a:ext cx="8229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2"/>
          <p:cNvSpPr/>
          <p:nvPr/>
        </p:nvSpPr>
        <p:spPr>
          <a:xfrm>
            <a:off x="250920" y="1700280"/>
            <a:ext cx="8680320" cy="4249800"/>
          </a:xfrm>
          <a:prstGeom prst="rect">
            <a:avLst/>
          </a:prstGeom>
          <a:noFill/>
          <a:ln w="38160">
            <a:solidFill>
              <a:srgbClr val="bbe0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点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>
            <a:hlinkClick r:id="" action="ppaction://hlinkshowjump?jump=previousslide"/>
          </p:cNvPr>
          <p:cNvSpPr/>
          <p:nvPr/>
        </p:nvSpPr>
        <p:spPr>
          <a:xfrm>
            <a:off x="7343640" y="6302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" action="ppaction://hlinkshowjump?jump=nextslide"/>
          </p:cNvPr>
          <p:cNvSpPr/>
          <p:nvPr/>
        </p:nvSpPr>
        <p:spPr>
          <a:xfrm rot="10800000">
            <a:off x="7994520" y="6311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618400" y="6313320"/>
            <a:ext cx="370080" cy="392400"/>
          </a:xfrm>
          <a:prstGeom prst="foldedCorner">
            <a:avLst>
              <a:gd name="adj" fmla="val 2703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50920" y="1719360"/>
            <a:ext cx="8680320" cy="4249800"/>
          </a:xfrm>
          <a:prstGeom prst="rect">
            <a:avLst/>
          </a:prstGeom>
          <a:noFill/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00"/>
                </a:solidFill>
                <a:latin typeface="微软雅黑"/>
                <a:ea typeface="微软雅黑"/>
              </a:rPr>
              <a:t>点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6564240" y="476280"/>
            <a:ext cx="1081080" cy="431640"/>
          </a:xfrm>
          <a:prstGeom prst="flowChartDocumen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7931160" y="476280"/>
            <a:ext cx="1081080" cy="431640"/>
          </a:xfrm>
          <a:prstGeom prst="flowChartDocumen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8362800" y="1023840"/>
            <a:ext cx="781200" cy="324000"/>
          </a:xfrm>
          <a:custGeom>
            <a:avLst/>
            <a:gdLst>
              <a:gd name="textAreaLeft" fmla="*/ 0 w 781200"/>
              <a:gd name="textAreaRight" fmla="*/ 781560 w 781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00"/>
                </a:solidFill>
                <a:latin typeface="微软雅黑"/>
                <a:ea typeface="微软雅黑"/>
              </a:rPr>
              <a:t>页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5607000" y="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00"/>
                </a:solidFill>
                <a:latin typeface="微软雅黑"/>
                <a:ea typeface="微软雅黑"/>
              </a:rPr>
              <a:t>点击添加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"/>
          <p:cNvGrpSpPr/>
          <p:nvPr/>
        </p:nvGrpSpPr>
        <p:grpSpPr>
          <a:xfrm>
            <a:off x="123840" y="950760"/>
            <a:ext cx="8480520" cy="606600"/>
            <a:chOff x="123840" y="950760"/>
            <a:chExt cx="8480520" cy="606600"/>
          </a:xfrm>
        </p:grpSpPr>
        <p:sp>
          <p:nvSpPr>
            <p:cNvPr id="122" name="Oval 3"/>
            <p:cNvSpPr/>
            <p:nvPr/>
          </p:nvSpPr>
          <p:spPr>
            <a:xfrm>
              <a:off x="123840" y="1198440"/>
              <a:ext cx="7380360" cy="358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374400" y="950760"/>
              <a:ext cx="8229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7"/>
          <p:cNvSpPr/>
          <p:nvPr/>
        </p:nvSpPr>
        <p:spPr>
          <a:xfrm>
            <a:off x="968400" y="6324480"/>
            <a:ext cx="380880" cy="35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1395360" y="6329520"/>
            <a:ext cx="380880" cy="3585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819440" y="6330960"/>
            <a:ext cx="380880" cy="35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2246400" y="6335640"/>
            <a:ext cx="380880" cy="35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213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0" y="981000"/>
            <a:ext cx="7093080" cy="917640"/>
            <a:chOff x="0" y="981000"/>
            <a:chExt cx="7093080" cy="917640"/>
          </a:xfrm>
        </p:grpSpPr>
        <p:sp>
          <p:nvSpPr>
            <p:cNvPr id="130" name="AutoShape 30"/>
            <p:cNvSpPr/>
            <p:nvPr/>
          </p:nvSpPr>
          <p:spPr>
            <a:xfrm>
              <a:off x="0" y="1268280"/>
              <a:ext cx="7093080" cy="576360"/>
            </a:xfrm>
            <a:prstGeom prst="flowChartDelay">
              <a:avLst/>
            </a:prstGeom>
            <a:solidFill>
              <a:srgbClr val="3c96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1258920" y="1195200"/>
              <a:ext cx="432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c969d"/>
                  </a:solidFill>
                  <a:latin typeface="微软雅黑"/>
                  <a:ea typeface="微软雅黑"/>
                </a:rPr>
                <a:t>作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33" descr=""/>
            <p:cNvPicPr/>
            <p:nvPr/>
          </p:nvPicPr>
          <p:blipFill>
            <a:blip r:embed="rId2"/>
            <a:stretch/>
          </p:blipFill>
          <p:spPr>
            <a:xfrm>
              <a:off x="179280" y="981000"/>
              <a:ext cx="1150920" cy="8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155320"/>
            <a:ext cx="822960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c969d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711-8366-4D36-99DE-366E455C9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7:46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6:53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