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8B4-4DAB-43C7-9020-4A99DFF9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C2F-E550-4421-A033-4AB9E200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C13-F0DF-4E75-8669-999F7DA9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383-F968-49B0-B30B-646C8D25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F9B-DF4F-4E1E-8F06-CCDEE66E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113-880D-4003-AB4E-5A832216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B58-2D4E-4C19-A006-48F73E6F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97E-64CE-4BF5-815B-BDFF4A51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340-1189-40C3-A3DE-464B3DE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97F-C0DA-4967-A409-54AEE30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372-7FB3-445D-9B7C-E33787C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821-046E-47E0-B9A1-7E1521F0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90E-C14C-4B99-8544-5B80D6E2D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SC03783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830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34240" y="914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8088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8440" y="3049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agesCAPF516U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们大家手拉手，唱一支歌好吗？”绿娃娃建议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好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们唱着，跳着，又画了一道彩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啊，那是他们架起的友谊桥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76"/>
          <p:cNvGrpSpPr/>
          <p:nvPr/>
        </p:nvGrpSpPr>
        <p:grpSpPr>
          <a:xfrm>
            <a:off x="2362320" y="914400"/>
            <a:ext cx="5255640" cy="2015280"/>
            <a:chOff x="2362320" y="914400"/>
            <a:chExt cx="5255640" cy="2015280"/>
          </a:xfrm>
        </p:grpSpPr>
        <p:grpSp>
          <p:nvGrpSpPr>
            <p:cNvPr id="101" name="Group 59"/>
            <p:cNvGrpSpPr/>
            <p:nvPr/>
          </p:nvGrpSpPr>
          <p:grpSpPr>
            <a:xfrm>
              <a:off x="2362320" y="993960"/>
              <a:ext cx="4927320" cy="1935720"/>
              <a:chOff x="2362320" y="993960"/>
              <a:chExt cx="4927320" cy="1935720"/>
            </a:xfrm>
          </p:grpSpPr>
          <p:grpSp>
            <p:nvGrpSpPr>
              <p:cNvPr id="102" name="Group 17"/>
              <p:cNvGrpSpPr/>
              <p:nvPr/>
            </p:nvGrpSpPr>
            <p:grpSpPr>
              <a:xfrm>
                <a:off x="2362320" y="993960"/>
                <a:ext cx="1642320" cy="1935720"/>
                <a:chOff x="2362320" y="993960"/>
                <a:chExt cx="1642320" cy="1935720"/>
              </a:xfrm>
            </p:grpSpPr>
            <p:sp>
              <p:nvSpPr>
                <p:cNvPr id="103" name="矩形 6"/>
                <p:cNvSpPr/>
                <p:nvPr/>
              </p:nvSpPr>
              <p:spPr>
                <a:xfrm>
                  <a:off x="2362320" y="993960"/>
                  <a:ext cx="162792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直接连接符 12"/>
                <p:cNvSpPr/>
                <p:nvPr/>
              </p:nvSpPr>
              <p:spPr>
                <a:xfrm>
                  <a:off x="2362320" y="220608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直接连接符 17"/>
                <p:cNvSpPr/>
                <p:nvPr/>
              </p:nvSpPr>
              <p:spPr>
                <a:xfrm>
                  <a:off x="3158640" y="146484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直接连接符 12"/>
                <p:cNvSpPr/>
                <p:nvPr/>
              </p:nvSpPr>
              <p:spPr>
                <a:xfrm>
                  <a:off x="2362320" y="146736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18"/>
              <p:cNvGrpSpPr/>
              <p:nvPr/>
            </p:nvGrpSpPr>
            <p:grpSpPr>
              <a:xfrm>
                <a:off x="4004640" y="993960"/>
                <a:ext cx="1642320" cy="1935720"/>
                <a:chOff x="4004640" y="993960"/>
                <a:chExt cx="1642320" cy="1935720"/>
              </a:xfrm>
            </p:grpSpPr>
            <p:sp>
              <p:nvSpPr>
                <p:cNvPr id="108" name="矩形 6"/>
                <p:cNvSpPr/>
                <p:nvPr/>
              </p:nvSpPr>
              <p:spPr>
                <a:xfrm>
                  <a:off x="4004640" y="993960"/>
                  <a:ext cx="162828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直接连接符 12"/>
                <p:cNvSpPr/>
                <p:nvPr/>
              </p:nvSpPr>
              <p:spPr>
                <a:xfrm>
                  <a:off x="4004640" y="220608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直接连接符 17"/>
                <p:cNvSpPr/>
                <p:nvPr/>
              </p:nvSpPr>
              <p:spPr>
                <a:xfrm>
                  <a:off x="4797720" y="146484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直接连接符 12"/>
                <p:cNvSpPr/>
                <p:nvPr/>
              </p:nvSpPr>
              <p:spPr>
                <a:xfrm>
                  <a:off x="4004640" y="146736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23"/>
              <p:cNvGrpSpPr/>
              <p:nvPr/>
            </p:nvGrpSpPr>
            <p:grpSpPr>
              <a:xfrm>
                <a:off x="5647320" y="993960"/>
                <a:ext cx="1642320" cy="1935720"/>
                <a:chOff x="5647320" y="993960"/>
                <a:chExt cx="1642320" cy="1935720"/>
              </a:xfrm>
            </p:grpSpPr>
            <p:sp>
              <p:nvSpPr>
                <p:cNvPr id="113" name="矩形 6"/>
                <p:cNvSpPr/>
                <p:nvPr/>
              </p:nvSpPr>
              <p:spPr>
                <a:xfrm>
                  <a:off x="5647320" y="993960"/>
                  <a:ext cx="162792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12"/>
                <p:cNvSpPr/>
                <p:nvPr/>
              </p:nvSpPr>
              <p:spPr>
                <a:xfrm>
                  <a:off x="5647320" y="220608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17"/>
                <p:cNvSpPr/>
                <p:nvPr/>
              </p:nvSpPr>
              <p:spPr>
                <a:xfrm>
                  <a:off x="6441480" y="146484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12"/>
                <p:cNvSpPr/>
                <p:nvPr/>
              </p:nvSpPr>
              <p:spPr>
                <a:xfrm>
                  <a:off x="5647320" y="146736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矩形 14"/>
            <p:cNvSpPr/>
            <p:nvPr/>
          </p:nvSpPr>
          <p:spPr>
            <a:xfrm>
              <a:off x="2854440" y="914400"/>
              <a:ext cx="82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2526840" y="1410120"/>
              <a:ext cx="18068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娃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5"/>
            <p:cNvSpPr/>
            <p:nvPr/>
          </p:nvSpPr>
          <p:spPr>
            <a:xfrm>
              <a:off x="4087440" y="1490400"/>
              <a:ext cx="18068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肤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"/>
            <p:cNvSpPr/>
            <p:nvPr/>
          </p:nvSpPr>
          <p:spPr>
            <a:xfrm>
              <a:off x="5811480" y="1490400"/>
              <a:ext cx="180648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吵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4"/>
            <p:cNvSpPr/>
            <p:nvPr/>
          </p:nvSpPr>
          <p:spPr>
            <a:xfrm>
              <a:off x="4417200" y="914400"/>
              <a:ext cx="9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4"/>
            <p:cNvSpPr/>
            <p:nvPr/>
          </p:nvSpPr>
          <p:spPr>
            <a:xfrm>
              <a:off x="6139080" y="91440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ǎ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76"/>
          <p:cNvGrpSpPr/>
          <p:nvPr/>
        </p:nvGrpSpPr>
        <p:grpSpPr>
          <a:xfrm>
            <a:off x="2362320" y="3733920"/>
            <a:ext cx="5255640" cy="2015280"/>
            <a:chOff x="2362320" y="3733920"/>
            <a:chExt cx="5255640" cy="2015280"/>
          </a:xfrm>
        </p:grpSpPr>
        <p:grpSp>
          <p:nvGrpSpPr>
            <p:cNvPr id="124" name="Group 59"/>
            <p:cNvGrpSpPr/>
            <p:nvPr/>
          </p:nvGrpSpPr>
          <p:grpSpPr>
            <a:xfrm>
              <a:off x="2362320" y="3813480"/>
              <a:ext cx="4927320" cy="1935720"/>
              <a:chOff x="2362320" y="3813480"/>
              <a:chExt cx="4927320" cy="1935720"/>
            </a:xfrm>
          </p:grpSpPr>
          <p:grpSp>
            <p:nvGrpSpPr>
              <p:cNvPr id="125" name="Group 17"/>
              <p:cNvGrpSpPr/>
              <p:nvPr/>
            </p:nvGrpSpPr>
            <p:grpSpPr>
              <a:xfrm>
                <a:off x="2362320" y="3813480"/>
                <a:ext cx="1642320" cy="1935720"/>
                <a:chOff x="2362320" y="3813480"/>
                <a:chExt cx="1642320" cy="1935720"/>
              </a:xfrm>
            </p:grpSpPr>
            <p:sp>
              <p:nvSpPr>
                <p:cNvPr id="126" name="矩形 6"/>
                <p:cNvSpPr/>
                <p:nvPr/>
              </p:nvSpPr>
              <p:spPr>
                <a:xfrm>
                  <a:off x="2362320" y="3813480"/>
                  <a:ext cx="162792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直接连接符 12"/>
                <p:cNvSpPr/>
                <p:nvPr/>
              </p:nvSpPr>
              <p:spPr>
                <a:xfrm>
                  <a:off x="2362320" y="502560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直接连接符 17"/>
                <p:cNvSpPr/>
                <p:nvPr/>
              </p:nvSpPr>
              <p:spPr>
                <a:xfrm>
                  <a:off x="3158640" y="428436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直接连接符 12"/>
                <p:cNvSpPr/>
                <p:nvPr/>
              </p:nvSpPr>
              <p:spPr>
                <a:xfrm>
                  <a:off x="2362320" y="428688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8"/>
              <p:cNvGrpSpPr/>
              <p:nvPr/>
            </p:nvGrpSpPr>
            <p:grpSpPr>
              <a:xfrm>
                <a:off x="4004640" y="3813480"/>
                <a:ext cx="1642320" cy="1935720"/>
                <a:chOff x="4004640" y="3813480"/>
                <a:chExt cx="1642320" cy="1935720"/>
              </a:xfrm>
            </p:grpSpPr>
            <p:sp>
              <p:nvSpPr>
                <p:cNvPr id="131" name="矩形 6"/>
                <p:cNvSpPr/>
                <p:nvPr/>
              </p:nvSpPr>
              <p:spPr>
                <a:xfrm>
                  <a:off x="4004640" y="3813480"/>
                  <a:ext cx="162828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直接连接符 12"/>
                <p:cNvSpPr/>
                <p:nvPr/>
              </p:nvSpPr>
              <p:spPr>
                <a:xfrm>
                  <a:off x="4004640" y="502560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直接连接符 17"/>
                <p:cNvSpPr/>
                <p:nvPr/>
              </p:nvSpPr>
              <p:spPr>
                <a:xfrm>
                  <a:off x="4797720" y="428436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直接连接符 12"/>
                <p:cNvSpPr/>
                <p:nvPr/>
              </p:nvSpPr>
              <p:spPr>
                <a:xfrm>
                  <a:off x="4004640" y="428688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3"/>
              <p:cNvGrpSpPr/>
              <p:nvPr/>
            </p:nvGrpSpPr>
            <p:grpSpPr>
              <a:xfrm>
                <a:off x="5647320" y="3813480"/>
                <a:ext cx="1642320" cy="1935720"/>
                <a:chOff x="5647320" y="3813480"/>
                <a:chExt cx="1642320" cy="1935720"/>
              </a:xfrm>
            </p:grpSpPr>
            <p:sp>
              <p:nvSpPr>
                <p:cNvPr id="136" name="矩形 6"/>
                <p:cNvSpPr/>
                <p:nvPr/>
              </p:nvSpPr>
              <p:spPr>
                <a:xfrm>
                  <a:off x="5647320" y="3813480"/>
                  <a:ext cx="162792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12"/>
                <p:cNvSpPr/>
                <p:nvPr/>
              </p:nvSpPr>
              <p:spPr>
                <a:xfrm>
                  <a:off x="5647320" y="502560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17"/>
                <p:cNvSpPr/>
                <p:nvPr/>
              </p:nvSpPr>
              <p:spPr>
                <a:xfrm>
                  <a:off x="6441480" y="428436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直接连接符 12"/>
                <p:cNvSpPr/>
                <p:nvPr/>
              </p:nvSpPr>
              <p:spPr>
                <a:xfrm>
                  <a:off x="5647320" y="428688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矩形 14"/>
            <p:cNvSpPr/>
            <p:nvPr/>
          </p:nvSpPr>
          <p:spPr>
            <a:xfrm>
              <a:off x="2854440" y="3733920"/>
              <a:ext cx="821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5"/>
            <p:cNvSpPr/>
            <p:nvPr/>
          </p:nvSpPr>
          <p:spPr>
            <a:xfrm>
              <a:off x="2526840" y="4229640"/>
              <a:ext cx="18068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忠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5"/>
            <p:cNvSpPr/>
            <p:nvPr/>
          </p:nvSpPr>
          <p:spPr>
            <a:xfrm>
              <a:off x="4087440" y="4309920"/>
              <a:ext cx="18068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厚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5"/>
            <p:cNvSpPr/>
            <p:nvPr/>
          </p:nvSpPr>
          <p:spPr>
            <a:xfrm>
              <a:off x="5811480" y="4309920"/>
              <a:ext cx="180648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麦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4"/>
            <p:cNvSpPr/>
            <p:nvPr/>
          </p:nvSpPr>
          <p:spPr>
            <a:xfrm>
              <a:off x="4417200" y="3733920"/>
              <a:ext cx="9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ò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4"/>
            <p:cNvSpPr/>
            <p:nvPr/>
          </p:nvSpPr>
          <p:spPr>
            <a:xfrm>
              <a:off x="6139080" y="3733920"/>
              <a:ext cx="82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à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143000" y="3808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图片2"/>
          <p:cNvPicPr/>
          <p:nvPr/>
        </p:nvPicPr>
        <p:blipFill>
          <a:blip r:embed="rId1"/>
          <a:stretch/>
        </p:blipFill>
        <p:spPr>
          <a:xfrm>
            <a:off x="-7570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76"/>
          <p:cNvGrpSpPr/>
          <p:nvPr/>
        </p:nvGrpSpPr>
        <p:grpSpPr>
          <a:xfrm>
            <a:off x="1676520" y="2133720"/>
            <a:ext cx="5255640" cy="2015280"/>
            <a:chOff x="1676520" y="2133720"/>
            <a:chExt cx="5255640" cy="2015280"/>
          </a:xfrm>
        </p:grpSpPr>
        <p:grpSp>
          <p:nvGrpSpPr>
            <p:cNvPr id="149" name="Group 59"/>
            <p:cNvGrpSpPr/>
            <p:nvPr/>
          </p:nvGrpSpPr>
          <p:grpSpPr>
            <a:xfrm>
              <a:off x="1676520" y="2213280"/>
              <a:ext cx="4927320" cy="1935720"/>
              <a:chOff x="1676520" y="2213280"/>
              <a:chExt cx="4927320" cy="1935720"/>
            </a:xfrm>
          </p:grpSpPr>
          <p:grpSp>
            <p:nvGrpSpPr>
              <p:cNvPr id="150" name="Group 17"/>
              <p:cNvGrpSpPr/>
              <p:nvPr/>
            </p:nvGrpSpPr>
            <p:grpSpPr>
              <a:xfrm>
                <a:off x="1676520" y="2213280"/>
                <a:ext cx="1642320" cy="1935720"/>
                <a:chOff x="1676520" y="2213280"/>
                <a:chExt cx="1642320" cy="1935720"/>
              </a:xfrm>
            </p:grpSpPr>
            <p:sp>
              <p:nvSpPr>
                <p:cNvPr id="151" name="矩形 6"/>
                <p:cNvSpPr/>
                <p:nvPr/>
              </p:nvSpPr>
              <p:spPr>
                <a:xfrm>
                  <a:off x="1676520" y="2213280"/>
                  <a:ext cx="162792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直接连接符 12"/>
                <p:cNvSpPr/>
                <p:nvPr/>
              </p:nvSpPr>
              <p:spPr>
                <a:xfrm>
                  <a:off x="1676520" y="342540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直接连接符 17"/>
                <p:cNvSpPr/>
                <p:nvPr/>
              </p:nvSpPr>
              <p:spPr>
                <a:xfrm>
                  <a:off x="2472840" y="268416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直接连接符 12"/>
                <p:cNvSpPr/>
                <p:nvPr/>
              </p:nvSpPr>
              <p:spPr>
                <a:xfrm>
                  <a:off x="1676520" y="268668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8"/>
              <p:cNvGrpSpPr/>
              <p:nvPr/>
            </p:nvGrpSpPr>
            <p:grpSpPr>
              <a:xfrm>
                <a:off x="3318840" y="2213280"/>
                <a:ext cx="1642320" cy="1935720"/>
                <a:chOff x="3318840" y="2213280"/>
                <a:chExt cx="1642320" cy="1935720"/>
              </a:xfrm>
            </p:grpSpPr>
            <p:sp>
              <p:nvSpPr>
                <p:cNvPr id="156" name="矩形 6"/>
                <p:cNvSpPr/>
                <p:nvPr/>
              </p:nvSpPr>
              <p:spPr>
                <a:xfrm>
                  <a:off x="3318840" y="2213280"/>
                  <a:ext cx="162828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直接连接符 12"/>
                <p:cNvSpPr/>
                <p:nvPr/>
              </p:nvSpPr>
              <p:spPr>
                <a:xfrm>
                  <a:off x="3318840" y="342540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直接连接符 17"/>
                <p:cNvSpPr/>
                <p:nvPr/>
              </p:nvSpPr>
              <p:spPr>
                <a:xfrm>
                  <a:off x="4111920" y="268416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直接连接符 12"/>
                <p:cNvSpPr/>
                <p:nvPr/>
              </p:nvSpPr>
              <p:spPr>
                <a:xfrm>
                  <a:off x="3318840" y="268668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3"/>
              <p:cNvGrpSpPr/>
              <p:nvPr/>
            </p:nvGrpSpPr>
            <p:grpSpPr>
              <a:xfrm>
                <a:off x="4961520" y="2213280"/>
                <a:ext cx="1642320" cy="1935720"/>
                <a:chOff x="4961520" y="2213280"/>
                <a:chExt cx="1642320" cy="1935720"/>
              </a:xfrm>
            </p:grpSpPr>
            <p:sp>
              <p:nvSpPr>
                <p:cNvPr id="161" name="矩形 6"/>
                <p:cNvSpPr/>
                <p:nvPr/>
              </p:nvSpPr>
              <p:spPr>
                <a:xfrm>
                  <a:off x="4961520" y="2213280"/>
                  <a:ext cx="1627920" cy="19270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直接连接符 12"/>
                <p:cNvSpPr/>
                <p:nvPr/>
              </p:nvSpPr>
              <p:spPr>
                <a:xfrm>
                  <a:off x="4961520" y="3425400"/>
                  <a:ext cx="16423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直接连接符 17"/>
                <p:cNvSpPr/>
                <p:nvPr/>
              </p:nvSpPr>
              <p:spPr>
                <a:xfrm>
                  <a:off x="5755680" y="2684160"/>
                  <a:ext cx="0" cy="1464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直接连接符 12"/>
                <p:cNvSpPr/>
                <p:nvPr/>
              </p:nvSpPr>
              <p:spPr>
                <a:xfrm>
                  <a:off x="4961520" y="2686680"/>
                  <a:ext cx="1642320" cy="18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矩形 14"/>
            <p:cNvSpPr/>
            <p:nvPr/>
          </p:nvSpPr>
          <p:spPr>
            <a:xfrm>
              <a:off x="2168640" y="2133720"/>
              <a:ext cx="82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h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5"/>
            <p:cNvSpPr/>
            <p:nvPr/>
          </p:nvSpPr>
          <p:spPr>
            <a:xfrm>
              <a:off x="1841040" y="2629440"/>
              <a:ext cx="18068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支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5"/>
            <p:cNvSpPr/>
            <p:nvPr/>
          </p:nvSpPr>
          <p:spPr>
            <a:xfrm>
              <a:off x="3401640" y="2709720"/>
              <a:ext cx="180684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3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架</a:t>
              </a:r>
              <a:endParaRPr b="0" lang="en-US" sz="8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5"/>
            <p:cNvSpPr/>
            <p:nvPr/>
          </p:nvSpPr>
          <p:spPr>
            <a:xfrm>
              <a:off x="5125680" y="2709720"/>
              <a:ext cx="1806480" cy="13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"/>
            <p:cNvSpPr/>
            <p:nvPr/>
          </p:nvSpPr>
          <p:spPr>
            <a:xfrm>
              <a:off x="3731400" y="2133720"/>
              <a:ext cx="9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i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4"/>
            <p:cNvSpPr/>
            <p:nvPr/>
          </p:nvSpPr>
          <p:spPr>
            <a:xfrm>
              <a:off x="5453280" y="2133720"/>
              <a:ext cx="8218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当班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你们想让我们班每周评比都拿到流动红旗吗？那你们就赶快来选我当班长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大家选我当了班长，我就会协助老师管好上课纪律，打扫干净教室卫生，帮同学们解决困难，帮助学习差的同学提高学习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当班长，请同学们支持我，相信我，我一定会用心做好班长的工作，谢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990720" y="990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140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81402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90720" y="23623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140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81402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14400" y="419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1402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81402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3657600" y="990720"/>
            <a:ext cx="1676520" cy="0"/>
          </a:xfrm>
          <a:prstGeom prst="line">
            <a:avLst/>
          </a:prstGeom>
          <a:ln w="28440">
            <a:solidFill>
              <a:srgbClr val="f8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162920" y="1981080"/>
            <a:ext cx="1143000" cy="0"/>
          </a:xfrm>
          <a:prstGeom prst="line">
            <a:avLst/>
          </a:prstGeom>
          <a:ln w="28440">
            <a:solidFill>
              <a:srgbClr val="f8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914400" y="2438280"/>
            <a:ext cx="380880" cy="0"/>
          </a:xfrm>
          <a:prstGeom prst="line">
            <a:avLst/>
          </a:prstGeom>
          <a:ln w="28440">
            <a:solidFill>
              <a:srgbClr val="f8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1752480" y="4800600"/>
            <a:ext cx="1828800" cy="0"/>
          </a:xfrm>
          <a:prstGeom prst="line">
            <a:avLst/>
          </a:prstGeom>
          <a:ln w="28440">
            <a:solidFill>
              <a:srgbClr val="f8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219-171D-4A67-AC44-DE7AAF1F56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agesCAPF516U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ì       là        tú         lí       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谊    蜡    途     梨    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àn      fú       xī      fān      j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建    幅    溪    翻    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8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038480" y="429264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280" y="1143000"/>
            <a:ext cx="174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皮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81080" y="1143000"/>
            <a:ext cx="182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忠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038480" y="1219320"/>
            <a:ext cx="26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麦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172200" y="129528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本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04920" y="27432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支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0" y="0"/>
            <a:ext cx="2050920" cy="647640"/>
            <a:chOff x="0" y="0"/>
            <a:chExt cx="2050920" cy="647640"/>
          </a:xfrm>
        </p:grpSpPr>
        <p:sp>
          <p:nvSpPr>
            <p:cNvPr id="58" name="Oval 11"/>
            <p:cNvSpPr/>
            <p:nvPr/>
          </p:nvSpPr>
          <p:spPr>
            <a:xfrm>
              <a:off x="0" y="0"/>
              <a:ext cx="20509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cap="rnd" w="38160">
              <a:solidFill>
                <a:srgbClr val="00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WordArt 12"/>
            <p:cNvSpPr txBox="1"/>
            <p:nvPr/>
          </p:nvSpPr>
          <p:spPr>
            <a:xfrm>
              <a:off x="361800" y="144360"/>
              <a:ext cx="125748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8100000"/>
                  </a:gradFill>
                  <a:latin typeface="楷体_GB2312"/>
                </a:rPr>
                <a:t>学生字</a:t>
              </a:r>
              <a:endParaRPr b="0" lang="en-US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60" name="Text Box 13"/>
          <p:cNvSpPr/>
          <p:nvPr/>
        </p:nvSpPr>
        <p:spPr>
          <a:xfrm>
            <a:off x="2133720" y="28195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争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038480" y="28195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娃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47920" y="43434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04920" y="388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152280" y="42670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望无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3505320" y="42670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红柳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934320" y="4267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格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286000" y="1447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溪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62520" y="1371600"/>
            <a:ext cx="174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867280" y="14479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幅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5800" y="2895480"/>
            <a:ext cx="18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286000" y="2819520"/>
            <a:ext cx="17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蜡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2520" y="28195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黄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095880" y="28195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友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0" y="0"/>
            <a:ext cx="2050920" cy="647640"/>
            <a:chOff x="0" y="0"/>
            <a:chExt cx="2050920" cy="647640"/>
          </a:xfrm>
        </p:grpSpPr>
        <p:sp>
          <p:nvSpPr>
            <p:cNvPr id="76" name="Oval 11"/>
            <p:cNvSpPr/>
            <p:nvPr/>
          </p:nvSpPr>
          <p:spPr>
            <a:xfrm>
              <a:off x="0" y="0"/>
              <a:ext cx="20509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cap="rnd" w="38160">
              <a:solidFill>
                <a:srgbClr val="00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WordArt 12"/>
            <p:cNvSpPr txBox="1"/>
            <p:nvPr/>
          </p:nvSpPr>
          <p:spPr>
            <a:xfrm>
              <a:off x="361800" y="144360"/>
              <a:ext cx="125748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8100000"/>
                  </a:gradFill>
                  <a:latin typeface="楷体_GB2312"/>
                </a:rPr>
                <a:t>学生字</a:t>
              </a:r>
              <a:endParaRPr b="0" lang="en-US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楷体_GB2312"/>
                <a:ea typeface="楷体_GB2312"/>
              </a:endParaRPr>
            </a:p>
          </p:txBody>
        </p:sp>
      </p:grpSp>
      <p:sp>
        <p:nvSpPr>
          <p:cNvPr id="78" name="Text Box 13"/>
          <p:cNvSpPr/>
          <p:nvPr/>
        </p:nvSpPr>
        <p:spPr>
          <a:xfrm>
            <a:off x="685800" y="43434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傲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209680" y="43434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翻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962520" y="4419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究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09480" y="14479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惊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imagesCAPF516U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群蜡笔娃娃，有着不同的肤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色。一天，他们争吵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images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娃娃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用途最大，能画红花、红太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算什么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娃娃抢着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能画黄梨、黄香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画的绿草、绿柳，可美了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娃娃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那点本领算啥！我能画蓝蓝的天、蓝蓝的海，谁敢和我比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娃娃傲慢地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imagesCAPF516U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要吵了。”忠厚的紫娃娃说，“你们只说自己的本领大，看不到别人的长处。我建议，大家共同画一幅画，好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images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们一起画画。看，蓝蓝的天上挂着红太阳，阳光下的青山格外美丽；小溪像白色的飘带，溪边花红柳绿；山下是一望无际的麦田，麦田里翻滚着金色的麦浪</a:t>
            </a:r>
            <a:r>
              <a:rPr b="1" lang="en-US" sz="4400" spc="-1" strike="noStrike">
                <a:solidFill>
                  <a:srgbClr val="000000"/>
                </a:solidFill>
                <a:latin typeface="GulimChe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imagesCAPF516U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真是美极了！”他们惊叹到。他们没有想到，集体的力量竟有这么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8:0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10:26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