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68974-E9BE-4FC1-96FF-3FDC4834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9060D4-7B0A-48E0-8E88-E75387616BA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3ED-1A1A-4AAB-A243-0A2A2505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C11-78B0-4527-8EB9-395D3131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CB0-464F-4C87-8AFA-A90E2F53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732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304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196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732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304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115-08B8-44E1-98E7-4D64E63E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80BA-70DE-43F1-A423-CB15A6F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177-31DD-47BF-8E31-3E81CAE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182C-5242-4015-B867-5324FE66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8275-C3CF-4ACA-BBA4-8033F2E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579-8709-462D-8AB1-736781FA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C9EF-8548-42C0-A03D-56708DF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FDD7-4C86-4401-81D4-80303E0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E4E-A61E-4E50-9B01-54ABA91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F061-CBC3-4058-818E-24B73F6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353-3719-48C7-A5A4-D0A0150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D261-E4BF-4BF8-9B31-96E1B426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8249-56BF-4BE1-8827-95092AD0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8732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304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196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8732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304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21A-774E-4026-9443-0E3FE9D0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8B7-CB03-4136-B8F5-18F8CEC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089-452F-4C8C-B2E5-803679E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2F7-7328-48E8-BA95-3F3F1A7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166-CFE3-482C-9F39-6E6F10F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B24-6197-4583-9696-BC7ABCA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FF7-3920-42EE-9604-A392B34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60B-F682-4220-9F13-76FD173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-19800"/>
            <a:ext cx="12191760" cy="687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A54C40-209F-47F4-B759-A9C8075D436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76D91-3228-4A78-8B75-AB310A39922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10341360" y="5805720"/>
            <a:ext cx="1446840" cy="6238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"/>
          <p:cNvPicPr/>
          <p:nvPr/>
        </p:nvPicPr>
        <p:blipFill>
          <a:blip r:embed="rId3"/>
          <a:stretch/>
        </p:blipFill>
        <p:spPr>
          <a:xfrm>
            <a:off x="0" y="-19800"/>
            <a:ext cx="12191760" cy="687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7"/>
          <p:cNvSpPr/>
          <p:nvPr/>
        </p:nvSpPr>
        <p:spPr>
          <a:xfrm>
            <a:off x="3121920" y="2673360"/>
            <a:ext cx="5947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辈子只能这样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850760" y="3431880"/>
            <a:ext cx="8490240" cy="757800"/>
          </a:xfrm>
          <a:prstGeom prst="rect">
            <a:avLst/>
          </a:prstGeom>
          <a:solidFill>
            <a:srgbClr val="ea03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献给那些长了翅膀，却飞不起来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"/>
          <p:cNvSpPr/>
          <p:nvPr/>
        </p:nvSpPr>
        <p:spPr>
          <a:xfrm>
            <a:off x="5776560" y="1162080"/>
            <a:ext cx="638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第</a:t>
            </a: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"/>
          <p:cNvSpPr/>
          <p:nvPr/>
        </p:nvSpPr>
        <p:spPr>
          <a:xfrm>
            <a:off x="5148000" y="4649040"/>
            <a:ext cx="1895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原著：肯尼斯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克利斯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7"/>
          <p:cNvGrpSpPr/>
          <p:nvPr/>
        </p:nvGrpSpPr>
        <p:grpSpPr>
          <a:xfrm>
            <a:off x="4183200" y="1162080"/>
            <a:ext cx="3825360" cy="1452600"/>
            <a:chOff x="4183200" y="1162080"/>
            <a:chExt cx="3825360" cy="1452600"/>
          </a:xfrm>
        </p:grpSpPr>
        <p:grpSp>
          <p:nvGrpSpPr>
            <p:cNvPr id="96" name="组合 3"/>
            <p:cNvGrpSpPr/>
            <p:nvPr/>
          </p:nvGrpSpPr>
          <p:grpSpPr>
            <a:xfrm>
              <a:off x="4259160" y="1162080"/>
              <a:ext cx="3749400" cy="1371240"/>
              <a:chOff x="4259160" y="1162080"/>
              <a:chExt cx="3749400" cy="1371240"/>
            </a:xfrm>
          </p:grpSpPr>
          <p:pic>
            <p:nvPicPr>
              <p:cNvPr id="97" name="图片 4" descr=""/>
              <p:cNvPicPr/>
              <p:nvPr/>
            </p:nvPicPr>
            <p:blipFill>
              <a:blip r:embed="rId1"/>
              <a:srcRect l="12614" t="26801" r="7893" b="34365"/>
              <a:stretch/>
            </p:blipFill>
            <p:spPr>
              <a:xfrm>
                <a:off x="4259160" y="1162080"/>
                <a:ext cx="3749400" cy="13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文本框 5"/>
              <p:cNvSpPr/>
              <p:nvPr/>
            </p:nvSpPr>
            <p:spPr>
              <a:xfrm>
                <a:off x="4766400" y="1201320"/>
                <a:ext cx="1232640" cy="118692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>
                  <a:rot lat="0" lon="19499990" rev="0"/>
                </a:camera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读</a:t>
                </a:r>
                <a:r>
                  <a:rPr b="0" lang="zh-CN" sz="66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书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文本框 6"/>
              <p:cNvSpPr/>
              <p:nvPr/>
            </p:nvSpPr>
            <p:spPr>
              <a:xfrm>
                <a:off x="6309720" y="1252080"/>
                <a:ext cx="1232640" cy="118692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>
                  <a:rot lat="0" lon="2099977" rev="0"/>
                </a:camera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笔</a:t>
                </a:r>
                <a:r>
                  <a:rPr b="0" lang="zh-CN" sz="72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记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图片 16" descr=""/>
            <p:cNvPicPr/>
            <p:nvPr/>
          </p:nvPicPr>
          <p:blipFill>
            <a:blip r:embed="rId2"/>
            <a:srcRect l="13141" t="11216" r="15829" b="12492"/>
            <a:stretch/>
          </p:blipFill>
          <p:spPr>
            <a:xfrm>
              <a:off x="4183200" y="1713240"/>
              <a:ext cx="939960" cy="90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0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0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4"/>
          <p:cNvSpPr/>
          <p:nvPr/>
        </p:nvSpPr>
        <p:spPr>
          <a:xfrm>
            <a:off x="1352880" y="4483080"/>
            <a:ext cx="291420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处理负面的行为模式时，事先承诺自己；不要抗拒承认自己的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5"/>
          <p:cNvGrpSpPr/>
          <p:nvPr/>
        </p:nvGrpSpPr>
        <p:grpSpPr>
          <a:xfrm>
            <a:off x="5442840" y="1579320"/>
            <a:ext cx="5373720" cy="4692960"/>
            <a:chOff x="5442840" y="1579320"/>
            <a:chExt cx="5373720" cy="4692960"/>
          </a:xfrm>
        </p:grpSpPr>
        <p:sp>
          <p:nvSpPr>
            <p:cNvPr id="213" name="椭圆 16"/>
            <p:cNvSpPr/>
            <p:nvPr/>
          </p:nvSpPr>
          <p:spPr>
            <a:xfrm>
              <a:off x="6267960" y="1621080"/>
              <a:ext cx="1007640" cy="1007640"/>
            </a:xfrm>
            <a:prstGeom prst="ellipse">
              <a:avLst/>
            </a:prstGeom>
            <a:solidFill>
              <a:srgbClr val="e90f0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"/>
            <p:cNvSpPr/>
            <p:nvPr/>
          </p:nvSpPr>
          <p:spPr>
            <a:xfrm>
              <a:off x="6445800" y="1800000"/>
              <a:ext cx="6858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技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18"/>
            <p:cNvSpPr/>
            <p:nvPr/>
          </p:nvSpPr>
          <p:spPr>
            <a:xfrm>
              <a:off x="7190280" y="2413080"/>
              <a:ext cx="1007640" cy="1007640"/>
            </a:xfrm>
            <a:prstGeom prst="ellipse">
              <a:avLst/>
            </a:prstGeom>
            <a:solidFill>
              <a:srgbClr val="ffc826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"/>
            <p:cNvSpPr/>
            <p:nvPr/>
          </p:nvSpPr>
          <p:spPr>
            <a:xfrm>
              <a:off x="7275960" y="244728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习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20"/>
            <p:cNvSpPr/>
            <p:nvPr/>
          </p:nvSpPr>
          <p:spPr>
            <a:xfrm>
              <a:off x="8118720" y="3400920"/>
              <a:ext cx="1007640" cy="1007640"/>
            </a:xfrm>
            <a:prstGeom prst="ellipse">
              <a:avLst/>
            </a:prstGeom>
            <a:solidFill>
              <a:srgbClr val="8fc40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"/>
            <p:cNvSpPr/>
            <p:nvPr/>
          </p:nvSpPr>
          <p:spPr>
            <a:xfrm>
              <a:off x="8212680" y="349308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害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27"/>
            <p:cNvSpPr/>
            <p:nvPr/>
          </p:nvSpPr>
          <p:spPr>
            <a:xfrm>
              <a:off x="6267960" y="4950360"/>
              <a:ext cx="1007640" cy="1007640"/>
            </a:xfrm>
            <a:prstGeom prst="ellipse">
              <a:avLst/>
            </a:prstGeom>
            <a:solidFill>
              <a:schemeClr val="accent2">
                <a:lumMod val="75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4"/>
            <p:cNvSpPr/>
            <p:nvPr/>
          </p:nvSpPr>
          <p:spPr>
            <a:xfrm>
              <a:off x="6350400" y="506664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辩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29"/>
            <p:cNvSpPr/>
            <p:nvPr/>
          </p:nvSpPr>
          <p:spPr>
            <a:xfrm>
              <a:off x="7635960" y="4573440"/>
              <a:ext cx="1007640" cy="1007640"/>
            </a:xfrm>
            <a:prstGeom prst="ellipse">
              <a:avLst/>
            </a:prstGeom>
            <a:solidFill>
              <a:srgbClr val="339ed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4"/>
            <p:cNvSpPr/>
            <p:nvPr/>
          </p:nvSpPr>
          <p:spPr>
            <a:xfrm>
              <a:off x="7724520" y="462636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1"/>
            <p:cNvSpPr/>
            <p:nvPr/>
          </p:nvSpPr>
          <p:spPr>
            <a:xfrm>
              <a:off x="7214040" y="1579320"/>
              <a:ext cx="208512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需要学习的技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33"/>
            <p:cNvSpPr/>
            <p:nvPr/>
          </p:nvSpPr>
          <p:spPr>
            <a:xfrm>
              <a:off x="8212320" y="2386440"/>
              <a:ext cx="239292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自我挫败的坏习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34"/>
            <p:cNvSpPr/>
            <p:nvPr/>
          </p:nvSpPr>
          <p:spPr>
            <a:xfrm>
              <a:off x="9075960" y="3507120"/>
              <a:ext cx="1740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你害怕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5"/>
            <p:cNvSpPr/>
            <p:nvPr/>
          </p:nvSpPr>
          <p:spPr>
            <a:xfrm>
              <a:off x="8588160" y="4753440"/>
              <a:ext cx="205956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目标和工作方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6"/>
            <p:cNvSpPr/>
            <p:nvPr/>
          </p:nvSpPr>
          <p:spPr>
            <a:xfrm>
              <a:off x="6985080" y="5668560"/>
              <a:ext cx="34113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为自己的挫败作合理化辩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直接连接符 38"/>
            <p:cNvCxnSpPr/>
            <p:nvPr/>
          </p:nvCxnSpPr>
          <p:spPr>
            <a:xfrm>
              <a:off x="6771600" y="3904560"/>
              <a:ext cx="1347480" cy="36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29" name="直接连接符 43"/>
            <p:cNvCxnSpPr>
              <a:endCxn id="213" idx="3"/>
            </p:cNvCxnSpPr>
            <p:nvPr/>
          </p:nvCxnSpPr>
          <p:spPr>
            <a:xfrm flipV="1">
              <a:off x="6267600" y="2481480"/>
              <a:ext cx="147960" cy="73440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0" name="直接连接符 44"/>
            <p:cNvCxnSpPr>
              <a:stCxn id="215" idx="3"/>
            </p:cNvCxnSpPr>
            <p:nvPr/>
          </p:nvCxnSpPr>
          <p:spPr>
            <a:xfrm flipH="1">
              <a:off x="6632280" y="3273480"/>
              <a:ext cx="705600" cy="32616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1" name="直接连接符 45"/>
            <p:cNvCxnSpPr>
              <a:stCxn id="219" idx="0"/>
            </p:cNvCxnSpPr>
            <p:nvPr/>
          </p:nvCxnSpPr>
          <p:spPr>
            <a:xfrm flipH="1" flipV="1">
              <a:off x="6500160" y="4493880"/>
              <a:ext cx="271800" cy="45648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2" name="直接连接符 46"/>
            <p:cNvCxnSpPr>
              <a:stCxn id="221" idx="1"/>
            </p:cNvCxnSpPr>
            <p:nvPr/>
          </p:nvCxnSpPr>
          <p:spPr>
            <a:xfrm flipH="1" flipV="1">
              <a:off x="6771600" y="4265280"/>
              <a:ext cx="1012320" cy="455760"/>
            </a:xfrm>
            <a:prstGeom prst="straightConnector1">
              <a:avLst/>
            </a:prstGeom>
            <a:ln>
              <a:solidFill>
                <a:srgbClr val="ed0012"/>
              </a:solidFill>
            </a:ln>
          </p:spPr>
        </p:cxnSp>
        <p:sp>
          <p:nvSpPr>
            <p:cNvPr id="233" name="椭圆 47"/>
            <p:cNvSpPr/>
            <p:nvPr/>
          </p:nvSpPr>
          <p:spPr>
            <a:xfrm>
              <a:off x="5442840" y="3485160"/>
              <a:ext cx="1007640" cy="1007640"/>
            </a:xfrm>
            <a:prstGeom prst="ellipse">
              <a:avLst/>
            </a:prstGeom>
            <a:solidFill>
              <a:schemeClr val="bg2">
                <a:lumMod val="50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4"/>
            <p:cNvSpPr/>
            <p:nvPr/>
          </p:nvSpPr>
          <p:spPr>
            <a:xfrm>
              <a:off x="5607000" y="3677760"/>
              <a:ext cx="6858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特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不是魔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39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40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4"/>
          <p:cNvSpPr/>
          <p:nvPr/>
        </p:nvSpPr>
        <p:spPr>
          <a:xfrm>
            <a:off x="988560" y="2062440"/>
            <a:ext cx="7553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相信自己可以完成对自己的客观剖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958320" y="1391760"/>
            <a:ext cx="31402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罗列自己的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5711040" y="2730240"/>
            <a:ext cx="4621320" cy="889920"/>
          </a:xfrm>
          <a:custGeom>
            <a:avLst/>
            <a:gdLst>
              <a:gd name="textAreaLeft" fmla="*/ 0 w 4621320"/>
              <a:gd name="textAreaRight" fmla="*/ 4621680 w 4621320"/>
              <a:gd name="textAreaTop" fmla="*/ 0 h 889920"/>
              <a:gd name="textAreaBottom" fmla="*/ 890280 h 88992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所有负面的个性特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6072120" y="4499280"/>
            <a:ext cx="4621320" cy="889920"/>
          </a:xfrm>
          <a:custGeom>
            <a:avLst/>
            <a:gdLst>
              <a:gd name="textAreaLeft" fmla="*/ 0 w 4621320"/>
              <a:gd name="textAreaRight" fmla="*/ 4621680 w 4621320"/>
              <a:gd name="textAreaTop" fmla="*/ 0 h 889920"/>
              <a:gd name="textAreaBottom" fmla="*/ 890280 h 88992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87d1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所有逃避的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和惯性自我挫败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5468040" y="3634200"/>
            <a:ext cx="4658760" cy="850680"/>
          </a:xfrm>
          <a:custGeom>
            <a:avLst/>
            <a:gdLst>
              <a:gd name="textAreaLeft" fmla="*/ 0 w 4658760"/>
              <a:gd name="textAreaRight" fmla="*/ 4659120 w 46587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6134113" h="1261264">
                <a:moveTo>
                  <a:pt x="746842" y="0"/>
                </a:moveTo>
                <a:lnTo>
                  <a:pt x="6134113" y="0"/>
                </a:lnTo>
                <a:lnTo>
                  <a:pt x="5301092" y="1261264"/>
                </a:lnTo>
                <a:lnTo>
                  <a:pt x="0" y="1248202"/>
                </a:lnTo>
                <a:lnTo>
                  <a:pt x="746842" y="0"/>
                </a:lnTo>
                <a:close/>
              </a:path>
            </a:pathLst>
          </a:custGeom>
          <a:solidFill>
            <a:srgbClr val="fca8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你欠缺的基本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432000" y="3002760"/>
            <a:ext cx="3463560" cy="33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50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51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选择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并不可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2"/>
          <p:cNvSpPr/>
          <p:nvPr/>
        </p:nvSpPr>
        <p:spPr>
          <a:xfrm>
            <a:off x="1467720" y="4157280"/>
            <a:ext cx="25909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在三个清单中，各选择最需要改进的三个项目，按步骤修改，坚持两个星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9"/>
          <p:cNvSpPr/>
          <p:nvPr/>
        </p:nvSpPr>
        <p:spPr>
          <a:xfrm>
            <a:off x="5909400" y="2538000"/>
            <a:ext cx="3807360" cy="3312000"/>
          </a:xfrm>
          <a:prstGeom prst="rect">
            <a:avLst/>
          </a:prstGeom>
          <a:solidFill>
            <a:srgbClr val="87d1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非常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我认为某件事不能马上奏效，我就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变得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我认为某件事不能马上奏效，我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得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前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当我认为某件事不能马上奏效，我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常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变得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"/>
          <p:cNvSpPr/>
          <p:nvPr/>
        </p:nvSpPr>
        <p:spPr>
          <a:xfrm>
            <a:off x="5887800" y="1940040"/>
            <a:ext cx="3828600" cy="57708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缺 乏 </a:t>
            </a:r>
            <a:r>
              <a:rPr b="0" lang="zh-CN" sz="24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耐 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20"/>
          <p:cNvSpPr/>
          <p:nvPr/>
        </p:nvSpPr>
        <p:spPr>
          <a:xfrm>
            <a:off x="1486800" y="1396440"/>
            <a:ext cx="901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1500" spc="-1" strike="noStrike">
                <a:solidFill>
                  <a:srgbClr val="000000"/>
                </a:solidFill>
                <a:latin typeface="TextBookC"/>
              </a:rPr>
              <a:t>6</a:t>
            </a:r>
            <a:r>
              <a:rPr b="0" lang="en-US" sz="20000" spc="-1" strike="noStrike">
                <a:solidFill>
                  <a:srgbClr val="ea030a"/>
                </a:solidFill>
                <a:latin typeface="Stencil"/>
              </a:rPr>
              <a:t>000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21"/>
          <p:cNvSpPr/>
          <p:nvPr/>
        </p:nvSpPr>
        <p:spPr>
          <a:xfrm>
            <a:off x="2266560" y="2042640"/>
            <a:ext cx="1295640" cy="431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圆角矩形 25"/>
          <p:cNvSpPr/>
          <p:nvPr/>
        </p:nvSpPr>
        <p:spPr>
          <a:xfrm>
            <a:off x="4678920" y="390672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87d1ee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27"/>
          <p:cNvSpPr/>
          <p:nvPr/>
        </p:nvSpPr>
        <p:spPr>
          <a:xfrm>
            <a:off x="615492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30"/>
          <p:cNvSpPr/>
          <p:nvPr/>
        </p:nvSpPr>
        <p:spPr>
          <a:xfrm>
            <a:off x="759528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c0b2d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反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31"/>
          <p:cNvSpPr/>
          <p:nvPr/>
        </p:nvSpPr>
        <p:spPr>
          <a:xfrm>
            <a:off x="907128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fca862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8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直接连接符 19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66" name="组合 22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67" name="矩形标注 23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文本框 24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矩形 28"/>
          <p:cNvSpPr/>
          <p:nvPr/>
        </p:nvSpPr>
        <p:spPr>
          <a:xfrm>
            <a:off x="958320" y="1391760"/>
            <a:ext cx="352764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重复，形成新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32"/>
          <p:cNvSpPr/>
          <p:nvPr/>
        </p:nvSpPr>
        <p:spPr>
          <a:xfrm>
            <a:off x="4636800" y="2035800"/>
            <a:ext cx="5694120" cy="43056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文本框 33"/>
          <p:cNvSpPr/>
          <p:nvPr/>
        </p:nvSpPr>
        <p:spPr>
          <a:xfrm>
            <a:off x="4707720" y="1998360"/>
            <a:ext cx="5313960" cy="54684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旧习惯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当我在排大队时，我会转身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35"/>
          <p:cNvSpPr/>
          <p:nvPr/>
        </p:nvSpPr>
        <p:spPr>
          <a:xfrm>
            <a:off x="4636800" y="2870640"/>
            <a:ext cx="5694120" cy="430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文本框 36"/>
          <p:cNvSpPr/>
          <p:nvPr/>
        </p:nvSpPr>
        <p:spPr>
          <a:xfrm>
            <a:off x="4757760" y="2793240"/>
            <a:ext cx="5313960" cy="54684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新习惯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当我在排大队时，我一定会阅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76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77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讲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变化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2"/>
          <p:cNvSpPr/>
          <p:nvPr/>
        </p:nvSpPr>
        <p:spPr>
          <a:xfrm>
            <a:off x="1467720" y="415728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少用不确定，含糊，模糊的用语；多用肯定，表示确定的用语。表达否定意思时，多用过去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"/>
          <p:cNvSpPr/>
          <p:nvPr/>
        </p:nvSpPr>
        <p:spPr>
          <a:xfrm>
            <a:off x="5404680" y="3468600"/>
            <a:ext cx="1656720" cy="857520"/>
          </a:xfrm>
          <a:prstGeom prst="roundRect">
            <a:avLst>
              <a:gd name="adj" fmla="val 16667"/>
            </a:avLst>
          </a:prstGeom>
          <a:solidFill>
            <a:srgbClr val="4aacc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善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13"/>
          <p:cNvSpPr/>
          <p:nvPr/>
        </p:nvSpPr>
        <p:spPr>
          <a:xfrm>
            <a:off x="5404680" y="4688280"/>
            <a:ext cx="1656720" cy="857520"/>
          </a:xfrm>
          <a:prstGeom prst="roundRect">
            <a:avLst>
              <a:gd name="adj" fmla="val 16667"/>
            </a:avLst>
          </a:prstGeom>
          <a:solidFill>
            <a:srgbClr val="49d49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少用</a:t>
            </a: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4"/>
          <p:cNvSpPr/>
          <p:nvPr/>
        </p:nvSpPr>
        <p:spPr>
          <a:xfrm>
            <a:off x="7062120" y="3598560"/>
            <a:ext cx="3826440" cy="719640"/>
          </a:xfrm>
          <a:prstGeom prst="roundRect">
            <a:avLst>
              <a:gd name="adj" fmla="val 16667"/>
            </a:avLst>
          </a:prstGeom>
          <a:solidFill>
            <a:srgbClr val="d5e6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aacc5"/>
                </a:solidFill>
                <a:latin typeface="微软雅黑"/>
                <a:ea typeface="微软雅黑"/>
              </a:rPr>
              <a:t>一定，必须，肯定；我今天会做完，我今天要做完；我选择喜欢公开演说；我之前很自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5"/>
          <p:cNvSpPr/>
          <p:nvPr/>
        </p:nvSpPr>
        <p:spPr>
          <a:xfrm>
            <a:off x="7062120" y="4823280"/>
            <a:ext cx="3826440" cy="719640"/>
          </a:xfrm>
          <a:prstGeom prst="roundRect">
            <a:avLst>
              <a:gd name="adj" fmla="val 16667"/>
            </a:avLst>
          </a:prstGeom>
          <a:solidFill>
            <a:srgbClr val="d5f1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试试看，也许，可能，再说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今天要是能做完就好了；我讨厌公开演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我很自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8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8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32"/>
          <p:cNvSpPr/>
          <p:nvPr/>
        </p:nvSpPr>
        <p:spPr>
          <a:xfrm>
            <a:off x="958320" y="1391760"/>
            <a:ext cx="498096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看一看，自己进步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4"/>
          <p:cNvSpPr/>
          <p:nvPr/>
        </p:nvSpPr>
        <p:spPr>
          <a:xfrm>
            <a:off x="1120680" y="5001120"/>
            <a:ext cx="40460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把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“认知进步”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当作正式任务的一部分；学会辨识自己的进步，你就不会错过任何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4"/>
          <p:cNvSpPr/>
          <p:nvPr/>
        </p:nvSpPr>
        <p:spPr>
          <a:xfrm>
            <a:off x="6278400" y="5001120"/>
            <a:ext cx="4278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不要把起始阶段的跌跌撞撞，误认为是难以克服的困难人们没察觉出自己的进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Users\user\Desktop\xpic3400.jpg"/>
          <p:cNvPicPr/>
          <p:nvPr/>
        </p:nvPicPr>
        <p:blipFill>
          <a:blip r:embed="rId1"/>
          <a:srcRect l="0" t="0" r="0" b="6908"/>
          <a:stretch/>
        </p:blipFill>
        <p:spPr>
          <a:xfrm>
            <a:off x="1104120" y="2118240"/>
            <a:ext cx="4062960" cy="251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2" descr="C:\Documents and Settings\tdz\桌面\郊外.jpg"/>
          <p:cNvPicPr/>
          <p:nvPr/>
        </p:nvPicPr>
        <p:blipFill>
          <a:blip r:embed="rId2"/>
          <a:srcRect l="0" t="5402" r="0" b="1668"/>
          <a:stretch/>
        </p:blipFill>
        <p:spPr>
          <a:xfrm>
            <a:off x="6378480" y="2118240"/>
            <a:ext cx="4178520" cy="251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9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9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32"/>
          <p:cNvSpPr/>
          <p:nvPr/>
        </p:nvSpPr>
        <p:spPr>
          <a:xfrm>
            <a:off x="958320" y="1391760"/>
            <a:ext cx="46630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打造一份梦想计划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燕尾形 2"/>
          <p:cNvSpPr/>
          <p:nvPr/>
        </p:nvSpPr>
        <p:spPr>
          <a:xfrm>
            <a:off x="432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8fb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和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燕尾形 14"/>
          <p:cNvSpPr/>
          <p:nvPr/>
        </p:nvSpPr>
        <p:spPr>
          <a:xfrm>
            <a:off x="2673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f6a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阶段的任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燕尾形 16"/>
          <p:cNvSpPr/>
          <p:nvPr/>
        </p:nvSpPr>
        <p:spPr>
          <a:xfrm>
            <a:off x="4914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fc48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燕尾形 18"/>
          <p:cNvSpPr/>
          <p:nvPr/>
        </p:nvSpPr>
        <p:spPr>
          <a:xfrm>
            <a:off x="715464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4aacc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序渐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燕尾形 19"/>
          <p:cNvSpPr/>
          <p:nvPr/>
        </p:nvSpPr>
        <p:spPr>
          <a:xfrm>
            <a:off x="939564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6"/>
          <p:cNvGrpSpPr/>
          <p:nvPr/>
        </p:nvGrpSpPr>
        <p:grpSpPr>
          <a:xfrm>
            <a:off x="361800" y="3574080"/>
            <a:ext cx="434160" cy="363960"/>
            <a:chOff x="361800" y="3574080"/>
            <a:chExt cx="434160" cy="363960"/>
          </a:xfrm>
        </p:grpSpPr>
        <p:sp>
          <p:nvSpPr>
            <p:cNvPr id="308" name="矩形标注 27"/>
            <p:cNvSpPr/>
            <p:nvPr/>
          </p:nvSpPr>
          <p:spPr>
            <a:xfrm>
              <a:off x="432000" y="35838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文本框 28"/>
            <p:cNvSpPr/>
            <p:nvPr/>
          </p:nvSpPr>
          <p:spPr>
            <a:xfrm>
              <a:off x="361800" y="35740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9"/>
          <p:cNvSpPr/>
          <p:nvPr/>
        </p:nvSpPr>
        <p:spPr>
          <a:xfrm>
            <a:off x="958320" y="3492360"/>
            <a:ext cx="64918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订立目标，别再“这样就可以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358200" y="4097160"/>
            <a:ext cx="11283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767171"/>
              </a:buClr>
              <a:buFont typeface="Calibri Light"/>
              <a:buAutoNum type="arabicPeriod"/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设定专属于你的目标，不要让别人替你决定，也不要帮别人设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767171"/>
              </a:buClr>
              <a:buFont typeface="Calibri Light"/>
              <a:buAutoNum type="arabicPeriod"/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写下自己的目标，并时常审视检讨。如果是长期目标，请将它放在心中，不要让别人知道，也让别人保有他们的秘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314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315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矩形 32"/>
          <p:cNvSpPr/>
          <p:nvPr/>
        </p:nvSpPr>
        <p:spPr>
          <a:xfrm>
            <a:off x="958320" y="1391760"/>
            <a:ext cx="681912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失误率不可能为零，拟好备用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26"/>
          <p:cNvGrpSpPr/>
          <p:nvPr/>
        </p:nvGrpSpPr>
        <p:grpSpPr>
          <a:xfrm>
            <a:off x="361800" y="3404880"/>
            <a:ext cx="434160" cy="363960"/>
            <a:chOff x="361800" y="3404880"/>
            <a:chExt cx="434160" cy="363960"/>
          </a:xfrm>
        </p:grpSpPr>
        <p:sp>
          <p:nvSpPr>
            <p:cNvPr id="319" name="矩形标注 27"/>
            <p:cNvSpPr/>
            <p:nvPr/>
          </p:nvSpPr>
          <p:spPr>
            <a:xfrm>
              <a:off x="432000" y="34146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文本框 28"/>
            <p:cNvSpPr/>
            <p:nvPr/>
          </p:nvSpPr>
          <p:spPr>
            <a:xfrm>
              <a:off x="361800" y="34048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29"/>
          <p:cNvSpPr/>
          <p:nvPr/>
        </p:nvSpPr>
        <p:spPr>
          <a:xfrm>
            <a:off x="958320" y="3323160"/>
            <a:ext cx="707616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使出浑身解数，选择并完成一个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4"/>
          <p:cNvSpPr/>
          <p:nvPr/>
        </p:nvSpPr>
        <p:spPr>
          <a:xfrm>
            <a:off x="335520" y="2033280"/>
            <a:ext cx="62791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剧情不可能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100%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按照计划发展，必须制订备用策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C:\Documents and Settings\hp1\桌面\xpic453.jpg"/>
          <p:cNvPicPr/>
          <p:nvPr/>
        </p:nvPicPr>
        <p:blipFill>
          <a:blip r:embed="rId1"/>
          <a:srcRect l="0" t="13321" r="0" b="19637"/>
          <a:stretch/>
        </p:blipFill>
        <p:spPr>
          <a:xfrm>
            <a:off x="7930440" y="1437120"/>
            <a:ext cx="3707640" cy="1800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24" name="Text Box 44"/>
          <p:cNvSpPr/>
          <p:nvPr/>
        </p:nvSpPr>
        <p:spPr>
          <a:xfrm>
            <a:off x="352080" y="3948480"/>
            <a:ext cx="11286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准备”和“计划”都是必要的工作，但是全心投入、实际去执行一项任务，却是完全不同的体验。这是一种出击，使出浑身解数，从细节开始动工，你就向前迈出了最关键的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327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328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图片 6"/>
          <p:cNvSpPr/>
          <p:nvPr/>
        </p:nvSpPr>
        <p:spPr>
          <a:xfrm>
            <a:off x="1091160" y="2421360"/>
            <a:ext cx="10058040" cy="30081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" descr=""/>
          <p:cNvPicPr/>
          <p:nvPr/>
        </p:nvPicPr>
        <p:blipFill>
          <a:blip r:embed="rId2"/>
          <a:srcRect l="0" t="47819" r="0" b="0"/>
          <a:stretch/>
        </p:blipFill>
        <p:spPr>
          <a:xfrm>
            <a:off x="727920" y="2438280"/>
            <a:ext cx="4687920" cy="16920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8" descr=""/>
          <p:cNvPicPr/>
          <p:nvPr/>
        </p:nvPicPr>
        <p:blipFill>
          <a:blip r:embed="rId3"/>
          <a:srcRect l="0" t="7837" r="0" b="53879"/>
          <a:stretch/>
        </p:blipFill>
        <p:spPr>
          <a:xfrm>
            <a:off x="705240" y="1193040"/>
            <a:ext cx="4687920" cy="124128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29" descr=""/>
          <p:cNvPicPr/>
          <p:nvPr/>
        </p:nvPicPr>
        <p:blipFill>
          <a:blip r:embed="rId4"/>
          <a:srcRect l="0" t="44952" r="0" b="0"/>
          <a:stretch/>
        </p:blipFill>
        <p:spPr>
          <a:xfrm>
            <a:off x="8686440" y="5429880"/>
            <a:ext cx="2237040" cy="47268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30" descr=""/>
          <p:cNvPicPr/>
          <p:nvPr/>
        </p:nvPicPr>
        <p:blipFill>
          <a:blip r:embed="rId5"/>
          <a:srcRect l="0" t="0" r="0" b="56891"/>
          <a:stretch/>
        </p:blipFill>
        <p:spPr>
          <a:xfrm>
            <a:off x="8686440" y="5059440"/>
            <a:ext cx="22370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3" descr=""/>
          <p:cNvPicPr/>
          <p:nvPr/>
        </p:nvPicPr>
        <p:blipFill>
          <a:blip r:embed="rId1"/>
          <a:stretch/>
        </p:blipFill>
        <p:spPr>
          <a:xfrm>
            <a:off x="666000" y="2246400"/>
            <a:ext cx="5215680" cy="2933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4" descr=""/>
          <p:cNvPicPr/>
          <p:nvPr/>
        </p:nvPicPr>
        <p:blipFill>
          <a:blip r:embed="rId2"/>
          <a:stretch/>
        </p:blipFill>
        <p:spPr>
          <a:xfrm>
            <a:off x="6281640" y="2246400"/>
            <a:ext cx="5215680" cy="2933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2"/>
          <p:cNvSpPr/>
          <p:nvPr/>
        </p:nvSpPr>
        <p:spPr>
          <a:xfrm>
            <a:off x="1711800" y="5180400"/>
            <a:ext cx="3130920" cy="508680"/>
          </a:xfrm>
          <a:custGeom>
            <a:avLst/>
            <a:gdLst>
              <a:gd name="textAreaLeft" fmla="*/ 0 w 3130920"/>
              <a:gd name="textAreaRight" fmla="*/ 3131280 w 3130920"/>
              <a:gd name="textAreaTop" fmla="*/ 0 h 508680"/>
              <a:gd name="textAreaBottom" fmla="*/ 509040 h 50868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修改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429200" y="1091160"/>
            <a:ext cx="970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感谢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@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秋叶 大叔，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@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小巴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_1990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反复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"/>
          <p:cNvSpPr/>
          <p:nvPr/>
        </p:nvSpPr>
        <p:spPr>
          <a:xfrm>
            <a:off x="7490160" y="5180400"/>
            <a:ext cx="3130920" cy="508680"/>
          </a:xfrm>
          <a:custGeom>
            <a:avLst/>
            <a:gdLst>
              <a:gd name="textAreaLeft" fmla="*/ 0 w 3130920"/>
              <a:gd name="textAreaRight" fmla="*/ 3131280 w 3130920"/>
              <a:gd name="textAreaTop" fmla="*/ 0 h 508680"/>
              <a:gd name="textAreaBottom" fmla="*/ 509040 h 50868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修改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42760" y="6270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图片 5"/>
          <p:cNvSpPr/>
          <p:nvPr/>
        </p:nvSpPr>
        <p:spPr>
          <a:xfrm>
            <a:off x="7797600" y="1398600"/>
            <a:ext cx="2943000" cy="408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842040" y="1715040"/>
            <a:ext cx="6831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肯尼斯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克利斯汀（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Kenneth W. Christian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）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享誉国际的心理医生和企业咨询顾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创办了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“激发潜能计划”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Maximum Potential Project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《这辈子只能这样吗？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提出了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个克服</a:t>
            </a:r>
            <a:r>
              <a:rPr b="0" lang="zh-CN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惯性障碍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的法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被媒体誉为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“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年来最有影响力的自我突破工具书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1169640" y="28368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本书来自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接连接符 10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06" name="组合 14"/>
          <p:cNvGrpSpPr/>
          <p:nvPr/>
        </p:nvGrpSpPr>
        <p:grpSpPr>
          <a:xfrm>
            <a:off x="355680" y="1851840"/>
            <a:ext cx="434160" cy="363960"/>
            <a:chOff x="355680" y="1851840"/>
            <a:chExt cx="434160" cy="363960"/>
          </a:xfrm>
        </p:grpSpPr>
        <p:sp>
          <p:nvSpPr>
            <p:cNvPr id="107" name="矩形标注 12"/>
            <p:cNvSpPr/>
            <p:nvPr/>
          </p:nvSpPr>
          <p:spPr>
            <a:xfrm>
              <a:off x="425880" y="186156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aeee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355680" y="1851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5"/>
          <p:cNvGrpSpPr/>
          <p:nvPr/>
        </p:nvGrpSpPr>
        <p:grpSpPr>
          <a:xfrm>
            <a:off x="355680" y="3244320"/>
            <a:ext cx="434160" cy="363960"/>
            <a:chOff x="355680" y="3244320"/>
            <a:chExt cx="434160" cy="363960"/>
          </a:xfrm>
        </p:grpSpPr>
        <p:sp>
          <p:nvSpPr>
            <p:cNvPr id="110" name="矩形标注 16"/>
            <p:cNvSpPr/>
            <p:nvPr/>
          </p:nvSpPr>
          <p:spPr>
            <a:xfrm>
              <a:off x="425880" y="325368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aeee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文本框 17"/>
            <p:cNvSpPr/>
            <p:nvPr/>
          </p:nvSpPr>
          <p:spPr>
            <a:xfrm>
              <a:off x="355680" y="324432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9583920" y="2495520"/>
            <a:ext cx="1095480" cy="394560"/>
          </a:xfrm>
          <a:prstGeom prst="rect">
            <a:avLst/>
          </a:prstGeom>
          <a:solidFill>
            <a:srgbClr val="4a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凡事力求简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"/>
          <p:cNvSpPr/>
          <p:nvPr/>
        </p:nvSpPr>
        <p:spPr>
          <a:xfrm>
            <a:off x="5736600" y="5247720"/>
            <a:ext cx="1278360" cy="455400"/>
          </a:xfrm>
          <a:prstGeom prst="rect">
            <a:avLst/>
          </a:prstGeom>
          <a:solidFill>
            <a:srgbClr val="90c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从不投入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3402720" y="3279240"/>
            <a:ext cx="943200" cy="394560"/>
          </a:xfrm>
          <a:prstGeom prst="rect">
            <a:avLst/>
          </a:prstGeom>
          <a:solidFill>
            <a:srgbClr val="e60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做事不持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6"/>
          <p:cNvSpPr/>
          <p:nvPr/>
        </p:nvSpPr>
        <p:spPr>
          <a:xfrm>
            <a:off x="5167800" y="4021920"/>
            <a:ext cx="1278360" cy="455400"/>
          </a:xfrm>
          <a:prstGeom prst="rect">
            <a:avLst/>
          </a:prstGeom>
          <a:solidFill>
            <a:srgbClr val="f39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无法乐在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7"/>
          <p:cNvSpPr/>
          <p:nvPr/>
        </p:nvSpPr>
        <p:spPr>
          <a:xfrm>
            <a:off x="3395160" y="4479120"/>
            <a:ext cx="729720" cy="363960"/>
          </a:xfrm>
          <a:prstGeom prst="rect">
            <a:avLst/>
          </a:prstGeom>
          <a:solidFill>
            <a:srgbClr val="f5a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犹豫不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3971520" y="2524320"/>
            <a:ext cx="1095480" cy="394560"/>
          </a:xfrm>
          <a:prstGeom prst="rect">
            <a:avLst/>
          </a:prstGeom>
          <a:solidFill>
            <a:srgbClr val="b2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无法贯彻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"/>
          <p:cNvSpPr/>
          <p:nvPr/>
        </p:nvSpPr>
        <p:spPr>
          <a:xfrm>
            <a:off x="8606160" y="5205240"/>
            <a:ext cx="1552680" cy="363960"/>
          </a:xfrm>
          <a:prstGeom prst="rect">
            <a:avLst/>
          </a:prstGeom>
          <a:solidFill>
            <a:srgbClr val="8c98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无法达成任何长期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1"/>
          <p:cNvSpPr/>
          <p:nvPr/>
        </p:nvSpPr>
        <p:spPr>
          <a:xfrm>
            <a:off x="6789240" y="2180880"/>
            <a:ext cx="1278360" cy="455400"/>
          </a:xfrm>
          <a:prstGeom prst="rect">
            <a:avLst/>
          </a:prstGeom>
          <a:solidFill>
            <a:srgbClr val="699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标变动频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2"/>
          <p:cNvSpPr/>
          <p:nvPr/>
        </p:nvSpPr>
        <p:spPr>
          <a:xfrm>
            <a:off x="10127160" y="3479400"/>
            <a:ext cx="1004040" cy="363960"/>
          </a:xfrm>
          <a:prstGeom prst="rect">
            <a:avLst/>
          </a:prstGeom>
          <a:solidFill>
            <a:srgbClr val="59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做事拖拖拉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3"/>
          <p:cNvSpPr/>
          <p:nvPr/>
        </p:nvSpPr>
        <p:spPr>
          <a:xfrm>
            <a:off x="6989760" y="3279240"/>
            <a:ext cx="1400400" cy="394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担心自己虚有其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5"/>
          <p:cNvSpPr/>
          <p:nvPr/>
        </p:nvSpPr>
        <p:spPr>
          <a:xfrm>
            <a:off x="8031600" y="4346280"/>
            <a:ext cx="1552680" cy="394560"/>
          </a:xfrm>
          <a:prstGeom prst="rect">
            <a:avLst/>
          </a:prstGeom>
          <a:solidFill>
            <a:schemeClr val="bg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把失败归咎他人过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1"/>
          <a:stretch/>
        </p:blipFill>
        <p:spPr>
          <a:xfrm>
            <a:off x="396360" y="2331000"/>
            <a:ext cx="2229480" cy="32868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4"/>
          <p:cNvSpPr/>
          <p:nvPr/>
        </p:nvSpPr>
        <p:spPr>
          <a:xfrm>
            <a:off x="1273680" y="28368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是你要的自己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26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sp>
        <p:nvSpPr>
          <p:cNvPr id="126" name="矩形 5"/>
          <p:cNvSpPr/>
          <p:nvPr/>
        </p:nvSpPr>
        <p:spPr>
          <a:xfrm>
            <a:off x="358560" y="1369080"/>
            <a:ext cx="1120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如果在这份清单中看见了自己，并不代表你最终一事无成，你可能是某种类型的“自我设限族群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942840" y="4596840"/>
            <a:ext cx="10670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极限潜能计划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，目的是帮助所有被习惯性障碍困扰、潜能无法发挥的人，使他们能够建立新习惯，突破人生的瓶颈，一步一步实现自己的梦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942840" y="3250080"/>
            <a:ext cx="106992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低成就人群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，小时颇具天赋，长大后却变得庸碌无为。他们无法发挥自己的潜力，只让它维持在最低限度，倾向捣毁梦想，而不是追求梦想。对于个人不足的地方，他们勇于承认，但却不敢面对内心真正的向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"/>
          <p:cNvSpPr/>
          <p:nvPr/>
        </p:nvSpPr>
        <p:spPr>
          <a:xfrm>
            <a:off x="1707840" y="283680"/>
            <a:ext cx="359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什么是“极限潜能计划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连接符 6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31" name="组合 15"/>
          <p:cNvGrpSpPr/>
          <p:nvPr/>
        </p:nvGrpSpPr>
        <p:grpSpPr>
          <a:xfrm>
            <a:off x="355680" y="3406320"/>
            <a:ext cx="434160" cy="363960"/>
            <a:chOff x="355680" y="3406320"/>
            <a:chExt cx="434160" cy="363960"/>
          </a:xfrm>
        </p:grpSpPr>
        <p:sp>
          <p:nvSpPr>
            <p:cNvPr id="132" name="矩形标注 9"/>
            <p:cNvSpPr/>
            <p:nvPr/>
          </p:nvSpPr>
          <p:spPr>
            <a:xfrm>
              <a:off x="425880" y="341604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3ea4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文本框 10"/>
            <p:cNvSpPr/>
            <p:nvPr/>
          </p:nvSpPr>
          <p:spPr>
            <a:xfrm>
              <a:off x="355680" y="340632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6"/>
          <p:cNvGrpSpPr/>
          <p:nvPr/>
        </p:nvGrpSpPr>
        <p:grpSpPr>
          <a:xfrm>
            <a:off x="355680" y="4785840"/>
            <a:ext cx="434160" cy="363960"/>
            <a:chOff x="355680" y="4785840"/>
            <a:chExt cx="434160" cy="363960"/>
          </a:xfrm>
        </p:grpSpPr>
        <p:sp>
          <p:nvSpPr>
            <p:cNvPr id="135" name="矩形标注 12"/>
            <p:cNvSpPr/>
            <p:nvPr/>
          </p:nvSpPr>
          <p:spPr>
            <a:xfrm>
              <a:off x="425880" y="4795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3ea4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13"/>
            <p:cNvSpPr/>
            <p:nvPr/>
          </p:nvSpPr>
          <p:spPr>
            <a:xfrm>
              <a:off x="355680" y="4785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437400" y="2862720"/>
            <a:ext cx="4571640" cy="2742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38" name="文本框 2"/>
          <p:cNvSpPr/>
          <p:nvPr/>
        </p:nvSpPr>
        <p:spPr>
          <a:xfrm>
            <a:off x="345960" y="1352520"/>
            <a:ext cx="112960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一位好友三十年来的</a:t>
            </a: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梦想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就是去南极旅行，他老是兴致勃勃地谈论着捕鲸台和破冰船，一直说哪天能亲眼见到该有多好。但梦想永远停留在最初阶段，从未往前跨出过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"/>
          <p:cNvSpPr/>
          <p:nvPr/>
        </p:nvSpPr>
        <p:spPr>
          <a:xfrm>
            <a:off x="6738480" y="3685680"/>
            <a:ext cx="335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是能去南极，不知该有多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5647680" y="2268360"/>
            <a:ext cx="10652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fdbb2d"/>
                </a:solidFill>
                <a:latin typeface="Arial Unicode MS"/>
                <a:ea typeface="Arial Unicode MS"/>
              </a:rPr>
              <a:t>‘</a:t>
            </a:r>
            <a:r>
              <a:rPr b="0" lang="en-US" sz="19900" spc="-1" strike="noStrike">
                <a:solidFill>
                  <a:srgbClr val="66c6f1"/>
                </a:solidFill>
                <a:latin typeface="Arial Unicode MS"/>
                <a:ea typeface="Arial Unicode MS"/>
              </a:rPr>
              <a:t>‘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307880" y="3804840"/>
            <a:ext cx="10652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66c6f1"/>
                </a:solidFill>
                <a:latin typeface="Arial Unicode MS"/>
                <a:ea typeface="Arial Unicode MS"/>
              </a:rPr>
              <a:t>’</a:t>
            </a:r>
            <a:r>
              <a:rPr b="0" lang="en-US" sz="19900" spc="-1" strike="noStrike">
                <a:solidFill>
                  <a:srgbClr val="fdbb2d"/>
                </a:solidFill>
                <a:latin typeface="Arial Unicode MS"/>
                <a:ea typeface="Arial Unicode MS"/>
              </a:rPr>
              <a:t>’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57520" y="28368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身边的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直接连接符 4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sp>
        <p:nvSpPr>
          <p:cNvPr id="146" name="文本框 5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快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7"/>
          <p:cNvSpPr/>
          <p:nvPr/>
        </p:nvSpPr>
        <p:spPr>
          <a:xfrm>
            <a:off x="5883120" y="4756320"/>
            <a:ext cx="36417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阅读、听音乐、沉思或创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9"/>
          <p:cNvSpPr/>
          <p:nvPr/>
        </p:nvSpPr>
        <p:spPr>
          <a:xfrm>
            <a:off x="1305000" y="4210200"/>
            <a:ext cx="3125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千万不要抱着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“哪天有空再来享受”的心态。从每天的生活中开始找乐趣，你将会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获益匪浅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0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不能省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8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51" name="矩形标注 16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文本框 17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1"/>
          <p:cNvGrpSpPr/>
          <p:nvPr/>
        </p:nvGrpSpPr>
        <p:grpSpPr>
          <a:xfrm>
            <a:off x="5590800" y="3480480"/>
            <a:ext cx="5355360" cy="546840"/>
            <a:chOff x="5590800" y="3480480"/>
            <a:chExt cx="5355360" cy="546840"/>
          </a:xfrm>
        </p:grpSpPr>
        <p:sp>
          <p:nvSpPr>
            <p:cNvPr id="154" name="圆角矩形 20"/>
            <p:cNvSpPr/>
            <p:nvPr/>
          </p:nvSpPr>
          <p:spPr>
            <a:xfrm>
              <a:off x="5590800" y="3553920"/>
              <a:ext cx="5355360" cy="4305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5611680" y="3480480"/>
              <a:ext cx="5313960" cy="546840"/>
            </a:xfrm>
            <a:prstGeom prst="rect">
              <a:avLst/>
            </a:prstGeom>
            <a:noFill/>
            <a:ln>
              <a:noFill/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始利用碎片时间，并慢慢增加到每天一小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直接连接符 24"/>
          <p:cNvCxnSpPr/>
          <p:nvPr/>
        </p:nvCxnSpPr>
        <p:spPr>
          <a:xfrm>
            <a:off x="5590800" y="4353840"/>
            <a:ext cx="360" cy="1440360"/>
          </a:xfrm>
          <a:prstGeom prst="straightConnector1">
            <a:avLst/>
          </a:prstGeom>
          <a:ln w="57150">
            <a:solidFill>
              <a:srgbClr val="00b0f0"/>
            </a:solidFill>
          </a:ln>
        </p:spPr>
      </p:cxnSp>
      <p:sp>
        <p:nvSpPr>
          <p:cNvPr id="157" name="文本框 25"/>
          <p:cNvSpPr/>
          <p:nvPr/>
        </p:nvSpPr>
        <p:spPr>
          <a:xfrm>
            <a:off x="6490800" y="4210200"/>
            <a:ext cx="207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363636"/>
                </a:solidFill>
                <a:latin typeface="微软雅黑"/>
                <a:ea typeface="微软雅黑"/>
              </a:rPr>
              <a:t>我们可以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尝试</a:t>
            </a:r>
            <a:r>
              <a:rPr b="1" lang="zh-CN" sz="2400" spc="-1" strike="noStrike">
                <a:solidFill>
                  <a:srgbClr val="363636"/>
                </a:solidFill>
                <a:latin typeface="微软雅黑"/>
                <a:ea typeface="微软雅黑"/>
              </a:rPr>
              <a:t>的兴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5883120" y="5310360"/>
            <a:ext cx="36417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接触大自然、运动，或是独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42760" y="6270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4"/>
          <p:cNvGrpSpPr/>
          <p:nvPr/>
        </p:nvGrpSpPr>
        <p:grpSpPr>
          <a:xfrm>
            <a:off x="5201640" y="1105200"/>
            <a:ext cx="5849640" cy="5472360"/>
            <a:chOff x="5201640" y="1105200"/>
            <a:chExt cx="5849640" cy="5472360"/>
          </a:xfrm>
        </p:grpSpPr>
        <p:pic>
          <p:nvPicPr>
            <p:cNvPr id="161" name="图片 1" descr=""/>
            <p:cNvPicPr/>
            <p:nvPr/>
          </p:nvPicPr>
          <p:blipFill>
            <a:blip r:embed="rId1"/>
            <a:stretch/>
          </p:blipFill>
          <p:spPr>
            <a:xfrm>
              <a:off x="5201640" y="1105200"/>
              <a:ext cx="584964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5"/>
            <p:cNvSpPr/>
            <p:nvPr/>
          </p:nvSpPr>
          <p:spPr>
            <a:xfrm rot="20679600">
              <a:off x="5874840" y="2702520"/>
              <a:ext cx="38584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写下一连串内心的渴望、梦想和幻想，不管它们多么遥不可及。写下你能想到所有可能的每件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800" spc="-1" strike="noStrike">
                  <a:solidFill>
                    <a:srgbClr val="3ea4a1"/>
                  </a:solidFill>
                  <a:latin typeface="微软雅黑"/>
                  <a:ea typeface="微软雅黑"/>
                </a:rPr>
                <a:t>连续一个星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想象你正在从事某个和梦想有关的活动，远比直接想象梦想来的有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65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66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26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梦想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7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付诸行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72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73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11"/>
          <p:cNvSpPr/>
          <p:nvPr/>
        </p:nvSpPr>
        <p:spPr>
          <a:xfrm>
            <a:off x="958320" y="1391760"/>
            <a:ext cx="588600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下定决心，并且坚定到不近人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958320" y="1982520"/>
            <a:ext cx="8092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每天早上起床、晚上睡前各一次，想象自己坚持到底而获得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成功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的景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063080" y="283212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视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63080" y="353628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66c6f1"/>
                </a:solidFill>
                <a:latin typeface="微软雅黑"/>
                <a:ea typeface="微软雅黑"/>
              </a:rPr>
              <a:t>听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1063080" y="424044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d48df6"/>
                </a:solidFill>
                <a:latin typeface="微软雅黑"/>
                <a:ea typeface="微软雅黑"/>
              </a:rPr>
              <a:t>味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1063080" y="494496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a3d446"/>
                </a:solidFill>
                <a:latin typeface="微软雅黑"/>
                <a:ea typeface="微软雅黑"/>
              </a:rPr>
              <a:t>触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1063080" y="564912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ef7e8c"/>
                </a:solidFill>
                <a:latin typeface="微软雅黑"/>
                <a:ea typeface="微软雅黑"/>
              </a:rPr>
              <a:t>嗅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8"/>
          <p:cNvSpPr/>
          <p:nvPr/>
        </p:nvSpPr>
        <p:spPr>
          <a:xfrm>
            <a:off x="2624040" y="2739240"/>
            <a:ext cx="3689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dbb2d"/>
                </a:solidFill>
                <a:latin typeface="微软雅黑"/>
                <a:ea typeface="微软雅黑"/>
              </a:rPr>
              <a:t>人群的眼神，他们赞许的笑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9"/>
          <p:cNvSpPr/>
          <p:nvPr/>
        </p:nvSpPr>
        <p:spPr>
          <a:xfrm>
            <a:off x="2624040" y="3410280"/>
            <a:ext cx="2936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鼓掌，欢呼，甚至呐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2624040" y="4124520"/>
            <a:ext cx="2764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d48df6"/>
                </a:solidFill>
                <a:latin typeface="微软雅黑"/>
                <a:ea typeface="微软雅黑"/>
              </a:rPr>
              <a:t>陈酿红酒、美味佳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2624040" y="4849560"/>
            <a:ext cx="3689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a3d446"/>
                </a:solidFill>
                <a:latin typeface="微软雅黑"/>
                <a:ea typeface="微软雅黑"/>
              </a:rPr>
              <a:t>奥斯卡小金人沉甸甸的分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6"/>
          <p:cNvSpPr/>
          <p:nvPr/>
        </p:nvSpPr>
        <p:spPr>
          <a:xfrm>
            <a:off x="2624040" y="5509800"/>
            <a:ext cx="2644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ef7e8c"/>
                </a:solidFill>
                <a:latin typeface="微软雅黑"/>
                <a:ea typeface="微软雅黑"/>
              </a:rPr>
              <a:t>花香，香味的味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"/>
          <p:cNvSpPr/>
          <p:nvPr/>
        </p:nvSpPr>
        <p:spPr>
          <a:xfrm>
            <a:off x="2624040" y="316620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fdbb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圆角矩形 27"/>
          <p:cNvSpPr/>
          <p:nvPr/>
        </p:nvSpPr>
        <p:spPr>
          <a:xfrm>
            <a:off x="2624040" y="384372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66c6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圆角矩形 33"/>
          <p:cNvSpPr/>
          <p:nvPr/>
        </p:nvSpPr>
        <p:spPr>
          <a:xfrm>
            <a:off x="2624040" y="454248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d48d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圆角矩形 34"/>
          <p:cNvSpPr/>
          <p:nvPr/>
        </p:nvSpPr>
        <p:spPr>
          <a:xfrm>
            <a:off x="2624040" y="528264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圆角矩形 35"/>
          <p:cNvSpPr/>
          <p:nvPr/>
        </p:nvSpPr>
        <p:spPr>
          <a:xfrm>
            <a:off x="2624040" y="592812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ef7e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" name="Picture 2" descr="C:\Users\user\Desktop\未标题-1.png"/>
          <p:cNvPicPr/>
          <p:nvPr/>
        </p:nvPicPr>
        <p:blipFill>
          <a:blip r:embed="rId1"/>
          <a:stretch/>
        </p:blipFill>
        <p:spPr>
          <a:xfrm>
            <a:off x="7106760" y="2796120"/>
            <a:ext cx="3642840" cy="3642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192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200" fill="hold"/>
                                        <p:tgtEl>
                                          <p:spTgt spid="192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5" dur="100" fill="hold"/>
                                        <p:tgtEl>
                                          <p:spTgt spid="19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" dur="200" fill="hold"/>
                                        <p:tgtEl>
                                          <p:spTgt spid="192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95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96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32"/>
          <p:cNvSpPr/>
          <p:nvPr/>
        </p:nvSpPr>
        <p:spPr>
          <a:xfrm>
            <a:off x="327600" y="2103840"/>
            <a:ext cx="89409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纸的上半部分：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以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90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年为基准，画上一个日程表， 标出人生到目前的重大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7"/>
          <p:cNvSpPr/>
          <p:nvPr/>
        </p:nvSpPr>
        <p:spPr>
          <a:xfrm>
            <a:off x="327600" y="2580840"/>
            <a:ext cx="10864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纸的下半部分：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对照时间表，记录下要实现梦想，每个星期、每月和每年，需要完成什么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1"/>
          <p:cNvSpPr/>
          <p:nvPr/>
        </p:nvSpPr>
        <p:spPr>
          <a:xfrm>
            <a:off x="5539680" y="3580200"/>
            <a:ext cx="1177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3ea4a1"/>
                </a:solidFill>
                <a:latin typeface="微软雅黑"/>
                <a:ea typeface="微软雅黑"/>
              </a:rPr>
              <a:t>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2"/>
          <p:cNvSpPr/>
          <p:nvPr/>
        </p:nvSpPr>
        <p:spPr>
          <a:xfrm>
            <a:off x="5562000" y="4305960"/>
            <a:ext cx="1177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ea030a"/>
                </a:solidFill>
                <a:latin typeface="微软雅黑"/>
                <a:ea typeface="微软雅黑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表格 2"/>
          <p:cNvGraphicFramePr/>
          <p:nvPr/>
        </p:nvGraphicFramePr>
        <p:xfrm>
          <a:off x="2228400" y="3403440"/>
          <a:ext cx="1436400" cy="2526840"/>
        </p:xfrm>
        <a:graphic>
          <a:graphicData uri="http://schemas.openxmlformats.org/drawingml/2006/table">
            <a:tbl>
              <a:tblPr/>
              <a:tblGrid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</a:tblGrid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923400">
                <a:tc gridSpan="9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203" name="直接连接符 39"/>
          <p:cNvCxnSpPr/>
          <p:nvPr/>
        </p:nvCxnSpPr>
        <p:spPr>
          <a:xfrm flipH="1">
            <a:off x="2620080" y="3959280"/>
            <a:ext cx="2921760" cy="360"/>
          </a:xfrm>
          <a:prstGeom prst="straightConnector1">
            <a:avLst/>
          </a:prstGeom>
          <a:ln>
            <a:solidFill>
              <a:srgbClr val="3ea4a1"/>
            </a:solidFill>
            <a:prstDash val="dash"/>
            <a:tailEnd len="med" type="oval" w="med"/>
          </a:ln>
        </p:spPr>
      </p:cxnSp>
      <p:cxnSp>
        <p:nvCxnSpPr>
          <p:cNvPr id="204" name="直接连接符 40"/>
          <p:cNvCxnSpPr>
            <a:stCxn id="201" idx="1"/>
          </p:cNvCxnSpPr>
          <p:nvPr/>
        </p:nvCxnSpPr>
        <p:spPr>
          <a:xfrm flipH="1">
            <a:off x="3413880" y="4597920"/>
            <a:ext cx="2148480" cy="360"/>
          </a:xfrm>
          <a:prstGeom prst="straightConnector1">
            <a:avLst/>
          </a:prstGeom>
          <a:ln>
            <a:solidFill>
              <a:srgbClr val="ed0012"/>
            </a:solidFill>
            <a:prstDash val="dash"/>
            <a:tailEnd len="med" type="oval" w="med"/>
          </a:ln>
        </p:spPr>
      </p:cxnSp>
      <p:sp>
        <p:nvSpPr>
          <p:cNvPr id="205" name="矩形 43"/>
          <p:cNvSpPr/>
          <p:nvPr/>
        </p:nvSpPr>
        <p:spPr>
          <a:xfrm>
            <a:off x="958320" y="1391760"/>
            <a:ext cx="588600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在洪流中学习规划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  <Words>1202</Words>
  <Paragraphs>26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1:37:59Z</dcterms:created>
  <dc:creator>USER</dc:creator>
  <dc:description/>
  <dc:language>en-US</dc:language>
  <cp:lastModifiedBy>王玉清</cp:lastModifiedBy>
  <dcterms:modified xsi:type="dcterms:W3CDTF">2016-02-23T02:55:51Z</dcterms:modified>
  <cp:revision>2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9</vt:r8>
  </property>
</Properties>
</file>