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1B39-1D2A-4A96-9F48-303980988F1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面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741240" y="7524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536400" y="4386240"/>
            <a:ext cx="57801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计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EFD-D16D-4C6A-95A8-0037E18C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835-9D94-4B41-A75C-3EC0120B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1B7-D5C9-45BE-8D16-A256D2C7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848-42DC-44E7-8FEC-2686A392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86A-B635-4BAF-9ED4-AB243C66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F2D-D9D6-43A2-8E22-6BC1D973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BF3-94F3-420A-BEBF-0B417C92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7DD-EC7A-4582-ACA0-EAF91DA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DE2-AE98-48CC-9B46-0A9ACD5F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D03-DB8A-45FC-A025-917CF86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50C-5E1C-4C5E-9B74-5FEAA3B0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CA7-C9EE-4082-95AE-FC40C304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E025-9C2F-41E5-ACC3-2BBA3BB810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6207120" y="5261040"/>
            <a:ext cx="114156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3389400" y="4375080"/>
            <a:ext cx="1652400" cy="1430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897440" y="393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MingLiU"/>
              </a:rPr>
              <a:t>静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845520" y="439272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ff"/>
                </a:solidFill>
                <a:latin typeface="comic"/>
                <a:ea typeface="MingLiU"/>
              </a:rPr>
              <a:t>心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641920" y="450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MingLiU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25640" y="4470480"/>
            <a:ext cx="261828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omic"/>
                <a:ea typeface="方正舒体"/>
              </a:rPr>
              <a:t>自由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11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5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9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22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5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6"/>
          <a:srcRect l="20747" t="55651" r="73392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7"/>
          <a:srcRect l="20747" t="55653" r="73392" b="37015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7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F:\office\《水墨画鲤鱼》\001.png"/>
          <p:cNvPicPr/>
          <p:nvPr/>
        </p:nvPicPr>
        <p:blipFill>
          <a:blip r:embed="rId8"/>
          <a:srcRect l="20747" t="55651" r="73392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4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6"/>
          <a:srcRect l="20747" t="55653" r="73392" b="37015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7"/>
          <a:srcRect l="20747" t="55653" r="73392" b="37015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8"/>
          <a:srcRect l="20747" t="55653" r="73392" b="37015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F:\office\《水墨画鲤鱼》\001.png"/>
          <p:cNvPicPr/>
          <p:nvPr/>
        </p:nvPicPr>
        <p:blipFill>
          <a:blip r:embed="rId9"/>
          <a:srcRect l="20747" t="55653" r="73392" b="37015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7"/>
          <p:cNvSpPr/>
          <p:nvPr/>
        </p:nvSpPr>
        <p:spPr>
          <a:xfrm>
            <a:off x="2448000" y="8190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奔腾年代001"/>
          <p:cNvPicPr/>
          <p:nvPr/>
        </p:nvPicPr>
        <p:blipFill>
          <a:blip r:embed="rId10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4" name="Picture 4" descr="image9"/>
            <p:cNvPicPr/>
            <p:nvPr/>
          </p:nvPicPr>
          <p:blipFill>
            <a:blip r:embed="rId11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image9"/>
            <p:cNvPicPr/>
            <p:nvPr/>
          </p:nvPicPr>
          <p:blipFill>
            <a:blip r:embed="rId12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" descr="image9"/>
            <p:cNvPicPr/>
            <p:nvPr/>
          </p:nvPicPr>
          <p:blipFill>
            <a:blip r:embed="rId13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647640" y="5950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7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E:\新模板\国粹\04.png"/>
          <p:cNvPicPr/>
          <p:nvPr/>
        </p:nvPicPr>
        <p:blipFill>
          <a:blip r:embed="rId5"/>
          <a:stretch/>
        </p:blipFill>
        <p:spPr>
          <a:xfrm>
            <a:off x="431640" y="2708280"/>
            <a:ext cx="2448000" cy="727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1098720" y="2421000"/>
            <a:ext cx="1439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华文行楷"/>
              </a:rPr>
              <a:t>静心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574560" y="2019240"/>
            <a:ext cx="2233800" cy="2232000"/>
          </a:xfrm>
          <a:prstGeom prst="ellipse">
            <a:avLst/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19"/>
          <p:cNvSpPr/>
          <p:nvPr/>
        </p:nvSpPr>
        <p:spPr>
          <a:xfrm>
            <a:off x="3025800" y="2049480"/>
            <a:ext cx="7120080" cy="2100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001"/>
          <p:cNvPicPr/>
          <p:nvPr/>
        </p:nvPicPr>
        <p:blipFill>
          <a:blip r:embed="rId6"/>
          <a:stretch/>
        </p:blipFill>
        <p:spPr>
          <a:xfrm>
            <a:off x="9361440" y="1757520"/>
            <a:ext cx="939960" cy="576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3"/>
          <p:cNvSpPr/>
          <p:nvPr/>
        </p:nvSpPr>
        <p:spPr>
          <a:xfrm>
            <a:off x="3241800" y="2146320"/>
            <a:ext cx="6622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“心静，则自由”结合中国恒久渊博的国学文化，衍生出“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归一、聚气凝神、神游天外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三大静心论，紧扣“</a:t>
            </a:r>
            <a:r>
              <a:rPr b="0" lang="zh-CN" sz="1600" spc="-1" strike="noStrike">
                <a:solidFill>
                  <a:srgbClr val="cc3300"/>
                </a:solidFill>
                <a:latin typeface="Arial"/>
                <a:ea typeface="微软雅黑"/>
              </a:rPr>
              <a:t>Simple, Powerful and fre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，万物归一意为“化繁为简”，聚气凝神意为“积蓄力量”，神游天外意为“实现自由”，以此层层推导出“轻松的心态”需要“静心”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cp:keywords/>
  <dc:language>en-US</dc:language>
  <cp:lastModifiedBy>a</cp:lastModifiedBy>
  <dcterms:modified xsi:type="dcterms:W3CDTF">2015-07-26T02:19:46Z</dcterms:modified>
  <cp:revision>7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