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6BF-0E73-465A-8F24-11248AA2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2B8-CE06-4BF2-8E93-3A7F3F3B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536A3-B468-404B-A097-569D411E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60B8B-2E41-4D27-8F09-89E35BDF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EBFF4-7BE8-4FE9-B79F-941C6C1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11B7-D197-455F-AD1C-5247EDB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532A9-DC39-42FE-834B-E43D2D80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74F3-CAA1-4841-BE09-592D79A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9F6AD-9915-4ED7-BDA0-04186B7B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8281-C738-4376-9AE3-2F53CB10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DC9D-25D3-4603-A91E-A37F3C15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7AAE8-F3CC-4C81-9F78-80250E1C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C11-2A6F-4A32-B755-20D07A85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A8DD1-C910-497B-BD75-1C024F1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6EFFD-36DF-4C6A-8764-B4875A19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5705A-E3ED-4CD2-B4AF-143C7E3A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CFD5B-0756-4545-A0C4-335815A8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8ED20-0587-416F-9EA6-8096E62B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57684-308D-4816-B184-74E0E78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8D117-0171-4BDA-B08F-D3BA25C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D102D-8551-4469-9230-028FFA1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B9A58-E013-431D-9DD8-4AC98A2F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5C7FC-756B-4173-A4B1-07E25ADE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CA7-8999-41D4-B92D-AF38BE50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183C4-924F-4CAF-BF15-52DD624D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6BB80-0C96-4928-A2E8-9243D5AB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6FDA8-DEBA-4A51-92D5-6320EFDF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0E849-A9F6-417E-8010-2239B39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DAA33-728A-4820-80BC-2861B100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5976-8CEB-4829-8B91-2EECAE2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77F54-E891-4B2C-922D-AAC8DEB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FAA36-FF85-4392-B7A0-C239396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15BC8-B442-4D1C-8F28-3BD32D20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4979D-6169-4D99-AAB9-C394A11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F5C3-C7FB-43ED-85FE-14D2C855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B72AB-EE7A-4856-851C-2AE4A63F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57868-8E75-47D9-81FF-D74B3CCC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9F757-BD64-4C03-AA22-D9116E4F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B798C-11B5-40F1-87A9-22D278D2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7C4E-43C5-47FD-BA1E-104DA499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4B2E8-BFCB-440C-97D2-89716D1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99DFF-8857-48AE-9F12-54517AE7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3E1BD-0C09-4D3F-8073-AE3109D3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718B9-C5C2-488E-AEF9-54248F85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2B102-2584-4955-8284-86F095B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0E0D-0329-498E-B8AD-E93C3357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EA77C-99A9-487C-B8BA-F4188FD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57BE7-219D-4AD1-9001-5D2571F5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14773-9BBA-43E2-81D3-D786770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D0147-AB5E-42E3-B355-7825F00B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9489E-0268-4D7E-9BDC-424D0EC6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7C0-687A-4915-9DC6-758FD1DA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CB4E-44E8-4C94-981D-F999F7AE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39B-26A8-4EBB-A25A-9B84FEB7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ADA1-1D88-4A27-9ABC-0BC0739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981-E36A-400F-B276-2208555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06E-E018-408A-B72F-EC332431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32D1-2955-466D-B152-E014388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76E1-0064-4721-9C4A-61E2A11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A0B2-80A6-4DF4-9723-3FEC299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271D-E2C7-4DAB-857B-08A01519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022B-EFE1-4D05-9724-8D9B0AC2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0FDA-D2D2-4337-BE18-35CB7FBB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73E3-18E5-402F-B5FA-E820D1F9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1B2A-B4B2-49F5-BC80-3F4E9BFB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545B-3026-411A-A698-73ED245E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6F68-DC48-45ED-9D69-4E0A465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BED-FDF1-4CC5-ABFB-53BBE8ED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FE11-C3E0-4A0D-8DA0-EC5A63D1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0249B-43BC-40ED-BDAF-54E0DED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7ED7-A7C5-46B1-B39F-0B63E81C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E976-A5D5-414B-A37D-89C31CB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06FB-C857-4895-9DCF-2D2F2FF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63FF-3D93-481F-AFC4-88EBE55B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DC56-2780-4DEB-8318-D582FE60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7FE2-6800-4FF4-85D9-B790D17B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D968E-2BA0-4D86-BFB9-152255AA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F01E7-EFFD-4305-BF50-FC67B31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0BA-BC3C-4B04-A015-2F3C3FE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BF9F-2998-4343-9204-4055923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63CE6-57F5-4F23-AA20-D8B639C0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CDAB-943E-416B-87D5-885E72F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04CA-FBCE-4FE2-9347-6A38C8A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3D9C-0950-489C-B963-5A8A4E15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28E84-2236-41E2-AE07-43F29C21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FA1AF-9F2A-4AEC-A9F1-B966EAC0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1791-9F19-402E-AD8D-9D03EADE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63F56-B783-4F41-963B-16F45C4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F0DFB-2F01-49AF-8615-566C3677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227-45F5-4EB3-97BA-8B375B5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2692F-3E2D-4C83-923A-321A1199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83C23-21DF-40C3-8D6B-DCB9E68E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3B24E-14A3-4293-BC10-79678479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ECDBE-3B3B-4A6F-8256-24037612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F8895-1F4B-4982-8C5E-BA2C084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5270D-A437-4D53-B7B4-A676E714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2D23-F851-4084-A675-603F51E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1A62A-3C16-478F-ABBB-8B34E981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1E58-255B-4559-B014-8C9DF10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D2F4-AE31-4A1C-965A-DC9B402E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02A-1066-406A-857E-69AA0684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2EF59-7CB9-4E28-ADDE-D618229E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B174-1A08-4D35-84C0-855D1937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0C77C-6713-4E38-9EA2-7BC370F4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097E-E42D-47D9-B4EF-B51D8CF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5B95-393B-4736-928D-07710405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E735-343F-467F-AA29-AFE10B12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8F9AF-D403-42E8-BEB0-DCBDC375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8587D-23B6-4F27-BE56-B14D3F70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D976B-38B0-4898-8C6C-40C5F78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DBE7-0463-42E7-8772-6575426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32B-9B63-47B6-A735-6C9B090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516C-503E-4BA8-847B-0407D3B3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15B1-E5CE-4388-83C7-7007E8DE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1C3A3-8465-4B37-AB06-AB160CF2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28028-F5CC-4F6A-A331-0958202D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E4A2F-4577-49E6-AF30-9B36329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76C11-4F92-4A26-8CD5-DFE22FCC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8106-C869-4CBE-B968-A446437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7F944-8A97-412E-8E2E-60ACB515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1EA9-6A0F-4A7D-85C4-BC8449C5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DD18C-E967-4939-8F42-637A14E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2AF-194A-4EB6-87AB-F3C79A6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411F9-93BB-4B5B-B2F4-B91FBFB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B98E-245B-4C04-B38E-D1A9FF4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D9E4-A2C7-4D22-8866-66A7140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4484-0EA2-4FE9-A350-2E60698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5A65E-74FC-42B1-A562-1B97CBFE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58568-10A9-42C2-839E-8912674F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20DDC-A255-4437-B971-7F351761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BF2D4-CB41-4CBD-A393-2302B723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1C56-463E-4DD6-94F8-9E6D8710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A2250-6E90-4CB3-96CB-056BF1C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C90-C994-41C4-96D9-E96229E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CE86-BBEB-4FCB-A806-5B14F3D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7A32A-636A-4BE0-BA95-42ADDC74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53A5C-B1CD-4F76-A067-7D902EB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1C42-B72B-4F32-839A-3F5C67E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331D8-2FA9-46DE-B4D0-D639B94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44E3F-59EB-414F-A00C-FB202E47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7294E-B513-492A-9569-9B3A5F95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9AF6F-1B4E-4B93-92C5-ACEFA208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57C66-BE5B-4ED0-A139-1F42BC4B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FDAB6-C7BC-47F3-9F14-F9C42D7D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979E-9E31-42F9-80EF-6D6F6D4C16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4CF4-7790-4509-9F18-19D6ADFF21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706-90C5-4755-8FD2-9B06F2456C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B2A4-1B46-461A-B912-E4354E95CC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EF1-238B-46F7-BEF9-09BC4986A3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FEB-4F9A-4C48-90A4-27F2952C86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8DE8-0608-44E6-A03F-28F52B9F6E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22D-045F-472E-85D6-8410D105E3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53C6-FAEC-43B9-A555-50056E04E77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D588-26BE-44EB-AF18-A746053911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83AD-210C-40FB-9334-68513E7D15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36EC-885A-4DA1-8341-667BFF19D3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孙子兵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1"/>
          <p:cNvSpPr/>
          <p:nvPr/>
        </p:nvSpPr>
        <p:spPr>
          <a:xfrm>
            <a:off x="1777680" y="1268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竹简古典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346680" y="6519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2" descr="孙子兵法1"/>
          <p:cNvPicPr/>
          <p:nvPr/>
        </p:nvPicPr>
        <p:blipFill>
          <a:blip r:embed="rId2"/>
          <a:stretch/>
        </p:blipFill>
        <p:spPr>
          <a:xfrm>
            <a:off x="-33480" y="0"/>
            <a:ext cx="91774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孙子兵法23"/>
          <p:cNvPicPr/>
          <p:nvPr/>
        </p:nvPicPr>
        <p:blipFill>
          <a:blip r:embed="rId1"/>
          <a:stretch/>
        </p:blipFill>
        <p:spPr>
          <a:xfrm>
            <a:off x="1440" y="-23760"/>
            <a:ext cx="914112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23:01:04Z</dcterms:created>
  <dc:creator>陈亮</dc:creator>
  <dc:description/>
  <dc:language>en-US</dc:language>
  <cp:lastModifiedBy>a</cp:lastModifiedBy>
  <cp:lastPrinted>1899-12-30T00:00:00Z</cp:lastPrinted>
  <dcterms:modified xsi:type="dcterms:W3CDTF">2015-07-25T11:49:53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88</vt:lpwstr>
  </property>
</Properties>
</file>