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D57A-C787-4DAA-A800-718C6763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B60-AD8C-41AA-8BEF-5255DEF4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6BD9-BF54-493F-920B-6DD187CF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D8C-5384-48B9-9806-34CB974A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07A9-3E1F-48C1-9740-787951E2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287F-ED52-4134-B945-B16930A1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00A3-924B-419A-8C21-EAF41E07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6915-FBD3-4DEF-84BD-C6654A3A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323A-0B08-45C1-9845-46ECD824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9EEE-A67E-4EE3-8D95-D39C95D5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0F73-0E68-457D-83EC-3A0A8437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565-39DE-4519-B923-8AAF73A1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8BD9-9823-4C6E-AD2E-A13C47B1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9E29-3AB6-4969-BBD9-7DF92D82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2281-DF55-487A-A57F-50AD1C53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BCE9-E1FB-4C23-A441-FADCBABD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A3C1-B44B-46D6-BB9B-12A54D3F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536-D106-47B3-9AB0-A0C1E711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29F-79D0-4609-887C-24A79245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837-AB04-4529-85F1-9CC5F0DB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62D7-BA68-4E16-9B97-213904D3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B55-32C0-400E-98DC-C17DE319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974-7CA1-46E7-B730-E4DC715C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EC0-0D9D-45F4-91B3-9535DC8C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6330-EEE1-4E30-A709-4296E322A31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5595-2EA7-4CA4-A1B8-7CDC5D6880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DB40-9182-4B0C-A214-E11E88100E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41"/>
          <p:cNvSpPr/>
          <p:nvPr/>
        </p:nvSpPr>
        <p:spPr>
          <a:xfrm>
            <a:off x="2771640" y="825336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26" descr="2-1.png"/>
          <p:cNvPicPr/>
          <p:nvPr/>
        </p:nvPicPr>
        <p:blipFill>
          <a:blip r:embed="rId2"/>
          <a:stretch/>
        </p:blipFill>
        <p:spPr>
          <a:xfrm>
            <a:off x="5842080" y="4098960"/>
            <a:ext cx="4572000" cy="11430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7" descr="2-2.png"/>
          <p:cNvPicPr/>
          <p:nvPr/>
        </p:nvPicPr>
        <p:blipFill>
          <a:blip r:embed="rId3"/>
          <a:stretch/>
        </p:blipFill>
        <p:spPr>
          <a:xfrm>
            <a:off x="5537160" y="3946680"/>
            <a:ext cx="4876920" cy="12286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8" descr="2-3.png"/>
          <p:cNvPicPr/>
          <p:nvPr/>
        </p:nvPicPr>
        <p:blipFill>
          <a:blip r:embed="rId4"/>
          <a:stretch/>
        </p:blipFill>
        <p:spPr>
          <a:xfrm>
            <a:off x="5613480" y="3794040"/>
            <a:ext cx="5029200" cy="12286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9" descr="2-4.png"/>
          <p:cNvPicPr/>
          <p:nvPr/>
        </p:nvPicPr>
        <p:blipFill>
          <a:blip r:embed="rId5"/>
          <a:stretch/>
        </p:blipFill>
        <p:spPr>
          <a:xfrm>
            <a:off x="5765760" y="3489480"/>
            <a:ext cx="6738840" cy="16635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30" descr="2-5.png"/>
          <p:cNvPicPr/>
          <p:nvPr/>
        </p:nvPicPr>
        <p:blipFill>
          <a:blip r:embed="rId6"/>
          <a:stretch/>
        </p:blipFill>
        <p:spPr>
          <a:xfrm>
            <a:off x="5156280" y="3336840"/>
            <a:ext cx="7284960" cy="19591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31" descr="3-1.png"/>
          <p:cNvPicPr/>
          <p:nvPr/>
        </p:nvPicPr>
        <p:blipFill>
          <a:blip r:embed="rId7"/>
          <a:stretch/>
        </p:blipFill>
        <p:spPr>
          <a:xfrm>
            <a:off x="-1168560" y="3184560"/>
            <a:ext cx="7175520" cy="16002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2" descr="3-2.png"/>
          <p:cNvPicPr/>
          <p:nvPr/>
        </p:nvPicPr>
        <p:blipFill>
          <a:blip r:embed="rId8"/>
          <a:stretch/>
        </p:blipFill>
        <p:spPr>
          <a:xfrm>
            <a:off x="-2844720" y="3184560"/>
            <a:ext cx="8872560" cy="23112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33" descr="3-3.png"/>
          <p:cNvPicPr/>
          <p:nvPr/>
        </p:nvPicPr>
        <p:blipFill>
          <a:blip r:embed="rId9"/>
          <a:stretch/>
        </p:blipFill>
        <p:spPr>
          <a:xfrm>
            <a:off x="888840" y="3946680"/>
            <a:ext cx="4678560" cy="10443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4" descr="3-4.png"/>
          <p:cNvPicPr/>
          <p:nvPr/>
        </p:nvPicPr>
        <p:blipFill>
          <a:blip r:embed="rId10"/>
          <a:stretch/>
        </p:blipFill>
        <p:spPr>
          <a:xfrm>
            <a:off x="1041480" y="4022640"/>
            <a:ext cx="4754520" cy="12384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5" descr="3-5.png"/>
          <p:cNvPicPr/>
          <p:nvPr/>
        </p:nvPicPr>
        <p:blipFill>
          <a:blip r:embed="rId11"/>
          <a:stretch/>
        </p:blipFill>
        <p:spPr>
          <a:xfrm>
            <a:off x="1041480" y="4022640"/>
            <a:ext cx="4754520" cy="1060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6" descr="光.png"/>
          <p:cNvPicPr/>
          <p:nvPr/>
        </p:nvPicPr>
        <p:blipFill>
          <a:blip r:embed="rId12"/>
          <a:stretch/>
        </p:blipFill>
        <p:spPr>
          <a:xfrm>
            <a:off x="5262480" y="3870360"/>
            <a:ext cx="1189080" cy="11937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7" descr="光.png"/>
          <p:cNvPicPr/>
          <p:nvPr/>
        </p:nvPicPr>
        <p:blipFill>
          <a:blip r:embed="rId13"/>
          <a:stretch/>
        </p:blipFill>
        <p:spPr>
          <a:xfrm>
            <a:off x="5156280" y="3870360"/>
            <a:ext cx="1307880" cy="13143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8" descr="地球2.png"/>
          <p:cNvPicPr/>
          <p:nvPr/>
        </p:nvPicPr>
        <p:blipFill>
          <a:blip r:embed="rId14"/>
          <a:stretch/>
        </p:blipFill>
        <p:spPr>
          <a:xfrm>
            <a:off x="5537160" y="417528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39" descr="地球2.png"/>
          <p:cNvPicPr/>
          <p:nvPr/>
        </p:nvPicPr>
        <p:blipFill>
          <a:blip r:embed="rId15"/>
          <a:stretch/>
        </p:blipFill>
        <p:spPr>
          <a:xfrm>
            <a:off x="1625760" y="74628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98" name="矩形 1"/>
          <p:cNvSpPr/>
          <p:nvPr/>
        </p:nvSpPr>
        <p:spPr>
          <a:xfrm>
            <a:off x="2863800" y="-111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地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22" presetSubtype="2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2" presetSubtype="2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2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2" presetSubtype="2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2" presetSubtype="8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2" presetSubtype="8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 repeatCount="4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8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3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 www.1ppt.com</cp:keywords>
  <dc:language>en-US</dc:language>
  <cp:lastModifiedBy>a</cp:lastModifiedBy>
  <dcterms:modified xsi:type="dcterms:W3CDTF">2015-07-20T12:30:13Z</dcterms:modified>
  <cp:revision>842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