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hdphoto1.wdp" ContentType="image/vnd.ms-photo"/>
  <Override PartName="/ppt/media/image8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hdphoto2.wdp" ContentType="image/vnd.ms-photo"/>
  <Override PartName="/ppt/media/image9.png" ContentType="image/png"/>
  <Override PartName="/ppt/media/image6.png" ContentType="image/png"/>
  <Override PartName="/ppt/media/image7.png" ContentType="image/png"/>
  <Override PartName="/ppt/media/image1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A93-9B40-4A19-9F85-0B8161AA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CCA-D944-491E-9396-986C0447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893-7B78-43EC-B077-CE2B8E8C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DF8-46F0-4D3F-B7F9-CE5EBE47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855D-E4E9-44D7-B34E-0597D48D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702-A747-4308-8321-619DC2BD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08CE-6318-4309-8A6C-E3F7C415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3565-B85D-413A-AF5B-9370DC4E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95CB-159B-4D9B-B083-789BF5BC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B434-0E7E-46AF-BBAF-76ACA12B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780E-06A9-46CA-B6EF-5D47F5B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F6C-732E-4CDA-A6EA-1F561066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DD8D-857C-4E0F-971E-FFA0E015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24F6-1FA9-443C-90A8-78EE5FD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53F6-5A35-4E33-8ABE-5A1D71EF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D990-ECA5-41E2-80C2-D1CDB06C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FE79-28D1-475B-A8EC-513D3948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2D2F-1AD1-49F6-B982-52DDB6BF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395C-D833-4E46-A49D-8A8AC5ED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7D54-E05B-4F58-A289-B1905EA1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344B-F5F0-4456-84B7-F3968835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0545-5A03-4460-A456-DCBDEA7F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34C-1D41-4167-A929-E5805724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9461-1300-4D92-AA3B-87A25B0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6E84-4E0B-4656-AC53-3DA3594E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9C33-F115-4ED8-875C-89D2904F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3CAF-CCE2-42BE-916F-9699EFD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CDB0-68B8-4EA9-89A4-3D4CCEAE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8FE9-3748-4A78-A6B0-71132895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15F3-4346-4AF0-B646-98769C32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EE8D-987F-41DC-9AEE-17FD35BB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3453-850E-43E0-B38B-6FB1A42A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AE4A-6927-4C09-AD36-F099D4D7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7C2-4A06-4867-A369-E57054E2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422C-F20C-4237-89A5-FC73CF59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C861-AC4B-4843-B6A2-2B6D8888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D2A1-EE9E-4D65-9E1B-C9F3478E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2DA2-35F2-4EB0-9DCE-C785338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63031-61BE-4177-AA13-B7C02BBA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CDC3-1904-45C3-A8F4-BA6EE467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86AD-EA80-4EF6-9311-C70C199B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E92D-1D88-4320-901A-0B9CD3F6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E486-9631-444B-B8A7-253E6B26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1197D-EBD6-4E95-A5E8-AAEF9CF7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2CC-B251-4C90-A2B9-497E65D6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2A336-4308-4843-8E30-11708B9E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68E31-D883-4514-8FD2-46E273F1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05BF5-6950-4053-A538-1670C979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15E0-D69D-4A0D-BCFE-F189D32B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FF2F2-1ECE-49FA-B1ED-3E36F0DA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8B76-E76C-401E-BBFC-1F072A3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51EAB-D7E3-43D0-8238-8F19C736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D448A-81E9-49C7-95AD-B1DF701D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E14EB-2970-4238-907B-F3B1C2E9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5688-D388-4112-AB93-233C8138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BDC-D2F5-454E-BB34-F0ABA325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15DA-919B-4DF6-9111-9D0D4FE8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7C40-3D55-4322-BB4A-1CBAF5F3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30337-0BB4-46AD-96C3-A5149C72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18451-69C0-4083-8ABE-DA6F13A1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77A03-7B4B-48E9-9586-E783B35E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CE40-FF73-441E-9AE6-A290A19A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A29A-49B4-41D5-9C7F-34E6B9AE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55F1F-1E5F-48B7-B241-A160FB41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25351-7493-4674-8878-80F5F30C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1CE68-F9A3-45DE-A694-6D95A1D7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35C-3C8F-46E1-B3D8-CB19153A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1E31-F347-4CD3-AA8A-1A97261F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E259C-6580-4D17-BD80-D3F1F119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3DEF4-8296-4E97-B0B6-E259FE9B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D7FB9-63F6-48A4-843E-9F43DC64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E39F1-829B-41D9-A02B-127EC02B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3C86-7F3C-4D49-AAA0-C462BA4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2AE1-BDF8-4A8D-9D73-19824C1F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F2F51-6E15-4BFB-90E7-AE2D64C1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4D501-9F3A-4448-8341-1E8BE1D1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F2A67-44E2-4DD4-9395-6083003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48B-DE20-408D-B034-615323B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D417F-1C5A-4B06-8EEA-4F56AE8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E20E4-5DAA-4FB4-9C0D-13B47A3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2EA49-279E-4833-BE95-069840B2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7763E-B959-4B3C-A61B-734E0752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78A7E-582E-4A65-AAEF-0CB2A512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498-DE00-47F9-A2A3-E13FA8E0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microsoft.com/office/2007/relationships/hdphoto" Target="../media/hdphoto2.wdp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" name="图片 7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4495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"/>
          <p:cNvPicPr/>
          <p:nvPr/>
        </p:nvPicPr>
        <p:blipFill>
          <a:blip r:embed="rId5"/>
          <a:stretch/>
        </p:blipFill>
        <p:spPr>
          <a:xfrm>
            <a:off x="0" y="4254480"/>
            <a:ext cx="9143640" cy="2603160"/>
          </a:xfrm>
          <a:prstGeom prst="rect">
            <a:avLst/>
          </a:prstGeom>
          <a:ln w="0">
            <a:noFill/>
          </a:ln>
        </p:spPr>
      </p:pic>
      <p:sp>
        <p:nvSpPr>
          <p:cNvPr id="5" name="矩形 6"/>
          <p:cNvSpPr/>
          <p:nvPr/>
        </p:nvSpPr>
        <p:spPr>
          <a:xfrm>
            <a:off x="0" y="42210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213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C7D365-9A65-4B11-91AB-861F92FC36D6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50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432400"/>
          </a:xfrm>
          <a:prstGeom prst="rect">
            <a:avLst/>
          </a:prstGeom>
          <a:ln w="0">
            <a:noFill/>
          </a:ln>
        </p:spPr>
      </p:pic>
      <p:sp>
        <p:nvSpPr>
          <p:cNvPr id="51" name="矩形 10"/>
          <p:cNvSpPr/>
          <p:nvPr/>
        </p:nvSpPr>
        <p:spPr>
          <a:xfrm>
            <a:off x="0" y="0"/>
            <a:ext cx="9143640" cy="5432400"/>
          </a:xfrm>
          <a:prstGeom prst="rect">
            <a:avLst/>
          </a:prstGeom>
          <a:gradFill rotWithShape="0">
            <a:gsLst>
              <a:gs pos="51000">
                <a:srgbClr val="000000">
                  <a:alpha val="0"/>
                </a:srgbClr>
              </a:gs>
              <a:gs pos="100000">
                <a:srgbClr val="ffffff">
                  <a:alpha val="9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chemeClr val="accent2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3CF275-F25F-4DD8-ABE1-72F44DA26E40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95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ecdbf1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3883EB-FB77-4714-B721-F278214D31C4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39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320" y="0"/>
            <a:ext cx="9143640" cy="836280"/>
          </a:xfrm>
          <a:prstGeom prst="rect">
            <a:avLst/>
          </a:prstGeom>
          <a:ln w="0">
            <a:noFill/>
          </a:ln>
        </p:spPr>
      </p:pic>
      <p:sp>
        <p:nvSpPr>
          <p:cNvPr id="142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4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28D160-160D-4B3A-B1C8-02765110575E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85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86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896425-D767-467F-A388-A06BDDB9BC3C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4320" y="0"/>
            <a:ext cx="9143640" cy="836280"/>
          </a:xfrm>
          <a:prstGeom prst="rect">
            <a:avLst/>
          </a:prstGeom>
          <a:ln w="0">
            <a:noFill/>
          </a:ln>
        </p:spPr>
      </p:pic>
      <p:sp>
        <p:nvSpPr>
          <p:cNvPr id="192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231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32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2339280" cy="83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5"/>
          <a:stretch/>
        </p:blipFill>
        <p:spPr>
          <a:xfrm rot="16200000">
            <a:off x="1381680" y="-1381320"/>
            <a:ext cx="836280" cy="360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6"/>
          <a:stretch/>
        </p:blipFill>
        <p:spPr>
          <a:xfrm>
            <a:off x="3499200" y="0"/>
            <a:ext cx="5648760" cy="836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7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5698C1-C239-4004-B6FF-3A342A3B2EE4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279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0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3"/>
          <a:stretch/>
        </p:blipFill>
        <p:spPr>
          <a:xfrm>
            <a:off x="-3240" y="3240"/>
            <a:ext cx="9150120" cy="6857640"/>
          </a:xfrm>
          <a:prstGeom prst="rect">
            <a:avLst/>
          </a:prstGeom>
          <a:ln w="0">
            <a:noFill/>
          </a:ln>
        </p:spPr>
      </p:pic>
      <p:sp>
        <p:nvSpPr>
          <p:cNvPr id="282" name="矩形 6"/>
          <p:cNvSpPr/>
          <p:nvPr/>
        </p:nvSpPr>
        <p:spPr>
          <a:xfrm>
            <a:off x="251640" y="260640"/>
            <a:ext cx="8640720" cy="6336360"/>
          </a:xfrm>
          <a:prstGeom prst="rect">
            <a:avLst/>
          </a:prstGeom>
          <a:solidFill>
            <a:srgbClr val="ffffff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4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890E74-A5E9-4162-9732-285A5AE6F1D6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图文框 8"/>
          <p:cNvSpPr/>
          <p:nvPr/>
        </p:nvSpPr>
        <p:spPr>
          <a:xfrm>
            <a:off x="251640" y="260640"/>
            <a:ext cx="8640720" cy="6336360"/>
          </a:xfrm>
          <a:prstGeom prst="frame">
            <a:avLst>
              <a:gd name="adj1" fmla="val 1347"/>
            </a:avLst>
          </a:prstGeom>
          <a:solidFill>
            <a:srgbClr val="ffffff"/>
          </a:solidFill>
          <a:ln>
            <a:noFill/>
          </a:ln>
          <a:effectLst>
            <a:innerShdw blurRad="889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213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馨情玫瑰通用</a:t>
            </a:r>
            <a:r>
              <a:rPr b="1" lang="en-US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PPT</a:t>
            </a:r>
            <a:r>
              <a:rPr b="1" lang="zh-CN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chemeClr val="accent2"/>
                </a:solidFill>
                <a:latin typeface="Impact"/>
              </a:rPr>
              <a:t>馨情玫瑰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3640" y="5445360"/>
            <a:ext cx="6400440" cy="4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8b8b8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ecdbf1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" y="63187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de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模板的主题色选用了系统自带的“华丽”主题。可结合主题色灵活地设置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矩形 5"/>
          <p:cNvSpPr/>
          <p:nvPr/>
        </p:nvSpPr>
        <p:spPr>
          <a:xfrm>
            <a:off x="971640" y="2349000"/>
            <a:ext cx="575640" cy="791640"/>
          </a:xfrm>
          <a:prstGeom prst="rect">
            <a:avLst/>
          </a:prstGeom>
          <a:gradFill rotWithShape="0">
            <a:gsLst>
              <a:gs pos="80000">
                <a:srgbClr val="0000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6" name="矩形 6"/>
          <p:cNvSpPr/>
          <p:nvPr/>
        </p:nvSpPr>
        <p:spPr>
          <a:xfrm>
            <a:off x="1765800" y="2349000"/>
            <a:ext cx="575640" cy="791640"/>
          </a:xfrm>
          <a:prstGeom prst="rect">
            <a:avLst/>
          </a:prstGeom>
          <a:gradFill rotWithShape="0">
            <a:gsLst>
              <a:gs pos="0">
                <a:srgbClr val="971f49"/>
              </a:gs>
              <a:gs pos="100000">
                <a:srgbClr val="c4295e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7" name="矩形 7"/>
          <p:cNvSpPr/>
          <p:nvPr/>
        </p:nvSpPr>
        <p:spPr>
          <a:xfrm>
            <a:off x="255564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864394"/>
              </a:gs>
              <a:gs pos="100000">
                <a:srgbClr val="ae56c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8" name="矩形 8"/>
          <p:cNvSpPr/>
          <p:nvPr/>
        </p:nvSpPr>
        <p:spPr>
          <a:xfrm>
            <a:off x="3348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b84915"/>
              </a:gs>
              <a:gs pos="100000">
                <a:srgbClr val="ef5f1c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9" name="矩形 9"/>
          <p:cNvSpPr/>
          <p:nvPr/>
        </p:nvSpPr>
        <p:spPr>
          <a:xfrm>
            <a:off x="4140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ce8d15"/>
              </a:gs>
              <a:gs pos="100000">
                <a:srgbClr val="ffb42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40" name="矩形 10"/>
          <p:cNvSpPr/>
          <p:nvPr/>
        </p:nvSpPr>
        <p:spPr>
          <a:xfrm>
            <a:off x="4932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a5467b"/>
              </a:gs>
              <a:gs pos="100000">
                <a:srgbClr val="d65ba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41" name="矩形 11"/>
          <p:cNvSpPr/>
          <p:nvPr/>
        </p:nvSpPr>
        <p:spPr>
          <a:xfrm>
            <a:off x="5724000" y="2349000"/>
            <a:ext cx="575640" cy="791640"/>
          </a:xfrm>
          <a:prstGeom prst="rect">
            <a:avLst/>
          </a:prstGeom>
          <a:gradFill rotWithShape="0">
            <a:gsLst>
              <a:gs pos="0">
                <a:srgbClr val="cf6618"/>
              </a:gs>
              <a:gs pos="100000">
                <a:srgbClr val="ff862e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42" name="标题 3"/>
          <p:cNvSpPr/>
          <p:nvPr/>
        </p:nvSpPr>
        <p:spPr>
          <a:xfrm>
            <a:off x="817200" y="3394440"/>
            <a:ext cx="822924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标题文本（微软雅黑，</a:t>
            </a: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内容占位符 4"/>
          <p:cNvSpPr/>
          <p:nvPr/>
        </p:nvSpPr>
        <p:spPr>
          <a:xfrm>
            <a:off x="817200" y="4253760"/>
            <a:ext cx="8229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a6ab6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正文文本（宋体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2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2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  <Words>106</Words>
  <Paragraphs>19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1:41:38Z</dcterms:created>
  <dc:creator>lenovo</dc:creator>
  <dc:description/>
  <dc:language>en-US</dc:language>
  <cp:lastModifiedBy>王玉清</cp:lastModifiedBy>
  <dcterms:modified xsi:type="dcterms:W3CDTF">2016-02-24T03:15:38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