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2.png" ContentType="image/png"/>
  <Override PartName="/ppt/media/image1.png" ContentType="image/png"/>
  <Override PartName="/ppt/media/hdphoto1.wdp" ContentType="image/vnd.ms-photo"/>
  <Override PartName="/ppt/media/image8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10.png" ContentType="image/png"/>
  <Override PartName="/ppt/media/image7.gif" ContentType="image/gif"/>
  <Override PartName="/ppt/media/image9.png" ContentType="image/png"/>
  <Override PartName="/ppt/media/hdphoto2.wdp" ContentType="image/vnd.ms-photo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B99F-284B-48A2-A23F-8E6B65699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24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77640"/>
            <a:ext cx="822924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872D-C5B9-40CA-8A9F-4F8A32569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2B6423-6D2D-45CE-B8C3-38726AB1E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F307B7-B037-478F-BBCB-330F38D03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548640"/>
            <a:ext cx="82292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D68D0E-31DE-43F9-BF4E-34CBD6EC7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DD5E84-CB62-431D-9D9C-1BF3B1F2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A08DC1-99E3-44B9-8C13-678E42E8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822924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B2BAC1-0FA2-48B8-B0A5-0C72DAE9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24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3977640"/>
            <a:ext cx="822924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0E0A84-6E95-4C54-961F-0A21F5CFD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E503C3-443D-4A6E-A153-55CA6ACAE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3977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3977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3977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0D3EE0-7EBC-44AB-A09F-202854D47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4046-1112-4F9B-A2B7-F17A6FA55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77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77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77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0353-C7BF-43CB-A11C-C56698EC6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AA966-DD63-4454-845F-95FDCAC91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24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0EA99-25B6-4231-B4DA-3E667A449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24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B236A-C327-46A2-B995-9A10A3DEE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6BA24-FB59-4A13-A1AF-A9E85CCD8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9D1B3-E028-44F3-BAD8-8B1F5EA69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548640"/>
            <a:ext cx="82292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15402-AA60-4A06-8DF6-7310C15C7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AFD9B-56E3-427E-B367-CB043EA3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24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2E50-1172-44D8-9B14-5DB051584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7D1CC-402C-4A64-A888-EBFCADDB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822924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C5386-0329-40BA-B3DE-2B83DCF0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24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77640"/>
            <a:ext cx="822924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D1A70-7C70-4824-985F-508801ECF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419AD-A8B0-4FA9-AFA2-7E2FFA4D7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77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77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77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CB892-A7D2-48B6-9D14-A9295AFB2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75E0A-AC0C-4674-98B4-9BF998FCA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24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057BF-D978-4908-961E-270C09366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24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5B79C-1632-4B0D-83A1-0F91E197A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5D832-44DD-4FDE-A7FC-CBC382A00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04257-F3DF-4E5E-B000-8C20C7CF8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24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5084-047A-4B88-A6DB-59DE81D36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548640"/>
            <a:ext cx="82292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BB317-AE23-4DB5-B7D1-0DA5B37BD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7A1A2-9953-4499-A7A6-32470DAA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D4C7D-F850-43CF-BEF1-7DB3E972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822924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1C276-A0ED-478F-B00C-FD08CCB9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24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77640"/>
            <a:ext cx="822924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C50D7-19D7-4697-ABB6-DA1CE2E63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82AE5-97FF-44A8-AAE5-9FD98F8E8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77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77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77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897D6-BC64-49B9-8812-B8E70AE5B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1619A-802F-4BDB-95D9-00BDFFAAC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24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8CE0E-16AC-4699-A5B8-43628E1DE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24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C54A4-6296-4E78-831B-3B7B0BA32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E36F-F0A7-4A2E-AB77-AE88FED4C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8B58A-DB6A-4B10-8DAA-F3533B66B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4DFC2-A44E-4093-AA87-909277649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7200" y="548640"/>
            <a:ext cx="82292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74853-996F-4336-9696-4F9A36B1C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500D9-951C-4B2B-8EE7-724E2B49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BA465-C232-4E74-BA9C-24657373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822924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48BD2-5A6E-4A47-9ADB-63C2A7CA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24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3977640"/>
            <a:ext cx="822924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2DC94-FAF6-4C4C-88F6-51D6AB632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EB8CD-1462-4CEE-917C-5718EEC40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3977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3977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3977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169F6-A373-4FB2-8DA5-A59209A9E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ACA17-2499-4EED-BCCD-65F3C8046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D6D9-835D-4494-992B-5397A900D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24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3B571-D184-4C79-8F9F-D0CB865F6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24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0ED77C-BDF0-4BFC-A6F4-44AB37003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AE66D-9DF5-4E54-AB39-D5307010D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4EFBA-41AA-494A-983B-76309CD36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548640"/>
            <a:ext cx="82292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58D11-9557-43EC-A147-D028CC9C3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D78B8-A6BF-4B73-B02C-22995D81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03556-6DD2-4570-9B45-CC001264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822924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737E5-7A54-49A9-AE2F-C2BD390A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24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977640"/>
            <a:ext cx="822924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F2826-C908-4565-84D2-4D1BB95BA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30A61-FA6F-49EE-BC2F-2EB098078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48640"/>
            <a:ext cx="82292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8805-A830-460B-8161-33B67616B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977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977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977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3E9A5-9876-41D1-8C74-0499E0608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635E59-EA06-4CD2-8A8D-B7ED91347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24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899A4-4F74-46C0-8172-DCC918C53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24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079AB-425F-4A25-8D9A-5349ED855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01023-4A52-4D12-B80A-1A9710FCC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B468F-FAEF-4A30-BC49-C05CB050C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548640"/>
            <a:ext cx="82292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6DAB5-8761-4638-956F-4A2D5EEE1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83644-F2D5-4569-9453-A4A3974E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951BEC-CF70-4122-A748-5343E58E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822924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AD552-42D8-4221-8D5F-DBC26DBC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F4D0-4792-48D6-8793-03EEC64E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24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977640"/>
            <a:ext cx="822924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9FE3C2-4DF2-4AA5-8C0A-07BFC60F4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8A292E-EF77-4A83-8DCA-7057FC9E8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977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977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977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CA5553-95F7-4300-8FED-A5D91BA5B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6A282-D7B1-42A4-A035-085E2E1B6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24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112F9-108E-47F3-AB84-80F47AA59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24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CA601-5668-41A2-BEC6-3C96CB6AC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968AB0-B8CF-40A7-9871-B582919DB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E67A7E-4EB2-4F96-A38D-0888CDC86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548640"/>
            <a:ext cx="82292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B21766-ED2B-45E6-86DF-763150F23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F65707-6353-40C9-AC4B-D456636D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142E-46C5-43E2-98B0-02F82F51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5EE7F-16CB-463E-838A-B7D49F49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822924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D4DBD-CA7A-495E-A4B2-2D7529F8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24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977640"/>
            <a:ext cx="822924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5DD19A-1FB7-411C-BE8E-39B0453AB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CA3431-C83A-4B24-B0A4-6178133AA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977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977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977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FBB119-C2AA-4444-BC15-EC20A80B3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D1B780-4CF3-40DE-9E78-3A760E613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24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23455E-9989-4A03-9CB6-C5F4E456D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24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806EE4-4B3F-48E0-BD83-ACC3ED7F3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48ED26-C9B5-41CA-BFDB-6C213439F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50D58A-4954-48C2-B513-625C245B8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822924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00AF-ACF6-4F5A-9C65-EB63471F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548640"/>
            <a:ext cx="82292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4D5AC-07A7-4408-AF79-ACB42C7BB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6800B0-9484-49AA-98D6-A4AFB365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F56BD3-1F99-4534-A834-EFAD2744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822924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BC8168-D936-457B-B14C-08BF0E5B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24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977640"/>
            <a:ext cx="822924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AC0BF3-AE7F-4126-BDF4-043DBE8F0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10FE60-44D2-4A0D-B572-C73990E74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977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977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977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7819E8-045D-4515-AE43-FC0B21041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70A31E-DCAF-44BE-85EA-E37B7DE33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24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DE9106-6FA8-4825-BDF5-85B496649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24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3B820E-00D1-476D-AA00-DD81480F1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microsoft.com/office/2007/relationships/hdphoto" Target="../media/hdphoto1.wdp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7.gi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microsoft.com/office/2007/relationships/hdphoto" Target="../media/hdphoto2.wdp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85.xml"/><Relationship Id="rId9" Type="http://schemas.openxmlformats.org/officeDocument/2006/relationships/slideLayout" Target="../slideLayouts/slideLayout86.xml"/><Relationship Id="rId10" Type="http://schemas.openxmlformats.org/officeDocument/2006/relationships/slideLayout" Target="../slideLayouts/slideLayout87.xml"/><Relationship Id="rId11" Type="http://schemas.openxmlformats.org/officeDocument/2006/relationships/slideLayout" Target="../slideLayouts/slideLayout88.xml"/><Relationship Id="rId12" Type="http://schemas.openxmlformats.org/officeDocument/2006/relationships/slideLayout" Target="../slideLayouts/slideLayout89.xml"/><Relationship Id="rId13" Type="http://schemas.openxmlformats.org/officeDocument/2006/relationships/slideLayout" Target="../slideLayouts/slideLayout90.xml"/><Relationship Id="rId14" Type="http://schemas.openxmlformats.org/officeDocument/2006/relationships/slideLayout" Target="../slideLayouts/slideLayout91.xml"/><Relationship Id="rId15" Type="http://schemas.openxmlformats.org/officeDocument/2006/relationships/slideLayout" Target="../slideLayouts/slideLayout92.xml"/><Relationship Id="rId16" Type="http://schemas.openxmlformats.org/officeDocument/2006/relationships/slideLayout" Target="../slideLayouts/slideLayout93.xml"/><Relationship Id="rId17" Type="http://schemas.openxmlformats.org/officeDocument/2006/relationships/slideLayout" Target="../slideLayouts/slideLayout94.xml"/><Relationship Id="rId18" Type="http://schemas.openxmlformats.org/officeDocument/2006/relationships/slideLayout" Target="../slideLayouts/slideLayout95.xml"/><Relationship Id="rId19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2.png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brightnessContrast bright="20000" colorTemp="5300" contrast="2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0" y="0"/>
            <a:ext cx="9143640" cy="4111200"/>
          </a:xfrm>
          <a:prstGeom prst="rect">
            <a:avLst/>
          </a:prstGeom>
          <a:ln w="0">
            <a:noFill/>
          </a:ln>
        </p:spPr>
      </p:pic>
      <p:sp>
        <p:nvSpPr>
          <p:cNvPr id="1" name="矩形 7"/>
          <p:cNvSpPr/>
          <p:nvPr/>
        </p:nvSpPr>
        <p:spPr>
          <a:xfrm>
            <a:off x="0" y="0"/>
            <a:ext cx="9143640" cy="4940640"/>
          </a:xfrm>
          <a:prstGeom prst="rect">
            <a:avLst/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2" name="矩形 8"/>
          <p:cNvSpPr/>
          <p:nvPr/>
        </p:nvSpPr>
        <p:spPr>
          <a:xfrm>
            <a:off x="0" y="0"/>
            <a:ext cx="9143640" cy="6237000"/>
          </a:xfrm>
          <a:prstGeom prst="rect">
            <a:avLst/>
          </a:prstGeom>
          <a:gradFill rotWithShape="0">
            <a:gsLst>
              <a:gs pos="41000">
                <a:srgbClr val="ffffff"/>
              </a:gs>
              <a:gs pos="100000">
                <a:srgbClr val="ffffff">
                  <a:alpha val="70196"/>
                </a:srgbClr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pic>
        <p:nvPicPr>
          <p:cNvPr id="3" name="图片 7" descr=""/>
          <p:cNvPicPr/>
          <p:nvPr/>
        </p:nvPicPr>
        <p:blipFill>
          <a:blip r:embed="rId4"/>
          <a:stretch/>
        </p:blipFill>
        <p:spPr>
          <a:xfrm>
            <a:off x="0" y="0"/>
            <a:ext cx="9143640" cy="44953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3" descr=""/>
          <p:cNvPicPr/>
          <p:nvPr/>
        </p:nvPicPr>
        <p:blipFill>
          <a:blip r:embed="rId5"/>
          <a:stretch/>
        </p:blipFill>
        <p:spPr>
          <a:xfrm>
            <a:off x="0" y="4254480"/>
            <a:ext cx="9143640" cy="2603160"/>
          </a:xfrm>
          <a:prstGeom prst="rect">
            <a:avLst/>
          </a:prstGeom>
          <a:ln w="0">
            <a:noFill/>
          </a:ln>
        </p:spPr>
      </p:pic>
      <p:sp>
        <p:nvSpPr>
          <p:cNvPr id="5" name="矩形 6"/>
          <p:cNvSpPr/>
          <p:nvPr/>
        </p:nvSpPr>
        <p:spPr>
          <a:xfrm>
            <a:off x="0" y="4221000"/>
            <a:ext cx="9143640" cy="7164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  <a:scene3d>
            <a:camera prst="orthographicFront"/>
            <a:lightRig dir="t" rig="threePt"/>
          </a:scene3d>
          <a:sp3d>
            <a:bevelT prst="cross" w="139700"/>
          </a:sp3d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27000" bIns="27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2130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zh-CN" sz="3600" spc="49" strike="noStrike">
                <a:solidFill>
                  <a:srgbClr val="fdfbfc">
                    <a:alpha val="95000"/>
                  </a:srgbClr>
                </a:solidFill>
                <a:latin typeface="Impact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CFF5591-5F97-40C3-AE61-78390A037C05}" type="slidenum"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brightnessContrast bright="20000" colorTemp="5300" contrast="2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0" y="0"/>
            <a:ext cx="9143640" cy="4111200"/>
          </a:xfrm>
          <a:prstGeom prst="rect">
            <a:avLst/>
          </a:prstGeom>
          <a:ln w="0">
            <a:noFill/>
          </a:ln>
        </p:spPr>
      </p:pic>
      <p:sp>
        <p:nvSpPr>
          <p:cNvPr id="48" name="矩形 7"/>
          <p:cNvSpPr/>
          <p:nvPr/>
        </p:nvSpPr>
        <p:spPr>
          <a:xfrm>
            <a:off x="0" y="0"/>
            <a:ext cx="9143640" cy="4940640"/>
          </a:xfrm>
          <a:prstGeom prst="rect">
            <a:avLst/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49" name="矩形 8"/>
          <p:cNvSpPr/>
          <p:nvPr/>
        </p:nvSpPr>
        <p:spPr>
          <a:xfrm>
            <a:off x="0" y="0"/>
            <a:ext cx="9143640" cy="6237000"/>
          </a:xfrm>
          <a:prstGeom prst="rect">
            <a:avLst/>
          </a:prstGeom>
          <a:gradFill rotWithShape="0">
            <a:gsLst>
              <a:gs pos="41000">
                <a:srgbClr val="ffffff"/>
              </a:gs>
              <a:gs pos="100000">
                <a:srgbClr val="ffffff">
                  <a:alpha val="70196"/>
                </a:srgbClr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grpSp>
        <p:nvGrpSpPr>
          <p:cNvPr id="50" name="组合 10"/>
          <p:cNvGrpSpPr/>
          <p:nvPr/>
        </p:nvGrpSpPr>
        <p:grpSpPr>
          <a:xfrm>
            <a:off x="0" y="0"/>
            <a:ext cx="9148320" cy="6857640"/>
            <a:chOff x="0" y="0"/>
            <a:chExt cx="9148320" cy="6857640"/>
          </a:xfrm>
        </p:grpSpPr>
        <p:pic>
          <p:nvPicPr>
            <p:cNvPr id="51" name="图片 9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571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图片 8" descr=""/>
            <p:cNvPicPr/>
            <p:nvPr/>
          </p:nvPicPr>
          <p:blipFill>
            <a:blip r:embed="rId4"/>
            <a:stretch/>
          </p:blipFill>
          <p:spPr>
            <a:xfrm>
              <a:off x="5400" y="3069000"/>
              <a:ext cx="9142920" cy="378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18536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zh-CN" sz="3600" spc="148" strike="noStrike">
                <a:solidFill>
                  <a:srgbClr val="f8f8f8"/>
                </a:solidFill>
                <a:latin typeface="Impact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1B4965C-D654-41DE-B67B-CC5DA7919B1B}" type="slidenum"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brightnessContrast bright="20000" colorTemp="5300" contrast="2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0" y="0"/>
            <a:ext cx="9143640" cy="4111200"/>
          </a:xfrm>
          <a:prstGeom prst="rect">
            <a:avLst/>
          </a:prstGeom>
          <a:ln w="0">
            <a:noFill/>
          </a:ln>
        </p:spPr>
      </p:pic>
      <p:sp>
        <p:nvSpPr>
          <p:cNvPr id="95" name="矩形 7" hidden="1"/>
          <p:cNvSpPr/>
          <p:nvPr/>
        </p:nvSpPr>
        <p:spPr>
          <a:xfrm>
            <a:off x="0" y="0"/>
            <a:ext cx="9143640" cy="4940640"/>
          </a:xfrm>
          <a:prstGeom prst="rect">
            <a:avLst/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96" name="矩形 8" hidden="1"/>
          <p:cNvSpPr/>
          <p:nvPr/>
        </p:nvSpPr>
        <p:spPr>
          <a:xfrm>
            <a:off x="0" y="0"/>
            <a:ext cx="9143640" cy="6237000"/>
          </a:xfrm>
          <a:prstGeom prst="rect">
            <a:avLst/>
          </a:prstGeom>
          <a:gradFill rotWithShape="0">
            <a:gsLst>
              <a:gs pos="41000">
                <a:srgbClr val="ffffff"/>
              </a:gs>
              <a:gs pos="100000">
                <a:srgbClr val="ffffff">
                  <a:alpha val="70196"/>
                </a:srgbClr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pic>
        <p:nvPicPr>
          <p:cNvPr id="97" name="图片 9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5432400"/>
          </a:xfrm>
          <a:prstGeom prst="rect">
            <a:avLst/>
          </a:prstGeom>
          <a:ln w="0">
            <a:noFill/>
          </a:ln>
        </p:spPr>
      </p:pic>
      <p:sp>
        <p:nvSpPr>
          <p:cNvPr id="98" name="矩形 10"/>
          <p:cNvSpPr/>
          <p:nvPr/>
        </p:nvSpPr>
        <p:spPr>
          <a:xfrm>
            <a:off x="0" y="0"/>
            <a:ext cx="9143640" cy="5432400"/>
          </a:xfrm>
          <a:prstGeom prst="rect">
            <a:avLst/>
          </a:prstGeom>
          <a:gradFill rotWithShape="0">
            <a:gsLst>
              <a:gs pos="51000">
                <a:srgbClr val="000000">
                  <a:alpha val="0"/>
                </a:srgbClr>
              </a:gs>
              <a:gs pos="100000">
                <a:srgbClr val="ffffff">
                  <a:alpha val="90196"/>
                </a:srgbClr>
              </a:gs>
            </a:gsLst>
            <a:lin ang="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99" name="矩形 1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>
                  <a:alpha val="0"/>
                </a:srgbClr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22100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chemeClr val="accent2"/>
                </a:solidFill>
                <a:latin typeface="Impact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E29685F-8BA2-4958-B934-5F26F35E24E6}" type="slidenum"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brightnessContrast bright="20000" colorTemp="5300" contrast="2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0" y="0"/>
            <a:ext cx="9143640" cy="4111200"/>
          </a:xfrm>
          <a:prstGeom prst="rect">
            <a:avLst/>
          </a:prstGeom>
          <a:ln w="0">
            <a:noFill/>
          </a:ln>
        </p:spPr>
      </p:pic>
      <p:sp>
        <p:nvSpPr>
          <p:cNvPr id="142" name="矩形 7" hidden="1"/>
          <p:cNvSpPr/>
          <p:nvPr/>
        </p:nvSpPr>
        <p:spPr>
          <a:xfrm>
            <a:off x="0" y="0"/>
            <a:ext cx="9143640" cy="4940640"/>
          </a:xfrm>
          <a:prstGeom prst="rect">
            <a:avLst/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143" name="矩形 8" hidden="1"/>
          <p:cNvSpPr/>
          <p:nvPr/>
        </p:nvSpPr>
        <p:spPr>
          <a:xfrm>
            <a:off x="0" y="0"/>
            <a:ext cx="9143640" cy="6237000"/>
          </a:xfrm>
          <a:prstGeom prst="rect">
            <a:avLst/>
          </a:prstGeom>
          <a:gradFill rotWithShape="0">
            <a:gsLst>
              <a:gs pos="41000">
                <a:srgbClr val="ffffff"/>
              </a:gs>
              <a:gs pos="100000">
                <a:srgbClr val="ffffff">
                  <a:alpha val="70196"/>
                </a:srgbClr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pic>
        <p:nvPicPr>
          <p:cNvPr id="144" name="图片 9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5432400"/>
          </a:xfrm>
          <a:prstGeom prst="rect">
            <a:avLst/>
          </a:prstGeom>
          <a:ln w="0">
            <a:noFill/>
          </a:ln>
        </p:spPr>
      </p:pic>
      <p:sp>
        <p:nvSpPr>
          <p:cNvPr id="145" name="矩形 10"/>
          <p:cNvSpPr/>
          <p:nvPr/>
        </p:nvSpPr>
        <p:spPr>
          <a:xfrm>
            <a:off x="0" y="0"/>
            <a:ext cx="9143640" cy="5432400"/>
          </a:xfrm>
          <a:prstGeom prst="rect">
            <a:avLst/>
          </a:prstGeom>
          <a:gradFill rotWithShape="0">
            <a:gsLst>
              <a:gs pos="51000">
                <a:srgbClr val="000000">
                  <a:alpha val="0"/>
                </a:srgbClr>
              </a:gs>
              <a:gs pos="100000">
                <a:srgbClr val="ffffff">
                  <a:alpha val="90196"/>
                </a:srgbClr>
              </a:gs>
            </a:gsLst>
            <a:lin ang="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146" name="矩形 1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>
                  <a:alpha val="0"/>
                </a:srgbClr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147" name="矩形 6"/>
          <p:cNvSpPr/>
          <p:nvPr/>
        </p:nvSpPr>
        <p:spPr>
          <a:xfrm>
            <a:off x="0" y="4293000"/>
            <a:ext cx="9143640" cy="2564640"/>
          </a:xfrm>
          <a:prstGeom prst="rect">
            <a:avLst/>
          </a:prstGeom>
          <a:solidFill>
            <a:srgbClr val="ffffff">
              <a:alpha val="3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148" name="矩形 12"/>
          <p:cNvSpPr/>
          <p:nvPr/>
        </p:nvSpPr>
        <p:spPr>
          <a:xfrm>
            <a:off x="0" y="4221000"/>
            <a:ext cx="9143640" cy="7164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  <a:scene3d>
            <a:camera prst="orthographicFront"/>
            <a:lightRig dir="t" rig="threePt"/>
          </a:scene3d>
          <a:sp3d>
            <a:bevelT prst="cross" w="139700"/>
          </a:sp3d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27000" bIns="27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420984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ecdbf1"/>
                </a:solidFill>
                <a:latin typeface="Impact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A0304B1-32AF-4458-8F84-FF57C004D039}" type="slidenum"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brightnessContrast bright="20000" colorTemp="5300" contrast="2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0" y="0"/>
            <a:ext cx="9143640" cy="4111200"/>
          </a:xfrm>
          <a:prstGeom prst="rect">
            <a:avLst/>
          </a:prstGeom>
          <a:ln w="0">
            <a:noFill/>
          </a:ln>
        </p:spPr>
      </p:pic>
      <p:sp>
        <p:nvSpPr>
          <p:cNvPr id="191" name="矩形 7"/>
          <p:cNvSpPr/>
          <p:nvPr/>
        </p:nvSpPr>
        <p:spPr>
          <a:xfrm>
            <a:off x="0" y="0"/>
            <a:ext cx="9143640" cy="4940640"/>
          </a:xfrm>
          <a:prstGeom prst="rect">
            <a:avLst/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192" name="矩形 8"/>
          <p:cNvSpPr/>
          <p:nvPr/>
        </p:nvSpPr>
        <p:spPr>
          <a:xfrm>
            <a:off x="0" y="0"/>
            <a:ext cx="9143640" cy="6237000"/>
          </a:xfrm>
          <a:prstGeom prst="rect">
            <a:avLst/>
          </a:prstGeom>
          <a:gradFill rotWithShape="0">
            <a:gsLst>
              <a:gs pos="41000">
                <a:srgbClr val="ffffff"/>
              </a:gs>
              <a:gs pos="100000">
                <a:srgbClr val="ffffff">
                  <a:alpha val="70196"/>
                </a:srgbClr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58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ecdbf1"/>
                </a:solidFill>
                <a:latin typeface="Impact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229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17"/>
              <a:buBlip>
                <a:blip r:embed="rId3"/>
              </a:buBlip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击此处编辑母版文本样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第二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第三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第四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第五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5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1AE03A5-B26A-49B3-A104-2A9F28B4DF1D}" type="slidenum"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brightnessContrast bright="20000" colorTemp="5300" contrast="2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0" y="0"/>
            <a:ext cx="9143640" cy="4111200"/>
          </a:xfrm>
          <a:prstGeom prst="rect">
            <a:avLst/>
          </a:prstGeom>
          <a:ln w="0">
            <a:noFill/>
          </a:ln>
        </p:spPr>
      </p:pic>
      <p:sp>
        <p:nvSpPr>
          <p:cNvPr id="235" name="矩形 7"/>
          <p:cNvSpPr/>
          <p:nvPr/>
        </p:nvSpPr>
        <p:spPr>
          <a:xfrm>
            <a:off x="0" y="0"/>
            <a:ext cx="9143640" cy="4940640"/>
          </a:xfrm>
          <a:prstGeom prst="rect">
            <a:avLst/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236" name="矩形 8"/>
          <p:cNvSpPr/>
          <p:nvPr/>
        </p:nvSpPr>
        <p:spPr>
          <a:xfrm>
            <a:off x="0" y="0"/>
            <a:ext cx="9143640" cy="6237000"/>
          </a:xfrm>
          <a:prstGeom prst="rect">
            <a:avLst/>
          </a:prstGeom>
          <a:gradFill rotWithShape="0">
            <a:gsLst>
              <a:gs pos="41000">
                <a:srgbClr val="ffffff"/>
              </a:gs>
              <a:gs pos="100000">
                <a:srgbClr val="ffffff">
                  <a:alpha val="70196"/>
                </a:srgbClr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pic>
        <p:nvPicPr>
          <p:cNvPr id="237" name="Picture 3" descr=""/>
          <p:cNvPicPr/>
          <p:nvPr/>
        </p:nvPicPr>
        <p:blipFill>
          <a:blip r:embed="rId3"/>
          <a:stretch/>
        </p:blipFill>
        <p:spPr>
          <a:xfrm>
            <a:off x="4320" y="0"/>
            <a:ext cx="9143640" cy="836280"/>
          </a:xfrm>
          <a:prstGeom prst="rect">
            <a:avLst/>
          </a:prstGeom>
          <a:ln w="0">
            <a:noFill/>
          </a:ln>
        </p:spPr>
      </p:pic>
      <p:sp>
        <p:nvSpPr>
          <p:cNvPr id="238" name="矩形 7"/>
          <p:cNvSpPr/>
          <p:nvPr/>
        </p:nvSpPr>
        <p:spPr>
          <a:xfrm>
            <a:off x="0" y="838800"/>
            <a:ext cx="9143640" cy="7164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  <a:scene3d>
            <a:camera prst="orthographicFront"/>
            <a:lightRig dir="t" rig="threePt"/>
          </a:scene3d>
          <a:sp3d>
            <a:bevelT prst="cross" w="139700"/>
          </a:sp3d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27000" bIns="27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8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Impact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229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17"/>
              <a:buBlip>
                <a:blip r:embed="rId4"/>
              </a:buBlip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击此处编辑母版文本样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第二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第三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第四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第五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4B4FFBD-C3A5-4C36-B69F-F72952101DEE}" type="slidenum"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brightnessContrast bright="20000" colorTemp="5300" contrast="2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0" y="0"/>
            <a:ext cx="9143640" cy="4111200"/>
          </a:xfrm>
          <a:prstGeom prst="rect">
            <a:avLst/>
          </a:prstGeom>
          <a:ln w="0">
            <a:noFill/>
          </a:ln>
        </p:spPr>
      </p:pic>
      <p:sp>
        <p:nvSpPr>
          <p:cNvPr id="281" name="矩形 7" hidden="1"/>
          <p:cNvSpPr/>
          <p:nvPr/>
        </p:nvSpPr>
        <p:spPr>
          <a:xfrm>
            <a:off x="0" y="0"/>
            <a:ext cx="9143640" cy="4940640"/>
          </a:xfrm>
          <a:prstGeom prst="rect">
            <a:avLst/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282" name="矩形 8" hidden="1"/>
          <p:cNvSpPr/>
          <p:nvPr/>
        </p:nvSpPr>
        <p:spPr>
          <a:xfrm>
            <a:off x="0" y="0"/>
            <a:ext cx="9143640" cy="6237000"/>
          </a:xfrm>
          <a:prstGeom prst="rect">
            <a:avLst/>
          </a:prstGeom>
          <a:gradFill rotWithShape="0">
            <a:gsLst>
              <a:gs pos="41000">
                <a:srgbClr val="ffffff"/>
              </a:gs>
              <a:gs pos="100000">
                <a:srgbClr val="ffffff">
                  <a:alpha val="70196"/>
                </a:srgbClr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457200" y="1196640"/>
            <a:ext cx="8229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17"/>
              <a:buBlip>
                <a:blip r:embed="rId3"/>
              </a:buBlip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击此处编辑母版文本样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第二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第三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第四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第五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dt" idx="19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sldNum" idx="21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A6C69ED-62AB-4806-906D-6882C0DB3D7A}" type="slidenum"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Picture 3" descr=""/>
          <p:cNvPicPr/>
          <p:nvPr/>
        </p:nvPicPr>
        <p:blipFill>
          <a:blip r:embed="rId4"/>
          <a:stretch/>
        </p:blipFill>
        <p:spPr>
          <a:xfrm>
            <a:off x="4320" y="0"/>
            <a:ext cx="9143640" cy="836280"/>
          </a:xfrm>
          <a:prstGeom prst="rect">
            <a:avLst/>
          </a:prstGeom>
          <a:ln w="0">
            <a:noFill/>
          </a:ln>
        </p:spPr>
      </p:pic>
      <p:sp>
        <p:nvSpPr>
          <p:cNvPr id="288" name="矩形 7"/>
          <p:cNvSpPr/>
          <p:nvPr/>
        </p:nvSpPr>
        <p:spPr>
          <a:xfrm>
            <a:off x="0" y="838800"/>
            <a:ext cx="9143640" cy="7164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  <a:scene3d>
            <a:camera prst="orthographicFront"/>
            <a:lightRig dir="t" rig="threePt"/>
          </a:scene3d>
          <a:sp3d>
            <a:bevelT prst="cross" w="139700"/>
          </a:sp3d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27000" bIns="27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title"/>
          </p:nvPr>
        </p:nvSpPr>
        <p:spPr>
          <a:xfrm>
            <a:off x="457200" y="58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Impact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brightnessContrast bright="20000" colorTemp="5300" contrast="2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0" y="0"/>
            <a:ext cx="9143640" cy="4111200"/>
          </a:xfrm>
          <a:prstGeom prst="rect">
            <a:avLst/>
          </a:prstGeom>
          <a:ln w="0">
            <a:noFill/>
          </a:ln>
        </p:spPr>
      </p:pic>
      <p:sp>
        <p:nvSpPr>
          <p:cNvPr id="327" name="矩形 7" hidden="1"/>
          <p:cNvSpPr/>
          <p:nvPr/>
        </p:nvSpPr>
        <p:spPr>
          <a:xfrm>
            <a:off x="0" y="0"/>
            <a:ext cx="9143640" cy="4940640"/>
          </a:xfrm>
          <a:prstGeom prst="rect">
            <a:avLst/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328" name="矩形 8" hidden="1"/>
          <p:cNvSpPr/>
          <p:nvPr/>
        </p:nvSpPr>
        <p:spPr>
          <a:xfrm>
            <a:off x="0" y="0"/>
            <a:ext cx="9143640" cy="6237000"/>
          </a:xfrm>
          <a:prstGeom prst="rect">
            <a:avLst/>
          </a:prstGeom>
          <a:gradFill rotWithShape="0">
            <a:gsLst>
              <a:gs pos="41000">
                <a:srgbClr val="ffffff"/>
              </a:gs>
              <a:gs pos="100000">
                <a:srgbClr val="ffffff">
                  <a:alpha val="70196"/>
                </a:srgbClr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329" name="矩形 7"/>
          <p:cNvSpPr/>
          <p:nvPr/>
        </p:nvSpPr>
        <p:spPr>
          <a:xfrm>
            <a:off x="0" y="838800"/>
            <a:ext cx="9143640" cy="7164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  <a:scene3d>
            <a:camera prst="orthographicFront"/>
            <a:lightRig dir="t" rig="threePt"/>
          </a:scene3d>
          <a:sp3d>
            <a:bevelT prst="cross" w="139700"/>
          </a:sp3d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27000" bIns="27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Times New Roman"/>
            </a:endParaRPr>
          </a:p>
        </p:txBody>
      </p:sp>
      <p:pic>
        <p:nvPicPr>
          <p:cNvPr id="330" name="Picture 2" descr=""/>
          <p:cNvPicPr/>
          <p:nvPr/>
        </p:nvPicPr>
        <p:blipFill>
          <a:blip r:embed="rId3">
            <a:extLst>
              <a:ext uri="{BEBA8EAE-BF5A-486C-A8C5-ECC9F3942E4B}">
                <a14:imgProps xmlns:a14="http://schemas.microsoft.com/office/drawing/2010/main">
                  <a14:imgLayer r:embed="rId4">
                    <a14:imgEffect>
                      <a14:brightnessContrast contrast="2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0" y="0"/>
            <a:ext cx="2339280" cy="8362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3" descr=""/>
          <p:cNvPicPr/>
          <p:nvPr/>
        </p:nvPicPr>
        <p:blipFill>
          <a:blip r:embed="rId5"/>
          <a:stretch/>
        </p:blipFill>
        <p:spPr>
          <a:xfrm rot="16200000">
            <a:off x="1381680" y="-1381320"/>
            <a:ext cx="836280" cy="36000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3" descr=""/>
          <p:cNvPicPr/>
          <p:nvPr/>
        </p:nvPicPr>
        <p:blipFill>
          <a:blip r:embed="rId6"/>
          <a:stretch/>
        </p:blipFill>
        <p:spPr>
          <a:xfrm>
            <a:off x="3499200" y="0"/>
            <a:ext cx="5648760" cy="83628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58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Impact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229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17"/>
              <a:buBlip>
                <a:blip r:embed="rId7"/>
              </a:buBlip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击此处编辑母版文本样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第二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第三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第四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第五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2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095BA5F-0F98-4359-8037-D5412F3AC880}" type="slidenum"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8"/>
    <p:sldLayoutId id="2147483741" r:id="rId9"/>
    <p:sldLayoutId id="2147483742" r:id="rId10"/>
    <p:sldLayoutId id="2147483743" r:id="rId11"/>
    <p:sldLayoutId id="2147483744" r:id="rId12"/>
    <p:sldLayoutId id="2147483745" r:id="rId13"/>
    <p:sldLayoutId id="2147483746" r:id="rId14"/>
    <p:sldLayoutId id="2147483747" r:id="rId15"/>
    <p:sldLayoutId id="2147483748" r:id="rId16"/>
    <p:sldLayoutId id="2147483749" r:id="rId17"/>
    <p:sldLayoutId id="2147483750" r:id="rId18"/>
    <p:sldLayoutId id="2147483751" r:id="rId19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brightnessContrast bright="20000" colorTemp="5300" contrast="2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0" y="0"/>
            <a:ext cx="9143640" cy="4111200"/>
          </a:xfrm>
          <a:prstGeom prst="rect">
            <a:avLst/>
          </a:prstGeom>
          <a:ln w="0">
            <a:noFill/>
          </a:ln>
        </p:spPr>
      </p:pic>
      <p:sp>
        <p:nvSpPr>
          <p:cNvPr id="375" name="矩形 7" hidden="1"/>
          <p:cNvSpPr/>
          <p:nvPr/>
        </p:nvSpPr>
        <p:spPr>
          <a:xfrm>
            <a:off x="0" y="0"/>
            <a:ext cx="9143640" cy="4940640"/>
          </a:xfrm>
          <a:prstGeom prst="rect">
            <a:avLst/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376" name="矩形 8" hidden="1"/>
          <p:cNvSpPr/>
          <p:nvPr/>
        </p:nvSpPr>
        <p:spPr>
          <a:xfrm>
            <a:off x="0" y="0"/>
            <a:ext cx="9143640" cy="6237000"/>
          </a:xfrm>
          <a:prstGeom prst="rect">
            <a:avLst/>
          </a:prstGeom>
          <a:gradFill rotWithShape="0">
            <a:gsLst>
              <a:gs pos="41000">
                <a:srgbClr val="ffffff"/>
              </a:gs>
              <a:gs pos="100000">
                <a:srgbClr val="ffffff">
                  <a:alpha val="70196"/>
                </a:srgbClr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3"/>
          <a:stretch/>
        </p:blipFill>
        <p:spPr>
          <a:xfrm>
            <a:off x="-3240" y="3240"/>
            <a:ext cx="9150120" cy="6857640"/>
          </a:xfrm>
          <a:prstGeom prst="rect">
            <a:avLst/>
          </a:prstGeom>
          <a:ln w="0">
            <a:noFill/>
          </a:ln>
        </p:spPr>
      </p:pic>
      <p:sp>
        <p:nvSpPr>
          <p:cNvPr id="378" name="矩形 6"/>
          <p:cNvSpPr/>
          <p:nvPr/>
        </p:nvSpPr>
        <p:spPr>
          <a:xfrm>
            <a:off x="251640" y="260640"/>
            <a:ext cx="8640720" cy="6336360"/>
          </a:xfrm>
          <a:prstGeom prst="rect">
            <a:avLst/>
          </a:prstGeom>
          <a:solidFill>
            <a:srgbClr val="ffffff">
              <a:alpha val="85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000000"/>
                </a:solidFill>
                <a:latin typeface="Impact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2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17"/>
              <a:buBlip>
                <a:blip r:embed="rId4"/>
              </a:buBlip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击此处编辑母版文本样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第二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第三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第四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第五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5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27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61C12DB-2688-4C30-BF75-CBA2133D419E}" type="slidenum"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图文框 8"/>
          <p:cNvSpPr/>
          <p:nvPr/>
        </p:nvSpPr>
        <p:spPr>
          <a:xfrm>
            <a:off x="251640" y="260640"/>
            <a:ext cx="8640720" cy="6336360"/>
          </a:xfrm>
          <a:prstGeom prst="frame">
            <a:avLst>
              <a:gd name="adj1" fmla="val 1347"/>
            </a:avLst>
          </a:prstGeom>
          <a:solidFill>
            <a:srgbClr val="ffffff"/>
          </a:solidFill>
          <a:ln>
            <a:noFill/>
          </a:ln>
          <a:effectLst>
            <a:innerShdw blurRad="88900">
              <a:srgbClr val="000000"/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42130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49" strike="noStrike">
                <a:solidFill>
                  <a:srgbClr val="fdfbfc">
                    <a:alpha val="95000"/>
                  </a:srgbClr>
                </a:solidFill>
                <a:latin typeface="Impact"/>
              </a:rPr>
              <a:t>馨情玫瑰通用</a:t>
            </a:r>
            <a:r>
              <a:rPr b="1" lang="en-US" sz="4000" spc="49" strike="noStrike">
                <a:solidFill>
                  <a:srgbClr val="fdfbfc">
                    <a:alpha val="95000"/>
                  </a:srgbClr>
                </a:solidFill>
                <a:latin typeface="Impact"/>
              </a:rPr>
              <a:t>PPT</a:t>
            </a:r>
            <a:r>
              <a:rPr b="1" lang="zh-CN" sz="4000" spc="49" strike="noStrike">
                <a:solidFill>
                  <a:srgbClr val="fdfbfc">
                    <a:alpha val="95000"/>
                  </a:srgbClr>
                </a:solidFill>
                <a:latin typeface="Impact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矩形 4"/>
          <p:cNvSpPr/>
          <p:nvPr/>
        </p:nvSpPr>
        <p:spPr>
          <a:xfrm>
            <a:off x="6804360" y="9360"/>
            <a:ext cx="76176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683640" y="5733360"/>
            <a:ext cx="6400440" cy="60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/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418536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600" spc="148" strike="noStrike">
                <a:solidFill>
                  <a:srgbClr val="f8f8f8"/>
                </a:solidFill>
                <a:latin typeface="Impact"/>
              </a:rPr>
              <a:t>馨情玫瑰模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683640" y="5373360"/>
            <a:ext cx="6400440" cy="55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第一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模板网，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ww.1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422100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1" lang="en-US" sz="3600" spc="-1" strike="noStrike">
              <a:solidFill>
                <a:schemeClr val="accent2"/>
              </a:solidFill>
              <a:latin typeface="Impac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683640" y="5733360"/>
            <a:ext cx="6400440" cy="4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400" spc="-1" strike="noStrike">
              <a:solidFill>
                <a:srgbClr val="8b8b8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420984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1" lang="en-US" sz="3600" spc="-1" strike="noStrike">
              <a:solidFill>
                <a:srgbClr val="ecdbf1"/>
              </a:solidFill>
              <a:latin typeface="Impac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683640" y="5733360"/>
            <a:ext cx="6400440" cy="57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400" spc="-1" strike="noStrike">
              <a:solidFill>
                <a:srgbClr val="8b8b8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3"/>
          <p:cNvSpPr/>
          <p:nvPr/>
        </p:nvSpPr>
        <p:spPr>
          <a:xfrm>
            <a:off x="179640" y="652320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d0d0d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ffe06e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d0d0d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58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Impact"/>
              </a:rPr>
              <a:t>此处添加标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58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Impact"/>
              </a:rPr>
              <a:t>此处添加标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58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Impact"/>
              </a:rPr>
              <a:t>此处添加标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1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2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华丽">
      <a:dk1>
        <a:srgbClr val="000000"/>
      </a:dk1>
      <a:lt1>
        <a:srgbClr val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华丽">
      <a:dk1>
        <a:srgbClr val="000000"/>
      </a:dk1>
      <a:lt1>
        <a:srgbClr val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​​">
  <a:themeElements>
    <a:clrScheme name="华丽">
      <a:dk1>
        <a:srgbClr val="000000"/>
      </a:dk1>
      <a:lt1>
        <a:srgbClr val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主题​​">
  <a:themeElements>
    <a:clrScheme name="华丽">
      <a:dk1>
        <a:srgbClr val="000000"/>
      </a:dk1>
      <a:lt1>
        <a:srgbClr val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主题​​">
  <a:themeElements>
    <a:clrScheme name="华丽">
      <a:dk1>
        <a:srgbClr val="000000"/>
      </a:dk1>
      <a:lt1>
        <a:srgbClr val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主题​​">
  <a:themeElements>
    <a:clrScheme name="华丽">
      <a:dk1>
        <a:srgbClr val="000000"/>
      </a:dk1>
      <a:lt1>
        <a:srgbClr val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主题​​">
  <a:themeElements>
    <a:clrScheme name="华丽">
      <a:dk1>
        <a:srgbClr val="000000"/>
      </a:dk1>
      <a:lt1>
        <a:srgbClr val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主题​​">
  <a:themeElements>
    <a:clrScheme name="华丽">
      <a:dk1>
        <a:srgbClr val="000000"/>
      </a:dk1>
      <a:lt1>
        <a:srgbClr val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主题​​">
  <a:themeElements>
    <a:clrScheme name="华丽">
      <a:dk1>
        <a:srgbClr val="000000"/>
      </a:dk1>
      <a:lt1>
        <a:srgbClr val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  <Words>132</Words>
  <Paragraphs>17</Paragraphs>
  <Company>Sky123.Org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9T11:41:38Z</dcterms:created>
  <dc:creator>lenovo</dc:creator>
  <dc:description/>
  <dc:language>en-US</dc:language>
  <cp:lastModifiedBy>王玉清</cp:lastModifiedBy>
  <dcterms:modified xsi:type="dcterms:W3CDTF">2016-02-20T03:17:46Z</dcterms:modified>
  <cp:revision>1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9</vt:r8>
  </property>
</Properties>
</file>