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F15-1370-4819-9B44-C50E385B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7210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330360"/>
            <a:ext cx="7210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E21-A297-4B9C-BA4B-36FE2574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5188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ABB-DD05-49DA-992D-5C039CCC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95120" y="134424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3040" y="134424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33036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95120" y="333036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33040" y="333036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B8A-CADF-4258-8D08-BA067828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44240"/>
            <a:ext cx="721044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7210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231480"/>
            <a:ext cx="72104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44240"/>
            <a:ext cx="721044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798-A9E6-4A3F-AB12-6F1E8E21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5188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330360"/>
            <a:ext cx="7210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7210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330360"/>
            <a:ext cx="7210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5188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95120" y="134424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3040" y="134424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33036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95120" y="333036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33040" y="333036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49A0-B0D4-43B7-9525-D4DB26F0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344240"/>
            <a:ext cx="721044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7A5E-2F16-47F9-B0F2-AC7A33C9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7210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E208-EDCE-4743-8677-F9607D31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493A-076D-4608-904F-E25FABFD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A580-9545-4895-A850-B0564506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7210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8BF-0C61-44EB-B7AD-1961BBE7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31480"/>
            <a:ext cx="72104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22FF-9F9A-4E50-AB40-D74B8C06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9FB3-F582-4233-8EEE-06C66BA7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5188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27B9-3557-4528-B7DC-6530FD59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330360"/>
            <a:ext cx="7210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50FC-0790-450F-A276-F187188B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7210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330360"/>
            <a:ext cx="7210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040F-470C-4A7A-B49D-381EA777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5188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4E4E-6EDA-42ED-A2FB-1E01E374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95120" y="134424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3040" y="134424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33036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95120" y="333036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333040" y="3330360"/>
            <a:ext cx="2321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D0C0-8354-4D54-ADC5-271EA44D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D83-9C66-4428-B9E0-55BF2F62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301-E971-4DA7-821D-DA03D537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31480"/>
            <a:ext cx="72104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E31-A53B-4D52-88C2-035B0835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518-3C3C-4C18-B499-893D9705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51880" y="333036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97A-05D3-4155-B980-1BF8E5F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51880" y="1344240"/>
            <a:ext cx="35186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330360"/>
            <a:ext cx="7210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54F-B94C-49C2-9FCC-9EB6CAB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73078"/>
          <a:stretch/>
        </p:blipFill>
        <p:spPr>
          <a:xfrm>
            <a:off x="0" y="0"/>
            <a:ext cx="9144000" cy="153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2A0B-5DB2-44FB-8338-F03EA1EA8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1136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53792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45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84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845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845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12600" y="3182760"/>
            <a:ext cx="915660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5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47840"/>
            <a:ext cx="82292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52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8452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28452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52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8452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28452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52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28452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52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52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52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6840" y="1344240"/>
            <a:ext cx="7210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5B22-EF8B-4D99-A37B-B2A0D6B01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84626" t="0" r="0" b="0"/>
          <a:stretch/>
        </p:blipFill>
        <p:spPr>
          <a:xfrm>
            <a:off x="7737480" y="23760"/>
            <a:ext cx="1406520" cy="571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8452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33692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452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920" y="5400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8640" y="30718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植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273528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31480"/>
            <a:ext cx="7210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44240"/>
            <a:ext cx="7210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58400"/>
            <a:ext cx="82072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a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066680"/>
            <a:ext cx="892800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279360"/>
            <a:ext cx="1388880" cy="293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8AD1-7EC2-469D-83CF-1871F542A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2:4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53:4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