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BEF-317D-4734-B790-85076B95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3CE-73DA-424E-9CCF-E77F5A1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FF2-8636-4045-B17D-45755891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164-B648-48B2-9C27-B1BD342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67B-2F38-40A4-B7CE-A8EC08C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B37-6CEA-42EE-99C2-7DF5DE84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25F-0AF0-4B0F-A517-C7C6A4F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8B5-F494-4CC7-BC16-CBB4DD7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29C-9EA0-4A64-981D-34F1466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516-6235-491F-9617-A6A9095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760-70EC-4509-BAA4-95178448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AC9-C5E2-4907-91C7-8F65E660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D48-F9EA-4688-9AC2-4457AAD6C9A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FFD-B5F7-47E7-9891-2C257F8C2D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hyperlink" Target="http://www.eeppt.com/moban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1"/>
          <a:stretch/>
        </p:blipFill>
        <p:spPr>
          <a:xfrm>
            <a:off x="1050840" y="139536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9996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进位加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06400" y="2565360"/>
            <a:ext cx="7788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加法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155"/>
          <p:cNvSpPr/>
          <p:nvPr/>
        </p:nvSpPr>
        <p:spPr>
          <a:xfrm>
            <a:off x="3492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466560" y="1557000"/>
            <a:ext cx="6159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方正楷体简体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帮小动物们算一算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87"/>
          <p:cNvSpPr/>
          <p:nvPr/>
        </p:nvSpPr>
        <p:spPr>
          <a:xfrm>
            <a:off x="5881680" y="2449440"/>
            <a:ext cx="32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狗和小熊一共摘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88"/>
          <p:cNvSpPr/>
          <p:nvPr/>
        </p:nvSpPr>
        <p:spPr>
          <a:xfrm>
            <a:off x="5865840" y="3933720"/>
            <a:ext cx="32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和小狗一共摘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89"/>
          <p:cNvSpPr/>
          <p:nvPr/>
        </p:nvSpPr>
        <p:spPr>
          <a:xfrm>
            <a:off x="5881680" y="5445000"/>
            <a:ext cx="32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想知道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90"/>
          <p:cNvSpPr/>
          <p:nvPr/>
        </p:nvSpPr>
        <p:spPr>
          <a:xfrm>
            <a:off x="6156360" y="33195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90"/>
          <p:cNvSpPr/>
          <p:nvPr/>
        </p:nvSpPr>
        <p:spPr>
          <a:xfrm>
            <a:off x="7650000" y="331956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0"/>
          <p:cNvSpPr/>
          <p:nvPr/>
        </p:nvSpPr>
        <p:spPr>
          <a:xfrm>
            <a:off x="6156360" y="4749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90"/>
          <p:cNvSpPr/>
          <p:nvPr/>
        </p:nvSpPr>
        <p:spPr>
          <a:xfrm>
            <a:off x="7669080" y="47498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8" descr="C:\Documents and Settings\kings\桌面\第8单元—摘苹果.jpg"/>
          <p:cNvPicPr/>
          <p:nvPr/>
        </p:nvPicPr>
        <p:blipFill>
          <a:blip r:embed="rId1"/>
          <a:srcRect l="2987" t="9958" r="1395" b="0"/>
          <a:stretch/>
        </p:blipFill>
        <p:spPr>
          <a:xfrm>
            <a:off x="214200" y="2357280"/>
            <a:ext cx="5462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40A3-8E9D-4DEE-AC39-38E8907E74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84360" y="249228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交流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练习后同桌同学相互检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7"/>
          <p:cNvSpPr/>
          <p:nvPr/>
        </p:nvSpPr>
        <p:spPr>
          <a:xfrm>
            <a:off x="3405240" y="494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895320" y="2708280"/>
            <a:ext cx="76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为什么算得这么快呀！能说说是怎么计算的吗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口算练习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665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手势表示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66560" y="1557360"/>
            <a:ext cx="1873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抢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6" descr="306"/>
          <p:cNvPicPr/>
          <p:nvPr/>
        </p:nvPicPr>
        <p:blipFill>
          <a:blip r:embed="rId1"/>
          <a:stretch/>
        </p:blipFill>
        <p:spPr>
          <a:xfrm rot="618000">
            <a:off x="6016320" y="4254480"/>
            <a:ext cx="2371680" cy="138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7" descr="307"/>
          <p:cNvPicPr/>
          <p:nvPr/>
        </p:nvPicPr>
        <p:blipFill>
          <a:blip r:embed="rId2"/>
          <a:stretch/>
        </p:blipFill>
        <p:spPr>
          <a:xfrm rot="20336400">
            <a:off x="250920" y="4149360"/>
            <a:ext cx="2181240" cy="22795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49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31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1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35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5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39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9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43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8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47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11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9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51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11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3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55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11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196"/>
          <p:cNvSpPr/>
          <p:nvPr/>
        </p:nvSpPr>
        <p:spPr>
          <a:xfrm>
            <a:off x="197964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2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3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4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4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6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6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8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121 0.02707 C -0.16441 -4.42285000000139E-006 -0.19114 0.00185 -0.21232 0.00047 C -0.25347 0.00116 -0.29531 -0.00347 -0.33593 0.00371 C -0.34201 0.00486 -0.34687 0.00879 -0.35347 0.00995 C -0.36597 0.02013 -0.40451 0.01874 -0.41354 0.0192 C -0.42708 0.02059 -0.43889 0.02291 -0.45243 0.02406 C -0.46093 0.03146 -0.47291 0.02869 -0.48298 0.03031 C -0.52239 0.06431 -0.57795 0.03609 -0.62413 0.03031 C -0.6375 0.02661 -0.64895 0.02637 -0.66302 0.02568 C -0.66961 0.02337 -0.67673 0.02429 -0.68298 0.02082 C -0.70555 0.00833 -0.68489 0.01805 -0.69583 0.01296 C -0.70243 0.00463 -0.71319 0.00185 -0.72187 -0.00115 C -0.72934 -0.00855 -0.725 -0.00462 -0.73593 -0.01202 C -0.73732 -0.01295 -0.73819 -0.01549 -0.73941 -0.01665 C -0.7434 -0.01966 -0.74826 -0.02012 -0.75243 -0.0229 C -0.75989 -0.02799 -0.76666 -0.03469 -0.77465 -0.03863 C -0.77916 -0.04094 -0.78316 -0.0421 -0.78767 -0.04487 C -0.79184 -0.05065 -0.79479 -0.05389 -0.80069 -0.05598 C -0.80225 -0.05759 -0.80364 -0.05921 -0.80538 -0.0606 C -0.8092 -0.06338 -0.81701 -0.06847 -0.81701 -0.06847 C -0.82291 -0.0835 -0.8158 -0.0687 -0.82291 -0.07633 C -0.83055 -0.08443 -0.82014 -0.07841 -0.82882 -0.08258 C -0.8375 -0.09114 -0.85312 -0.11172 -0.86302 -0.11542 C -0.86788 -0.12236 -0.87187 -0.1293 -0.8783 -0.13439 C -0.88211 -0.1374 -0.8901 -0.14203 -0.8901 -0.14203 C -0.89461 -0.14827 -0.90052 -0.15244 -0.90642 -0.15614 C -0.90972 -0.16285 -0.91493 -0.16793 -0.92066 -0.17025 C -0.925 -0.17418 -0.92847 -0.17649 -0.9335 -0.17811 C -0.93975 -0.18251 -0.9467 -0.1869 -0.95347 -0.18922 C -0.96007 -0.19754 -0.96857 -0.2024 -0.97465 -0.21119 E">
                                      <p:cBhvr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1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3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3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5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69 0.0303 C 0.13472 0.0236 0.13837 0.02151 0.14514 0.0192 C 0.15504 0.01064 0.16563 0.01365 0.17795 0.01296 C 0.1842 0.01087 0.18906 0.00949 0.19566 0.00833 C 0.20156 0.00555 0.19931 0.00625 0.20851 0.00509 C 0.21719 0.00393 0.23455 0.00208 0.23455 0.00208 C 0.27952 0.00393 0.32327 0.0074 0.36858 0.00833 C 0.39184 0.00671 0.40799 0.00463 0.43212 0.0037 C 0.44184 0.00231 0.45174 0.00023 0.46146 -0.00116 C 0.46424 -0.00231 0.46702 -0.00277 0.46979 -0.00416 C 0.47552 -0.00694 0.48038 -0.01156 0.48629 -0.01365 C 0.49375 -0.01943 0.50261 -0.0266 0.51094 -0.02938 C 0.51893 -0.03562 0.52778 -0.03979 0.53681 -0.04187 C 0.54636 -0.04673 0.55365 -0.05598 0.56268 -0.06222 C 0.56806 -0.07148 0.5757 -0.07541 0.58264 -0.08258 C 0.58438 -0.08443 0.58577 -0.08698 0.5875 -0.08883 C 0.59045 -0.09183 0.59688 -0.09669 0.59688 -0.09669 C 0.60052 -0.10409 0.60695 -0.10733 0.61215 -0.11242 C 0.61702 -0.11705 0.62309 -0.12445 0.62743 -0.12954 C 0.63351 -0.13671 0.63802 -0.14596 0.64393 -0.15313 C 0.64531 -0.15475 0.64722 -0.15475 0.64861 -0.15637 C 0.64861 -0.15637 0.65955 -0.17095 0.66268 -0.17511 C 0.66528 -0.17858 0.66927 -0.17974 0.67205 -0.18297 C 0.68004 -0.192 0.68611 -0.19917 0.69688 -0.20171 C 0.70243 -0.21305 0.69497 -0.19963 0.70382 -0.20958 C 0.70833 -0.21466 0.70851 -0.21813 0.71441 -0.22045 C 0.72049 -0.226 0.73038 -0.23803 0.73681 -0.24104 C 0.75452 -0.25977 0.73351 -0.23942 0.7474 -0.24867 C 0.74913 -0.24983 0.75035 -0.25237 0.75208 -0.25353 C 0.75434 -0.25491 0.7592 -0.25653 0.7592 -0.25653 C 0.76077 -0.25815 0.76215 -0.26023 0.76389 -0.26139 C 0.76528 -0.26232 0.76719 -0.26162 0.76858 -0.26278 C 0.76997 -0.26394 0.77066 -0.26648 0.77205 -0.26764 C 0.77344 -0.26879 0.77535 -0.26856 0.77691 -0.26926 C 0.78594 -0.27365 0.79427 -0.27782 0.80382 -0.28013 C 0.80886 -0.28452 0.81458 -0.28545 0.82031 -0.28799 C 0.8342 -0.29447 0.83854 -0.29609 0.85452 -0.29748 C 0.87292 -0.30118 0.88993 -0.30395 0.90851 -0.30511 C 0.94323 -0.31298 0.97813 -0.31968 1.01337 -0.32246 C 1.02778 -0.32662 1.04219 -0.32709 1.05677 -0.32709 E">
                                      <p:cBhvr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692360" y="2874960"/>
            <a:ext cx="43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1619280" y="422100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这道题你是怎样算的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的算法跟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3951360" y="2981160"/>
            <a:ext cx="718920" cy="71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1"/>
          <p:cNvSpPr/>
          <p:nvPr/>
        </p:nvSpPr>
        <p:spPr>
          <a:xfrm>
            <a:off x="647640" y="2205000"/>
            <a:ext cx="500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学生的计算方法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9"/>
          <p:cNvGrpSpPr/>
          <p:nvPr/>
        </p:nvGrpSpPr>
        <p:grpSpPr>
          <a:xfrm>
            <a:off x="1403280" y="2781360"/>
            <a:ext cx="4164120" cy="2694960"/>
            <a:chOff x="1403280" y="2781360"/>
            <a:chExt cx="4164120" cy="2694960"/>
          </a:xfrm>
        </p:grpSpPr>
        <p:sp>
          <p:nvSpPr>
            <p:cNvPr id="167" name="标题 1"/>
            <p:cNvSpPr/>
            <p:nvPr/>
          </p:nvSpPr>
          <p:spPr>
            <a:xfrm>
              <a:off x="1677960" y="2781360"/>
              <a:ext cx="3889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51"/>
            <p:cNvGrpSpPr/>
            <p:nvPr/>
          </p:nvGrpSpPr>
          <p:grpSpPr>
            <a:xfrm>
              <a:off x="1403280" y="3446280"/>
              <a:ext cx="576360" cy="1158480"/>
              <a:chOff x="1403280" y="3446280"/>
              <a:chExt cx="576360" cy="11584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19280" y="3446280"/>
                <a:ext cx="287280" cy="576360"/>
                <a:chOff x="1619280" y="3446280"/>
                <a:chExt cx="287280" cy="576360"/>
              </a:xfrm>
            </p:grpSpPr>
            <p:sp>
              <p:nvSpPr>
                <p:cNvPr id="170" name="Line 9"/>
                <p:cNvSpPr/>
                <p:nvPr/>
              </p:nvSpPr>
              <p:spPr>
                <a:xfrm flipH="1">
                  <a:off x="1619280" y="3446280"/>
                  <a:ext cx="28728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1619280" y="3446280"/>
                  <a:ext cx="2872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11"/>
              <p:cNvSpPr/>
              <p:nvPr/>
            </p:nvSpPr>
            <p:spPr>
              <a:xfrm>
                <a:off x="1403280" y="39621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54"/>
            <p:cNvGrpSpPr/>
            <p:nvPr/>
          </p:nvGrpSpPr>
          <p:grpSpPr>
            <a:xfrm>
              <a:off x="1905120" y="3458880"/>
              <a:ext cx="579240" cy="1139760"/>
              <a:chOff x="1905120" y="3458880"/>
              <a:chExt cx="579240" cy="11397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905120" y="3458880"/>
                <a:ext cx="260280" cy="557280"/>
                <a:chOff x="1905120" y="3458880"/>
                <a:chExt cx="260280" cy="557280"/>
              </a:xfrm>
            </p:grpSpPr>
            <p:sp>
              <p:nvSpPr>
                <p:cNvPr id="175" name="Line 10"/>
                <p:cNvSpPr/>
                <p:nvPr/>
              </p:nvSpPr>
              <p:spPr>
                <a:xfrm>
                  <a:off x="1905120" y="3458880"/>
                  <a:ext cx="260280" cy="55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 txBox="1"/>
                <p:nvPr/>
              </p:nvSpPr>
              <p:spPr>
                <a:xfrm>
                  <a:off x="1905120" y="3458880"/>
                  <a:ext cx="2602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12"/>
              <p:cNvSpPr/>
              <p:nvPr/>
            </p:nvSpPr>
            <p:spPr>
              <a:xfrm>
                <a:off x="1908000" y="39560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2182320" y="3490920"/>
              <a:ext cx="682920" cy="1320480"/>
              <a:chOff x="2182320" y="3490920"/>
              <a:chExt cx="682920" cy="1320480"/>
            </a:xfrm>
          </p:grpSpPr>
          <p:grpSp>
            <p:nvGrpSpPr>
              <p:cNvPr id="179" name="Group 58"/>
              <p:cNvGrpSpPr/>
              <p:nvPr/>
            </p:nvGrpSpPr>
            <p:grpSpPr>
              <a:xfrm>
                <a:off x="2182320" y="3490920"/>
                <a:ext cx="682920" cy="1320480"/>
                <a:chOff x="2182320" y="3490920"/>
                <a:chExt cx="682920" cy="132048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2864880" y="3490920"/>
                  <a:ext cx="360" cy="1320120"/>
                  <a:chOff x="2864880" y="3490920"/>
                  <a:chExt cx="360" cy="1320120"/>
                </a:xfrm>
              </p:grpSpPr>
              <p:sp>
                <p:nvSpPr>
                  <p:cNvPr id="181" name="Line 15"/>
                  <p:cNvSpPr/>
                  <p:nvPr/>
                </p:nvSpPr>
                <p:spPr>
                  <a:xfrm>
                    <a:off x="2865240" y="3490920"/>
                    <a:ext cx="0" cy="132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 txBox="1"/>
                  <p:nvPr/>
                </p:nvSpPr>
                <p:spPr>
                  <a:xfrm>
                    <a:off x="2864880" y="3490920"/>
                    <a:ext cx="360" cy="132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2182320" y="4811040"/>
                  <a:ext cx="682920" cy="360"/>
                  <a:chOff x="2182320" y="4811040"/>
                  <a:chExt cx="682920" cy="360"/>
                </a:xfrm>
              </p:grpSpPr>
              <p:sp>
                <p:nvSpPr>
                  <p:cNvPr id="184" name="Line 16"/>
                  <p:cNvSpPr/>
                  <p:nvPr/>
                </p:nvSpPr>
                <p:spPr>
                  <a:xfrm flipH="1">
                    <a:off x="2182320" y="4811040"/>
                    <a:ext cx="682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2182320" y="4811040"/>
                    <a:ext cx="68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2182320" y="4578120"/>
                <a:ext cx="360" cy="232920"/>
                <a:chOff x="2182320" y="4578120"/>
                <a:chExt cx="360" cy="232920"/>
              </a:xfrm>
            </p:grpSpPr>
            <p:sp>
              <p:nvSpPr>
                <p:cNvPr id="187" name="Line 18"/>
                <p:cNvSpPr/>
                <p:nvPr/>
              </p:nvSpPr>
              <p:spPr>
                <a:xfrm flipV="1">
                  <a:off x="2182320" y="457812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 txBox="1"/>
                <p:nvPr/>
              </p:nvSpPr>
              <p:spPr>
                <a:xfrm rot="10800000">
                  <a:off x="2182320" y="457812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Text Box 20"/>
            <p:cNvSpPr/>
            <p:nvPr/>
          </p:nvSpPr>
          <p:spPr>
            <a:xfrm>
              <a:off x="2016000" y="483372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3381480" y="288756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64"/>
          <p:cNvGrpSpPr/>
          <p:nvPr/>
        </p:nvGrpSpPr>
        <p:grpSpPr>
          <a:xfrm>
            <a:off x="5146560" y="2781360"/>
            <a:ext cx="2881440" cy="2694960"/>
            <a:chOff x="5146560" y="2781360"/>
            <a:chExt cx="2881440" cy="2694960"/>
          </a:xfrm>
        </p:grpSpPr>
        <p:sp>
          <p:nvSpPr>
            <p:cNvPr id="192" name="标题 1"/>
            <p:cNvSpPr/>
            <p:nvPr/>
          </p:nvSpPr>
          <p:spPr>
            <a:xfrm>
              <a:off x="5146560" y="2781360"/>
              <a:ext cx="2881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66"/>
            <p:cNvGrpSpPr/>
            <p:nvPr/>
          </p:nvGrpSpPr>
          <p:grpSpPr>
            <a:xfrm>
              <a:off x="5829480" y="3446280"/>
              <a:ext cx="576000" cy="1158120"/>
              <a:chOff x="5829480" y="3446280"/>
              <a:chExt cx="576000" cy="115812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6044760" y="3446280"/>
                <a:ext cx="287280" cy="576000"/>
                <a:chOff x="6044760" y="3446280"/>
                <a:chExt cx="287280" cy="576000"/>
              </a:xfrm>
            </p:grpSpPr>
            <p:sp>
              <p:nvSpPr>
                <p:cNvPr id="195" name="Line 9"/>
                <p:cNvSpPr/>
                <p:nvPr/>
              </p:nvSpPr>
              <p:spPr>
                <a:xfrm flipH="1">
                  <a:off x="6044760" y="3446280"/>
                  <a:ext cx="286920" cy="57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 txBox="1"/>
                <p:nvPr/>
              </p:nvSpPr>
              <p:spPr>
                <a:xfrm>
                  <a:off x="6045120" y="3446280"/>
                  <a:ext cx="286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11"/>
              <p:cNvSpPr/>
              <p:nvPr/>
            </p:nvSpPr>
            <p:spPr>
              <a:xfrm>
                <a:off x="5829480" y="396180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9"/>
            <p:cNvGrpSpPr/>
            <p:nvPr/>
          </p:nvGrpSpPr>
          <p:grpSpPr>
            <a:xfrm>
              <a:off x="6330960" y="3458880"/>
              <a:ext cx="579240" cy="1139400"/>
              <a:chOff x="6330960" y="3458880"/>
              <a:chExt cx="579240" cy="1139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330960" y="3458880"/>
                <a:ext cx="260280" cy="556920"/>
                <a:chOff x="6330960" y="3458880"/>
                <a:chExt cx="260280" cy="556920"/>
              </a:xfrm>
            </p:grpSpPr>
            <p:sp>
              <p:nvSpPr>
                <p:cNvPr id="200" name="Line 10"/>
                <p:cNvSpPr/>
                <p:nvPr/>
              </p:nvSpPr>
              <p:spPr>
                <a:xfrm>
                  <a:off x="6330960" y="3458880"/>
                  <a:ext cx="260280" cy="55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6330960" y="3458880"/>
                  <a:ext cx="2602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12"/>
              <p:cNvSpPr/>
              <p:nvPr/>
            </p:nvSpPr>
            <p:spPr>
              <a:xfrm>
                <a:off x="6333840" y="39556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72"/>
            <p:cNvGrpSpPr/>
            <p:nvPr/>
          </p:nvGrpSpPr>
          <p:grpSpPr>
            <a:xfrm>
              <a:off x="5362560" y="3490560"/>
              <a:ext cx="695520" cy="1320120"/>
              <a:chOff x="5362560" y="3490560"/>
              <a:chExt cx="695520" cy="1320120"/>
            </a:xfrm>
          </p:grpSpPr>
          <p:grpSp>
            <p:nvGrpSpPr>
              <p:cNvPr id="204" name="Group 73"/>
              <p:cNvGrpSpPr/>
              <p:nvPr/>
            </p:nvGrpSpPr>
            <p:grpSpPr>
              <a:xfrm>
                <a:off x="5362560" y="3490560"/>
                <a:ext cx="695520" cy="1320120"/>
                <a:chOff x="5362560" y="3490560"/>
                <a:chExt cx="695520" cy="132012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5362560" y="3490560"/>
                  <a:ext cx="360" cy="1319760"/>
                  <a:chOff x="5362560" y="3490560"/>
                  <a:chExt cx="360" cy="1319760"/>
                </a:xfrm>
              </p:grpSpPr>
              <p:sp>
                <p:nvSpPr>
                  <p:cNvPr id="206" name="Line 15"/>
                  <p:cNvSpPr/>
                  <p:nvPr/>
                </p:nvSpPr>
                <p:spPr>
                  <a:xfrm>
                    <a:off x="5362560" y="3490560"/>
                    <a:ext cx="0" cy="131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 txBox="1"/>
                  <p:nvPr/>
                </p:nvSpPr>
                <p:spPr>
                  <a:xfrm>
                    <a:off x="5362560" y="3490560"/>
                    <a:ext cx="360" cy="131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5362560" y="4810320"/>
                  <a:ext cx="695520" cy="360"/>
                  <a:chOff x="5362560" y="4810320"/>
                  <a:chExt cx="695520" cy="360"/>
                </a:xfrm>
              </p:grpSpPr>
              <p:sp>
                <p:nvSpPr>
                  <p:cNvPr id="209" name="Line 16"/>
                  <p:cNvSpPr/>
                  <p:nvPr/>
                </p:nvSpPr>
                <p:spPr>
                  <a:xfrm>
                    <a:off x="5362560" y="4810320"/>
                    <a:ext cx="695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 txBox="1"/>
                  <p:nvPr/>
                </p:nvSpPr>
                <p:spPr>
                  <a:xfrm>
                    <a:off x="5362560" y="4810320"/>
                    <a:ext cx="69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6057720" y="4577400"/>
                <a:ext cx="360" cy="232920"/>
                <a:chOff x="6057720" y="4577400"/>
                <a:chExt cx="360" cy="232920"/>
              </a:xfrm>
            </p:grpSpPr>
            <p:sp>
              <p:nvSpPr>
                <p:cNvPr id="212" name="Line 18"/>
                <p:cNvSpPr/>
                <p:nvPr/>
              </p:nvSpPr>
              <p:spPr>
                <a:xfrm flipV="1">
                  <a:off x="6058080" y="457740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 rot="10800000">
                  <a:off x="6057720" y="457740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Text Box 20"/>
            <p:cNvSpPr/>
            <p:nvPr/>
          </p:nvSpPr>
          <p:spPr>
            <a:xfrm>
              <a:off x="5226120" y="483372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1"/>
            <p:cNvSpPr/>
            <p:nvPr/>
          </p:nvSpPr>
          <p:spPr>
            <a:xfrm>
              <a:off x="6850080" y="288756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9"/>
          <p:cNvGrpSpPr/>
          <p:nvPr/>
        </p:nvGrpSpPr>
        <p:grpSpPr>
          <a:xfrm>
            <a:off x="3059280" y="5402160"/>
            <a:ext cx="3457440" cy="1291680"/>
            <a:chOff x="3059280" y="5402160"/>
            <a:chExt cx="3457440" cy="1291680"/>
          </a:xfrm>
        </p:grpSpPr>
        <p:sp>
          <p:nvSpPr>
            <p:cNvPr id="217" name="矩形 44"/>
            <p:cNvSpPr/>
            <p:nvPr/>
          </p:nvSpPr>
          <p:spPr>
            <a:xfrm>
              <a:off x="3059280" y="540216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44"/>
            <p:cNvSpPr/>
            <p:nvPr/>
          </p:nvSpPr>
          <p:spPr>
            <a:xfrm>
              <a:off x="3059280" y="60512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5"/>
          <p:cNvSpPr/>
          <p:nvPr/>
        </p:nvSpPr>
        <p:spPr>
          <a:xfrm>
            <a:off x="1332000" y="522936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 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多少？说一说你是怎么算的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3"/>
          <p:cNvSpPr/>
          <p:nvPr/>
        </p:nvSpPr>
        <p:spPr>
          <a:xfrm>
            <a:off x="2109960" y="5732640"/>
            <a:ext cx="67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有时要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时要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1677960" y="2349360"/>
            <a:ext cx="3889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8"/>
          <p:cNvGrpSpPr/>
          <p:nvPr/>
        </p:nvGrpSpPr>
        <p:grpSpPr>
          <a:xfrm>
            <a:off x="1403280" y="3014640"/>
            <a:ext cx="576360" cy="1158480"/>
            <a:chOff x="1403280" y="3014640"/>
            <a:chExt cx="576360" cy="1158480"/>
          </a:xfrm>
        </p:grpSpPr>
        <p:grpSp>
          <p:nvGrpSpPr>
            <p:cNvPr id="225" name=""/>
            <p:cNvGrpSpPr/>
            <p:nvPr/>
          </p:nvGrpSpPr>
          <p:grpSpPr>
            <a:xfrm>
              <a:off x="1619280" y="3014640"/>
              <a:ext cx="287280" cy="576360"/>
              <a:chOff x="1619280" y="3014640"/>
              <a:chExt cx="287280" cy="576360"/>
            </a:xfrm>
          </p:grpSpPr>
          <p:sp>
            <p:nvSpPr>
              <p:cNvPr id="226" name="Line 9"/>
              <p:cNvSpPr/>
              <p:nvPr/>
            </p:nvSpPr>
            <p:spPr>
              <a:xfrm flipH="1">
                <a:off x="1619280" y="3014640"/>
                <a:ext cx="28728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1619280" y="3014640"/>
                <a:ext cx="28728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1"/>
            <p:cNvSpPr/>
            <p:nvPr/>
          </p:nvSpPr>
          <p:spPr>
            <a:xfrm>
              <a:off x="1403280" y="35305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1"/>
          <p:cNvGrpSpPr/>
          <p:nvPr/>
        </p:nvGrpSpPr>
        <p:grpSpPr>
          <a:xfrm>
            <a:off x="1905120" y="3027240"/>
            <a:ext cx="579240" cy="1139760"/>
            <a:chOff x="1905120" y="3027240"/>
            <a:chExt cx="579240" cy="1139760"/>
          </a:xfrm>
        </p:grpSpPr>
        <p:grpSp>
          <p:nvGrpSpPr>
            <p:cNvPr id="230" name=""/>
            <p:cNvGrpSpPr/>
            <p:nvPr/>
          </p:nvGrpSpPr>
          <p:grpSpPr>
            <a:xfrm>
              <a:off x="1905120" y="3027240"/>
              <a:ext cx="260280" cy="557280"/>
              <a:chOff x="1905120" y="3027240"/>
              <a:chExt cx="260280" cy="557280"/>
            </a:xfrm>
          </p:grpSpPr>
          <p:sp>
            <p:nvSpPr>
              <p:cNvPr id="231" name="Line 10"/>
              <p:cNvSpPr/>
              <p:nvPr/>
            </p:nvSpPr>
            <p:spPr>
              <a:xfrm>
                <a:off x="1905120" y="302724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1905120" y="3027240"/>
                <a:ext cx="260280" cy="5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1908000" y="35244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51"/>
          <p:cNvGrpSpPr/>
          <p:nvPr/>
        </p:nvGrpSpPr>
        <p:grpSpPr>
          <a:xfrm>
            <a:off x="2016000" y="3059280"/>
            <a:ext cx="971640" cy="1985400"/>
            <a:chOff x="2016000" y="3059280"/>
            <a:chExt cx="971640" cy="1985400"/>
          </a:xfrm>
        </p:grpSpPr>
        <p:grpSp>
          <p:nvGrpSpPr>
            <p:cNvPr id="235" name="Group 44"/>
            <p:cNvGrpSpPr/>
            <p:nvPr/>
          </p:nvGrpSpPr>
          <p:grpSpPr>
            <a:xfrm>
              <a:off x="2182320" y="3059280"/>
              <a:ext cx="682920" cy="1320120"/>
              <a:chOff x="2182320" y="3059280"/>
              <a:chExt cx="682920" cy="1320120"/>
            </a:xfrm>
          </p:grpSpPr>
          <p:grpSp>
            <p:nvGrpSpPr>
              <p:cNvPr id="236" name="Group 45"/>
              <p:cNvGrpSpPr/>
              <p:nvPr/>
            </p:nvGrpSpPr>
            <p:grpSpPr>
              <a:xfrm>
                <a:off x="2182320" y="3059280"/>
                <a:ext cx="682920" cy="1320120"/>
                <a:chOff x="2182320" y="3059280"/>
                <a:chExt cx="682920" cy="132012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2864880" y="3059280"/>
                  <a:ext cx="360" cy="1319760"/>
                  <a:chOff x="2864880" y="3059280"/>
                  <a:chExt cx="360" cy="1319760"/>
                </a:xfrm>
              </p:grpSpPr>
              <p:sp>
                <p:nvSpPr>
                  <p:cNvPr id="238" name="Line 15"/>
                  <p:cNvSpPr/>
                  <p:nvPr/>
                </p:nvSpPr>
                <p:spPr>
                  <a:xfrm>
                    <a:off x="2865240" y="3059280"/>
                    <a:ext cx="0" cy="131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2864880" y="3059280"/>
                    <a:ext cx="360" cy="131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2182320" y="4379040"/>
                  <a:ext cx="682920" cy="360"/>
                  <a:chOff x="2182320" y="4379040"/>
                  <a:chExt cx="682920" cy="360"/>
                </a:xfrm>
              </p:grpSpPr>
              <p:sp>
                <p:nvSpPr>
                  <p:cNvPr id="241" name="Line 16"/>
                  <p:cNvSpPr/>
                  <p:nvPr/>
                </p:nvSpPr>
                <p:spPr>
                  <a:xfrm flipH="1">
                    <a:off x="2182320" y="4379040"/>
                    <a:ext cx="682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2182320" y="4379040"/>
                    <a:ext cx="68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"/>
              <p:cNvGrpSpPr/>
              <p:nvPr/>
            </p:nvGrpSpPr>
            <p:grpSpPr>
              <a:xfrm>
                <a:off x="2182320" y="4146120"/>
                <a:ext cx="360" cy="232920"/>
                <a:chOff x="2182320" y="4146120"/>
                <a:chExt cx="360" cy="232920"/>
              </a:xfrm>
            </p:grpSpPr>
            <p:sp>
              <p:nvSpPr>
                <p:cNvPr id="244" name="Line 18"/>
                <p:cNvSpPr/>
                <p:nvPr/>
              </p:nvSpPr>
              <p:spPr>
                <a:xfrm flipV="1">
                  <a:off x="2182320" y="414612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 txBox="1"/>
                <p:nvPr/>
              </p:nvSpPr>
              <p:spPr>
                <a:xfrm rot="10800000">
                  <a:off x="2182320" y="414612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Text Box 20"/>
            <p:cNvSpPr/>
            <p:nvPr/>
          </p:nvSpPr>
          <p:spPr>
            <a:xfrm>
              <a:off x="2016000" y="440208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21"/>
          <p:cNvSpPr/>
          <p:nvPr/>
        </p:nvSpPr>
        <p:spPr>
          <a:xfrm>
            <a:off x="3381480" y="2455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4"/>
          <p:cNvGrpSpPr/>
          <p:nvPr/>
        </p:nvGrpSpPr>
        <p:grpSpPr>
          <a:xfrm>
            <a:off x="5829480" y="3014640"/>
            <a:ext cx="576000" cy="1158480"/>
            <a:chOff x="5829480" y="3014640"/>
            <a:chExt cx="576000" cy="1158480"/>
          </a:xfrm>
        </p:grpSpPr>
        <p:grpSp>
          <p:nvGrpSpPr>
            <p:cNvPr id="249" name=""/>
            <p:cNvGrpSpPr/>
            <p:nvPr/>
          </p:nvGrpSpPr>
          <p:grpSpPr>
            <a:xfrm>
              <a:off x="6044760" y="3014640"/>
              <a:ext cx="287280" cy="576360"/>
              <a:chOff x="6044760" y="3014640"/>
              <a:chExt cx="287280" cy="576360"/>
            </a:xfrm>
          </p:grpSpPr>
          <p:sp>
            <p:nvSpPr>
              <p:cNvPr id="250" name="Line 9"/>
              <p:cNvSpPr/>
              <p:nvPr/>
            </p:nvSpPr>
            <p:spPr>
              <a:xfrm flipH="1">
                <a:off x="6044760" y="3014640"/>
                <a:ext cx="28692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6045120" y="3014640"/>
                <a:ext cx="28692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 Box 11"/>
            <p:cNvSpPr/>
            <p:nvPr/>
          </p:nvSpPr>
          <p:spPr>
            <a:xfrm>
              <a:off x="5829480" y="35305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57"/>
          <p:cNvGrpSpPr/>
          <p:nvPr/>
        </p:nvGrpSpPr>
        <p:grpSpPr>
          <a:xfrm>
            <a:off x="6330960" y="3027240"/>
            <a:ext cx="579240" cy="1139760"/>
            <a:chOff x="6330960" y="3027240"/>
            <a:chExt cx="579240" cy="1139760"/>
          </a:xfrm>
        </p:grpSpPr>
        <p:grpSp>
          <p:nvGrpSpPr>
            <p:cNvPr id="254" name=""/>
            <p:cNvGrpSpPr/>
            <p:nvPr/>
          </p:nvGrpSpPr>
          <p:grpSpPr>
            <a:xfrm>
              <a:off x="6330960" y="3027240"/>
              <a:ext cx="260280" cy="557280"/>
              <a:chOff x="6330960" y="3027240"/>
              <a:chExt cx="260280" cy="55728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6330960" y="302724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6330960" y="3027240"/>
                <a:ext cx="260280" cy="5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12"/>
            <p:cNvSpPr/>
            <p:nvPr/>
          </p:nvSpPr>
          <p:spPr>
            <a:xfrm>
              <a:off x="6333840" y="35244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9"/>
          <p:cNvGrpSpPr/>
          <p:nvPr/>
        </p:nvGrpSpPr>
        <p:grpSpPr>
          <a:xfrm>
            <a:off x="5226120" y="3059280"/>
            <a:ext cx="971640" cy="1985400"/>
            <a:chOff x="5226120" y="3059280"/>
            <a:chExt cx="971640" cy="1985400"/>
          </a:xfrm>
        </p:grpSpPr>
        <p:grpSp>
          <p:nvGrpSpPr>
            <p:cNvPr id="259" name="Group 60"/>
            <p:cNvGrpSpPr/>
            <p:nvPr/>
          </p:nvGrpSpPr>
          <p:grpSpPr>
            <a:xfrm>
              <a:off x="5362560" y="3059280"/>
              <a:ext cx="695520" cy="1320120"/>
              <a:chOff x="5362560" y="3059280"/>
              <a:chExt cx="695520" cy="1320120"/>
            </a:xfrm>
          </p:grpSpPr>
          <p:grpSp>
            <p:nvGrpSpPr>
              <p:cNvPr id="260" name="Group 61"/>
              <p:cNvGrpSpPr/>
              <p:nvPr/>
            </p:nvGrpSpPr>
            <p:grpSpPr>
              <a:xfrm>
                <a:off x="5362560" y="3059280"/>
                <a:ext cx="695520" cy="1320120"/>
                <a:chOff x="5362560" y="3059280"/>
                <a:chExt cx="695520" cy="132012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5362560" y="3059280"/>
                  <a:ext cx="360" cy="1319760"/>
                  <a:chOff x="5362560" y="3059280"/>
                  <a:chExt cx="360" cy="1319760"/>
                </a:xfrm>
              </p:grpSpPr>
              <p:sp>
                <p:nvSpPr>
                  <p:cNvPr id="262" name="Line 15"/>
                  <p:cNvSpPr/>
                  <p:nvPr/>
                </p:nvSpPr>
                <p:spPr>
                  <a:xfrm>
                    <a:off x="5362560" y="3059280"/>
                    <a:ext cx="0" cy="131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5362560" y="3059280"/>
                    <a:ext cx="360" cy="131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5362560" y="4379040"/>
                  <a:ext cx="695520" cy="360"/>
                  <a:chOff x="5362560" y="4379040"/>
                  <a:chExt cx="695520" cy="360"/>
                </a:xfrm>
              </p:grpSpPr>
              <p:sp>
                <p:nvSpPr>
                  <p:cNvPr id="265" name="Line 16"/>
                  <p:cNvSpPr/>
                  <p:nvPr/>
                </p:nvSpPr>
                <p:spPr>
                  <a:xfrm>
                    <a:off x="5362560" y="4379040"/>
                    <a:ext cx="695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5362560" y="4379040"/>
                    <a:ext cx="69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057720" y="4146120"/>
                <a:ext cx="360" cy="232920"/>
                <a:chOff x="6057720" y="4146120"/>
                <a:chExt cx="360" cy="232920"/>
              </a:xfrm>
            </p:grpSpPr>
            <p:sp>
              <p:nvSpPr>
                <p:cNvPr id="268" name="Line 18"/>
                <p:cNvSpPr/>
                <p:nvPr/>
              </p:nvSpPr>
              <p:spPr>
                <a:xfrm flipV="1">
                  <a:off x="6058080" y="414612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 rot="10800000">
                  <a:off x="6057720" y="414612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0" name="Text Box 20"/>
            <p:cNvSpPr/>
            <p:nvPr/>
          </p:nvSpPr>
          <p:spPr>
            <a:xfrm>
              <a:off x="5226120" y="440208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8"/>
          <p:cNvGrpSpPr/>
          <p:nvPr/>
        </p:nvGrpSpPr>
        <p:grpSpPr>
          <a:xfrm>
            <a:off x="5146560" y="2349360"/>
            <a:ext cx="2881440" cy="851040"/>
            <a:chOff x="5146560" y="2349360"/>
            <a:chExt cx="2881440" cy="851040"/>
          </a:xfrm>
        </p:grpSpPr>
        <p:sp>
          <p:nvSpPr>
            <p:cNvPr id="272" name="标题 1"/>
            <p:cNvSpPr/>
            <p:nvPr/>
          </p:nvSpPr>
          <p:spPr>
            <a:xfrm>
              <a:off x="5146560" y="2349360"/>
              <a:ext cx="2881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1"/>
            <p:cNvSpPr/>
            <p:nvPr/>
          </p:nvSpPr>
          <p:spPr>
            <a:xfrm>
              <a:off x="6850080" y="245592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5"/>
          <p:cNvSpPr/>
          <p:nvPr/>
        </p:nvSpPr>
        <p:spPr>
          <a:xfrm>
            <a:off x="542880" y="5445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知道他是怎么想的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3"/>
          <p:cNvSpPr/>
          <p:nvPr/>
        </p:nvSpPr>
        <p:spPr>
          <a:xfrm>
            <a:off x="1312920" y="589428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算式哪里相同？哪里不同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42880" y="5446800"/>
            <a:ext cx="86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在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时，既可以把大数凑成十，也可以把小数凑成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想与它有关系的算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3"/>
          <p:cNvGrpSpPr/>
          <p:nvPr/>
        </p:nvGrpSpPr>
        <p:grpSpPr>
          <a:xfrm>
            <a:off x="468360" y="2570040"/>
            <a:ext cx="3457440" cy="1291680"/>
            <a:chOff x="468360" y="2570040"/>
            <a:chExt cx="3457440" cy="1291680"/>
          </a:xfrm>
        </p:grpSpPr>
        <p:sp>
          <p:nvSpPr>
            <p:cNvPr id="281" name="矩形 44"/>
            <p:cNvSpPr/>
            <p:nvPr/>
          </p:nvSpPr>
          <p:spPr>
            <a:xfrm>
              <a:off x="468360" y="25700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4"/>
            <p:cNvSpPr/>
            <p:nvPr/>
          </p:nvSpPr>
          <p:spPr>
            <a:xfrm>
              <a:off x="468360" y="321912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7"/>
          <p:cNvGrpSpPr/>
          <p:nvPr/>
        </p:nvGrpSpPr>
        <p:grpSpPr>
          <a:xfrm>
            <a:off x="2844720" y="2492280"/>
            <a:ext cx="4164120" cy="2694960"/>
            <a:chOff x="2844720" y="2492280"/>
            <a:chExt cx="4164120" cy="2694960"/>
          </a:xfrm>
        </p:grpSpPr>
        <p:sp>
          <p:nvSpPr>
            <p:cNvPr id="284" name="标题 1"/>
            <p:cNvSpPr/>
            <p:nvPr/>
          </p:nvSpPr>
          <p:spPr>
            <a:xfrm>
              <a:off x="3119400" y="2492280"/>
              <a:ext cx="3889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59"/>
            <p:cNvGrpSpPr/>
            <p:nvPr/>
          </p:nvGrpSpPr>
          <p:grpSpPr>
            <a:xfrm>
              <a:off x="2844720" y="3157200"/>
              <a:ext cx="576360" cy="1158480"/>
              <a:chOff x="2844720" y="3157200"/>
              <a:chExt cx="576360" cy="11584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060720" y="3157200"/>
                <a:ext cx="287280" cy="576360"/>
                <a:chOff x="3060720" y="3157200"/>
                <a:chExt cx="287280" cy="576360"/>
              </a:xfrm>
            </p:grpSpPr>
            <p:sp>
              <p:nvSpPr>
                <p:cNvPr id="287" name="Line 9"/>
                <p:cNvSpPr/>
                <p:nvPr/>
              </p:nvSpPr>
              <p:spPr>
                <a:xfrm flipH="1">
                  <a:off x="3060720" y="3157200"/>
                  <a:ext cx="28728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3060720" y="3157200"/>
                  <a:ext cx="2872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11"/>
              <p:cNvSpPr/>
              <p:nvPr/>
            </p:nvSpPr>
            <p:spPr>
              <a:xfrm>
                <a:off x="2844720" y="36730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62"/>
            <p:cNvGrpSpPr/>
            <p:nvPr/>
          </p:nvGrpSpPr>
          <p:grpSpPr>
            <a:xfrm>
              <a:off x="3346560" y="3169800"/>
              <a:ext cx="579240" cy="1139760"/>
              <a:chOff x="3346560" y="3169800"/>
              <a:chExt cx="579240" cy="11397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346560" y="3169800"/>
                <a:ext cx="260280" cy="557280"/>
                <a:chOff x="3346560" y="3169800"/>
                <a:chExt cx="260280" cy="557280"/>
              </a:xfrm>
            </p:grpSpPr>
            <p:sp>
              <p:nvSpPr>
                <p:cNvPr id="292" name="Line 10"/>
                <p:cNvSpPr/>
                <p:nvPr/>
              </p:nvSpPr>
              <p:spPr>
                <a:xfrm>
                  <a:off x="3346560" y="3169800"/>
                  <a:ext cx="260280" cy="55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3346560" y="3169800"/>
                  <a:ext cx="2602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Text Box 12"/>
              <p:cNvSpPr/>
              <p:nvPr/>
            </p:nvSpPr>
            <p:spPr>
              <a:xfrm>
                <a:off x="3349440" y="36669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3623760" y="3201840"/>
              <a:ext cx="682920" cy="1320480"/>
              <a:chOff x="3623760" y="3201840"/>
              <a:chExt cx="682920" cy="1320480"/>
            </a:xfrm>
          </p:grpSpPr>
          <p:grpSp>
            <p:nvGrpSpPr>
              <p:cNvPr id="296" name="Group 66"/>
              <p:cNvGrpSpPr/>
              <p:nvPr/>
            </p:nvGrpSpPr>
            <p:grpSpPr>
              <a:xfrm>
                <a:off x="3623760" y="3201840"/>
                <a:ext cx="682920" cy="1320480"/>
                <a:chOff x="3623760" y="3201840"/>
                <a:chExt cx="682920" cy="132048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4306320" y="3201840"/>
                  <a:ext cx="360" cy="1320120"/>
                  <a:chOff x="4306320" y="3201840"/>
                  <a:chExt cx="360" cy="1320120"/>
                </a:xfrm>
              </p:grpSpPr>
              <p:sp>
                <p:nvSpPr>
                  <p:cNvPr id="298" name="Line 15"/>
                  <p:cNvSpPr/>
                  <p:nvPr/>
                </p:nvSpPr>
                <p:spPr>
                  <a:xfrm>
                    <a:off x="4306680" y="3201840"/>
                    <a:ext cx="0" cy="132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 txBox="1"/>
                  <p:nvPr/>
                </p:nvSpPr>
                <p:spPr>
                  <a:xfrm>
                    <a:off x="4306320" y="3201840"/>
                    <a:ext cx="360" cy="132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623760" y="4521960"/>
                  <a:ext cx="682920" cy="360"/>
                  <a:chOff x="3623760" y="4521960"/>
                  <a:chExt cx="682920" cy="360"/>
                </a:xfrm>
              </p:grpSpPr>
              <p:sp>
                <p:nvSpPr>
                  <p:cNvPr id="301" name="Line 16"/>
                  <p:cNvSpPr/>
                  <p:nvPr/>
                </p:nvSpPr>
                <p:spPr>
                  <a:xfrm flipH="1">
                    <a:off x="3623760" y="4521960"/>
                    <a:ext cx="682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3623760" y="4521960"/>
                    <a:ext cx="68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3623760" y="4289040"/>
                <a:ext cx="360" cy="232920"/>
                <a:chOff x="3623760" y="4289040"/>
                <a:chExt cx="360" cy="232920"/>
              </a:xfrm>
            </p:grpSpPr>
            <p:sp>
              <p:nvSpPr>
                <p:cNvPr id="304" name="Line 18"/>
                <p:cNvSpPr/>
                <p:nvPr/>
              </p:nvSpPr>
              <p:spPr>
                <a:xfrm flipV="1">
                  <a:off x="3623760" y="428904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 rot="10800000">
                  <a:off x="3623760" y="428904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Text Box 20"/>
            <p:cNvSpPr/>
            <p:nvPr/>
          </p:nvSpPr>
          <p:spPr>
            <a:xfrm>
              <a:off x="3457440" y="454464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4822920" y="259848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72"/>
          <p:cNvGrpSpPr/>
          <p:nvPr/>
        </p:nvGrpSpPr>
        <p:grpSpPr>
          <a:xfrm>
            <a:off x="6227640" y="2492280"/>
            <a:ext cx="2881440" cy="2695320"/>
            <a:chOff x="6227640" y="2492280"/>
            <a:chExt cx="2881440" cy="2695320"/>
          </a:xfrm>
        </p:grpSpPr>
        <p:sp>
          <p:nvSpPr>
            <p:cNvPr id="309" name="标题 1"/>
            <p:cNvSpPr/>
            <p:nvPr/>
          </p:nvSpPr>
          <p:spPr>
            <a:xfrm>
              <a:off x="6227640" y="2492280"/>
              <a:ext cx="2881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74"/>
            <p:cNvGrpSpPr/>
            <p:nvPr/>
          </p:nvGrpSpPr>
          <p:grpSpPr>
            <a:xfrm>
              <a:off x="6910560" y="3157560"/>
              <a:ext cx="576000" cy="1158480"/>
              <a:chOff x="6910560" y="3157560"/>
              <a:chExt cx="576000" cy="115848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7125840" y="3157560"/>
                <a:ext cx="287280" cy="576360"/>
                <a:chOff x="7125840" y="3157560"/>
                <a:chExt cx="287280" cy="576360"/>
              </a:xfrm>
            </p:grpSpPr>
            <p:sp>
              <p:nvSpPr>
                <p:cNvPr id="312" name="Line 9"/>
                <p:cNvSpPr/>
                <p:nvPr/>
              </p:nvSpPr>
              <p:spPr>
                <a:xfrm flipH="1">
                  <a:off x="7125840" y="3157560"/>
                  <a:ext cx="28692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 txBox="1"/>
                <p:nvPr/>
              </p:nvSpPr>
              <p:spPr>
                <a:xfrm>
                  <a:off x="7126200" y="3157560"/>
                  <a:ext cx="286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"/>
              <p:cNvSpPr/>
              <p:nvPr/>
            </p:nvSpPr>
            <p:spPr>
              <a:xfrm>
                <a:off x="6910560" y="36734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77"/>
            <p:cNvGrpSpPr/>
            <p:nvPr/>
          </p:nvGrpSpPr>
          <p:grpSpPr>
            <a:xfrm>
              <a:off x="7412040" y="3170160"/>
              <a:ext cx="579240" cy="1139760"/>
              <a:chOff x="7412040" y="3170160"/>
              <a:chExt cx="579240" cy="11397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7412040" y="3170160"/>
                <a:ext cx="260280" cy="557280"/>
                <a:chOff x="7412040" y="3170160"/>
                <a:chExt cx="260280" cy="557280"/>
              </a:xfrm>
            </p:grpSpPr>
            <p:sp>
              <p:nvSpPr>
                <p:cNvPr id="317" name="Line 10"/>
                <p:cNvSpPr/>
                <p:nvPr/>
              </p:nvSpPr>
              <p:spPr>
                <a:xfrm>
                  <a:off x="7412040" y="3170160"/>
                  <a:ext cx="260280" cy="55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7412040" y="3170160"/>
                  <a:ext cx="2602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12"/>
              <p:cNvSpPr/>
              <p:nvPr/>
            </p:nvSpPr>
            <p:spPr>
              <a:xfrm>
                <a:off x="7414920" y="36673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80"/>
            <p:cNvGrpSpPr/>
            <p:nvPr/>
          </p:nvGrpSpPr>
          <p:grpSpPr>
            <a:xfrm>
              <a:off x="6443640" y="3201840"/>
              <a:ext cx="695520" cy="1320480"/>
              <a:chOff x="6443640" y="3201840"/>
              <a:chExt cx="695520" cy="1320480"/>
            </a:xfrm>
          </p:grpSpPr>
          <p:grpSp>
            <p:nvGrpSpPr>
              <p:cNvPr id="321" name="Group 81"/>
              <p:cNvGrpSpPr/>
              <p:nvPr/>
            </p:nvGrpSpPr>
            <p:grpSpPr>
              <a:xfrm>
                <a:off x="6443640" y="3201840"/>
                <a:ext cx="695520" cy="1320480"/>
                <a:chOff x="6443640" y="3201840"/>
                <a:chExt cx="695520" cy="132048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6443640" y="3201840"/>
                  <a:ext cx="360" cy="1320120"/>
                  <a:chOff x="6443640" y="3201840"/>
                  <a:chExt cx="360" cy="1320120"/>
                </a:xfrm>
              </p:grpSpPr>
              <p:sp>
                <p:nvSpPr>
                  <p:cNvPr id="323" name="Line 15"/>
                  <p:cNvSpPr/>
                  <p:nvPr/>
                </p:nvSpPr>
                <p:spPr>
                  <a:xfrm>
                    <a:off x="6443640" y="3201840"/>
                    <a:ext cx="0" cy="132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 txBox="1"/>
                  <p:nvPr/>
                </p:nvSpPr>
                <p:spPr>
                  <a:xfrm>
                    <a:off x="6443640" y="3201840"/>
                    <a:ext cx="360" cy="132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443640" y="4521960"/>
                  <a:ext cx="695520" cy="360"/>
                  <a:chOff x="6443640" y="4521960"/>
                  <a:chExt cx="695520" cy="360"/>
                </a:xfrm>
              </p:grpSpPr>
              <p:sp>
                <p:nvSpPr>
                  <p:cNvPr id="326" name="Line 16"/>
                  <p:cNvSpPr/>
                  <p:nvPr/>
                </p:nvSpPr>
                <p:spPr>
                  <a:xfrm>
                    <a:off x="6443640" y="4521960"/>
                    <a:ext cx="695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 txBox="1"/>
                  <p:nvPr/>
                </p:nvSpPr>
                <p:spPr>
                  <a:xfrm>
                    <a:off x="6443640" y="4521960"/>
                    <a:ext cx="69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"/>
              <p:cNvGrpSpPr/>
              <p:nvPr/>
            </p:nvGrpSpPr>
            <p:grpSpPr>
              <a:xfrm>
                <a:off x="7138800" y="4289040"/>
                <a:ext cx="360" cy="232920"/>
                <a:chOff x="7138800" y="4289040"/>
                <a:chExt cx="360" cy="232920"/>
              </a:xfrm>
            </p:grpSpPr>
            <p:sp>
              <p:nvSpPr>
                <p:cNvPr id="329" name="Line 18"/>
                <p:cNvSpPr/>
                <p:nvPr/>
              </p:nvSpPr>
              <p:spPr>
                <a:xfrm flipV="1">
                  <a:off x="7139160" y="428904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 rot="10800000">
                  <a:off x="7138800" y="428904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Text Box 20"/>
            <p:cNvSpPr/>
            <p:nvPr/>
          </p:nvSpPr>
          <p:spPr>
            <a:xfrm>
              <a:off x="6307200" y="454500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1"/>
            <p:cNvSpPr/>
            <p:nvPr/>
          </p:nvSpPr>
          <p:spPr>
            <a:xfrm>
              <a:off x="7931160" y="259884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4917960" y="2914560"/>
            <a:ext cx="35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7164360" y="291132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971640" y="2905200"/>
            <a:ext cx="31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174840" y="291132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7"/>
          <p:cNvSpPr/>
          <p:nvPr/>
        </p:nvSpPr>
        <p:spPr>
          <a:xfrm>
            <a:off x="7267680" y="2986200"/>
            <a:ext cx="79200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3279600" y="2987640"/>
            <a:ext cx="79236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466560" y="1557360"/>
            <a:ext cx="6758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独立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4"/>
          <p:cNvSpPr/>
          <p:nvPr/>
        </p:nvSpPr>
        <p:spPr>
          <a:xfrm>
            <a:off x="1103400" y="499104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先独立算，再把你的方法跟同桌同学交流一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1103400" y="556416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：说说你是怎么算的。怎样想能很快说出得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0" descr="311"/>
          <p:cNvPicPr/>
          <p:nvPr/>
        </p:nvPicPr>
        <p:blipFill>
          <a:blip r:embed="rId1"/>
          <a:stretch/>
        </p:blipFill>
        <p:spPr>
          <a:xfrm>
            <a:off x="666720" y="2567160"/>
            <a:ext cx="7921800" cy="2004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466560" y="1557000"/>
            <a:ext cx="479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方正楷体简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5"/>
          <p:cNvSpPr/>
          <p:nvPr/>
        </p:nvSpPr>
        <p:spPr>
          <a:xfrm>
            <a:off x="1573200" y="5013360"/>
            <a:ext cx="68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幅图各表示什么意思？能说一说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2357280" y="5510160"/>
            <a:ext cx="48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看图列出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1177920" y="4108320"/>
            <a:ext cx="2335320" cy="512280"/>
            <a:chOff x="1177920" y="4108320"/>
            <a:chExt cx="2335320" cy="512280"/>
          </a:xfrm>
        </p:grpSpPr>
        <p:sp>
          <p:nvSpPr>
            <p:cNvPr id="348" name="Text Box 25"/>
            <p:cNvSpPr/>
            <p:nvPr/>
          </p:nvSpPr>
          <p:spPr>
            <a:xfrm>
              <a:off x="1177920" y="413064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5"/>
            <p:cNvSpPr/>
            <p:nvPr/>
          </p:nvSpPr>
          <p:spPr>
            <a:xfrm>
              <a:off x="1657440" y="410832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2139840" y="413064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5"/>
            <p:cNvSpPr/>
            <p:nvPr/>
          </p:nvSpPr>
          <p:spPr>
            <a:xfrm>
              <a:off x="2865600" y="412740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24"/>
          <p:cNvGrpSpPr/>
          <p:nvPr/>
        </p:nvGrpSpPr>
        <p:grpSpPr>
          <a:xfrm>
            <a:off x="5270400" y="4113360"/>
            <a:ext cx="2362320" cy="505800"/>
            <a:chOff x="5270400" y="4113360"/>
            <a:chExt cx="2362320" cy="505800"/>
          </a:xfrm>
        </p:grpSpPr>
        <p:sp>
          <p:nvSpPr>
            <p:cNvPr id="353" name="Text Box 25"/>
            <p:cNvSpPr/>
            <p:nvPr/>
          </p:nvSpPr>
          <p:spPr>
            <a:xfrm>
              <a:off x="5270400" y="412920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25"/>
            <p:cNvSpPr/>
            <p:nvPr/>
          </p:nvSpPr>
          <p:spPr>
            <a:xfrm>
              <a:off x="5786280" y="4121280"/>
              <a:ext cx="648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5"/>
            <p:cNvSpPr/>
            <p:nvPr/>
          </p:nvSpPr>
          <p:spPr>
            <a:xfrm>
              <a:off x="6257880" y="411336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6985080" y="412416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15"/>
          <p:cNvSpPr/>
          <p:nvPr/>
        </p:nvSpPr>
        <p:spPr>
          <a:xfrm>
            <a:off x="2354400" y="6040440"/>
            <a:ext cx="48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用加法计算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73"/>
          <p:cNvGrpSpPr/>
          <p:nvPr/>
        </p:nvGrpSpPr>
        <p:grpSpPr>
          <a:xfrm>
            <a:off x="7596360" y="5403960"/>
            <a:ext cx="1223640" cy="1120680"/>
            <a:chOff x="7596360" y="5403960"/>
            <a:chExt cx="1223640" cy="1120680"/>
          </a:xfrm>
        </p:grpSpPr>
        <p:pic>
          <p:nvPicPr>
            <p:cNvPr id="360" name="Picture 74" descr="310"/>
            <p:cNvPicPr/>
            <p:nvPr/>
          </p:nvPicPr>
          <p:blipFill>
            <a:blip r:embed="rId1"/>
            <a:stretch/>
          </p:blipFill>
          <p:spPr>
            <a:xfrm>
              <a:off x="7596360" y="5403960"/>
              <a:ext cx="1223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Box 11"/>
            <p:cNvSpPr/>
            <p:nvPr/>
          </p:nvSpPr>
          <p:spPr>
            <a:xfrm>
              <a:off x="788328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60"/>
          <p:cNvGrpSpPr/>
          <p:nvPr/>
        </p:nvGrpSpPr>
        <p:grpSpPr>
          <a:xfrm>
            <a:off x="398520" y="5403960"/>
            <a:ext cx="1224000" cy="1120680"/>
            <a:chOff x="398520" y="5403960"/>
            <a:chExt cx="1224000" cy="1120680"/>
          </a:xfrm>
        </p:grpSpPr>
        <p:pic>
          <p:nvPicPr>
            <p:cNvPr id="363" name="Picture 59" descr="310"/>
            <p:cNvPicPr/>
            <p:nvPr/>
          </p:nvPicPr>
          <p:blipFill>
            <a:blip r:embed="rId2"/>
            <a:stretch/>
          </p:blipFill>
          <p:spPr>
            <a:xfrm>
              <a:off x="39852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11"/>
            <p:cNvSpPr/>
            <p:nvPr/>
          </p:nvSpPr>
          <p:spPr>
            <a:xfrm>
              <a:off x="68580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61"/>
          <p:cNvGrpSpPr/>
          <p:nvPr/>
        </p:nvGrpSpPr>
        <p:grpSpPr>
          <a:xfrm>
            <a:off x="1838160" y="5403960"/>
            <a:ext cx="1224000" cy="1120680"/>
            <a:chOff x="1838160" y="5403960"/>
            <a:chExt cx="1224000" cy="1120680"/>
          </a:xfrm>
        </p:grpSpPr>
        <p:pic>
          <p:nvPicPr>
            <p:cNvPr id="366" name="Picture 62" descr="310"/>
            <p:cNvPicPr/>
            <p:nvPr/>
          </p:nvPicPr>
          <p:blipFill>
            <a:blip r:embed="rId3"/>
            <a:stretch/>
          </p:blipFill>
          <p:spPr>
            <a:xfrm>
              <a:off x="183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Box 11"/>
            <p:cNvSpPr/>
            <p:nvPr/>
          </p:nvSpPr>
          <p:spPr>
            <a:xfrm>
              <a:off x="212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64"/>
          <p:cNvGrpSpPr/>
          <p:nvPr/>
        </p:nvGrpSpPr>
        <p:grpSpPr>
          <a:xfrm>
            <a:off x="3278160" y="5403960"/>
            <a:ext cx="1224000" cy="1120680"/>
            <a:chOff x="3278160" y="5403960"/>
            <a:chExt cx="1224000" cy="1120680"/>
          </a:xfrm>
        </p:grpSpPr>
        <p:pic>
          <p:nvPicPr>
            <p:cNvPr id="369" name="Picture 65" descr="310"/>
            <p:cNvPicPr/>
            <p:nvPr/>
          </p:nvPicPr>
          <p:blipFill>
            <a:blip r:embed="rId4"/>
            <a:stretch/>
          </p:blipFill>
          <p:spPr>
            <a:xfrm>
              <a:off x="327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11"/>
            <p:cNvSpPr/>
            <p:nvPr/>
          </p:nvSpPr>
          <p:spPr>
            <a:xfrm>
              <a:off x="356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7"/>
          <p:cNvGrpSpPr/>
          <p:nvPr/>
        </p:nvGrpSpPr>
        <p:grpSpPr>
          <a:xfrm>
            <a:off x="4718160" y="5403960"/>
            <a:ext cx="1224000" cy="1120680"/>
            <a:chOff x="4718160" y="5403960"/>
            <a:chExt cx="1224000" cy="1120680"/>
          </a:xfrm>
        </p:grpSpPr>
        <p:pic>
          <p:nvPicPr>
            <p:cNvPr id="372" name="Picture 68" descr="310"/>
            <p:cNvPicPr/>
            <p:nvPr/>
          </p:nvPicPr>
          <p:blipFill>
            <a:blip r:embed="rId5"/>
            <a:stretch/>
          </p:blipFill>
          <p:spPr>
            <a:xfrm>
              <a:off x="471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11"/>
            <p:cNvSpPr/>
            <p:nvPr/>
          </p:nvSpPr>
          <p:spPr>
            <a:xfrm>
              <a:off x="500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70"/>
          <p:cNvGrpSpPr/>
          <p:nvPr/>
        </p:nvGrpSpPr>
        <p:grpSpPr>
          <a:xfrm>
            <a:off x="6156360" y="5403960"/>
            <a:ext cx="1224000" cy="1120680"/>
            <a:chOff x="6156360" y="5403960"/>
            <a:chExt cx="1224000" cy="1120680"/>
          </a:xfrm>
        </p:grpSpPr>
        <p:pic>
          <p:nvPicPr>
            <p:cNvPr id="375" name="Picture 71" descr="310"/>
            <p:cNvPicPr/>
            <p:nvPr/>
          </p:nvPicPr>
          <p:blipFill>
            <a:blip r:embed="rId6"/>
            <a:stretch/>
          </p:blipFill>
          <p:spPr>
            <a:xfrm>
              <a:off x="61563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11"/>
            <p:cNvSpPr/>
            <p:nvPr/>
          </p:nvSpPr>
          <p:spPr>
            <a:xfrm>
              <a:off x="64436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6"/>
          <p:cNvSpPr/>
          <p:nvPr/>
        </p:nvSpPr>
        <p:spPr>
          <a:xfrm>
            <a:off x="466560" y="1557000"/>
            <a:ext cx="378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水果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87"/>
          <p:cNvGrpSpPr/>
          <p:nvPr/>
        </p:nvGrpSpPr>
        <p:grpSpPr>
          <a:xfrm>
            <a:off x="2014560" y="2349360"/>
            <a:ext cx="1271160" cy="860040"/>
            <a:chOff x="2014560" y="2349360"/>
            <a:chExt cx="1271160" cy="860040"/>
          </a:xfrm>
        </p:grpSpPr>
        <p:pic>
          <p:nvPicPr>
            <p:cNvPr id="380" name="Picture 88" descr="308"/>
            <p:cNvPicPr/>
            <p:nvPr/>
          </p:nvPicPr>
          <p:blipFill>
            <a:blip r:embed="rId7"/>
            <a:stretch/>
          </p:blipFill>
          <p:spPr>
            <a:xfrm>
              <a:off x="2014560" y="2349360"/>
              <a:ext cx="127116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89"/>
            <p:cNvSpPr/>
            <p:nvPr/>
          </p:nvSpPr>
          <p:spPr>
            <a:xfrm>
              <a:off x="2165400" y="2519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93"/>
          <p:cNvGrpSpPr/>
          <p:nvPr/>
        </p:nvGrpSpPr>
        <p:grpSpPr>
          <a:xfrm>
            <a:off x="3346560" y="2382840"/>
            <a:ext cx="1226880" cy="826920"/>
            <a:chOff x="3346560" y="2382840"/>
            <a:chExt cx="1226880" cy="826920"/>
          </a:xfrm>
        </p:grpSpPr>
        <p:pic>
          <p:nvPicPr>
            <p:cNvPr id="383" name="Picture 94" descr="308"/>
            <p:cNvPicPr/>
            <p:nvPr/>
          </p:nvPicPr>
          <p:blipFill>
            <a:blip r:embed="rId8"/>
            <a:stretch/>
          </p:blipFill>
          <p:spPr>
            <a:xfrm>
              <a:off x="334656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Rectangle 95"/>
            <p:cNvSpPr/>
            <p:nvPr/>
          </p:nvSpPr>
          <p:spPr>
            <a:xfrm>
              <a:off x="34912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9"/>
          <p:cNvGrpSpPr/>
          <p:nvPr/>
        </p:nvGrpSpPr>
        <p:grpSpPr>
          <a:xfrm>
            <a:off x="4632480" y="2382840"/>
            <a:ext cx="1226880" cy="826920"/>
            <a:chOff x="4632480" y="2382840"/>
            <a:chExt cx="1226880" cy="826920"/>
          </a:xfrm>
        </p:grpSpPr>
        <p:pic>
          <p:nvPicPr>
            <p:cNvPr id="386" name="Picture 100" descr="308"/>
            <p:cNvPicPr/>
            <p:nvPr/>
          </p:nvPicPr>
          <p:blipFill>
            <a:blip r:embed="rId9"/>
            <a:stretch/>
          </p:blipFill>
          <p:spPr>
            <a:xfrm>
              <a:off x="463248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101"/>
            <p:cNvSpPr/>
            <p:nvPr/>
          </p:nvSpPr>
          <p:spPr>
            <a:xfrm>
              <a:off x="477720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5"/>
          <p:cNvGrpSpPr/>
          <p:nvPr/>
        </p:nvGrpSpPr>
        <p:grpSpPr>
          <a:xfrm>
            <a:off x="5915160" y="2382840"/>
            <a:ext cx="1226880" cy="826920"/>
            <a:chOff x="5915160" y="2382840"/>
            <a:chExt cx="1226880" cy="826920"/>
          </a:xfrm>
        </p:grpSpPr>
        <p:pic>
          <p:nvPicPr>
            <p:cNvPr id="389" name="Picture 106" descr="308"/>
            <p:cNvPicPr/>
            <p:nvPr/>
          </p:nvPicPr>
          <p:blipFill>
            <a:blip r:embed="rId10"/>
            <a:stretch/>
          </p:blipFill>
          <p:spPr>
            <a:xfrm>
              <a:off x="591516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107"/>
            <p:cNvSpPr/>
            <p:nvPr/>
          </p:nvSpPr>
          <p:spPr>
            <a:xfrm>
              <a:off x="60598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11"/>
          <p:cNvGrpSpPr/>
          <p:nvPr/>
        </p:nvGrpSpPr>
        <p:grpSpPr>
          <a:xfrm>
            <a:off x="7184880" y="2382840"/>
            <a:ext cx="1227240" cy="826920"/>
            <a:chOff x="7184880" y="2382840"/>
            <a:chExt cx="1227240" cy="826920"/>
          </a:xfrm>
        </p:grpSpPr>
        <p:pic>
          <p:nvPicPr>
            <p:cNvPr id="392" name="Picture 112" descr="308"/>
            <p:cNvPicPr/>
            <p:nvPr/>
          </p:nvPicPr>
          <p:blipFill>
            <a:blip r:embed="rId11"/>
            <a:stretch/>
          </p:blipFill>
          <p:spPr>
            <a:xfrm>
              <a:off x="7184880" y="23828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113"/>
            <p:cNvSpPr/>
            <p:nvPr/>
          </p:nvSpPr>
          <p:spPr>
            <a:xfrm>
              <a:off x="733032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17"/>
          <p:cNvGrpSpPr/>
          <p:nvPr/>
        </p:nvGrpSpPr>
        <p:grpSpPr>
          <a:xfrm>
            <a:off x="755640" y="3297240"/>
            <a:ext cx="1227240" cy="826920"/>
            <a:chOff x="755640" y="3297240"/>
            <a:chExt cx="1227240" cy="826920"/>
          </a:xfrm>
        </p:grpSpPr>
        <p:pic>
          <p:nvPicPr>
            <p:cNvPr id="395" name="Picture 118" descr="308"/>
            <p:cNvPicPr/>
            <p:nvPr/>
          </p:nvPicPr>
          <p:blipFill>
            <a:blip r:embed="rId12"/>
            <a:stretch/>
          </p:blipFill>
          <p:spPr>
            <a:xfrm>
              <a:off x="755640" y="32972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119"/>
            <p:cNvSpPr/>
            <p:nvPr/>
          </p:nvSpPr>
          <p:spPr>
            <a:xfrm>
              <a:off x="9010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20"/>
          <p:cNvGrpSpPr/>
          <p:nvPr/>
        </p:nvGrpSpPr>
        <p:grpSpPr>
          <a:xfrm>
            <a:off x="2014560" y="3263760"/>
            <a:ext cx="1271160" cy="860040"/>
            <a:chOff x="2014560" y="3263760"/>
            <a:chExt cx="1271160" cy="860040"/>
          </a:xfrm>
        </p:grpSpPr>
        <p:pic>
          <p:nvPicPr>
            <p:cNvPr id="398" name="Picture 121" descr="308"/>
            <p:cNvPicPr/>
            <p:nvPr/>
          </p:nvPicPr>
          <p:blipFill>
            <a:blip r:embed="rId13"/>
            <a:stretch/>
          </p:blipFill>
          <p:spPr>
            <a:xfrm>
              <a:off x="2014560" y="3263760"/>
              <a:ext cx="127116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Rectangle 122"/>
            <p:cNvSpPr/>
            <p:nvPr/>
          </p:nvSpPr>
          <p:spPr>
            <a:xfrm>
              <a:off x="2165400" y="3433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23"/>
          <p:cNvGrpSpPr/>
          <p:nvPr/>
        </p:nvGrpSpPr>
        <p:grpSpPr>
          <a:xfrm>
            <a:off x="3346560" y="3297240"/>
            <a:ext cx="1226880" cy="826920"/>
            <a:chOff x="3346560" y="3297240"/>
            <a:chExt cx="1226880" cy="826920"/>
          </a:xfrm>
        </p:grpSpPr>
        <p:pic>
          <p:nvPicPr>
            <p:cNvPr id="401" name="Picture 124" descr="308"/>
            <p:cNvPicPr/>
            <p:nvPr/>
          </p:nvPicPr>
          <p:blipFill>
            <a:blip r:embed="rId14"/>
            <a:stretch/>
          </p:blipFill>
          <p:spPr>
            <a:xfrm>
              <a:off x="334656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125"/>
            <p:cNvSpPr/>
            <p:nvPr/>
          </p:nvSpPr>
          <p:spPr>
            <a:xfrm>
              <a:off x="34912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26"/>
          <p:cNvGrpSpPr/>
          <p:nvPr/>
        </p:nvGrpSpPr>
        <p:grpSpPr>
          <a:xfrm>
            <a:off x="4632480" y="3297240"/>
            <a:ext cx="1226880" cy="826920"/>
            <a:chOff x="4632480" y="3297240"/>
            <a:chExt cx="1226880" cy="826920"/>
          </a:xfrm>
        </p:grpSpPr>
        <p:pic>
          <p:nvPicPr>
            <p:cNvPr id="404" name="Picture 127" descr="308"/>
            <p:cNvPicPr/>
            <p:nvPr/>
          </p:nvPicPr>
          <p:blipFill>
            <a:blip r:embed="rId15"/>
            <a:stretch/>
          </p:blipFill>
          <p:spPr>
            <a:xfrm>
              <a:off x="463248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Rectangle 128"/>
            <p:cNvSpPr/>
            <p:nvPr/>
          </p:nvSpPr>
          <p:spPr>
            <a:xfrm>
              <a:off x="477720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29"/>
          <p:cNvGrpSpPr/>
          <p:nvPr/>
        </p:nvGrpSpPr>
        <p:grpSpPr>
          <a:xfrm>
            <a:off x="5915160" y="3297240"/>
            <a:ext cx="1226880" cy="826920"/>
            <a:chOff x="5915160" y="3297240"/>
            <a:chExt cx="1226880" cy="826920"/>
          </a:xfrm>
        </p:grpSpPr>
        <p:pic>
          <p:nvPicPr>
            <p:cNvPr id="407" name="Picture 130" descr="308"/>
            <p:cNvPicPr/>
            <p:nvPr/>
          </p:nvPicPr>
          <p:blipFill>
            <a:blip r:embed="rId16"/>
            <a:stretch/>
          </p:blipFill>
          <p:spPr>
            <a:xfrm>
              <a:off x="591516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Rectangle 131"/>
            <p:cNvSpPr/>
            <p:nvPr/>
          </p:nvSpPr>
          <p:spPr>
            <a:xfrm>
              <a:off x="60598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32"/>
          <p:cNvGrpSpPr/>
          <p:nvPr/>
        </p:nvGrpSpPr>
        <p:grpSpPr>
          <a:xfrm>
            <a:off x="7184880" y="3297240"/>
            <a:ext cx="1227240" cy="826920"/>
            <a:chOff x="7184880" y="3297240"/>
            <a:chExt cx="1227240" cy="826920"/>
          </a:xfrm>
        </p:grpSpPr>
        <p:pic>
          <p:nvPicPr>
            <p:cNvPr id="410" name="Picture 133" descr="308"/>
            <p:cNvPicPr/>
            <p:nvPr/>
          </p:nvPicPr>
          <p:blipFill>
            <a:blip r:embed="rId17"/>
            <a:stretch/>
          </p:blipFill>
          <p:spPr>
            <a:xfrm>
              <a:off x="7184880" y="32972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134"/>
            <p:cNvSpPr/>
            <p:nvPr/>
          </p:nvSpPr>
          <p:spPr>
            <a:xfrm>
              <a:off x="733032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83"/>
          <p:cNvGrpSpPr/>
          <p:nvPr/>
        </p:nvGrpSpPr>
        <p:grpSpPr>
          <a:xfrm>
            <a:off x="755640" y="2382840"/>
            <a:ext cx="1227240" cy="826920"/>
            <a:chOff x="755640" y="2382840"/>
            <a:chExt cx="1227240" cy="826920"/>
          </a:xfrm>
        </p:grpSpPr>
        <p:pic>
          <p:nvPicPr>
            <p:cNvPr id="413" name="Picture 77" descr="308"/>
            <p:cNvPicPr/>
            <p:nvPr/>
          </p:nvPicPr>
          <p:blipFill>
            <a:blip r:embed="rId18"/>
            <a:stretch/>
          </p:blipFill>
          <p:spPr>
            <a:xfrm>
              <a:off x="755640" y="23828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78"/>
            <p:cNvSpPr/>
            <p:nvPr/>
          </p:nvSpPr>
          <p:spPr>
            <a:xfrm>
              <a:off x="9010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文本框 8196"/>
          <p:cNvSpPr/>
          <p:nvPr/>
        </p:nvSpPr>
        <p:spPr>
          <a:xfrm>
            <a:off x="826920" y="213192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0.43698 0.50185 E">
                                      <p:cBhvr>
                                        <p:cTn id="36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8351 0.50417 E">
                                      <p:cBhvr>
                                        <p:cTn id="36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32674 0.50185 E">
                                      <p:cBhvr>
                                        <p:cTn id="37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5243 0.50671 E">
                                      <p:cBhvr>
                                        <p:cTn id="38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-0.45017 0.50185 E">
                                      <p:cBhvr>
                                        <p:cTn id="392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-0.1165 0.50185 E">
                                      <p:cBhvr>
                                        <p:cTn id="400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43698 0.36852 E">
                                      <p:cBhvr>
                                        <p:cTn id="40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13941 0.37083 E">
                                      <p:cBhvr>
                                        <p:cTn id="416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-0.01181 0.36852 E">
                                      <p:cBhvr>
                                        <p:cTn id="424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30989 0.36852 E">
                                      <p:cBhvr>
                                        <p:cTn id="43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L 0.18767 0.36852 E">
                                      <p:cBhvr>
                                        <p:cTn id="440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-0.74653 0.3581 E">
                                      <p:cBhvr>
                                        <p:cTn id="448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2Z</dcterms:modified>
  <cp:revision>1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