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hammer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7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2-10-23T08:26:51.603000000" idx="2">
    <p:pos x="3591" y="149"/>
    <p:text/>
  </p:cm>
</p:cmLst>
</file>

<file path=ppt/comments/comment7.xml><?xml version="1.0" encoding="utf-8"?>
<p:cmLst xmlns:p="http://schemas.openxmlformats.org/presentationml/2006/main">
  <p:cm authorId="0" dt="2012-10-23T08:26:47.123000000" idx="1">
    <p:pos x="2913" y="284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3ED-4B15-4B09-ADBA-1B316C65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3FD-4005-4AC8-8327-8885041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1A0-E21E-4620-AD12-08530A97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8A7-A725-4583-8BB4-7FBA63B6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23E-F59C-4CFE-B17E-B0241EA7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1FD1-9082-45C5-BBA6-646401B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9CC3-3E73-405B-9842-0F649B98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8453-4AA5-4E9E-B87D-5072700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AB0-9647-4571-AC40-A811490A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3A2-DBF2-4429-BB89-B7F6997B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F565-45B6-40FC-A29C-23A3939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6DF-D681-4935-9D21-DF048C38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A1AF-6B73-4523-BAFA-C6AAB0D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1E8-49D2-44E1-B82D-0390CF9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8E92-16FA-4772-A595-3B921702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322-C798-44CE-A0C4-734F11F8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D71D-9286-41B0-95F0-790E8AF4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287-5527-4BD6-8286-05BD86F1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BD6-0510-4AA2-978F-3896FCF0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BB6-669C-4B8F-A426-EA249EC1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4BA-8624-4FDB-9D1B-7C5038CD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44F-DE45-40AE-AD09-6170D87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6E7-E5F3-4D8A-AFE2-CC8B1CA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B36-F85E-4D10-8F39-0725E0CF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3282-39A3-41B7-9EA9-316204A6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A627-15E3-4FBA-9265-A5BAFC552F1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5BA-3EEF-4BBA-B091-B0273B2C30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hyperlink" Target="http://www.eeppt.com/moban/" TargetMode="External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image" Target="../media/image7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7908840" y="6377040"/>
            <a:ext cx="1152360" cy="288720"/>
            <a:chOff x="7908840" y="6377040"/>
            <a:chExt cx="1152360" cy="288720"/>
          </a:xfrm>
        </p:grpSpPr>
        <p:sp>
          <p:nvSpPr>
            <p:cNvPr id="83" name="AutoShape 3">
              <a:hlinkClick r:id="" action="ppaction://hlinkshowjump?jump=nextslide"/>
            </p:cNvPr>
            <p:cNvSpPr/>
            <p:nvPr/>
          </p:nvSpPr>
          <p:spPr>
            <a:xfrm>
              <a:off x="8556480" y="6377040"/>
              <a:ext cx="504720" cy="288720"/>
            </a:xfrm>
            <a:prstGeom prst="rightArrow">
              <a:avLst>
                <a:gd name="adj1" fmla="val 50000"/>
                <a:gd name="adj2" fmla="val 4367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08840" y="6377040"/>
              <a:ext cx="504720" cy="288720"/>
            </a:xfrm>
            <a:prstGeom prst="rightArrow">
              <a:avLst>
                <a:gd name="adj1" fmla="val 50000"/>
                <a:gd name="adj2" fmla="val 4367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5" descr="Image00006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589752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1258920" y="2349360"/>
            <a:ext cx="669780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8</a:t>
            </a:r>
            <a:r>
              <a:rPr b="1" lang="zh-CN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、</a:t>
            </a:r>
            <a:r>
              <a:rPr b="1" lang="en-US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9</a:t>
            </a:r>
            <a:r>
              <a:rPr b="1" lang="zh-CN" sz="40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加减法的应用小学课件打包下载</a:t>
            </a:r>
            <a:endParaRPr b="1" lang="en-US" sz="4000" spc="1" strike="noStrike">
              <a:ln w="9360">
                <a:solidFill>
                  <a:srgbClr val="00cc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260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人教新课标一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215560" cy="43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ds知识应用"/>
          <p:cNvPicPr/>
          <p:nvPr/>
        </p:nvPicPr>
        <p:blipFill>
          <a:blip r:embed="rId2"/>
          <a:stretch/>
        </p:blipFill>
        <p:spPr>
          <a:xfrm>
            <a:off x="785880" y="399960"/>
            <a:ext cx="2244600" cy="666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32696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894680" y="429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57640" y="4371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08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003360" y="4413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0160" y="4456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未命名"/>
          <p:cNvPicPr/>
          <p:nvPr/>
        </p:nvPicPr>
        <p:blipFill>
          <a:blip r:embed="rId3"/>
          <a:stretch/>
        </p:blipFill>
        <p:spPr>
          <a:xfrm>
            <a:off x="7885080" y="5589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6877080" y="6021360"/>
            <a:ext cx="3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24000" y="1073160"/>
            <a:ext cx="8208720" cy="425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ds知识应用"/>
          <p:cNvPicPr/>
          <p:nvPr/>
        </p:nvPicPr>
        <p:blipFill>
          <a:blip r:embed="rId2"/>
          <a:stretch/>
        </p:blipFill>
        <p:spPr>
          <a:xfrm>
            <a:off x="785880" y="471600"/>
            <a:ext cx="2244600" cy="66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025280" y="4240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95520" y="425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9708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78160" y="431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25600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806440" y="4365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46416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7543800" y="443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未命名"/>
          <p:cNvPicPr/>
          <p:nvPr/>
        </p:nvPicPr>
        <p:blipFill>
          <a:blip r:embed="rId3"/>
          <a:stretch/>
        </p:blipFill>
        <p:spPr>
          <a:xfrm>
            <a:off x="7885080" y="5589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6877080" y="6021360"/>
            <a:ext cx="3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196"/>
          <p:cNvSpPr/>
          <p:nvPr/>
        </p:nvSpPr>
        <p:spPr>
          <a:xfrm>
            <a:off x="1187280" y="56610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达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176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08360" cy="141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3"/>
          <a:srcRect l="0" t="16260" r="0" b="0"/>
          <a:stretch/>
        </p:blipFill>
        <p:spPr>
          <a:xfrm>
            <a:off x="468360" y="3500280"/>
            <a:ext cx="7993080" cy="25527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4211640" y="1989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5        9        9       4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284720" y="2708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4        9        9       5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772-9B13-474E-A127-61114E9509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12446" t="0" r="0" b="0"/>
          <a:stretch/>
        </p:blipFill>
        <p:spPr>
          <a:xfrm>
            <a:off x="468360" y="2997360"/>
            <a:ext cx="7489800" cy="18637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5292720" y="1052640"/>
            <a:ext cx="3240000" cy="1512720"/>
          </a:xfrm>
          <a:prstGeom prst="wedgeRoundRectCallout">
            <a:avLst>
              <a:gd name="adj1" fmla="val -40152"/>
              <a:gd name="adj2" fmla="val 111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左边数，我排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从右边数，我排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50920" y="83664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一共有   个小朋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195640" y="981000"/>
            <a:ext cx="5032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124000" y="836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口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6=      9-1=    6+3=      8+1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+2=      8-2=    9-5=       5+4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6=       7-3=    8-4=      3+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104840"/>
            <a:ext cx="822960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说图意，列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★★★★★       ★★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＋（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－（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－（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henlin"/>
          <p:cNvPicPr/>
          <p:nvPr/>
        </p:nvPicPr>
        <p:blipFill>
          <a:blip r:embed="rId16"/>
          <a:stretch/>
        </p:blipFill>
        <p:spPr>
          <a:xfrm>
            <a:off x="0" y="476280"/>
            <a:ext cx="9144000" cy="66564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9" descr="56.jpg"/>
          <p:cNvPicPr/>
          <p:nvPr/>
        </p:nvPicPr>
        <p:blipFill>
          <a:blip r:embed="rId17"/>
          <a:stretch/>
        </p:blipFill>
        <p:spPr>
          <a:xfrm>
            <a:off x="3851280" y="105264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{9`4]NX(3T12FB(]V458{PJ"/>
          <p:cNvPicPr/>
          <p:nvPr/>
        </p:nvPicPr>
        <p:blipFill>
          <a:blip r:embed="rId18"/>
          <a:stretch/>
        </p:blipFill>
        <p:spPr>
          <a:xfrm>
            <a:off x="755640" y="278136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)[(XQ(TLU_O$B~R5%VUW}AV"/>
          <p:cNvPicPr/>
          <p:nvPr/>
        </p:nvPicPr>
        <p:blipFill>
          <a:blip r:embed="rId19"/>
          <a:stretch/>
        </p:blipFill>
        <p:spPr>
          <a:xfrm>
            <a:off x="3780000" y="2852640"/>
            <a:ext cx="145404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MDT(YQ6H)O4KXKV~)L0L2_J"/>
          <p:cNvPicPr/>
          <p:nvPr/>
        </p:nvPicPr>
        <p:blipFill>
          <a:blip r:embed="rId20"/>
          <a:stretch/>
        </p:blipFill>
        <p:spPr>
          <a:xfrm>
            <a:off x="6227640" y="292428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RTWRSEWHM5PQRO6LO{~RFXW"/>
          <p:cNvPicPr/>
          <p:nvPr/>
        </p:nvPicPr>
        <p:blipFill>
          <a:blip r:embed="rId21"/>
          <a:stretch/>
        </p:blipFill>
        <p:spPr>
          <a:xfrm>
            <a:off x="324000" y="4653000"/>
            <a:ext cx="1654200" cy="15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]OK2VNLIGJ$Y9HMD45[}8]P"/>
          <p:cNvPicPr/>
          <p:nvPr/>
        </p:nvPicPr>
        <p:blipFill>
          <a:blip r:embed="rId22"/>
          <a:stretch/>
        </p:blipFill>
        <p:spPr>
          <a:xfrm>
            <a:off x="2700360" y="4653000"/>
            <a:ext cx="1798560" cy="1477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2"/>
          <p:cNvPicPr/>
          <p:nvPr/>
        </p:nvPicPr>
        <p:blipFill>
          <a:blip r:embed="rId23"/>
          <a:srcRect l="4689" t="12984" r="61910" b="13799"/>
          <a:stretch/>
        </p:blipFill>
        <p:spPr>
          <a:xfrm>
            <a:off x="7020000" y="4653000"/>
            <a:ext cx="1828800" cy="1612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snap"/>
          <p:cNvPicPr/>
          <p:nvPr/>
        </p:nvPicPr>
        <p:blipFill>
          <a:blip r:embed="rId24"/>
          <a:srcRect l="31784" t="43434" r="50946" b="21455"/>
          <a:stretch/>
        </p:blipFill>
        <p:spPr>
          <a:xfrm>
            <a:off x="4932360" y="4653000"/>
            <a:ext cx="1654200" cy="143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99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7045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98"/>
          <p:cNvPicPr/>
          <p:nvPr/>
        </p:nvPicPr>
        <p:blipFill>
          <a:blip r:embed="rId1"/>
          <a:stretch/>
        </p:blipFill>
        <p:spPr>
          <a:xfrm>
            <a:off x="468360" y="981000"/>
            <a:ext cx="7920000" cy="420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26920" y="52293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从图中你知道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98"/>
          <p:cNvPicPr/>
          <p:nvPr/>
        </p:nvPicPr>
        <p:blipFill>
          <a:blip r:embed="rId1"/>
          <a:stretch/>
        </p:blipFill>
        <p:spPr>
          <a:xfrm>
            <a:off x="0" y="0"/>
            <a:ext cx="6624720" cy="3519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68360" y="3645000"/>
            <a:ext cx="48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一共有（     ）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跑走（     ）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95640" y="357336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619280" y="4292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516720" y="170028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要解决的问题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52"/>
          <p:cNvPicPr/>
          <p:nvPr/>
        </p:nvPicPr>
        <p:blipFill>
          <a:blip r:embed="rId2"/>
          <a:stretch/>
        </p:blipFill>
        <p:spPr>
          <a:xfrm>
            <a:off x="3995640" y="4292640"/>
            <a:ext cx="3313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4067280" y="4508640"/>
            <a:ext cx="50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  -   3    6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556000" y="5516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答：还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2379240" y="336744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6"/>
          <p:cNvSpPr/>
          <p:nvPr/>
        </p:nvSpPr>
        <p:spPr>
          <a:xfrm>
            <a:off x="169236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95"/>
          <p:cNvPicPr/>
          <p:nvPr/>
        </p:nvPicPr>
        <p:blipFill>
          <a:blip r:embed="rId1"/>
          <a:stretch/>
        </p:blipFill>
        <p:spPr>
          <a:xfrm>
            <a:off x="755640" y="1197000"/>
            <a:ext cx="5977080" cy="236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835280" y="9079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树根下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个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96"/>
          <p:cNvPicPr/>
          <p:nvPr/>
        </p:nvPicPr>
        <p:blipFill>
          <a:blip r:embed="rId2"/>
          <a:stretch/>
        </p:blipFill>
        <p:spPr>
          <a:xfrm>
            <a:off x="4788000" y="765000"/>
            <a:ext cx="792000" cy="115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611280" y="4076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草地上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左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，右边有几个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11280" y="479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草地上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右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，左边有几个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11280" y="5516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左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右边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蘑菇，一共有几个蘑菇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97"/>
          <p:cNvPicPr/>
          <p:nvPr/>
        </p:nvPicPr>
        <p:blipFill>
          <a:blip r:embed="rId1"/>
          <a:stretch/>
        </p:blipFill>
        <p:spPr>
          <a:xfrm>
            <a:off x="395280" y="765000"/>
            <a:ext cx="8280360" cy="2691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611280" y="371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说说图意，并列式计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494172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8-3=5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（只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2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