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8690-39E2-4C02-8C4D-A488A24BA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10E5-BF1D-465C-8DAA-CF4B7FFC9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48CE-331F-410F-B34C-C84870ACA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6F9A-A44F-423D-97DB-FB0B62FA9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FA2B6-0E76-4132-99A3-AD53C0EEA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A2732-E7D5-4657-8B82-F952236E5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CD0F4-406B-4645-9346-752291976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D5C08-2A19-4DB7-9061-EE14E15AA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7FE33-E434-4C33-8AC3-8AF2A5DCF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B3416-B225-44E5-A607-0D79A2B13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2B6F0-70B7-41D9-BA6F-4E001716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940A-90D8-4AD8-8535-28A4CC883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CBF21-6814-4841-A053-18325A6F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84B9A-D72D-46AA-86CD-EB8246A7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4968A-B0D3-4374-921A-18DE5BB3E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EDBFA-A0D0-4937-A47B-E47CD0B96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CFE03-27E8-498D-B559-991887CC6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0FE4-E7B3-4E11-AA10-97229A512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09D0-5634-4530-ADE6-D546E044D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83AD-A388-42B8-88F6-AD9109370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1639-02CE-4144-ACE3-6D13A1156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F044-F660-4957-873F-F29FC692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99F7-F415-4E3A-BFE6-10D8D615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4949-64D0-46AD-A684-33FF3EE2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E1196-DBB5-445F-991F-BF7A69783BF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6BD42-28CB-4CF4-8985-6B5531ED86C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AAC3F-9004-4130-AB1C-99B651D7718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60,5,&#24187;&#28783;&#29255; 5" TargetMode="External"/><Relationship Id="rId3" Type="http://schemas.openxmlformats.org/officeDocument/2006/relationships/hyperlink" Target="280,17,&#24187;&#28783;&#29255; 17" TargetMode="External"/><Relationship Id="rId4" Type="http://schemas.openxmlformats.org/officeDocument/2006/relationships/hyperlink" Target="257,3,&#24187;&#28783;&#29255; 3" TargetMode="External"/><Relationship Id="rId5" Type="http://schemas.openxmlformats.org/officeDocument/2006/relationships/hyperlink" Target="297,4,&#24187;&#28783;&#29255; 4" TargetMode="External"/><Relationship Id="rId6" Type="http://schemas.openxmlformats.org/officeDocument/2006/relationships/hyperlink" Target="261,6,&#24187;&#28783;&#29255; 6" TargetMode="External"/><Relationship Id="rId7" Type="http://schemas.openxmlformats.org/officeDocument/2006/relationships/hyperlink" Target="262,15,&#24187;&#28783;&#29255; 15" TargetMode="External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hyperlink" Target="300,3,&#24187;&#28783;&#29255; 3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hyperlink" Target="300,3,&#24187;&#28783;&#29255; 3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hyperlink" Target="300,3,&#24187;&#28783;&#29255; 3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hyperlink" Target="300,3,&#24187;&#28783;&#29255; 3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hyperlink" Target="300,3,&#24187;&#28783;&#29255; 3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2" descr="背景5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WordArt 4"/>
          <p:cNvSpPr txBox="1"/>
          <p:nvPr/>
        </p:nvSpPr>
        <p:spPr>
          <a:xfrm>
            <a:off x="1835280" y="1125360"/>
            <a:ext cx="6132240" cy="80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阿德的梦语文课件</a:t>
            </a:r>
            <a:r>
              <a:rPr b="1" lang="en-US" sz="40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PPT</a:t>
            </a:r>
            <a:r>
              <a:rPr b="1" lang="zh-CN" sz="40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模板下载</a:t>
            </a:r>
            <a:endParaRPr b="1" lang="en-US" sz="4000" spc="1" strike="noStrike">
              <a:ln w="9360">
                <a:solidFill>
                  <a:srgbClr val="ffff00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</a:endParaRPr>
          </a:p>
        </p:txBody>
      </p:sp>
      <p:grpSp>
        <p:nvGrpSpPr>
          <p:cNvPr id="85" name="Group 7"/>
          <p:cNvGrpSpPr/>
          <p:nvPr/>
        </p:nvGrpSpPr>
        <p:grpSpPr>
          <a:xfrm>
            <a:off x="1600200" y="4419720"/>
            <a:ext cx="1295280" cy="685800"/>
            <a:chOff x="1600200" y="4419720"/>
            <a:chExt cx="1295280" cy="685800"/>
          </a:xfrm>
        </p:grpSpPr>
        <p:sp>
          <p:nvSpPr>
            <p:cNvPr id="86" name="Oval 8"/>
            <p:cNvSpPr/>
            <p:nvPr/>
          </p:nvSpPr>
          <p:spPr>
            <a:xfrm>
              <a:off x="1600200" y="4419720"/>
              <a:ext cx="1295280" cy="685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9"/>
            <p:cNvSpPr/>
            <p:nvPr/>
          </p:nvSpPr>
          <p:spPr>
            <a:xfrm>
              <a:off x="1828440" y="4496040"/>
              <a:ext cx="914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Group 10"/>
          <p:cNvGrpSpPr/>
          <p:nvPr/>
        </p:nvGrpSpPr>
        <p:grpSpPr>
          <a:xfrm>
            <a:off x="4495680" y="4419720"/>
            <a:ext cx="1295280" cy="685800"/>
            <a:chOff x="4495680" y="4419720"/>
            <a:chExt cx="1295280" cy="685800"/>
          </a:xfrm>
        </p:grpSpPr>
        <p:sp>
          <p:nvSpPr>
            <p:cNvPr id="89" name="Oval 11"/>
            <p:cNvSpPr/>
            <p:nvPr/>
          </p:nvSpPr>
          <p:spPr>
            <a:xfrm>
              <a:off x="4495680" y="4419720"/>
              <a:ext cx="1295280" cy="685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 Box 12"/>
            <p:cNvSpPr/>
            <p:nvPr/>
          </p:nvSpPr>
          <p:spPr>
            <a:xfrm>
              <a:off x="4724280" y="4496040"/>
              <a:ext cx="914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Oval 13"/>
          <p:cNvSpPr/>
          <p:nvPr/>
        </p:nvSpPr>
        <p:spPr>
          <a:xfrm>
            <a:off x="5943600" y="4419720"/>
            <a:ext cx="1295280" cy="685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5943600" y="44956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Group 16"/>
          <p:cNvGrpSpPr/>
          <p:nvPr/>
        </p:nvGrpSpPr>
        <p:grpSpPr>
          <a:xfrm>
            <a:off x="152280" y="4419720"/>
            <a:ext cx="1295640" cy="685800"/>
            <a:chOff x="152280" y="4419720"/>
            <a:chExt cx="1295640" cy="685800"/>
          </a:xfrm>
        </p:grpSpPr>
        <p:sp>
          <p:nvSpPr>
            <p:cNvPr id="94" name="Oval 17"/>
            <p:cNvSpPr/>
            <p:nvPr/>
          </p:nvSpPr>
          <p:spPr>
            <a:xfrm>
              <a:off x="152280" y="4419720"/>
              <a:ext cx="1295640" cy="685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Text Box 18"/>
            <p:cNvSpPr/>
            <p:nvPr/>
          </p:nvSpPr>
          <p:spPr>
            <a:xfrm>
              <a:off x="380880" y="4496040"/>
              <a:ext cx="914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Group 19"/>
          <p:cNvGrpSpPr/>
          <p:nvPr/>
        </p:nvGrpSpPr>
        <p:grpSpPr>
          <a:xfrm>
            <a:off x="3048120" y="4419720"/>
            <a:ext cx="1295280" cy="685800"/>
            <a:chOff x="3048120" y="4419720"/>
            <a:chExt cx="1295280" cy="685800"/>
          </a:xfrm>
        </p:grpSpPr>
        <p:sp>
          <p:nvSpPr>
            <p:cNvPr id="97" name="Oval 20"/>
            <p:cNvSpPr/>
            <p:nvPr/>
          </p:nvSpPr>
          <p:spPr>
            <a:xfrm>
              <a:off x="3048120" y="4419720"/>
              <a:ext cx="1295280" cy="685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21"/>
            <p:cNvSpPr/>
            <p:nvPr/>
          </p:nvSpPr>
          <p:spPr>
            <a:xfrm>
              <a:off x="3276360" y="4496040"/>
              <a:ext cx="9140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 u="sng">
                  <a:solidFill>
                    <a:srgbClr val="ccccff"/>
                  </a:solidFill>
                  <a:uFillTx/>
                  <a:latin typeface="Times New Roman"/>
                  <a:hlinkClick r:id="rId2"/>
                </a:rPr>
                <a:t>太阳能汽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Group 22"/>
          <p:cNvGrpSpPr/>
          <p:nvPr/>
        </p:nvGrpSpPr>
        <p:grpSpPr>
          <a:xfrm>
            <a:off x="7315200" y="4495680"/>
            <a:ext cx="1295280" cy="685800"/>
            <a:chOff x="7315200" y="4495680"/>
            <a:chExt cx="1295280" cy="685800"/>
          </a:xfrm>
        </p:grpSpPr>
        <p:sp>
          <p:nvSpPr>
            <p:cNvPr id="100" name="Oval 23"/>
            <p:cNvSpPr/>
            <p:nvPr/>
          </p:nvSpPr>
          <p:spPr>
            <a:xfrm>
              <a:off x="7315200" y="4495680"/>
              <a:ext cx="1295280" cy="685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Text Box 24"/>
            <p:cNvSpPr/>
            <p:nvPr/>
          </p:nvSpPr>
          <p:spPr>
            <a:xfrm>
              <a:off x="7543440" y="4572000"/>
              <a:ext cx="9140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 u="sng">
                  <a:solidFill>
                    <a:srgbClr val="ccccff"/>
                  </a:solidFill>
                  <a:uFillTx/>
                  <a:latin typeface="Times New Roman"/>
                  <a:hlinkClick r:id="rId3"/>
                </a:rPr>
                <a:t>杨立伟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Text Box 25"/>
          <p:cNvSpPr/>
          <p:nvPr/>
        </p:nvSpPr>
        <p:spPr>
          <a:xfrm>
            <a:off x="228600" y="4572000"/>
            <a:ext cx="109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载人飞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26"/>
          <p:cNvSpPr/>
          <p:nvPr/>
        </p:nvSpPr>
        <p:spPr>
          <a:xfrm>
            <a:off x="1676520" y="4572000"/>
            <a:ext cx="1098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可视电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27"/>
          <p:cNvSpPr/>
          <p:nvPr/>
        </p:nvSpPr>
        <p:spPr>
          <a:xfrm>
            <a:off x="4756680" y="4572000"/>
            <a:ext cx="729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掌上电脑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28"/>
          <p:cNvSpPr/>
          <p:nvPr/>
        </p:nvSpPr>
        <p:spPr>
          <a:xfrm>
            <a:off x="6311160" y="4572000"/>
            <a:ext cx="592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第七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文本框 8199"/>
          <p:cNvSpPr/>
          <p:nvPr/>
        </p:nvSpPr>
        <p:spPr>
          <a:xfrm>
            <a:off x="898560" y="5516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824040" y="24840"/>
            <a:ext cx="1277640" cy="50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3399"/>
                </a:solidFill>
                <a:latin typeface="Times New Roman"/>
              </a:rPr>
              <a:t>可视电话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9487D-591E-4E18-BB26-42561584A52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12"/>
          <p:cNvSpPr/>
          <p:nvPr/>
        </p:nvSpPr>
        <p:spPr>
          <a:xfrm>
            <a:off x="4862520" y="515448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13" descr="5218"/>
          <p:cNvPicPr/>
          <p:nvPr/>
        </p:nvPicPr>
        <p:blipFill>
          <a:blip r:embed="rId1"/>
          <a:stretch/>
        </p:blipFill>
        <p:spPr>
          <a:xfrm>
            <a:off x="4876920" y="228600"/>
            <a:ext cx="3962160" cy="52578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4"/>
          <p:cNvSpPr/>
          <p:nvPr/>
        </p:nvSpPr>
        <p:spPr>
          <a:xfrm>
            <a:off x="5375880" y="5715000"/>
            <a:ext cx="310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ar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正式推出其新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5"/>
          <p:cNvSpPr/>
          <p:nvPr/>
        </p:nvSpPr>
        <p:spPr>
          <a:xfrm>
            <a:off x="929880" y="5699160"/>
            <a:ext cx="2788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l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新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xi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掌上电脑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16" descr="0309040940278934"/>
          <p:cNvPicPr/>
          <p:nvPr/>
        </p:nvPicPr>
        <p:blipFill>
          <a:blip r:embed="rId2"/>
          <a:stretch/>
        </p:blipFill>
        <p:spPr>
          <a:xfrm>
            <a:off x="177840" y="0"/>
            <a:ext cx="43941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3080880" y="341280"/>
            <a:ext cx="3533400" cy="57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请和小伙伴讨论、交流吧</a:t>
            </a:r>
            <a:r>
              <a:rPr b="1" i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请自读课文，说说阿德梦见了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你喜欢阿德梦中的哪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新科技产品，愿意和小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伴说说喜欢的原因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2" descr="背景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阿德1 副本"/>
          <p:cNvPicPr/>
          <p:nvPr/>
        </p:nvPicPr>
        <p:blipFill>
          <a:blip r:embed="rId2"/>
          <a:stretch/>
        </p:blipFill>
        <p:spPr>
          <a:xfrm>
            <a:off x="63360" y="762120"/>
            <a:ext cx="4051440" cy="49528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4114800" y="152280"/>
            <a:ext cx="5029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阿德早早地起了床。今天上午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点，他要乘坐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世纪最新的载人飞船，到火星上去旅游，并顺便去月球看望移居到那里的亲人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7057800" y="6248520"/>
            <a:ext cx="5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文本框 8199"/>
          <p:cNvSpPr/>
          <p:nvPr/>
        </p:nvSpPr>
        <p:spPr>
          <a:xfrm>
            <a:off x="250920" y="5948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5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Group 2"/>
          <p:cNvGrpSpPr/>
          <p:nvPr/>
        </p:nvGrpSpPr>
        <p:grpSpPr>
          <a:xfrm>
            <a:off x="152280" y="0"/>
            <a:ext cx="9372240" cy="3657240"/>
            <a:chOff x="152280" y="0"/>
            <a:chExt cx="9372240" cy="3657240"/>
          </a:xfrm>
        </p:grpSpPr>
        <p:pic>
          <p:nvPicPr>
            <p:cNvPr id="117" name="Picture 3" descr="阿德2 副本"/>
            <p:cNvPicPr/>
            <p:nvPr/>
          </p:nvPicPr>
          <p:blipFill>
            <a:blip r:embed="rId1"/>
            <a:stretch/>
          </p:blipFill>
          <p:spPr>
            <a:xfrm>
              <a:off x="152280" y="236880"/>
              <a:ext cx="4217400" cy="342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4"/>
            <p:cNvSpPr/>
            <p:nvPr/>
          </p:nvSpPr>
          <p:spPr>
            <a:xfrm>
              <a:off x="4682160" y="0"/>
              <a:ext cx="484236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9" name="Picture 5" descr="阿德3 副本"/>
          <p:cNvPicPr/>
          <p:nvPr/>
        </p:nvPicPr>
        <p:blipFill>
          <a:blip r:embed="rId2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7"/>
          <p:cNvSpPr/>
          <p:nvPr/>
        </p:nvSpPr>
        <p:spPr>
          <a:xfrm>
            <a:off x="4572000" y="3581280"/>
            <a:ext cx="4572000" cy="20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外婆出现在电话的屏幕上。“外婆，您好！两个小时以后就能见到您了。”    “这么快呀！”    “当然喽！我这次坐的飞船是新型的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4572000" y="60156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离飞船起飞的时间还有半个小时，怎么打发这段时光呢？阿德拨通了可视电话，要跟月球上的外婆聊聊天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7391520" y="6324480"/>
            <a:ext cx="838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返  回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2" descr="背景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5"/>
          <p:cNvGrpSpPr/>
          <p:nvPr/>
        </p:nvGrpSpPr>
        <p:grpSpPr>
          <a:xfrm>
            <a:off x="0" y="438120"/>
            <a:ext cx="9144000" cy="5276880"/>
            <a:chOff x="0" y="438120"/>
            <a:chExt cx="9144000" cy="5276880"/>
          </a:xfrm>
        </p:grpSpPr>
        <p:pic>
          <p:nvPicPr>
            <p:cNvPr id="126" name="Picture 3" descr="阿德4 副本"/>
            <p:cNvPicPr/>
            <p:nvPr/>
          </p:nvPicPr>
          <p:blipFill>
            <a:blip r:embed="rId2"/>
            <a:stretch/>
          </p:blipFill>
          <p:spPr>
            <a:xfrm>
              <a:off x="0" y="762120"/>
              <a:ext cx="3746520" cy="495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4"/>
            <p:cNvSpPr/>
            <p:nvPr/>
          </p:nvSpPr>
          <p:spPr>
            <a:xfrm>
              <a:off x="4038480" y="438120"/>
              <a:ext cx="5105520" cy="48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     “</a:t>
              </a: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外婆，听说月球上的科研人员已研制出了无污染的太阳能汽车，市场上有卖的吗？”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     “</a:t>
              </a: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噢！大商场里都有！”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Text Box 6"/>
          <p:cNvSpPr/>
          <p:nvPr/>
        </p:nvSpPr>
        <p:spPr>
          <a:xfrm>
            <a:off x="7041960" y="6116760"/>
            <a:ext cx="5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2" descr="背景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阿德5 副本"/>
          <p:cNvPicPr/>
          <p:nvPr/>
        </p:nvPicPr>
        <p:blipFill>
          <a:blip r:embed="rId2"/>
          <a:stretch/>
        </p:blipFill>
        <p:spPr>
          <a:xfrm>
            <a:off x="0" y="609480"/>
            <a:ext cx="4191120" cy="51818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4"/>
          <p:cNvSpPr/>
          <p:nvPr/>
        </p:nvSpPr>
        <p:spPr>
          <a:xfrm>
            <a:off x="4419720" y="652320"/>
            <a:ext cx="4724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阿德打开掌上电脑，进入月球最大的网上销售中心。“我要预订这辆太阳能汽车，下午两点来取…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6203520" y="6116760"/>
            <a:ext cx="5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2" descr="背景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5"/>
          <p:cNvGrpSpPr/>
          <p:nvPr/>
        </p:nvGrpSpPr>
        <p:grpSpPr>
          <a:xfrm>
            <a:off x="0" y="301680"/>
            <a:ext cx="9144000" cy="5337000"/>
            <a:chOff x="0" y="301680"/>
            <a:chExt cx="9144000" cy="5337000"/>
          </a:xfrm>
        </p:grpSpPr>
        <p:pic>
          <p:nvPicPr>
            <p:cNvPr id="137" name="Picture 3" descr="阿德6 副本"/>
            <p:cNvPicPr/>
            <p:nvPr/>
          </p:nvPicPr>
          <p:blipFill>
            <a:blip r:embed="rId2"/>
            <a:stretch/>
          </p:blipFill>
          <p:spPr>
            <a:xfrm>
              <a:off x="0" y="533520"/>
              <a:ext cx="4124160" cy="51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 Box 4"/>
            <p:cNvSpPr/>
            <p:nvPr/>
          </p:nvSpPr>
          <p:spPr>
            <a:xfrm>
              <a:off x="4038480" y="301680"/>
              <a:ext cx="510552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     “</a:t>
              </a: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亲爱的旅客，飞船就要起飞了，请系好安全带。” “呜——”飞船长鸣一声飞向太空。这时，阿德的安全带还没系好，他从椅子上滑了下来！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Text Box 7"/>
          <p:cNvSpPr/>
          <p:nvPr/>
        </p:nvSpPr>
        <p:spPr>
          <a:xfrm>
            <a:off x="7210080" y="6248520"/>
            <a:ext cx="5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7198200" y="380880"/>
            <a:ext cx="164268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66"/>
                </a:solidFill>
                <a:latin typeface="Times New Roman"/>
                <a:ea typeface="黑体"/>
              </a:rPr>
              <a:t>航天英雄杨立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0T09:04:5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3:09Z</dcterms:modified>
  <cp:revision>8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