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7.png" ContentType="image/png"/>
  <Override PartName="/ppt/media/image1.jpeg" ContentType="image/jpeg"/>
  <Override PartName="/ppt/media/chimes.wav" ContentType="audio/x-wav"/>
  <Override PartName="/ppt/media/image13.png" ContentType="image/png"/>
  <Override PartName="/ppt/media/image12.jpeg" ContentType="image/jpeg"/>
  <Override PartName="/ppt/media/camera.wav" ContentType="audio/x-wav"/>
  <Override PartName="/ppt/media/image6.png" ContentType="image/png"/>
  <Override PartName="/ppt/media/image11.png" ContentType="image/png"/>
  <Override PartName="/ppt/media/image10.png" ContentType="image/png"/>
  <Override PartName="/ppt/media/image2.jpeg" ContentType="image/jpeg"/>
  <Override PartName="/ppt/media/projctor.wav" ContentType="audio/x-wav"/>
  <Override PartName="/ppt/media/image9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768-33A4-46B5-B7A5-3D76A077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CA9-346A-43E8-8641-FCBA0FBD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628-82AE-41C0-9D5E-4FAE1C40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5B6F-8000-4EF0-A18D-07D5EFCF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7D73-8D51-471B-A0ED-02014354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4865-3639-44E4-A3C8-C2E44313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CA9A-1226-47E7-9F92-04D0FD5C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780C-9770-4334-B01A-973489FC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7B3E-C135-4495-A185-3D65355B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83BE-9552-4400-AFA4-66263211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A855-523D-4296-BF16-404E2165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779-3711-404C-9AE4-B2987F83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6621-BF52-4A39-B855-C4FC9D2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FD14-CD0B-45C9-9473-BBC70E2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24B8-C20A-4D73-AFEA-F5735300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406A-C0F5-422E-AE4A-24D046AD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DC55-0005-4903-B9EB-0A50FF7E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B46-372D-4538-8B91-365629D3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B495-A379-47FB-A941-BEE5AC87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8E1A-D22D-4024-AC04-D8D9365E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2DE-C1F1-454F-A975-85A0F54F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DF1-D30E-4CBD-BC2C-52094309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565-7324-446F-A66F-E6D43C3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4F1-9487-4B67-9CAE-080D49B3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AC67-86E8-4E78-AD0F-BF43D143B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F7EC-C252-4F31-9DEA-870B037A278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F93E-D0EC-41CD-B35A-05AF097F284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/moban/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老人"/>
          <p:cNvPicPr/>
          <p:nvPr/>
        </p:nvPicPr>
        <p:blipFill>
          <a:blip r:embed="rId14"/>
          <a:stretch/>
        </p:blipFill>
        <p:spPr>
          <a:xfrm>
            <a:off x="304920" y="495360"/>
            <a:ext cx="8305560" cy="63626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3"/>
          <p:cNvSpPr/>
          <p:nvPr/>
        </p:nvSpPr>
        <p:spPr>
          <a:xfrm>
            <a:off x="3809880" y="1219320"/>
            <a:ext cx="1219320" cy="914400"/>
          </a:xfrm>
          <a:prstGeom prst="wedgeEllipseCallout">
            <a:avLst>
              <a:gd name="adj1" fmla="val -89064"/>
              <a:gd name="adj2" fmla="val 5503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4876920" y="2743200"/>
            <a:ext cx="838080" cy="838080"/>
          </a:xfrm>
          <a:prstGeom prst="wedgeEllipseCallout">
            <a:avLst>
              <a:gd name="adj1" fmla="val -134092"/>
              <a:gd name="adj2" fmla="val 2821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 rot="10915200">
            <a:off x="609120" y="3200040"/>
            <a:ext cx="838440" cy="914400"/>
          </a:xfrm>
          <a:prstGeom prst="wedgeEllipseCallout">
            <a:avLst>
              <a:gd name="adj1" fmla="val -134064"/>
              <a:gd name="adj2" fmla="val 2437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1052640"/>
            <a:ext cx="6837120" cy="838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高矮长短小学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07080" y="3228480"/>
            <a:ext cx="911520" cy="85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7238880" y="5638680"/>
            <a:ext cx="838440" cy="838440"/>
          </a:xfrm>
          <a:prstGeom prst="wedgeEllipseCallout">
            <a:avLst>
              <a:gd name="adj1" fmla="val -125000"/>
              <a:gd name="adj2" fmla="val 3731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67816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8196"/>
          <p:cNvSpPr/>
          <p:nvPr/>
        </p:nvSpPr>
        <p:spPr>
          <a:xfrm>
            <a:off x="1692360" y="6093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97180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56272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D383-7C7D-4B92-92D7-1C59BB77865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676520" y="5638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124080" y="56386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19720" y="5638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791320" y="5638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162920" y="56386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小朋友"/>
          <p:cNvPicPr/>
          <p:nvPr/>
        </p:nvPicPr>
        <p:blipFill>
          <a:blip r:embed="rId1"/>
          <a:srcRect l="48325" t="0" r="0" b="0"/>
          <a:stretch/>
        </p:blipFill>
        <p:spPr>
          <a:xfrm>
            <a:off x="4475160" y="1219320"/>
            <a:ext cx="4135320" cy="53337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彩云"/>
              </a:rPr>
              <a:t>如  何  比  身  高 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小朋友"/>
          <p:cNvPicPr/>
          <p:nvPr/>
        </p:nvPicPr>
        <p:blipFill>
          <a:blip r:embed="rId2"/>
          <a:srcRect l="0" t="0" r="48325" b="0"/>
          <a:stretch/>
        </p:blipFill>
        <p:spPr>
          <a:xfrm>
            <a:off x="609480" y="1219320"/>
            <a:ext cx="4191120" cy="533376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  <p:grpSp>
        <p:nvGrpSpPr>
          <p:cNvPr id="94" name=""/>
          <p:cNvGrpSpPr/>
          <p:nvPr/>
        </p:nvGrpSpPr>
        <p:grpSpPr>
          <a:xfrm>
            <a:off x="4800600" y="6019920"/>
            <a:ext cx="2895480" cy="360"/>
            <a:chOff x="4800600" y="6019920"/>
            <a:chExt cx="2895480" cy="360"/>
          </a:xfrm>
        </p:grpSpPr>
        <p:sp>
          <p:nvSpPr>
            <p:cNvPr id="95" name="Line 5"/>
            <p:cNvSpPr/>
            <p:nvPr/>
          </p:nvSpPr>
          <p:spPr>
            <a:xfrm>
              <a:off x="4800600" y="6019920"/>
              <a:ext cx="2895480" cy="0"/>
            </a:xfrm>
            <a:prstGeom prst="line">
              <a:avLst/>
            </a:prstGeom>
            <a:ln w="127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4800600" y="601992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523520" y="4952880"/>
            <a:ext cx="1143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5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715000" y="4800600"/>
            <a:ext cx="1143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7086600" y="5181480"/>
            <a:ext cx="2057400" cy="914400"/>
          </a:xfrm>
          <a:prstGeom prst="wedgeRectCallout">
            <a:avLst>
              <a:gd name="adj1" fmla="val -27083"/>
              <a:gd name="adj2" fmla="val 4340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同一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华文彩云"/>
              </a:rPr>
              <a:t>比一比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彩云"/>
              </a:rPr>
              <a:t> 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方正舒体"/>
              </a:rPr>
              <a:t>高的画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方正舒体"/>
              </a:rPr>
              <a:t>       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方正舒体"/>
              </a:rPr>
              <a:t>矮的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762120" y="2895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952880" y="304920"/>
            <a:ext cx="762120" cy="7642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96080" y="304920"/>
            <a:ext cx="838440" cy="83808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"/>
          <p:cNvGrpSpPr/>
          <p:nvPr/>
        </p:nvGrpSpPr>
        <p:grpSpPr>
          <a:xfrm>
            <a:off x="457200" y="1447920"/>
            <a:ext cx="4343400" cy="4800600"/>
            <a:chOff x="457200" y="1447920"/>
            <a:chExt cx="4343400" cy="4800600"/>
          </a:xfrm>
        </p:grpSpPr>
        <p:grpSp>
          <p:nvGrpSpPr>
            <p:cNvPr id="105" name="Group 7"/>
            <p:cNvGrpSpPr/>
            <p:nvPr/>
          </p:nvGrpSpPr>
          <p:grpSpPr>
            <a:xfrm>
              <a:off x="457200" y="1447920"/>
              <a:ext cx="4343400" cy="4800600"/>
              <a:chOff x="457200" y="1447920"/>
              <a:chExt cx="4343400" cy="4800600"/>
            </a:xfrm>
          </p:grpSpPr>
          <p:sp>
            <p:nvSpPr>
              <p:cNvPr id="106" name="Rectangle 8"/>
              <p:cNvSpPr/>
              <p:nvPr/>
            </p:nvSpPr>
            <p:spPr>
              <a:xfrm>
                <a:off x="457200" y="1447920"/>
                <a:ext cx="4343400" cy="48006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ree"/>
              <p:cNvSpPr/>
              <p:nvPr/>
            </p:nvSpPr>
            <p:spPr>
              <a:xfrm>
                <a:off x="983880" y="1447920"/>
                <a:ext cx="2039760" cy="360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8900"/>
                    </a:moveTo>
                    <a:lnTo>
                      <a:pt x="9257" y="18900"/>
                    </a:lnTo>
                    <a:lnTo>
                      <a:pt x="9257" y="21600"/>
                    </a:lnTo>
                    <a:lnTo>
                      <a:pt x="12343" y="21600"/>
                    </a:lnTo>
                    <a:lnTo>
                      <a:pt x="12343" y="18900"/>
                    </a:lnTo>
                    <a:lnTo>
                      <a:pt x="21600" y="18900"/>
                    </a:lnTo>
                    <a:lnTo>
                      <a:pt x="12343" y="12600"/>
                    </a:lnTo>
                    <a:lnTo>
                      <a:pt x="18514" y="12600"/>
                    </a:lnTo>
                    <a:lnTo>
                      <a:pt x="12343" y="6300"/>
                    </a:lnTo>
                    <a:lnTo>
                      <a:pt x="15429" y="6300"/>
                    </a:lnTo>
                    <a:lnTo>
                      <a:pt x="10800" y="0"/>
                    </a:lnTo>
                    <a:lnTo>
                      <a:pt x="6171" y="6300"/>
                    </a:lnTo>
                    <a:lnTo>
                      <a:pt x="9257" y="6300"/>
                    </a:lnTo>
                    <a:lnTo>
                      <a:pt x="3086" y="12600"/>
                    </a:lnTo>
                    <a:lnTo>
                      <a:pt x="9257" y="12600"/>
                    </a:lnTo>
                    <a:lnTo>
                      <a:pt x="0" y="1890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ree"/>
              <p:cNvSpPr/>
              <p:nvPr/>
            </p:nvSpPr>
            <p:spPr>
              <a:xfrm>
                <a:off x="2892240" y="2797920"/>
                <a:ext cx="1233720" cy="2250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8900"/>
                    </a:moveTo>
                    <a:lnTo>
                      <a:pt x="9257" y="18900"/>
                    </a:lnTo>
                    <a:lnTo>
                      <a:pt x="9257" y="21600"/>
                    </a:lnTo>
                    <a:lnTo>
                      <a:pt x="12343" y="21600"/>
                    </a:lnTo>
                    <a:lnTo>
                      <a:pt x="12343" y="18900"/>
                    </a:lnTo>
                    <a:lnTo>
                      <a:pt x="21600" y="18900"/>
                    </a:lnTo>
                    <a:lnTo>
                      <a:pt x="12343" y="12600"/>
                    </a:lnTo>
                    <a:lnTo>
                      <a:pt x="18514" y="12600"/>
                    </a:lnTo>
                    <a:lnTo>
                      <a:pt x="12343" y="6300"/>
                    </a:lnTo>
                    <a:lnTo>
                      <a:pt x="15429" y="6300"/>
                    </a:lnTo>
                    <a:lnTo>
                      <a:pt x="10800" y="0"/>
                    </a:lnTo>
                    <a:lnTo>
                      <a:pt x="6171" y="6300"/>
                    </a:lnTo>
                    <a:lnTo>
                      <a:pt x="9257" y="6300"/>
                    </a:lnTo>
                    <a:lnTo>
                      <a:pt x="3086" y="12600"/>
                    </a:lnTo>
                    <a:lnTo>
                      <a:pt x="9257" y="12600"/>
                    </a:lnTo>
                    <a:lnTo>
                      <a:pt x="0" y="1890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Text Box 11"/>
            <p:cNvSpPr/>
            <p:nvPr/>
          </p:nvSpPr>
          <p:spPr>
            <a:xfrm>
              <a:off x="3038400" y="5372280"/>
              <a:ext cx="727200" cy="75384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2"/>
            <p:cNvSpPr/>
            <p:nvPr/>
          </p:nvSpPr>
          <p:spPr>
            <a:xfrm>
              <a:off x="1371600" y="5410080"/>
              <a:ext cx="762120" cy="68580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990720" y="5029200"/>
            <a:ext cx="3276360" cy="360"/>
            <a:chOff x="990720" y="5029200"/>
            <a:chExt cx="3276360" cy="360"/>
          </a:xfrm>
        </p:grpSpPr>
        <p:sp>
          <p:nvSpPr>
            <p:cNvPr id="112" name="Line 13"/>
            <p:cNvSpPr/>
            <p:nvPr/>
          </p:nvSpPr>
          <p:spPr>
            <a:xfrm>
              <a:off x="990720" y="5029200"/>
              <a:ext cx="3276360" cy="0"/>
            </a:xfrm>
            <a:prstGeom prst="line">
              <a:avLst/>
            </a:prstGeom>
            <a:ln w="10152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990720" y="5029200"/>
              <a:ext cx="32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4"/>
          <p:cNvGrpSpPr/>
          <p:nvPr/>
        </p:nvGrpSpPr>
        <p:grpSpPr>
          <a:xfrm>
            <a:off x="4952880" y="1447920"/>
            <a:ext cx="3886200" cy="4800600"/>
            <a:chOff x="4952880" y="1447920"/>
            <a:chExt cx="3886200" cy="4800600"/>
          </a:xfrm>
        </p:grpSpPr>
        <p:grpSp>
          <p:nvGrpSpPr>
            <p:cNvPr id="115" name="Group 15"/>
            <p:cNvGrpSpPr/>
            <p:nvPr/>
          </p:nvGrpSpPr>
          <p:grpSpPr>
            <a:xfrm>
              <a:off x="4952880" y="1447920"/>
              <a:ext cx="3886200" cy="4800600"/>
              <a:chOff x="4952880" y="1447920"/>
              <a:chExt cx="3886200" cy="48006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4952880" y="1447920"/>
                <a:ext cx="3886200" cy="480060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Picture 17" descr="大象"/>
              <p:cNvPicPr/>
              <p:nvPr/>
            </p:nvPicPr>
            <p:blipFill>
              <a:blip r:embed="rId1"/>
              <a:srcRect l="14316" t="0" r="23860" b="3634"/>
              <a:stretch/>
            </p:blipFill>
            <p:spPr>
              <a:xfrm>
                <a:off x="5105520" y="1600200"/>
                <a:ext cx="3504960" cy="342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Text Box 18"/>
            <p:cNvSpPr/>
            <p:nvPr/>
          </p:nvSpPr>
          <p:spPr>
            <a:xfrm>
              <a:off x="5638680" y="5334120"/>
              <a:ext cx="685800" cy="68580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7467480" y="5334120"/>
              <a:ext cx="685800" cy="685800"/>
            </a:xfrm>
            <a:prstGeom prst="rect">
              <a:avLst/>
            </a:prstGeom>
            <a:noFill/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20"/>
          <p:cNvSpPr/>
          <p:nvPr/>
        </p:nvSpPr>
        <p:spPr>
          <a:xfrm>
            <a:off x="144792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312408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5715000" y="5334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7543800" y="5410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9880" y="4038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9880" y="5181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632448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845820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哪一本书厚，哪一本书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1143000" y="1523880"/>
            <a:ext cx="6476760" cy="3962160"/>
            <a:chOff x="1143000" y="1523880"/>
            <a:chExt cx="6476760" cy="3962160"/>
          </a:xfrm>
        </p:grpSpPr>
        <p:pic>
          <p:nvPicPr>
            <p:cNvPr id="130" name="Picture 4" descr="书本"/>
            <p:cNvPicPr/>
            <p:nvPr/>
          </p:nvPicPr>
          <p:blipFill>
            <a:blip r:embed="rId1"/>
            <a:srcRect l="0" t="0" r="62540" b="0"/>
            <a:stretch/>
          </p:blipFill>
          <p:spPr>
            <a:xfrm>
              <a:off x="1143000" y="1523880"/>
              <a:ext cx="349452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5" descr="书本"/>
            <p:cNvPicPr/>
            <p:nvPr/>
          </p:nvPicPr>
          <p:blipFill>
            <a:blip r:embed="rId2"/>
            <a:srcRect l="50035" t="0" r="16674" b="0"/>
            <a:stretch/>
          </p:blipFill>
          <p:spPr>
            <a:xfrm>
              <a:off x="4511880" y="1523880"/>
              <a:ext cx="3107880" cy="396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6"/>
          <p:cNvSpPr/>
          <p:nvPr/>
        </p:nvSpPr>
        <p:spPr>
          <a:xfrm>
            <a:off x="1828800" y="4495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</a:rPr>
              <a:t>字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486400" y="4495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</a:rPr>
              <a:t>故事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057400" y="1066680"/>
            <a:ext cx="2057400" cy="914400"/>
          </a:xfrm>
          <a:prstGeom prst="cloudCallout">
            <a:avLst>
              <a:gd name="adj1" fmla="val -43750"/>
              <a:gd name="adj2" fmla="val 89930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Times New Roman"/>
              </a:rPr>
              <a:t>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7086600" y="1143000"/>
            <a:ext cx="1143000" cy="1447920"/>
          </a:xfrm>
          <a:prstGeom prst="cloudCallout">
            <a:avLst>
              <a:gd name="adj1" fmla="val -57083"/>
              <a:gd name="adj2" fmla="val 69958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66"/>
                </a:solidFill>
                <a:latin typeface="Times New Roman"/>
              </a:rPr>
              <a:t>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3505320" y="4343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581280" y="56386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8229600" y="31240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305920" y="44197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362320" y="3429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238880" y="3429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8196"/>
          <p:cNvSpPr/>
          <p:nvPr/>
        </p:nvSpPr>
        <p:spPr>
          <a:xfrm>
            <a:off x="2340000" y="6308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666880" y="17524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97180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方正舒体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26960" y="657540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更多全套课件免费下载：第一</a:t>
            </a: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模板网：</a:t>
            </a:r>
            <a:r>
              <a:rPr b="0" lang="en-US" sz="1200" spc="-1" strike="noStrike">
                <a:solidFill>
                  <a:srgbClr val="7f7f7f"/>
                </a:solidFill>
                <a:latin typeface="Arial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4T12:5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19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