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521-3EEB-4400-AC11-A9143B63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B6F-7A3A-4C1D-AF28-2A1715C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F9C-AA3A-4741-AE8D-57EC2933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C26-4B27-4E75-A0EA-418CE6E4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BA75-407F-4F4C-A109-FD332680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7CCA-BDD3-4266-AA93-42875123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D377-5BC2-4C23-ACF6-5A0AE92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352-B515-44EF-9522-EDA947E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B3F-E486-4589-960F-951D495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FB6-C2F1-40A0-9391-78B2243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066-0FA0-4C6A-AF7C-1ED37CE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4A0-5710-4E4A-B0AF-539CA73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B9EF-824B-4710-82F9-A66EA5F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396-1A76-4CC2-8C22-FD5248B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37C-7C28-44A0-B6B9-77253F31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A1E-F276-4179-97D3-0ED6F859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370-F366-4C2E-9AF8-DEC81C46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A5B3-F97B-477E-BA37-61647CEF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11AB-B78E-4DBE-AFE6-B8267018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DE94-D5D4-49E4-A1A5-28AB143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E32D-033B-4A86-A746-E0A9A6D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28A9-FE32-4ABE-A3C2-B78B6E6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739-D447-4AE4-923E-D8C2A3E6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7E91-EF6D-4685-9C46-05593405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2DBB-7BD6-4D03-9118-2C886E9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4D7C-454E-4B70-82E4-8856631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2D96-0BDC-42FB-B09B-88F58DA5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17D4-0325-4972-8F4A-22C3AE2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B9C9-81D6-47C6-A531-D6FC4000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C0D8-DE63-443A-B960-B197FE90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301-C658-476B-983C-E2DC099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3B3-0D8E-4B2D-8159-2A3A7191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30D-DE0F-4533-8CF3-CE8118C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626-E8E7-458B-B28F-C0E8A6F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60A-FAEC-4F71-B954-C296F22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3CF-0C01-47F0-BE67-57DE7F8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EF8-4E38-41F0-BA27-6B68CFFE6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B1AB-8273-4ABF-8026-24441D5D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C6F-0064-4D0E-B7C8-D3A7C0C864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92AB-4A70-4EB0-9B99-D318274FF7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419960" y="476280"/>
            <a:ext cx="10065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3327480" y="20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82249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8151840" y="24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39220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66764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1959120" y="11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258920" y="1197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白公鹅语文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1417680" y="887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"/>
          <p:cNvSpPr/>
          <p:nvPr/>
        </p:nvSpPr>
        <p:spPr>
          <a:xfrm>
            <a:off x="1042920" y="671400"/>
            <a:ext cx="259092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28800" y="7747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会认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00000" y="1996920"/>
            <a:ext cx="8353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腔 掂  涟  漪  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属  宰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4" descr="F:\ppt\705\小学四年级上册语文第十四课白公鹅PPT课件2\11371652_113411711000_2.jpg"/>
          <p:cNvPicPr/>
          <p:nvPr/>
        </p:nvPicPr>
        <p:blipFill>
          <a:blip r:embed="rId1"/>
          <a:srcRect l="-3365" t="26298" r="3369" b="26439"/>
          <a:stretch/>
        </p:blipFill>
        <p:spPr>
          <a:xfrm>
            <a:off x="3710160" y="3213000"/>
            <a:ext cx="5470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89120" y="143496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衔  荣膺  攀谈 慢条斯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掂量  耀武扬威   不慌不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涟漪  率领  嬉戏  厮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乱  泥泞  糟糕 鱼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468360" y="184464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白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白公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姿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叫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步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吃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玩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5"/>
          <p:cNvSpPr/>
          <p:nvPr/>
        </p:nvSpPr>
        <p:spPr>
          <a:xfrm>
            <a:off x="1201680" y="631800"/>
            <a:ext cx="304920" cy="5181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4640 h 5181480"/>
              <a:gd name="textAreaBottom" fmla="*/ 504684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417680" y="2287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5"/>
          <p:cNvSpPr/>
          <p:nvPr/>
        </p:nvSpPr>
        <p:spPr>
          <a:xfrm>
            <a:off x="2282760" y="1711440"/>
            <a:ext cx="287280" cy="1157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9"/>
          <p:cNvSpPr/>
          <p:nvPr/>
        </p:nvSpPr>
        <p:spPr>
          <a:xfrm>
            <a:off x="5359320" y="171144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0"/>
          <p:cNvSpPr/>
          <p:nvPr/>
        </p:nvSpPr>
        <p:spPr>
          <a:xfrm>
            <a:off x="2498760" y="15685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步都掂量着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7"/>
          <p:cNvSpPr/>
          <p:nvPr/>
        </p:nvSpPr>
        <p:spPr>
          <a:xfrm>
            <a:off x="6088320" y="34401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忧无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自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9"/>
          <p:cNvSpPr/>
          <p:nvPr/>
        </p:nvSpPr>
        <p:spPr>
          <a:xfrm>
            <a:off x="2930760" y="2792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追不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1"/>
          <p:cNvSpPr/>
          <p:nvPr/>
        </p:nvSpPr>
        <p:spPr>
          <a:xfrm rot="10800000">
            <a:off x="7311600" y="703080"/>
            <a:ext cx="576360" cy="51814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4640 h 5181480"/>
              <a:gd name="textAreaBottom" fmla="*/ 504684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"/>
          <p:cNvSpPr/>
          <p:nvPr/>
        </p:nvSpPr>
        <p:spPr>
          <a:xfrm>
            <a:off x="3002040" y="213840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泥路细翎不沾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7963920" y="2360520"/>
            <a:ext cx="6069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人喜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6"/>
          <p:cNvSpPr/>
          <p:nvPr/>
        </p:nvSpPr>
        <p:spPr>
          <a:xfrm>
            <a:off x="591120" y="24156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公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7"/>
          <p:cNvSpPr/>
          <p:nvPr/>
        </p:nvSpPr>
        <p:spPr>
          <a:xfrm>
            <a:off x="2637000" y="1014480"/>
            <a:ext cx="31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体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军上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8"/>
          <p:cNvSpPr/>
          <p:nvPr/>
        </p:nvSpPr>
        <p:spPr>
          <a:xfrm>
            <a:off x="2282760" y="3656160"/>
            <a:ext cx="287280" cy="1157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9"/>
          <p:cNvSpPr/>
          <p:nvPr/>
        </p:nvSpPr>
        <p:spPr>
          <a:xfrm>
            <a:off x="5367240" y="322416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0"/>
          <p:cNvSpPr/>
          <p:nvPr/>
        </p:nvSpPr>
        <p:spPr>
          <a:xfrm>
            <a:off x="6017040" y="187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慢条斯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563120" y="37274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2"/>
          <p:cNvSpPr/>
          <p:nvPr/>
        </p:nvSpPr>
        <p:spPr>
          <a:xfrm>
            <a:off x="2767320" y="3243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翅膀有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3"/>
          <p:cNvSpPr/>
          <p:nvPr/>
        </p:nvSpPr>
        <p:spPr>
          <a:xfrm>
            <a:off x="2798280" y="38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人注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4"/>
          <p:cNvSpPr/>
          <p:nvPr/>
        </p:nvSpPr>
        <p:spPr>
          <a:xfrm>
            <a:off x="2871000" y="4232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人抢占水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5"/>
          <p:cNvSpPr/>
          <p:nvPr/>
        </p:nvSpPr>
        <p:spPr>
          <a:xfrm>
            <a:off x="3074760" y="4735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然吞食鱼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813-3053-4F8B-BB55-874AB85C4F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PM_001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447920" y="2940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学习结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56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