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1.png" ContentType="image/png"/>
  <Override PartName="/ppt/media/image6.gif" ContentType="image/gif"/>
  <Override PartName="/ppt/media/image8.png" ContentType="image/png"/>
  <Override PartName="/ppt/media/image29.jpeg" ContentType="image/jpeg"/>
  <Override PartName="/ppt/media/image30.jpeg" ContentType="image/jpeg"/>
  <Override PartName="/ppt/media/image3.jpeg" ContentType="image/jpeg"/>
  <Override PartName="/ppt/media/image20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8.png" ContentType="image/png"/>
  <Override PartName="/ppt/media/type.wav" ContentType="audio/x-wav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648-9AFC-4D89-8717-B3B488BE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E87-6236-4C82-A890-EB80E38C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76FA-0A79-4526-B6E8-5FCA3689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37C-1836-404E-9206-86F85E5E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97B6-A751-4042-AA49-CA01B98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F3F-A7E2-4B78-AE53-EC2AE3B2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B86A-0124-43CB-8687-6D04F34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139B-1E59-4A6D-A8E5-F1DCF392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FFB-D29B-48B0-95FB-10997F6D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604-1462-44C8-A974-85CB5B1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FB0-FEEE-44A7-8019-23F556A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EE0-D64A-4F96-9362-B287338F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728C-6DBE-4203-9311-F43A4F8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BC64-E038-448C-BC37-1689393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90EF-42B8-4D0B-B77B-4E932AE8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1DFA-DB82-4CB1-B35A-53F90B6F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F6A-DEEC-445D-ABB6-FEB14540A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B84-B39D-4846-A5A2-175C110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BCC-5952-434E-A988-B52BE9D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6BA-1B17-476A-B481-32C2EFFB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D12-8E8E-4EA1-A788-5AB597D0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C5A-3C4B-45C0-B210-3D3BF48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F4F-DE48-4495-B0A2-5090884B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739-AA2F-4A6F-8537-0AE5E0C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737A-02D7-4ACD-B09E-BB450EE6B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BD28-EE61-4152-A342-31F0B9A6D7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924-416D-4C65-BD35-A7C9FDCE73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12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细雨草地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3652920" y="290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63060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652920" y="289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816120" y="1484280"/>
            <a:ext cx="758484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春雨的色彩</a:t>
            </a:r>
            <a:r>
              <a:rPr b="1" lang="en-US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57240">
                  <a:solidFill>
                    <a:srgbClr val="f4663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57240">
                <a:solidFill>
                  <a:srgbClr val="f4663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187280" y="1989000"/>
            <a:ext cx="70567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55640" y="1125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田野里，一群小鸟正在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个有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的问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：春雨到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底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是什么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jiayan"/>
          <p:cNvPicPr/>
          <p:nvPr/>
        </p:nvPicPr>
        <p:blipFill>
          <a:blip r:embed="rId1"/>
          <a:stretch/>
        </p:blipFill>
        <p:spPr>
          <a:xfrm>
            <a:off x="4419720" y="2438280"/>
            <a:ext cx="1752480" cy="171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maque"/>
          <p:cNvPicPr/>
          <p:nvPr/>
        </p:nvPicPr>
        <p:blipFill>
          <a:blip r:embed="rId2"/>
          <a:stretch/>
        </p:blipFill>
        <p:spPr>
          <a:xfrm>
            <a:off x="2895480" y="4876920"/>
            <a:ext cx="2057400" cy="163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uangying"/>
          <p:cNvPicPr/>
          <p:nvPr/>
        </p:nvPicPr>
        <p:blipFill>
          <a:blip r:embed="rId3"/>
          <a:stretch/>
        </p:blipFill>
        <p:spPr>
          <a:xfrm>
            <a:off x="609588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0" y="228600"/>
            <a:ext cx="8839080" cy="182880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春雨，像春姑娘纺出的线，轻轻地落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上，沙沙沙，沙沙沙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28600" y="2743200"/>
            <a:ext cx="3505320" cy="1523880"/>
          </a:xfrm>
          <a:prstGeom prst="cloudCallout">
            <a:avLst>
              <a:gd name="adj1" fmla="val 92120"/>
              <a:gd name="adj2" fmla="val 6020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春雨到底是什么颜色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952880" y="4191120"/>
            <a:ext cx="1219320" cy="838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争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fyzw_2005351147[1]"/>
          <p:cNvPicPr/>
          <p:nvPr/>
        </p:nvPicPr>
        <p:blipFill>
          <a:blip r:embed="rId2"/>
          <a:stretch/>
        </p:blipFill>
        <p:spPr>
          <a:xfrm>
            <a:off x="971640" y="765000"/>
            <a:ext cx="3417840" cy="609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麻雀"/>
          <p:cNvPicPr/>
          <p:nvPr/>
        </p:nvPicPr>
        <p:blipFill>
          <a:blip r:embed="rId3"/>
          <a:stretch/>
        </p:blipFill>
        <p:spPr>
          <a:xfrm>
            <a:off x="4316400" y="692280"/>
            <a:ext cx="4827600" cy="301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黄莺"/>
          <p:cNvPicPr/>
          <p:nvPr/>
        </p:nvPicPr>
        <p:blipFill>
          <a:blip r:embed="rId4"/>
          <a:srcRect l="2301" t="4451" r="3714" b="13584"/>
          <a:stretch/>
        </p:blipFill>
        <p:spPr>
          <a:xfrm>
            <a:off x="4356000" y="3591000"/>
            <a:ext cx="4788000" cy="3267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1166400" y="117864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小燕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810680" y="89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麻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994640" y="5950080"/>
            <a:ext cx="1003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小黄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-108000" y="549360"/>
            <a:ext cx="9612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燕子说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是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色的。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落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，草就绿了。春雨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上，柳枝也绿了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0050722000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image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324000" y="69228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麻雀说：“不对，春雨是红色的。你们瞧，春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桃树上，桃花红了。春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杜鹃丛中，杜鹃花也红了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2913120" y="616572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image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ack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xinsrc_aecf80a1ef104a6fa2cd32a91e1bee7d_7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-71280" y="1125360"/>
            <a:ext cx="94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黄莺说：“不对，不对，春雨是黄色的。你们看，春雨落在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菜地里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菜花黄了。春雨落在蒲公英上，蒲公英花也黄了。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3492360" y="1670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netease_demo_mf_1024x768_or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788480" y="2781360"/>
            <a:ext cx="4569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看到这个题目，大家有什么问题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66760" y="3284640"/>
            <a:ext cx="29239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春雨有颜色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61f"/>
                </a:solidFill>
                <a:latin typeface="Arial"/>
                <a:ea typeface="楷体_GB2312"/>
              </a:rPr>
              <a:t>春雨到底是什么颜色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32880" y="981000"/>
            <a:ext cx="1521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楷体"/>
              </a:rPr>
              <a:t>质疑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j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jiayan"/>
          <p:cNvPicPr/>
          <p:nvPr/>
        </p:nvPicPr>
        <p:blipFill>
          <a:blip r:embed="rId2"/>
          <a:stretch/>
        </p:blipFill>
        <p:spPr>
          <a:xfrm>
            <a:off x="0" y="4114800"/>
            <a:ext cx="2057400" cy="24620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"/>
          <p:cNvSpPr/>
          <p:nvPr/>
        </p:nvSpPr>
        <p:spPr>
          <a:xfrm>
            <a:off x="1676520" y="1066680"/>
            <a:ext cx="6476760" cy="2971800"/>
          </a:xfrm>
          <a:prstGeom prst="wedgeEllipseCallout">
            <a:avLst>
              <a:gd name="adj1" fmla="val -44189"/>
              <a:gd name="adj2" fmla="val 69976"/>
            </a:avLst>
          </a:prstGeom>
          <a:solidFill>
            <a:srgbClr val="cc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春雨是绿色的。你们瞧，春雨落到草地上，草就绿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xinsrc_20f00f6e81904277b0f7a942b03e47b9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jiayan"/>
          <p:cNvPicPr/>
          <p:nvPr/>
        </p:nvPicPr>
        <p:blipFill>
          <a:blip r:embed="rId2"/>
          <a:stretch/>
        </p:blipFill>
        <p:spPr>
          <a:xfrm>
            <a:off x="0" y="4114800"/>
            <a:ext cx="2057400" cy="2462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/>
          <p:cNvSpPr/>
          <p:nvPr/>
        </p:nvSpPr>
        <p:spPr>
          <a:xfrm>
            <a:off x="1676520" y="1066680"/>
            <a:ext cx="6476760" cy="2971800"/>
          </a:xfrm>
          <a:prstGeom prst="wedgeEllipseCallout">
            <a:avLst>
              <a:gd name="adj1" fmla="val -44189"/>
              <a:gd name="adj2" fmla="val 69976"/>
            </a:avLst>
          </a:prstGeom>
          <a:solidFill>
            <a:srgbClr val="ccff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春雨淋到柳树上，柳枝也绿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ujhun1"/>
          <p:cNvPicPr/>
          <p:nvPr/>
        </p:nvPicPr>
        <p:blipFill>
          <a:blip r:embed="rId1"/>
          <a:stretch/>
        </p:blipFill>
        <p:spPr>
          <a:xfrm>
            <a:off x="5029200" y="457200"/>
            <a:ext cx="3787920" cy="472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03030392"/>
          <p:cNvPicPr/>
          <p:nvPr/>
        </p:nvPicPr>
        <p:blipFill>
          <a:blip r:embed="rId2"/>
          <a:stretch/>
        </p:blipFill>
        <p:spPr>
          <a:xfrm>
            <a:off x="304920" y="380880"/>
            <a:ext cx="4286160" cy="48769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4"/>
          <p:cNvSpPr txBox="1"/>
          <p:nvPr/>
        </p:nvSpPr>
        <p:spPr>
          <a:xfrm>
            <a:off x="2514600" y="571500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桃花</a:t>
            </a:r>
            <a:endParaRPr b="0" lang="en-US" sz="2400" spc="1" strike="noStrike">
              <a:ln w="9360">
                <a:solidFill>
                  <a:srgbClr val="ff00ff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170" name="WordArt 5"/>
          <p:cNvSpPr txBox="1"/>
          <p:nvPr/>
        </p:nvSpPr>
        <p:spPr>
          <a:xfrm>
            <a:off x="5943600" y="556272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杜鹃花</a:t>
            </a:r>
            <a:endParaRPr b="0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171" name="Picture 6" descr="maque"/>
          <p:cNvPicPr/>
          <p:nvPr/>
        </p:nvPicPr>
        <p:blipFill>
          <a:blip r:embed="rId3"/>
          <a:stretch/>
        </p:blipFill>
        <p:spPr>
          <a:xfrm>
            <a:off x="0" y="4792680"/>
            <a:ext cx="2590920" cy="2065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7"/>
          <p:cNvSpPr/>
          <p:nvPr/>
        </p:nvSpPr>
        <p:spPr>
          <a:xfrm>
            <a:off x="2057400" y="304920"/>
            <a:ext cx="5334120" cy="3657600"/>
          </a:xfrm>
          <a:prstGeom prst="wedgeRoundRectCallout">
            <a:avLst>
              <a:gd name="adj1" fmla="val -40180"/>
              <a:gd name="adj2" fmla="val 77819"/>
              <a:gd name="adj3" fmla="val 1666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对，春雨是红色的。你们瞧，春雨洒在桃树上，桃花红了。春雨滴在杜鹃丛中，杜鹃花也红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3273480" y="5302080"/>
            <a:ext cx="463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img579063_1"/>
          <p:cNvPicPr/>
          <p:nvPr/>
        </p:nvPicPr>
        <p:blipFill>
          <a:blip r:embed="rId1"/>
          <a:stretch/>
        </p:blipFill>
        <p:spPr>
          <a:xfrm>
            <a:off x="324000" y="1052640"/>
            <a:ext cx="4724280" cy="4267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000000734"/>
          <p:cNvPicPr/>
          <p:nvPr/>
        </p:nvPicPr>
        <p:blipFill>
          <a:blip r:embed="rId2"/>
          <a:stretch/>
        </p:blipFill>
        <p:spPr>
          <a:xfrm>
            <a:off x="5334120" y="1143000"/>
            <a:ext cx="345276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WordArt 4"/>
          <p:cNvSpPr txBox="1"/>
          <p:nvPr/>
        </p:nvSpPr>
        <p:spPr>
          <a:xfrm>
            <a:off x="5638680" y="4724280"/>
            <a:ext cx="2895840" cy="18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 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99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蒲公英花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99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WordArt 5"/>
          <p:cNvSpPr txBox="1"/>
          <p:nvPr/>
        </p:nvSpPr>
        <p:spPr>
          <a:xfrm>
            <a:off x="1066680" y="5562720"/>
            <a:ext cx="289584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油菜花</a:t>
            </a:r>
            <a:endParaRPr b="0" lang="en-US" sz="2400" spc="1" strike="noStrike">
              <a:ln w="12600">
                <a:solidFill>
                  <a:srgbClr val="ffcc00"/>
                </a:solidFill>
                <a:round/>
              </a:ln>
              <a:solidFill>
                <a:srgbClr val="ffff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8" name="Picture 6" descr="huangying"/>
          <p:cNvPicPr/>
          <p:nvPr/>
        </p:nvPicPr>
        <p:blipFill>
          <a:blip r:embed="rId3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7"/>
          <p:cNvSpPr/>
          <p:nvPr/>
        </p:nvSpPr>
        <p:spPr>
          <a:xfrm>
            <a:off x="0" y="838080"/>
            <a:ext cx="6781680" cy="4114800"/>
          </a:xfrm>
          <a:prstGeom prst="wedgeEllipseCallout">
            <a:avLst>
              <a:gd name="adj1" fmla="val 52856"/>
              <a:gd name="adj2" fmla="val 21643"/>
            </a:avLst>
          </a:prstGeom>
          <a:solidFill>
            <a:srgbClr val="ffff99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对，不对，春雨是黄色的。你们看，春雨落在油菜地里，油菜花黄了。春雨落在蒲公英上，蒲公英花也黄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4"/>
          <p:cNvSpPr/>
          <p:nvPr/>
        </p:nvSpPr>
        <p:spPr>
          <a:xfrm>
            <a:off x="468360" y="1268280"/>
            <a:ext cx="8136000" cy="4032360"/>
          </a:xfrm>
          <a:prstGeom prst="flowChartAlternateProcess">
            <a:avLst/>
          </a:prstGeom>
          <a:solidFill>
            <a:srgbClr val="00cc99">
              <a:alpha val="7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611280" y="1844640"/>
            <a:ext cx="78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春雨听了大家的争论，下得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了，沙沙沙，沙沙沙</a:t>
            </a: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83F5-06FC-462D-9219-570C989717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826920" y="1413000"/>
            <a:ext cx="7848720" cy="4038480"/>
            <a:chOff x="826920" y="1413000"/>
            <a:chExt cx="7848720" cy="4038480"/>
          </a:xfrm>
        </p:grpSpPr>
        <p:sp>
          <p:nvSpPr>
            <p:cNvPr id="187" name="Rectangle 3"/>
            <p:cNvSpPr/>
            <p:nvPr/>
          </p:nvSpPr>
          <p:spPr>
            <a:xfrm>
              <a:off x="826920" y="1413000"/>
              <a:ext cx="7848720" cy="403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826920" y="2784600"/>
              <a:ext cx="7848720" cy="360"/>
              <a:chOff x="826920" y="2784600"/>
              <a:chExt cx="7848720" cy="360"/>
            </a:xfrm>
          </p:grpSpPr>
          <p:sp>
            <p:nvSpPr>
              <p:cNvPr id="189" name="Line 4"/>
              <p:cNvSpPr/>
              <p:nvPr/>
            </p:nvSpPr>
            <p:spPr>
              <a:xfrm>
                <a:off x="826920" y="27846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826920" y="27846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826920" y="4156200"/>
              <a:ext cx="7848720" cy="360"/>
              <a:chOff x="826920" y="4156200"/>
              <a:chExt cx="7848720" cy="360"/>
            </a:xfrm>
          </p:grpSpPr>
          <p:sp>
            <p:nvSpPr>
              <p:cNvPr id="192" name="Line 5"/>
              <p:cNvSpPr/>
              <p:nvPr/>
            </p:nvSpPr>
            <p:spPr>
              <a:xfrm>
                <a:off x="826920" y="4156200"/>
                <a:ext cx="784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826920" y="41562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198520" y="1413000"/>
              <a:ext cx="360" cy="4038480"/>
              <a:chOff x="2198520" y="1413000"/>
              <a:chExt cx="360" cy="403848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21985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21985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570120" y="1413000"/>
              <a:ext cx="360" cy="4038480"/>
              <a:chOff x="3570120" y="1413000"/>
              <a:chExt cx="360" cy="4038480"/>
            </a:xfrm>
          </p:grpSpPr>
          <p:sp>
            <p:nvSpPr>
              <p:cNvPr id="198" name="Line 7"/>
              <p:cNvSpPr/>
              <p:nvPr/>
            </p:nvSpPr>
            <p:spPr>
              <a:xfrm>
                <a:off x="35701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 txBox="1"/>
              <p:nvPr/>
            </p:nvSpPr>
            <p:spPr>
              <a:xfrm>
                <a:off x="35701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941720" y="1413000"/>
              <a:ext cx="360" cy="4038480"/>
              <a:chOff x="4941720" y="1413000"/>
              <a:chExt cx="360" cy="4038480"/>
            </a:xfrm>
          </p:grpSpPr>
          <p:sp>
            <p:nvSpPr>
              <p:cNvPr id="201" name="Line 8"/>
              <p:cNvSpPr/>
              <p:nvPr/>
            </p:nvSpPr>
            <p:spPr>
              <a:xfrm>
                <a:off x="49417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49417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237000" y="1413000"/>
              <a:ext cx="360" cy="4038480"/>
              <a:chOff x="6237000" y="1413000"/>
              <a:chExt cx="360" cy="4038480"/>
            </a:xfrm>
          </p:grpSpPr>
          <p:sp>
            <p:nvSpPr>
              <p:cNvPr id="204" name="Line 9"/>
              <p:cNvSpPr/>
              <p:nvPr/>
            </p:nvSpPr>
            <p:spPr>
              <a:xfrm>
                <a:off x="623700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62370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7456320" y="1413000"/>
              <a:ext cx="360" cy="4038480"/>
              <a:chOff x="7456320" y="1413000"/>
              <a:chExt cx="360" cy="4038480"/>
            </a:xfrm>
          </p:grpSpPr>
          <p:sp>
            <p:nvSpPr>
              <p:cNvPr id="207" name="Line 10"/>
              <p:cNvSpPr/>
              <p:nvPr/>
            </p:nvSpPr>
            <p:spPr>
              <a:xfrm>
                <a:off x="7456320" y="1413000"/>
                <a:ext cx="0" cy="403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74563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826920" y="2098800"/>
              <a:ext cx="7848720" cy="360"/>
              <a:chOff x="826920" y="2098800"/>
              <a:chExt cx="7848720" cy="360"/>
            </a:xfrm>
          </p:grpSpPr>
          <p:sp>
            <p:nvSpPr>
              <p:cNvPr id="210" name="Line 11"/>
              <p:cNvSpPr/>
              <p:nvPr/>
            </p:nvSpPr>
            <p:spPr>
              <a:xfrm>
                <a:off x="826920" y="209880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826920" y="20988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512720" y="1413000"/>
              <a:ext cx="360" cy="4038480"/>
              <a:chOff x="1512720" y="1413000"/>
              <a:chExt cx="360" cy="4038480"/>
            </a:xfrm>
          </p:grpSpPr>
          <p:sp>
            <p:nvSpPr>
              <p:cNvPr id="213" name="Line 12"/>
              <p:cNvSpPr/>
              <p:nvPr/>
            </p:nvSpPr>
            <p:spPr>
              <a:xfrm>
                <a:off x="15127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15127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884320" y="1413000"/>
              <a:ext cx="360" cy="4038480"/>
              <a:chOff x="2884320" y="1413000"/>
              <a:chExt cx="360" cy="4038480"/>
            </a:xfrm>
          </p:grpSpPr>
          <p:sp>
            <p:nvSpPr>
              <p:cNvPr id="216" name="Line 13"/>
              <p:cNvSpPr/>
              <p:nvPr/>
            </p:nvSpPr>
            <p:spPr>
              <a:xfrm>
                <a:off x="28843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28843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255920" y="1413000"/>
              <a:ext cx="360" cy="4038480"/>
              <a:chOff x="4255920" y="1413000"/>
              <a:chExt cx="360" cy="4038480"/>
            </a:xfrm>
          </p:grpSpPr>
          <p:sp>
            <p:nvSpPr>
              <p:cNvPr id="219" name="Line 14"/>
              <p:cNvSpPr/>
              <p:nvPr/>
            </p:nvSpPr>
            <p:spPr>
              <a:xfrm>
                <a:off x="425592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425592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551200" y="1413000"/>
              <a:ext cx="360" cy="4038480"/>
              <a:chOff x="5551200" y="1413000"/>
              <a:chExt cx="360" cy="4038480"/>
            </a:xfrm>
          </p:grpSpPr>
          <p:sp>
            <p:nvSpPr>
              <p:cNvPr id="222" name="Line 15"/>
              <p:cNvSpPr/>
              <p:nvPr/>
            </p:nvSpPr>
            <p:spPr>
              <a:xfrm>
                <a:off x="555120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55512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6846840" y="1413000"/>
              <a:ext cx="360" cy="4038480"/>
              <a:chOff x="6846840" y="1413000"/>
              <a:chExt cx="360" cy="4038480"/>
            </a:xfrm>
          </p:grpSpPr>
          <p:sp>
            <p:nvSpPr>
              <p:cNvPr id="225" name="Line 16"/>
              <p:cNvSpPr/>
              <p:nvPr/>
            </p:nvSpPr>
            <p:spPr>
              <a:xfrm>
                <a:off x="684684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684684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8065800" y="1413000"/>
              <a:ext cx="360" cy="4038480"/>
              <a:chOff x="8065800" y="1413000"/>
              <a:chExt cx="360" cy="4038480"/>
            </a:xfrm>
          </p:grpSpPr>
          <p:sp>
            <p:nvSpPr>
              <p:cNvPr id="228" name="Line 17"/>
              <p:cNvSpPr/>
              <p:nvPr/>
            </p:nvSpPr>
            <p:spPr>
              <a:xfrm>
                <a:off x="8065800" y="1413000"/>
                <a:ext cx="0" cy="403848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8065800" y="1413000"/>
                <a:ext cx="360" cy="403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826920" y="3470400"/>
              <a:ext cx="7848720" cy="360"/>
              <a:chOff x="826920" y="3470400"/>
              <a:chExt cx="7848720" cy="360"/>
            </a:xfrm>
          </p:grpSpPr>
          <p:sp>
            <p:nvSpPr>
              <p:cNvPr id="231" name="Line 18"/>
              <p:cNvSpPr/>
              <p:nvPr/>
            </p:nvSpPr>
            <p:spPr>
              <a:xfrm>
                <a:off x="826920" y="347040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826920" y="347040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826920" y="4765680"/>
              <a:ext cx="7848720" cy="360"/>
              <a:chOff x="826920" y="4765680"/>
              <a:chExt cx="7848720" cy="360"/>
            </a:xfrm>
          </p:grpSpPr>
          <p:sp>
            <p:nvSpPr>
              <p:cNvPr id="234" name="Line 19"/>
              <p:cNvSpPr/>
              <p:nvPr/>
            </p:nvSpPr>
            <p:spPr>
              <a:xfrm>
                <a:off x="826920" y="4765680"/>
                <a:ext cx="7848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826920" y="4765680"/>
                <a:ext cx="784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Text Box 20"/>
            <p:cNvSpPr/>
            <p:nvPr/>
          </p:nvSpPr>
          <p:spPr>
            <a:xfrm>
              <a:off x="1165320" y="14130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你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1165320" y="28605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红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1165320" y="415620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花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5204160" y="14889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们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24"/>
            <p:cNvSpPr/>
            <p:nvPr/>
          </p:nvSpPr>
          <p:spPr>
            <a:xfrm>
              <a:off x="5204160" y="28605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绿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25"/>
            <p:cNvSpPr/>
            <p:nvPr/>
          </p:nvSpPr>
          <p:spPr>
            <a:xfrm>
              <a:off x="5127840" y="407988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草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Picture 26" descr="写一写"/>
          <p:cNvPicPr/>
          <p:nvPr/>
        </p:nvPicPr>
        <p:blipFill>
          <a:blip r:embed="rId1"/>
          <a:stretch/>
        </p:blipFill>
        <p:spPr>
          <a:xfrm>
            <a:off x="3348000" y="333360"/>
            <a:ext cx="208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357000" y="0"/>
            <a:ext cx="1704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61f"/>
                </a:solidFill>
                <a:latin typeface="Arial"/>
              </a:rPr>
              <a:t>春雨的色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692280"/>
            <a:ext cx="91440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春雨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像春姑娘纺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线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轻轻地落到地上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沙沙沙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沙沙沙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田野里，一群小鸟正在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论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一个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趣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的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题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：春雨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底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是什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颜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色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小燕子说：“春雨是绿色的。你们瞧，春雨落到草地上，草就绿了。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淋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柳树上，柳枝也绿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麻雀说：“不对，春雨是红色的。你们瞧，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洒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桃树上，桃花红了。春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滴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在杜鹃丛中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杜鹃花也红了</a:t>
            </a:r>
            <a:r>
              <a:rPr b="1" lang="zh-CN" sz="2400" spc="-1" strike="noStrike">
                <a:solidFill>
                  <a:srgbClr val="06561f"/>
                </a:solidFill>
                <a:latin typeface="Arial"/>
                <a:ea typeface="楷体_GB2312"/>
              </a:rPr>
              <a:t>。</a:t>
            </a:r>
            <a:r>
              <a:rPr b="1" lang="zh-CN" sz="2000" spc="-1" strike="noStrike">
                <a:solidFill>
                  <a:srgbClr val="06561f"/>
                </a:solidFill>
                <a:latin typeface="Arial"/>
                <a:ea typeface="楷体_GB2312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小黄莺说：“不对，不对，春雨是黄色的。你们看，春雨落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油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菜地里，油菜花黄了。春雨落在蒲公英上，蒲公英花也黄了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　　春雨听了大家的争论，下得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欢</a:t>
            </a:r>
            <a:r>
              <a:rPr b="1" lang="zh-CN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了，沙沙沙，沙沙沙</a:t>
            </a:r>
            <a:r>
              <a:rPr b="1" lang="en-US" sz="2800" spc="-1" strike="noStrike">
                <a:solidFill>
                  <a:srgbClr val="06561f"/>
                </a:solidFill>
                <a:latin typeface="Arial"/>
                <a:ea typeface="楷体_GB2312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喇叭"/>
          <p:cNvPicPr/>
          <p:nvPr/>
        </p:nvPicPr>
        <p:blipFill>
          <a:blip r:embed="rId2"/>
          <a:stretch/>
        </p:blipFill>
        <p:spPr>
          <a:xfrm>
            <a:off x="8172360" y="6021360"/>
            <a:ext cx="639720" cy="58248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395280" y="765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324000" y="155736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9" name="WordArt 9"/>
          <p:cNvSpPr txBox="1"/>
          <p:nvPr/>
        </p:nvSpPr>
        <p:spPr>
          <a:xfrm>
            <a:off x="395280" y="249228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395280" y="3284640"/>
            <a:ext cx="36036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395280" y="4221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395280" y="5445000"/>
            <a:ext cx="360360" cy="3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、</a:t>
            </a:r>
            <a:endParaRPr b="0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1547640" y="891000"/>
            <a:ext cx="6624720" cy="560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x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n   lù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qù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tí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d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线   论   趣   题   底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lín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sǎ   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dī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yóu</a:t>
            </a:r>
            <a:r>
              <a:rPr b="1" lang="zh-CN" sz="3200" spc="-1" strike="noStrike">
                <a:solidFill>
                  <a:srgbClr val="087229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hu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颜   淋   洒   滴   油   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miyo"/>
          <p:cNvPicPr/>
          <p:nvPr/>
        </p:nvPicPr>
        <p:blipFill>
          <a:blip r:embed="rId1"/>
          <a:stretch/>
        </p:blipFill>
        <p:spPr>
          <a:xfrm>
            <a:off x="1332000" y="620640"/>
            <a:ext cx="2622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844800" y="31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914400" y="2362320"/>
            <a:ext cx="7848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论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题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洒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滴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油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3240" y="1174680"/>
            <a:ext cx="19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只要你认识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个字，就可以得到一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wuxing"/>
          <p:cNvPicPr/>
          <p:nvPr/>
        </p:nvPicPr>
        <p:blipFill>
          <a:blip r:embed="rId1"/>
          <a:stretch/>
        </p:blipFill>
        <p:spPr>
          <a:xfrm>
            <a:off x="6934320" y="1219320"/>
            <a:ext cx="99036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971640" y="1341360"/>
            <a:ext cx="78375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线  论  趣  题  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颜 淋 洒 滴 油 欢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958840" y="148428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楷体"/>
                <a:ea typeface="楷体"/>
              </a:rPr>
              <a:t>只要你认识</a:t>
            </a:r>
            <a:r>
              <a:rPr b="1" lang="en-US" sz="3200" spc="-1" strike="noStrike">
                <a:solidFill>
                  <a:srgbClr val="9933ff"/>
                </a:solidFill>
                <a:latin typeface="楷体"/>
                <a:ea typeface="楷体"/>
              </a:rPr>
              <a:t>9</a:t>
            </a:r>
            <a:r>
              <a:rPr b="1" lang="zh-CN" sz="3200" spc="-1" strike="noStrike">
                <a:solidFill>
                  <a:srgbClr val="9933ff"/>
                </a:solidFill>
                <a:latin typeface="楷体"/>
                <a:ea typeface="楷体"/>
              </a:rPr>
              <a:t>个字，就可以得到一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0" descr="wuxing"/>
          <p:cNvPicPr/>
          <p:nvPr/>
        </p:nvPicPr>
        <p:blipFill>
          <a:blip r:embed="rId3"/>
          <a:stretch/>
        </p:blipFill>
        <p:spPr>
          <a:xfrm>
            <a:off x="7308720" y="1413000"/>
            <a:ext cx="99072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xiàn   zhēng lùn     qù       t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线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争论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有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趣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问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án      lín     huān         d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欢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  到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dī   sǎ          yó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滴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洒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车  </a:t>
            </a:r>
            <a:r>
              <a:rPr b="1" lang="zh-CN" sz="6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油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50920" y="40428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线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争论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趣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题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颜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欢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洒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车</a:t>
            </a:r>
            <a:r>
              <a:rPr b="1" lang="zh-CN" sz="7200" spc="-1" strike="noStrike">
                <a:solidFill>
                  <a:srgbClr val="ff99cc"/>
                </a:solidFill>
                <a:latin typeface="楷体_GB2312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油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菜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草地 柳树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xinsrc_6b021429fc1040708a30f9583a6d0446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-108000" y="1125360"/>
            <a:ext cx="9468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雨，像春姑娘纺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iàn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线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轻轻地落到地上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沙沙沙，沙沙沙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539640" y="2421000"/>
            <a:ext cx="860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知道是谁在那边吵吵嚷嚷，争论不休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细读感悟"/>
          <p:cNvPicPr/>
          <p:nvPr/>
        </p:nvPicPr>
        <p:blipFill>
          <a:blip r:embed="rId1"/>
          <a:stretch/>
        </p:blipFill>
        <p:spPr>
          <a:xfrm>
            <a:off x="468360" y="1341360"/>
            <a:ext cx="2951280" cy="100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2699640" y="3213000"/>
            <a:ext cx="3198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说它们在争论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616200" y="4149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它们各自有什么意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4T16:03:2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53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