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1D2-AC65-4C11-91DE-C942E0F6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0B5-06DF-4CE8-9762-BFDA3BA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26A69-3801-4C12-ADD4-E780DB6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A79E-4C6D-4C08-B55D-05145C99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44883-5E3D-405C-86C8-E6866A8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BC1B9-EAAC-46EE-AA91-C8C8834C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2053-B275-4608-B1B2-6A5A9D8E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ACE69-A47E-4C28-9949-35707B1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F1354-02EF-4BCF-BF0A-8A2A3D3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CBC42-E01C-4FB9-B1AE-66E48D6E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0DBEF-1C1A-41FB-95E4-A66208C0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91532-39DB-423D-A05E-254B9B9B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006-3BFE-40CB-B4F4-FA44017E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3513D-FB3B-4028-9061-FB613DC7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C02D7-4B58-4DDF-AC07-2CCAAD2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9E9DA-4F88-4EA8-8448-8AFC76E7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528D5-EEEB-4DAA-99F2-6E3A1B9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991F4-2088-4B2F-BD11-96226D48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AF52D-6C1E-4F2D-A1C4-214104B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F88A5-F0AF-4320-84BB-5CC7ADB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15C4F-16E6-4816-834D-1FBD55A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A1616-953F-4BB9-B562-1A574BFC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F8EB-1E76-4532-B794-C7AC049B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8A1-5612-4D7C-8434-8B5A2EC0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E84F3-0C37-4019-859E-3E5DA672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EC71F-7A30-4FDA-BDCD-046BC83D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AFAC9-4862-44C7-A7E8-22880BB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59AD6-7BAB-461F-A0F8-23C1DE2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4CF7-56A8-437C-8668-BA5E6106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BE94-01D1-4859-AB31-F7596FA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B11C-2F50-4523-AA67-1044D35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5028-AD9F-4E21-9174-9DA0FD7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8DCB-3913-457D-8C76-71D3185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2322F-E7A8-45F4-8B16-AC1079A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1628-6D84-40C0-8F77-4E7BD808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367EE-4BBD-4D20-8C5D-35204C0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05DC8-BD59-483D-A419-483BD73B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4232-2535-408B-A68A-1086EB1C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9895E-BE1C-4F0A-89E7-D32AD018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908B-B756-40FC-A8BD-29434A7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12815-24DF-4949-A404-82256B18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D87A1-3395-4177-B0B6-8B1946A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E4B05-A457-4AA5-A5E2-D4EED30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7F458-FFB6-4E7C-B4C6-D4D05B67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A8D18-A452-4234-A325-15F6D40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22B-8AC3-4D05-9CA9-55A491C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839F2-AB9F-4630-AE82-0F10338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71670-B1C5-4EEE-A065-802E5E5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7E6B8-01C6-477F-B3CE-0CD4120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34E8F-C838-45BA-B40F-9E39B347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9045A-931A-493A-A413-C7B6D206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BB789-4DD0-44AC-9C1A-3883E355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79DA7-CAD4-4F2D-BA60-B44D914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F1469-7C20-40F0-ABCC-B1FE33B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A2078-EE60-40F9-B6C3-FD42EC4F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92D47-D52B-4C28-AED2-43A8629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5BC-26EA-4CBD-8F02-F062717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1F39B-E90D-4D58-B4C5-415AE6B4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E713C-0DF4-4A4D-B8DA-F1EC5D5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79AD2-8CA7-48F4-93BD-08B34299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9E723-27CF-440A-9889-A259D49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FAF0E-ED30-487A-8C02-05C2C9A0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F5E6F-C76D-4539-A247-C07D0AB3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7F584-8D03-4C82-AFC3-9A4A52FA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43C-E95C-49FA-8F75-6F52154D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1E3-9498-4ECA-995D-AF903235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14D4-5BB8-4152-8CC6-EF1114D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9548-A78B-4BB4-9F71-2A12EE3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BF0-BDC6-42A2-B799-0BB68A46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D498-F9C0-4587-8711-3D70217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A037-8FBD-4D5B-B64B-CCF3DF2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547-BE5F-4C25-9827-A5C0A29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0ED5-430D-4A48-9AE0-FFE865E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B779-9556-4DA7-B294-8DEB294D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BCCA-9BD7-4FBE-9618-5F1DFE50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A346-7BCA-4351-B7D9-17BD65C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B99D-3A09-4344-BC66-970E0311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C5E8-3873-4D1E-848E-EBE6C0C0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7C3C-16D7-490A-BEFD-309E785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B56-B368-4984-8F05-D7DA986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B4C6-618C-4850-AAAC-C1B0A11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265F-7757-402C-B5A0-921EB05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5997-233E-4F06-ACE2-B635CA7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0A47D-2CD8-47A3-B30A-CFCFA31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6B92-8A22-453D-B041-B2303DEB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C34F-3857-44B8-9D6F-E1755402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BEEA-C012-4AA9-BB13-567647CE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608A-5C39-489F-85BD-B1975F83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5ECD-1D2A-4051-A69E-76A0989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AFFE-1061-4D5D-9CDF-AA3B99C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F28-E027-417D-BCF5-EA9B8E7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3C40-3F6D-4D47-A6D7-BE466EF6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6E7B-D261-4F35-8F56-7160E3D4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0A69-D452-455D-B2F6-E2F7C42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0E30-AA22-4CEF-8F33-A826D8C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59A1-C87D-4F32-BA48-A205046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6B5D-84A4-4433-995C-CD8FBC1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6784-5D07-4AFA-8D02-79B50E2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F607-87D5-4B84-BC91-0C0F78A7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A90F-9334-413D-ADC0-D1AEAD80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5D03-C9E4-40C4-96A6-CF06EC07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CC4-5C15-48EA-A5E2-AAC7AD0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3EEA-9DB3-4607-90F7-B07C6971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E72C-05B2-4DC2-9948-1910DFF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EB3A5-9139-481F-95C7-1292F2D3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A3B8-109F-45B7-A737-CEC5C35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298B-590E-4A16-88EF-E959ADCD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9CBE-DFB6-47CA-B3EA-6E8FD30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3573E-C6D4-4634-BA44-E1B89F99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2E6A-6363-4157-AFD5-EE7BD70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4D101-649F-4344-B3CB-8B8D2473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07BD-C28F-42C7-8310-DABDEA89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D62-369C-4457-9F4D-334FA13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AD47-0321-4D5C-AED6-2F8EB5EA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D608-003F-40AF-A05A-84CAD5E2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7ADC-B162-4CB2-9469-C91C773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58C42-6992-4EDC-819B-E0B559B8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6F4C-6480-4EB6-A8A0-E9B631A3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2C94-E205-4F88-8CCC-19825F80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5ADE-F9BB-4715-97FE-E9F98311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85DC8-2887-44FE-810B-6EBD5E8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0E51-75C0-49E4-BB06-CE8C0A5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D3DD-3BF4-40B8-ADAA-1D41D00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B26-5D29-4B97-8F67-4134F5A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90B1-F175-456F-8793-B1BE2E91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9104-CA7C-4A93-B9EC-00CC2D00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1AFF-F690-4FA4-A608-2AAE9321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7854-2CFD-49A0-8AB3-2C50ED0C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F656-6E7A-4DFA-8971-1856A702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A5FA-4028-4117-ACA7-D5007A6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EB150-5517-4CDF-A4C4-FCBF6B8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C4AC-4053-4B60-995B-9CC5E733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2BC80-D3BB-4340-AE27-63B10CD8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C5B3-59F2-4A71-BA2B-7265D82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5D7-54F0-4A5E-9AEA-D1A8164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4F17-4401-4C66-B058-3DAAE6D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E464F-FDA0-47CD-8EA5-652EA70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D47D2-D60B-4515-9DE8-612C8EE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9E7A-E87C-4279-8D18-7AAB4F1D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2386-3F75-4293-9E90-AD8A839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C32D4-0874-41D8-9477-6DC7A13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ACD1-7300-4ED1-B754-BC52FAE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C5AEA-D817-4D1C-85C3-4589A168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C8FC-B997-44E0-B89C-DEC021E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0440-65EC-4091-875F-1AE917D9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092-6047-4EB5-BE32-0DEBF2F7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A6E8-CDA0-4AE7-A563-91D235B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C00EF-0442-4226-B4AC-B6495C9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584D-C963-4F12-9C2A-F394BCF0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F0A65-7888-472E-87BE-9B1FB3F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478E-39E1-4D64-A976-2E8484B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A232-F2A7-464D-8C1D-C0BCD7A2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905E-B7B3-4197-9DA4-8B3364E0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8BD6F-9AF4-4BEE-B40E-E4A62226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0969F-1DB3-42CA-AA94-35AC621C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1AB58-942D-4A67-A241-A3A3623A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3A3-B703-4303-8C8E-1B318B01B8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C14-0D71-4AA4-A1EA-DF6CDD23B9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AD6-B8A3-4C8B-8A86-DBE39134FD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F05-2554-4511-879C-4C4084E5C5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DBF-8375-4B6C-8FD9-1708FCA54C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9AB-DF18-4C74-B4C6-3A1A8D2284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83A-14A2-4188-836C-4FFE09A99B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88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1B0-ADEC-4CEB-A9F1-455CA9FDF6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37A-D767-4F9E-9523-ED937E0671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033F-50C3-4044-9988-1141B04D22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746F-7A80-4384-B156-4BBEE0D195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777-D384-4304-B463-532DFB716D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8FD-CDE6-4949-BBC7-857CECD75E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032-866F-4B09-866A-770D6C245B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6"/>
          <p:cNvSpPr/>
          <p:nvPr/>
        </p:nvSpPr>
        <p:spPr>
          <a:xfrm>
            <a:off x="297324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WordArt 4" descr=""/>
          <p:cNvPicPr/>
          <p:nvPr/>
        </p:nvPicPr>
        <p:blipFill>
          <a:blip r:embed="rId1"/>
          <a:stretch/>
        </p:blipFill>
        <p:spPr>
          <a:xfrm>
            <a:off x="1762200" y="1841400"/>
            <a:ext cx="4835520" cy="1435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" descr=""/>
          <p:cNvPicPr/>
          <p:nvPr/>
        </p:nvPicPr>
        <p:blipFill>
          <a:blip r:embed="rId2"/>
          <a:stretch/>
        </p:blipFill>
        <p:spPr>
          <a:xfrm>
            <a:off x="2313000" y="357516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"/>
          <p:cNvSpPr/>
          <p:nvPr/>
        </p:nvSpPr>
        <p:spPr>
          <a:xfrm>
            <a:off x="466560" y="260280"/>
            <a:ext cx="81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尺有所短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寸有所长语文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55640" y="765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</a:rPr>
              <a:t>信封的格式</a:t>
            </a:r>
            <a:br>
              <a:rPr sz="4800"/>
            </a:b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信封的第一行写收信人的地址。字迹要工整，地名要详细。写地名要由省、市、县，一直写到区、街和门牌号码。如果是给农村写信，还要写上乡名和村名。信封的左上角画着六个方格，应在里面填上收信人的邮政编码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信封的第二行中间写收信人的姓名。可以根据收信人的身份，在名字后面写“同志收”或“先生（女士）收”等，此处应避免写称谓，如，不宜写“爷爷收”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信封的第三行写上寄信人的地址和姓名。信封的右下角有六个小方格，应在这里填上寄信人的邮政编码。信件万一出现投递困难的情况，邮局可以凭借这些信息，迅速地把信退还给寄信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6"/>
          <p:cNvSpPr/>
          <p:nvPr/>
        </p:nvSpPr>
        <p:spPr>
          <a:xfrm>
            <a:off x="684360" y="119700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　　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信封正面距右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毫米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毫米、距底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毫米以下的区域是条码打印区，不要在这个区域里写字或署名，以免影响投递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信封上的字不能用铅笔写，以防模糊不清；更不能用红笔写，因为这是不礼貌的行为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托人转交的信，在信封上要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面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烦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等字样，在信封第三行的后半行上，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××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××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拜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就可以了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F960-8C5A-43B4-91B3-AB888FEF24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4"/>
          <p:cNvSpPr/>
          <p:nvPr/>
        </p:nvSpPr>
        <p:spPr>
          <a:xfrm>
            <a:off x="1187280" y="1052640"/>
            <a:ext cx="7201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王老师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您好！我是一名小学生，有个难题想请教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我有个好朋友，我们亲如姐妹。可是，最近我们因为一点小事分手了。我知道这回闹别扭是我的错，也知道应该向她道歉。可是，我就是没有勇气面对她。不跟她道歉和好，我们都感到很别扭，特别是我，心里总是很难受，有愧于人的感觉真不是滋味。几次想对她开口，又欲言又止，怕说得不是时候不是地方，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您说我该怎么办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敬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　　身体健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　　　　　　　　　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　　　　　　　　　　　　　　　　　　　　　　　　　　　　　　　　　　　　　　　　　　　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　　　　　　　　　　　　　　　　　　　　　　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64000" y="4724280"/>
            <a:ext cx="32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　　　　　马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２００５年１２月１１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68360" y="206064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fbf39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由阅读课文，借助工具书自学课文中的生字和新词，再把课文读正确、读流利，了解课文写了什么事？是采用什么形式来写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5"/>
          <p:cNvSpPr txBox="1"/>
          <p:nvPr/>
        </p:nvSpPr>
        <p:spPr>
          <a:xfrm>
            <a:off x="1403280" y="765000"/>
            <a:ext cx="35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同学们</a:t>
            </a:r>
            <a:r>
              <a:rPr b="0" lang="en-US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请</a:t>
            </a:r>
            <a:r>
              <a:rPr b="0" lang="en-US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333333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611280" y="1341360"/>
            <a:ext cx="8137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这是一篇略读课文。课文由两封信组成，一封是张国强同学写给柯岩的信，他认为同学们嫉妒他获奖，因而疏远他，感到很寂寞，所以写信向柯岩老师讨教，希望得到柯岩老师的帮助。一封是柯岩的回信，她在信中通过合理的推断，分析了张国强失去朋友的原因，并结合自己的经历告诫国强：只有善于发现别人的长处，一点一滴地改正自己的缺点，才能拥有越来越多的好朋友；彼此知心交心，患难与共，才能飞快地进步。张国强在信中提到的问题，是学生在生活中很有可能遇到的，因此这篇课文对学生思考自己的成长问题有较普遍的指导意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1028"/>
          <p:cNvSpPr txBox="1"/>
          <p:nvPr/>
        </p:nvSpPr>
        <p:spPr>
          <a:xfrm>
            <a:off x="1403280" y="765000"/>
            <a:ext cx="237672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latin typeface="华文中宋"/>
              </a:rPr>
              <a:t>课文简说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latin typeface="华文中宋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6600"/>
              </a:solidFill>
              <a:latin typeface="华文中宋"/>
              <a:ea typeface="华文中宋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900000" y="2708280"/>
            <a:ext cx="47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971640" y="1484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尺有所短，寸有所长</a:t>
            </a:r>
            <a:r>
              <a:rPr b="1" lang="zh-CN" sz="4800" spc="-1" strike="noStrike">
                <a:solidFill>
                  <a:srgbClr val="afbf39"/>
                </a:solidFill>
                <a:latin typeface="Tahoma"/>
              </a:rPr>
              <a:t>：</a:t>
            </a:r>
            <a:br>
              <a:rPr sz="4800"/>
            </a:br>
            <a:r>
              <a:rPr b="1" lang="zh-CN" sz="2400" spc="-1" strike="noStrike">
                <a:solidFill>
                  <a:srgbClr val="afbf39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也作“尺短寸长”。尺比寸长，但和更长的东西相比就显得短；寸比尺短，但和更短的东西相比就显得长。比喻各有长处，也各有短处，彼此都有可取之处。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8194"/>
          <p:cNvSpPr/>
          <p:nvPr/>
        </p:nvSpPr>
        <p:spPr>
          <a:xfrm>
            <a:off x="97164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539640" y="184464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红眼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在课文里指看到国强取得好成绩非常羡慕而忌妒。</a:t>
            </a:r>
            <a:br>
              <a:rPr sz="4000"/>
            </a:b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碰钉子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比喻遭到拒绝或受到斥责。</a:t>
            </a:r>
            <a:br>
              <a:rPr sz="4000"/>
            </a:b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摔跟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比喻在生活中遇到的各种困难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229840" y="692280"/>
            <a:ext cx="484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Tahoma"/>
                <a:ea typeface="新宋体"/>
              </a:rPr>
              <a:t>你怎样理解这些词语</a:t>
            </a:r>
            <a:r>
              <a:rPr b="1" lang="en-US" sz="6000" spc="-1" strike="noStrike">
                <a:solidFill>
                  <a:srgbClr val="996600"/>
                </a:solidFill>
                <a:latin typeface="Tahoma"/>
                <a:ea typeface="新宋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5"/>
          <p:cNvSpPr/>
          <p:nvPr/>
        </p:nvSpPr>
        <p:spPr>
          <a:xfrm>
            <a:off x="971640" y="62064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ahoma"/>
              </a:rPr>
              <a:t>了解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柯岩　满族人，当代诗人、作家，全国政协委员、中国作协主席团委员、中国诗歌学会副会长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2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生于河南郑州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开始文学创作，从事多种文学形式的写作，已出版专著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余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她原名冯恺，柯岩是她的笔名。关于这个笔名，柯岩解释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们中国的古代人把绿绿的小树称之为柯；岩呢，当然是大大的坚硬的石头。岩石上是很难长出树来的，因此，凡是能在岩石上成活的树，它的根须必须透过岩石的缝隙寻找泥土，把根深深地扎入大地，它的生命力必须加倍的顽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取它做我的笔名，因为我知道写作是一件很难的事，决心终生根扎大地，终生奋力地攀登，从而使我的作品能像岩石上的小树那样富有生命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6600"/>
                </a:solidFill>
                <a:latin typeface="Arial"/>
              </a:rPr>
              <a:t>书信的格式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称呼。把对收信人的称呼写在第一行，顶格。后面加上冒号，表示下面有话要说。怎样称呼，要根据写信人和收信人的关系而定，一般说，当面怎样称呼，信上就怎样称呼。有时可以在称呼前面加“敬爱的”“亲爱的”这样的词语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正文。这是信的主要部分。写信人要说的话，都写在这部分。正文的开头空两格，通常是先写问候的话，如，“您好！”“你身体好吗？”如果写的是回信，可以写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日的来信已收到”等内容。如果来信中提出一些问题或要求代办的事，可以先把问题回答清楚，或者把代办事情的结果告诉对方，然后再写自己想说的话。如果说的事情多，就应该分段写，写完一件，再写一件。每段起行空两格，转行顶格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结尾。正文完了，结尾应写上致敬或祝福的话，如，“此致敬礼”“祝你健康”。结尾的写法，根据对象而定。如果给长辈写信，可以写“敬祝近安”“敬祝健康”；如果给平辈写信，可以写“祝你健康”“祝你工作顺利”；如果给晚辈写信，可以写“祝你进步”“望你努力学习”。其中，“此致”“祝你”等字眼，应紧接正文之后，或单独占一行，空两格写；“敬礼”“健康”“工作顺利”等字眼，要另起一行顶格写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署名。结尾写完后，在信的右下方写上写信人的名字。可以带姓，也可以不带姓（熟悉的人可以不写姓）。有时可以在名字前面加上称谓，如“弟、儿、侄、妹”。如果加称谓，一般不带姓。如果是给单位或组织写信，姓名要写齐全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8194"/>
          <p:cNvSpPr/>
          <p:nvPr/>
        </p:nvSpPr>
        <p:spPr>
          <a:xfrm>
            <a:off x="1619280" y="90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日期。日期可以写在署名的后面，也可以另起一行写。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如果在信里问候别人，一般在署名和日期之后，另起一行，写上“请代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问好！”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并此问好！”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如果信已经写好，但是还有一些话没有说完，可以写在信的后面。先写一个“附”字，后面加上冒号，写完补充的话以后，再加上“又及”二字，“又及”后面加句号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09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