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973-57A5-4497-AF0D-03B409C9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09B-9A3F-4D2F-9B1C-44EFD6AC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A11-F7F3-4E32-9F2D-E579A2B4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B61-29B6-42E6-B289-65D115DD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E9A3-B724-485B-A147-D2002560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7674-BDEA-41E6-B528-E44B1147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7073-C3E2-45E8-91B7-1932D49E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EAAD-2AF1-4F0D-B58C-AAC64285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0182-B8AC-4C7A-ADDF-420EA927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01E0-2E46-4601-8A0B-59470922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5088-14EB-43E2-B0C2-6CF1F713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A49-2AB3-4A3A-893A-4C82E4EB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91BA-594B-4F6F-BE1B-4BF25EFF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293A-5B6E-4CE0-A2CE-A46F39D8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4C3E-CBB8-410D-B9E6-6F1BA2DA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0D1C-58A8-43A7-8F0E-25F55370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F985-3A0E-4DED-BA41-45E534DC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89A5-8B84-47D8-A437-DC2964BA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F2E1-3D9B-4925-B59E-BFE21ABE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5CA1-C0D8-4396-8D35-831E9D5E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9154-5E60-4EBF-9C28-86412792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A401-3F58-482A-AA5C-4CF9978F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CE8-F15E-4368-962C-2ED53CDD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8ACE-676B-4BDA-A50F-B19FAC04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C870B-80F6-4B0D-8516-AB1C6F91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BC94-6C13-443F-AB05-6B70E173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6BFFF-EE79-43F0-AABD-D17C5BD1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86791-D47D-4E3F-9EE3-CD0E5F50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AC3A-B552-4569-935D-A7128B8D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DDB6-FDD2-4BED-A26E-8D31D6E2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E00-BCF4-4A60-9F8F-CBD6EA98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D20-07CD-48B1-B352-4ADAA751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0E1-0715-4CF7-8F9C-81706B7D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E4C-DEA2-4A43-A0B5-3A675686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4BF-7604-45BA-B401-2DF5A6E8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0FD-C39C-49C3-A95D-0AAAFEAA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2023-0247-47FE-A7C7-77B16C551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4904-2065-4365-9001-525682B1247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435D-19E7-44D7-A0B7-B02BDF4A53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AAF6-1D66-43B9-B612-C0F1EF46DB0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1"/>
          <a:srcRect l="0" t="0" r="15616" b="49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889000" y="400500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b81"/>
                </a:solidFill>
                <a:latin typeface="Arial"/>
                <a:ea typeface="新宋体"/>
              </a:rPr>
              <a:t>（白居易）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847520" y="1127160"/>
            <a:ext cx="5925960" cy="15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9ac"/>
                </a:solidFill>
                <a:latin typeface="华文隶书"/>
                <a:ea typeface="华文隶书"/>
              </a:rPr>
              <a:t>草语文</a:t>
            </a:r>
            <a:r>
              <a:rPr b="0" lang="en-US" sz="4000" spc="-1" strike="noStrike">
                <a:solidFill>
                  <a:srgbClr val="0039ac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0039ac"/>
                </a:solidFill>
                <a:latin typeface="华文隶书"/>
                <a:ea typeface="华文隶书"/>
              </a:rPr>
              <a:t>课件模板下载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80808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j0144348[1]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0808"/>
                </a:solidFill>
                <a:latin typeface="Arial"/>
              </a:rPr>
              <a:t>草</a:t>
            </a:r>
            <a:endParaRPr b="0" lang="en-US" sz="6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离离原上草，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一岁一枯荣。  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野火烧不尽，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春风吹又生。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752480" y="22860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cc00"/>
                </a:solidFill>
                <a:latin typeface="Times New Roman"/>
                <a:ea typeface="隶书"/>
              </a:rPr>
              <a:t>近反义词：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0" y="152388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Times New Roman"/>
                <a:ea typeface="经典楷体简"/>
              </a:rPr>
              <a:t>近义词：尽</a:t>
            </a:r>
            <a:r>
              <a:rPr b="1" lang="en-US" sz="5400" spc="-1" strike="noStrike">
                <a:solidFill>
                  <a:srgbClr val="cc00ff"/>
                </a:solidFill>
                <a:latin typeface="Times New Roman"/>
                <a:ea typeface="经典楷体简"/>
              </a:rPr>
              <a:t>---        </a:t>
            </a:r>
            <a:r>
              <a:rPr b="1" lang="zh-CN" sz="5400" spc="-1" strike="noStrike">
                <a:solidFill>
                  <a:srgbClr val="cc00ff"/>
                </a:solidFill>
                <a:latin typeface="Times New Roman"/>
                <a:ea typeface="经典楷体简"/>
              </a:rPr>
              <a:t>岁</a:t>
            </a:r>
            <a:r>
              <a:rPr b="1" lang="en-US" sz="5400" spc="-1" strike="noStrike">
                <a:solidFill>
                  <a:srgbClr val="cc00ff"/>
                </a:solidFill>
                <a:latin typeface="Times New Roman"/>
                <a:ea typeface="经典楷体简"/>
              </a:rPr>
              <a:t>---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0" y="32004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反义词：生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    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离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114800" y="152388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Times New Roman"/>
                <a:ea typeface="方正楷体简体"/>
              </a:rPr>
              <a:t>完           年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343400" y="320040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死            聚</a:t>
            </a: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F3A1-0D79-4CC6-9DA2-6F1B7D29C368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036800" y="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文鼎圆立体"/>
              </a:rPr>
              <a:t>课文中心：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9640" y="145404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imes New Roman"/>
                <a:ea typeface="经典宋体简"/>
              </a:rPr>
              <a:t>         </a:t>
            </a:r>
            <a:r>
              <a:rPr b="1" lang="zh-CN" sz="60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这首古诗赞颂了野草顽强的生命力。“野火烧不尽，春风吹又生”已成名句，常比喻百折不挠的顽强精神。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j0144348[1]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80808"/>
                </a:solidFill>
                <a:latin typeface="Arial"/>
              </a:rPr>
              <a:t>草</a:t>
            </a:r>
            <a:endParaRPr b="0" lang="en-US" sz="72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8541000" cy="21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  <a:ea typeface="华文楷体"/>
              </a:rPr>
              <a:t>            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离离原上草，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 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一岁一枯荣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 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野火烧不尽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 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春风吹又生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276720" y="1484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唐 白居易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3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78920" y="1844640"/>
            <a:ext cx="8541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草原  岁月  吹风   离开  枯叶   光荣   野果  烧火  不尽  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WordArt 1031"/>
          <p:cNvSpPr txBox="1"/>
          <p:nvPr/>
        </p:nvSpPr>
        <p:spPr>
          <a:xfrm>
            <a:off x="5724360" y="115920"/>
            <a:ext cx="2592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生字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j0144348[1]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80808"/>
                </a:solidFill>
                <a:latin typeface="Arial"/>
              </a:rPr>
              <a:t>草</a:t>
            </a:r>
            <a:endParaRPr b="0" lang="en-US" sz="72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  <a:ea typeface="华文楷体"/>
              </a:rPr>
              <a:t>            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离离原上草，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 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一岁一枯荣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 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野火烧不尽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185040" indent="-18504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  </a:t>
            </a: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华文楷体"/>
              </a:rPr>
              <a:t>春风吹又生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文本框 8200"/>
          <p:cNvSpPr/>
          <p:nvPr/>
        </p:nvSpPr>
        <p:spPr>
          <a:xfrm>
            <a:off x="1835280" y="5734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28600" y="1057320"/>
            <a:ext cx="8610480" cy="58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离离：形容野草茂盛的样子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原：原野，即广阔 的野外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岁：年的意思。一岁：一年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枯：枯萎，枯黄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荣：繁荣、茂盛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野火：荒山野地燃烧起来的火 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尽：完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生：生长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0880" y="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词语解释：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j014434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黑体"/>
                <a:ea typeface="黑体"/>
              </a:rPr>
              <a:t>草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离离原上草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一岁一枯荣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野火烧不尽，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春风吹又生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原野上长满了茂密的野草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这些草都是秋冬枯萎了，春夏又茂密的生长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野火只能烧掉草的茎叶，它的根还在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来年春天，草儿又重新发芽生长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ff"/>
                </a:solidFill>
                <a:latin typeface="Times New Roman"/>
                <a:ea typeface="隶书"/>
              </a:rPr>
              <a:t>课文大意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1219320"/>
            <a:ext cx="841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Times New Roman"/>
                <a:ea typeface="经典楷体简"/>
              </a:rPr>
              <a:t>第一句（</a:t>
            </a:r>
            <a:r>
              <a:rPr b="1" lang="en-US" sz="5400" spc="-1" strike="noStrike">
                <a:solidFill>
                  <a:srgbClr val="ffff99"/>
                </a:solidFill>
                <a:latin typeface="Times New Roman"/>
                <a:ea typeface="经典楷体简"/>
              </a:rPr>
              <a:t>1—2</a:t>
            </a:r>
            <a:r>
              <a:rPr b="1" lang="zh-CN" sz="5400" spc="-1" strike="noStrike">
                <a:solidFill>
                  <a:srgbClr val="ffff99"/>
                </a:solidFill>
                <a:latin typeface="Times New Roman"/>
                <a:ea typeface="经典楷体简"/>
              </a:rPr>
              <a:t>行）讲野草生长的特点：春夏茂盛，秋冬枯萎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4114800"/>
            <a:ext cx="8686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Times New Roman"/>
                <a:ea typeface="经典楷体简"/>
              </a:rPr>
              <a:t>第二句（</a:t>
            </a:r>
            <a:r>
              <a:rPr b="1" lang="en-US" sz="5400" spc="-1" strike="noStrike">
                <a:solidFill>
                  <a:srgbClr val="0066ff"/>
                </a:solidFill>
                <a:latin typeface="Times New Roman"/>
                <a:ea typeface="经典楷体简"/>
              </a:rPr>
              <a:t>3-4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  <a:ea typeface="经典楷体简"/>
              </a:rPr>
              <a:t>行）是赞扬野草的生命力很强：野火烧 不尽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j0144348[1]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0808"/>
                </a:solidFill>
                <a:latin typeface="Arial"/>
              </a:rPr>
              <a:t>草</a:t>
            </a:r>
            <a:endParaRPr b="0" lang="en-US" sz="6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离离原上草，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一岁一枯荣。  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野火烧不尽，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         </a:t>
            </a: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华文楷体"/>
              </a:rPr>
              <a:t>春风吹又生。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1" descr="j0144348[1]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2"/>
          <p:cNvGrpSpPr/>
          <p:nvPr/>
        </p:nvGrpSpPr>
        <p:grpSpPr>
          <a:xfrm>
            <a:off x="762120" y="380880"/>
            <a:ext cx="6248160" cy="5630760"/>
            <a:chOff x="762120" y="380880"/>
            <a:chExt cx="6248160" cy="5630760"/>
          </a:xfrm>
        </p:grpSpPr>
        <p:sp>
          <p:nvSpPr>
            <p:cNvPr id="152" name="Text Box 3"/>
            <p:cNvSpPr/>
            <p:nvPr/>
          </p:nvSpPr>
          <p:spPr>
            <a:xfrm>
              <a:off x="2362320" y="1600200"/>
              <a:ext cx="4647960" cy="44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80808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40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草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离离（      ），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（    ）一枯荣。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野火烧不尽，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（          ）。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762120" y="380880"/>
              <a:ext cx="4647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3300"/>
                  </a:solidFill>
                  <a:latin typeface="Times New Roman"/>
                  <a:ea typeface="楷体_GB2312"/>
                </a:rPr>
                <a:t>填空，再读一读。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54" name="Picture 5" descr="BD21313_"/>
            <p:cNvPicPr/>
            <p:nvPr/>
          </p:nvPicPr>
          <p:blipFill>
            <a:blip r:embed="rId2"/>
            <a:stretch/>
          </p:blipFill>
          <p:spPr>
            <a:xfrm>
              <a:off x="914400" y="1066680"/>
              <a:ext cx="5622840" cy="2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 Box 6"/>
          <p:cNvSpPr/>
          <p:nvPr/>
        </p:nvSpPr>
        <p:spPr>
          <a:xfrm>
            <a:off x="3886200" y="25146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原上草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819520" y="3429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一岁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895480" y="5257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春风吹又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8001000" y="59436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09:29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20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