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11.gif" ContentType="image/gif"/>
  <Override PartName="/ppt/media/image14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06F-C84A-40C0-8B79-72737F4C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7A2-EFA2-4558-ACB6-B84536C1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9E3-3A8A-40CF-8DC3-58730DCC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AE9-4865-4C27-BFBB-721BC6D9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FD9F-1B87-4941-B1FA-61B6F72C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CBB-EEF3-4FA3-8A8A-6E117FA9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A0AB-A7EA-4471-9DB2-C860451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87CE-076E-4D24-89D2-4777587F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1647-A91F-490D-8ADC-B94D3E00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20AE-075D-4CCD-B471-58314B9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5C67-F098-46ED-8FD7-98148FA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902-1363-4039-A97F-23C44F6D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6FD1-0EB1-4BA3-85A2-49B569E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4C5-7EAC-48C7-8632-5F3915E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B83A-EBA0-4DA5-ABFC-9FB9672D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307-B87F-4BAD-A610-9F92DA81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2CBC-BDA4-47F7-BF45-4FCBC685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750-42C0-4CDB-ADB4-FF57757D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688-ED2A-4FF1-8F4E-6434C9B6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B62-78C1-46B5-87DE-35526D9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469-F0F1-4930-A996-5EB119C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DEA-0A4A-43F7-B2E8-CA7C093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907-7A6E-43EE-A9E6-94B0C2F8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27F-2B48-4162-81F5-0B085E51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D7C0-A58F-4B1B-A666-E61C7E005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992-CBE5-4D38-B4AB-9F2A43665B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1EB-6557-4C0E-AF73-7D4254FE8F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724183331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547640" y="1054080"/>
            <a:ext cx="619308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独坐敬亭山语文课件免费下载</a:t>
            </a:r>
            <a:endParaRPr b="1" lang="en-US" sz="80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4" name="Rectangle 5" descr=""/>
          <p:cNvPicPr/>
          <p:nvPr/>
        </p:nvPicPr>
        <p:blipFill>
          <a:blip r:embed="rId2"/>
          <a:stretch/>
        </p:blipFill>
        <p:spPr>
          <a:xfrm>
            <a:off x="1835280" y="3787920"/>
            <a:ext cx="5194080" cy="16128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hi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刘禹锡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7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4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刘锡禹"/>
          <p:cNvPicPr/>
          <p:nvPr/>
        </p:nvPicPr>
        <p:blipFill>
          <a:blip r:embed="rId1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4"/>
          <p:cNvSpPr txBox="1"/>
          <p:nvPr/>
        </p:nvSpPr>
        <p:spPr>
          <a:xfrm>
            <a:off x="243828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=864263884,3953997451&amp;gp=0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56996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庭湖在湖南省北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南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中国第二大淡水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称“云梦泽” 。跨湘鄂两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北连长江、南接湘、资、沅、酆四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“八百里洞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水面被分割为东洞庭湖、南洞庭湖、西洞庭湖三部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洞庭湖的风光极为秀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景点都是国家级的风景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阳楼、君山、杜甫墓、杨么寨、铁经幢、屈子祠、跃龙塔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积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公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743200" y="1066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洞庭湖概况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200410919629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1258920" y="853200"/>
            <a:ext cx="66978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望洞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唐）刘禹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潭面无风镜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遥望洞庭山水翠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白银盘里一青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684360" y="5493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51211102857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057320" y="2420640"/>
            <a:ext cx="76183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和谐，这里指水色和月色融为一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潭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指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青螺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这里用来形容洞庭湖中的君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37920" y="23619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洞庭湖的水光与秋月和谐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2666880" y="114300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理解诗意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23162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首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219320" y="3306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颔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19320" y="4221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颈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4515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尾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438280" y="32767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水面波平浪静就好象铜镜未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438280" y="41752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远远望去洞庭湖山水一片碧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507120" y="5151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恰似白银盘子托着轻轻的田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2"/>
          <p:cNvSpPr txBox="1"/>
          <p:nvPr/>
        </p:nvSpPr>
        <p:spPr>
          <a:xfrm>
            <a:off x="1619280" y="2602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理解诗意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湖光秋月互相辉映，显得多么和谐，平静潭水无风，如一面没经过打磨的迷蒙的铜镜，那月下洞庭湖里苍翠的君山，从远处看，就好像在白银盘里盛放着的一枚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191512202654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24000" y="26028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古诗中有三个比喻句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你能找到吗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没有一丝风吹过</a:t>
            </a: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静静的湖面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像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                  镜子          </a:t>
            </a: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   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潭面             像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白色银盘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   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君山                   像湖中的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一颗青螺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272880"/>
            <a:ext cx="835164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FR5029"/>
          <p:cNvPicPr/>
          <p:nvPr/>
        </p:nvPicPr>
        <p:blipFill>
          <a:blip r:embed="rId1"/>
          <a:stretch/>
        </p:blipFill>
        <p:spPr>
          <a:xfrm>
            <a:off x="-468360" y="155520"/>
            <a:ext cx="9793440" cy="670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35280" y="1055520"/>
            <a:ext cx="5111640" cy="496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忆江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唐）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江南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风景旧曾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日出江花红胜火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春来江水绿如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能不忆江南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51211102857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11280" y="242064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谙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熟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蓝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一种植物，叶蓝绿色，可提取青蓝色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51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107316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FR2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403280" y="1341360"/>
            <a:ext cx="70581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洞庭   敬亭山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潭面   青螺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深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468360" y="101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古诗大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105264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江南是多么美好啊，那往日的风景是多么熟悉。每当太阳从东方升起，遍地开放的鲜花更加艳丽，春光水碧，碧波粼粼。怎能叫人不回忆江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line24"/>
          <p:cNvPicPr/>
          <p:nvPr/>
        </p:nvPicPr>
        <p:blipFill>
          <a:blip r:embed="rId2"/>
          <a:stretch/>
        </p:blipFill>
        <p:spPr>
          <a:xfrm>
            <a:off x="7696080" y="352440"/>
            <a:ext cx="8042400" cy="276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line24"/>
          <p:cNvPicPr/>
          <p:nvPr/>
        </p:nvPicPr>
        <p:blipFill>
          <a:blip r:embed="rId3"/>
          <a:stretch/>
        </p:blipFill>
        <p:spPr>
          <a:xfrm>
            <a:off x="8381880" y="493560"/>
            <a:ext cx="6137280" cy="21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line24"/>
          <p:cNvPicPr/>
          <p:nvPr/>
        </p:nvPicPr>
        <p:blipFill>
          <a:blip r:embed="rId4"/>
          <a:stretch/>
        </p:blipFill>
        <p:spPr>
          <a:xfrm flipH="1" rot="10800000">
            <a:off x="8229600" y="0"/>
            <a:ext cx="590868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1D88-9A76-424E-BCBF-F34951C90D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ine24"/>
          <p:cNvPicPr/>
          <p:nvPr/>
        </p:nvPicPr>
        <p:blipFill>
          <a:blip r:embed="rId2"/>
          <a:stretch/>
        </p:blipFill>
        <p:spPr>
          <a:xfrm>
            <a:off x="7696080" y="352440"/>
            <a:ext cx="8042400" cy="276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line24"/>
          <p:cNvPicPr/>
          <p:nvPr/>
        </p:nvPicPr>
        <p:blipFill>
          <a:blip r:embed="rId3"/>
          <a:stretch/>
        </p:blipFill>
        <p:spPr>
          <a:xfrm>
            <a:off x="8381880" y="493560"/>
            <a:ext cx="6137280" cy="211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line24"/>
          <p:cNvPicPr/>
          <p:nvPr/>
        </p:nvPicPr>
        <p:blipFill>
          <a:blip r:embed="rId4"/>
          <a:stretch/>
        </p:blipFill>
        <p:spPr>
          <a:xfrm flipH="1" rot="10800000">
            <a:off x="8229600" y="0"/>
            <a:ext cx="5908680" cy="203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484360" y="33336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忆江南 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332000" y="134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方正舒体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方正舒体"/>
              </a:rPr>
              <a:t>江南忆，最忆是杭州。山       寺月中寻桂子，郡亭枕上看潮头。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340000" y="3500280"/>
            <a:ext cx="59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忆江南 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547640" y="4437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方正舒体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方正舒体"/>
              </a:rPr>
              <a:t>江南忆，其次是吴宫。吴酒一杯春竹叶，吴娃双舞醉芙蓉。早晚复相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8360" y="2349000"/>
            <a:ext cx="5184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李白（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701-762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），字太白，唐代伟大的浪漫主义诗人。他写了大量歌颂祖国河山、揭露社会黑暗和蔑视权贵的诗歌。他的诗对后人有深远的影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611280" y="98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作者简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92" name="Picture 5" descr="李白"/>
          <p:cNvPicPr/>
          <p:nvPr/>
        </p:nvPicPr>
        <p:blipFill>
          <a:blip r:embed="rId2"/>
          <a:stretch/>
        </p:blipFill>
        <p:spPr>
          <a:xfrm>
            <a:off x="5651640" y="1773360"/>
            <a:ext cx="2781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yijiangnan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Bj_042"/>
          <p:cNvPicPr/>
          <p:nvPr/>
        </p:nvPicPr>
        <p:blipFill>
          <a:blip r:embed="rId2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 rot="5400000">
            <a:off x="-952560" y="2171520"/>
            <a:ext cx="449568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李白</a:t>
            </a:r>
            <a:endParaRPr b="1" lang="en-US" sz="6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55640" y="1341360"/>
            <a:ext cx="4968720" cy="4824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这首诗是李白离开长安后，经过了长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来到宣城时所写。在长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中，他饱尝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世态炎凉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滋味，心中充满了孤独寂寞的情感。　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FR2002"/>
          <p:cNvPicPr/>
          <p:nvPr/>
        </p:nvPicPr>
        <p:blipFill>
          <a:blip r:embed="rId1"/>
          <a:stretch/>
        </p:blipFill>
        <p:spPr>
          <a:xfrm>
            <a:off x="250920" y="130320"/>
            <a:ext cx="8569080" cy="6654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664080" y="1700640"/>
            <a:ext cx="2009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独坐敬亭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众鸟高飞尽，孤云独去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相看两不厌，只有敬亭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51211102857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42920" y="3284280"/>
            <a:ext cx="76183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闲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形容云彩飘来飘去悠闲自在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厌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02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古诗大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68360" y="914400"/>
            <a:ext cx="806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天上的几只鸟儿高飞远去，寂寥的长空有一片云，也慢慢越飘越远。我静静凝视着山，觉得山也在看着我，彼此总是看不够；此时此刻，我的心里似乎只有那座敬亭山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line24"/>
          <p:cNvPicPr/>
          <p:nvPr/>
        </p:nvPicPr>
        <p:blipFill>
          <a:blip r:embed="rId2"/>
          <a:stretch/>
        </p:blipFill>
        <p:spPr>
          <a:xfrm>
            <a:off x="7696080" y="352440"/>
            <a:ext cx="8042400" cy="27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ine24"/>
          <p:cNvPicPr/>
          <p:nvPr/>
        </p:nvPicPr>
        <p:blipFill>
          <a:blip r:embed="rId3"/>
          <a:stretch/>
        </p:blipFill>
        <p:spPr>
          <a:xfrm>
            <a:off x="8381880" y="493560"/>
            <a:ext cx="6137280" cy="21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line24"/>
          <p:cNvPicPr/>
          <p:nvPr/>
        </p:nvPicPr>
        <p:blipFill>
          <a:blip r:embed="rId4"/>
          <a:stretch/>
        </p:blipFill>
        <p:spPr>
          <a:xfrm flipH="1" rot="10800000">
            <a:off x="8229600" y="0"/>
            <a:ext cx="590868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656982898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268360" y="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Times New Roman"/>
                <a:ea typeface="黑体"/>
              </a:rPr>
              <a:t>看画面说诗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-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571680" y="-66600"/>
            <a:ext cx="8001000" cy="5622840"/>
            <a:chOff x="571680" y="-66600"/>
            <a:chExt cx="8001000" cy="5622840"/>
          </a:xfrm>
        </p:grpSpPr>
        <p:sp>
          <p:nvSpPr>
            <p:cNvPr id="113" name="Rectangle 4"/>
            <p:cNvSpPr/>
            <p:nvPr/>
          </p:nvSpPr>
          <p:spPr>
            <a:xfrm>
              <a:off x="571680" y="-66600"/>
              <a:ext cx="800100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71680" y="-66600"/>
              <a:ext cx="8001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6"/>
          <p:cNvSpPr/>
          <p:nvPr/>
        </p:nvSpPr>
        <p:spPr>
          <a:xfrm>
            <a:off x="4356000" y="189000"/>
            <a:ext cx="4608720" cy="6451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这首诗是李白离开长安后，经过了长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十年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，来到宣城时所写。在长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中，他饱尝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态炎凉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的滋味，心中充满了孤独寂寞的情感。　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p021-0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1116000" y="429264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Times New Roman"/>
                <a:ea typeface="黑体"/>
              </a:rPr>
              <a:t>看画面说诗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0:5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5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