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4.gif" ContentType="image/gif"/>
  <Override PartName="/ppt/media/camera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9FD-F921-4327-9FED-CB1922B1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484-84E2-4CB7-85C6-2F2E459B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D4A-2BDE-4A5E-A4F9-C2C3AF9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DE7-EB41-49E9-8E7B-6D10C5B9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EFE-007B-4A12-9D9E-89554CF1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9BF0-95BE-41CF-AA9D-1ECEAAB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255-202E-4786-A3CD-24A82D8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67B5-5B46-4698-ADEB-738F330D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4CC-6B07-465A-8E17-4B4C29BD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2106-2D13-48CC-9231-3063610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98D-E68F-47B4-8ECD-D40CB29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972-104B-4B4E-B90B-D96FFE5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1CC0-9341-45AB-8405-B774C7AE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3E9F-47F5-476E-A2BA-3722C73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6F1-839D-4E68-9227-CD98AF26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493-C44B-4E66-918E-76A220C9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3E9C-592E-4C2A-8D77-51E325B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952-3DE2-4D37-9DE2-127717F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11A-3601-4CFF-98D2-07793CB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EF1-3050-42F6-A842-572AE94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51E-4F4F-4215-9819-91E4919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A82-B5CF-4D92-A325-8DBFCC3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7E0-A241-4B30-8D38-21F5495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C25-B5CD-469A-822F-F6A0A81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9024-00AF-481A-B0F9-89892DE78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2956-320F-4BBD-840B-3E157D2C9E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389-B28E-41E6-8A85-D94D5D9FE4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001"/>
          <p:cNvPicPr/>
          <p:nvPr/>
        </p:nvPicPr>
        <p:blipFill>
          <a:blip r:embed="rId16"/>
          <a:stretch/>
        </p:blipFill>
        <p:spPr>
          <a:xfrm>
            <a:off x="0" y="0"/>
            <a:ext cx="11506320" cy="690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3320" y="1558440"/>
            <a:ext cx="867888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地震中的</a:t>
            </a:r>
            <a:r>
              <a:rPr b="0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父与子语文课件</a:t>
            </a:r>
            <a:r>
              <a:rPr b="0" lang="en-US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模板下载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609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顿时感到眼前一片漆黑，大喊：“阿曼达，我的儿子！”跪在地上大哭了一阵后，他猛地想起自己常对儿子说的一句话：“不论发生什么，我总会跟你在一起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3240" y="476280"/>
            <a:ext cx="9144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挖了八小时、十二小时、二十四小时、三十六小时，没人再来阻挡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3733920"/>
            <a:ext cx="9144000" cy="178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挖了三十六小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没人再来阻挡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C35-7582-4A0D-B226-0832149FF5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685800" y="838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选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971800" y="3049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爱的延伸</a:t>
            </a:r>
            <a:endParaRPr b="0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有感情朗读课文，再一次体会地震中父子间的似海深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3124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摘抄文中自己喜欢的语句，并诵读积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4114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搜集表现爱的文章（把爱扩大到动物、植    物、世间的每个角落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2120" y="5486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帮父母做一件力所能及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听音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的奉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dur="indefinite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55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3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