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laser.wav" ContentType="audio/x-wav"/>
  <Override PartName="/ppt/media/cashreg.wav" ContentType="audio/x-wav"/>
  <Override PartName="/ppt/media/image5.jpeg" ContentType="image/jpeg"/>
  <Override PartName="/ppt/media/applause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A2A-8D0B-4EC7-9B68-1934A236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42C-7AD2-40A1-9085-5D3E00DA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EA2F-B2B1-4F3B-A0F0-F7686F0D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382-84E5-49A2-8836-A85DCCB1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EA44-801F-481C-8E2A-4FD11548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C02B-EE43-4D4B-9D66-9DB5373D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8F15-0C32-449D-ABA0-9152F1A5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343D-1EFA-47BD-9715-0B029831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FAB4-279D-4B0A-A264-D62DF67C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8D7A-3474-46EA-86F6-7A126212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ADF1-68C0-43D8-8180-9156FAA8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C70E-0242-487D-B280-18E9128E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F718-9349-477A-AEE0-D8E576B6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F5F2-9F40-4096-B8A2-73D668C0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7F9A-78BF-4828-9B63-3A2141EC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78FC-CBDF-4B59-8C79-86EEF334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047F-827E-4F6D-8A58-37E002D7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AEE-836B-4E17-A2B0-378FC00C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074-3EF8-46E7-8F9A-8D22D92C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9FC3-13B4-4964-B15E-EE2FFA86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A19-2F50-490E-999F-BA55C1CF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C48C-95A3-4180-A7CA-A33CD7AC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5B0-3E96-4978-8374-F1E1E198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816C-3AEB-4A40-9B99-2BD24987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0C16-CF24-4209-BF93-0B86C717B9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B1FE-D139-4273-9CAF-E83615D4E94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91D5-E491-426A-B5FD-20284D3BFB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pplaus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chimes.wav"/><Relationship Id="rId7" Type="http://schemas.openxmlformats.org/officeDocument/2006/relationships/audio" Target="../media/cashreg.wav"/><Relationship Id="rId8" Type="http://schemas.openxmlformats.org/officeDocument/2006/relationships/audio" Target="../media/chimes.wav"/><Relationship Id="rId9" Type="http://schemas.openxmlformats.org/officeDocument/2006/relationships/audio" Target="../media/cashreg.wav"/><Relationship Id="rId10" Type="http://schemas.openxmlformats.org/officeDocument/2006/relationships/audio" Target="../media/chimes.wav"/><Relationship Id="rId11" Type="http://schemas.openxmlformats.org/officeDocument/2006/relationships/audio" Target="../media/cashreg.wav"/><Relationship Id="rId12" Type="http://schemas.openxmlformats.org/officeDocument/2006/relationships/audio" Target="../media/chimes.wav"/><Relationship Id="rId13" Type="http://schemas.openxmlformats.org/officeDocument/2006/relationships/audio" Target="../media/laser.wav"/><Relationship Id="rId14" Type="http://schemas.openxmlformats.org/officeDocument/2006/relationships/audio" Target="../media/applause.wav"/><Relationship Id="rId15" Type="http://schemas.openxmlformats.org/officeDocument/2006/relationships/audio" Target="../media/applause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2003211154637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1547640" y="191628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方正舒体"/>
                <a:ea typeface="方正舒体"/>
              </a:rPr>
              <a:t>父亲的菜园语文</a:t>
            </a:r>
            <a:r>
              <a:rPr b="1" lang="en-US" sz="4000" spc="-1" strike="noStrike">
                <a:solidFill>
                  <a:srgbClr val="ff0066"/>
                </a:solidFill>
                <a:latin typeface="方正舒体"/>
                <a:ea typeface="方正舒体"/>
              </a:rPr>
              <a:t>PPT</a:t>
            </a:r>
            <a:r>
              <a:rPr b="1" lang="zh-CN" sz="4000" spc="-1" strike="noStrike">
                <a:solidFill>
                  <a:srgbClr val="ff0066"/>
                </a:solidFill>
                <a:latin typeface="方正舒体"/>
                <a:ea typeface="方正舒体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D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6"/>
          <p:cNvSpPr txBox="1"/>
          <p:nvPr/>
        </p:nvSpPr>
        <p:spPr>
          <a:xfrm>
            <a:off x="611280" y="189000"/>
            <a:ext cx="288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想一想</a:t>
            </a:r>
            <a:endParaRPr b="0" lang="en-US" sz="2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377000" y="1290600"/>
            <a:ext cx="585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隶书"/>
                <a:ea typeface="隶书"/>
              </a:rPr>
              <a:t>1 </a:t>
            </a:r>
            <a:r>
              <a:rPr b="1" lang="zh-CN" sz="6000" spc="-1" strike="noStrike">
                <a:solidFill>
                  <a:srgbClr val="ff0066"/>
                </a:solidFill>
                <a:latin typeface="隶书"/>
                <a:ea typeface="隶书"/>
              </a:rPr>
              <a:t>这个菜园在什么地方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377000" y="2421000"/>
            <a:ext cx="585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隶书"/>
                <a:ea typeface="隶书"/>
              </a:rPr>
              <a:t>2 </a:t>
            </a:r>
            <a:r>
              <a:rPr b="1" lang="zh-CN" sz="6000" spc="-1" strike="noStrike">
                <a:solidFill>
                  <a:srgbClr val="ff0066"/>
                </a:solidFill>
                <a:latin typeface="隶书"/>
                <a:ea typeface="隶书"/>
              </a:rPr>
              <a:t>这个菜园种得怎么样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531080" y="3573360"/>
            <a:ext cx="630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隶书"/>
                <a:ea typeface="隶书"/>
              </a:rPr>
              <a:t>3 </a:t>
            </a:r>
            <a:r>
              <a:rPr b="1" lang="zh-CN" sz="6000" spc="-1" strike="noStrike">
                <a:solidFill>
                  <a:srgbClr val="ff0066"/>
                </a:solidFill>
                <a:latin typeface="隶书"/>
                <a:ea typeface="隶书"/>
              </a:rPr>
              <a:t>为什么要叫父亲的菜园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D043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0" y="0"/>
            <a:ext cx="95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     </a:t>
            </a: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因为      ，我们家失去了       ，父亲看见                   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就在山坡上选上了一块相对平缓的坡地，开了一个菜园，一场暴雨冲走了菜地上的       ，父亲没有      ，他砌了       ，挑了        ，终于开出了新菜园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977920" y="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修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982440" y="981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菜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969520" y="9079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盛不满的菜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103880" y="3357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黄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2854080" y="4149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气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6743520" y="4221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石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126800" y="5013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黄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D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0" y="765000"/>
            <a:ext cx="1018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</a:t>
            </a: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菜园里长出了豌豆，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亲把它翻到了土里，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</a:t>
            </a: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，在父亲的              下，父亲的菜园像一块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       </a:t>
            </a: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，嵌在荒凉的山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上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74280" y="4581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隶书"/>
              </a:rPr>
              <a:t>翡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79000" y="2708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隶书"/>
              </a:rPr>
              <a:t>拾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704920" y="2565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隶书"/>
              </a:rPr>
              <a:t>精心伺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6790320" y="35733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隶书"/>
              </a:rPr>
              <a:t>碧绿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7860960" y="1700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  <a:ea typeface="隶书"/>
              </a:rPr>
              <a:t>四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D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3224880" y="2997360"/>
            <a:ext cx="1963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父亲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71960" y="59760"/>
            <a:ext cx="109476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幼圆"/>
              </a:rPr>
              <a:t>聪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272320" y="59760"/>
            <a:ext cx="109476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幼圆"/>
              </a:rPr>
              <a:t>勤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229560" y="333360"/>
            <a:ext cx="200916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幼圆"/>
              </a:rPr>
              <a:t>勇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871240" y="59760"/>
            <a:ext cx="109476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幼圆"/>
              </a:rPr>
              <a:t>坚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6685560" y="260280"/>
            <a:ext cx="200916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幼圆"/>
              </a:rPr>
              <a:t>自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11"/>
          <p:cNvCxnSpPr>
            <a:stCxn id="111" idx="1"/>
          </p:cNvCxnSpPr>
          <p:nvPr/>
        </p:nvCxnSpPr>
        <p:spPr>
          <a:xfrm>
            <a:off x="0" y="34290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grpSp>
        <p:nvGrpSpPr>
          <p:cNvPr id="119" name=""/>
          <p:cNvGrpSpPr/>
          <p:nvPr/>
        </p:nvGrpSpPr>
        <p:grpSpPr>
          <a:xfrm>
            <a:off x="1258920" y="2060640"/>
            <a:ext cx="1728720" cy="1512720"/>
            <a:chOff x="1258920" y="2060640"/>
            <a:chExt cx="1728720" cy="1512720"/>
          </a:xfrm>
        </p:grpSpPr>
        <p:sp>
          <p:nvSpPr>
            <p:cNvPr id="120" name="Line 16"/>
            <p:cNvSpPr/>
            <p:nvPr/>
          </p:nvSpPr>
          <p:spPr>
            <a:xfrm>
              <a:off x="1258920" y="2060640"/>
              <a:ext cx="1728720" cy="151272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1258920" y="2060640"/>
              <a:ext cx="1728720" cy="151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700360" y="1844640"/>
            <a:ext cx="792000" cy="1655640"/>
            <a:chOff x="2700360" y="1844640"/>
            <a:chExt cx="792000" cy="1655640"/>
          </a:xfrm>
        </p:grpSpPr>
        <p:sp>
          <p:nvSpPr>
            <p:cNvPr id="123" name="Line 17"/>
            <p:cNvSpPr/>
            <p:nvPr/>
          </p:nvSpPr>
          <p:spPr>
            <a:xfrm>
              <a:off x="2700360" y="1844640"/>
              <a:ext cx="792000" cy="165564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2700360" y="1844640"/>
              <a:ext cx="792000" cy="16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427640" y="1989000"/>
            <a:ext cx="360" cy="1584360"/>
            <a:chOff x="4427640" y="1989000"/>
            <a:chExt cx="360" cy="1584360"/>
          </a:xfrm>
        </p:grpSpPr>
        <p:sp>
          <p:nvSpPr>
            <p:cNvPr id="126" name="Line 19"/>
            <p:cNvSpPr/>
            <p:nvPr/>
          </p:nvSpPr>
          <p:spPr>
            <a:xfrm>
              <a:off x="4427640" y="1989000"/>
              <a:ext cx="0" cy="158436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4427640" y="1989000"/>
              <a:ext cx="36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64000" y="2060640"/>
            <a:ext cx="865440" cy="1368360"/>
            <a:chOff x="5364000" y="2060640"/>
            <a:chExt cx="865440" cy="1368360"/>
          </a:xfrm>
        </p:grpSpPr>
        <p:sp>
          <p:nvSpPr>
            <p:cNvPr id="129" name="Line 21"/>
            <p:cNvSpPr/>
            <p:nvPr/>
          </p:nvSpPr>
          <p:spPr>
            <a:xfrm flipH="1">
              <a:off x="5364000" y="2060640"/>
              <a:ext cx="865440" cy="136836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5364000" y="2060640"/>
              <a:ext cx="86544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651280" y="1989000"/>
            <a:ext cx="2160720" cy="1727280"/>
            <a:chOff x="5651280" y="1989000"/>
            <a:chExt cx="2160720" cy="1727280"/>
          </a:xfrm>
        </p:grpSpPr>
        <p:sp>
          <p:nvSpPr>
            <p:cNvPr id="132" name="Line 22"/>
            <p:cNvSpPr/>
            <p:nvPr/>
          </p:nvSpPr>
          <p:spPr>
            <a:xfrm flipH="1">
              <a:off x="5651280" y="1989000"/>
              <a:ext cx="2160360" cy="172728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5651640" y="1989000"/>
              <a:ext cx="2160360" cy="172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0104-2EDA-46E4-904E-06477A8046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D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0" y="1844640"/>
            <a:ext cx="52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贫瘠的荒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427640" y="1844640"/>
            <a:ext cx="52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00"/>
                </a:solidFill>
                <a:latin typeface="Times New Roman"/>
                <a:ea typeface="隶书"/>
              </a:rPr>
              <a:t>翡翠似的菜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39640" y="3500280"/>
            <a:ext cx="52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6633"/>
                </a:solidFill>
                <a:latin typeface="Times New Roman"/>
                <a:ea typeface="隶书"/>
              </a:rPr>
              <a:t>翻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5292720" y="3357720"/>
            <a:ext cx="52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精心伺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0" y="5229360"/>
            <a:ext cx="52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6633"/>
                </a:solidFill>
                <a:latin typeface="Times New Roman"/>
                <a:ea typeface="隶书"/>
              </a:rPr>
              <a:t>砌墙，挑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5292720" y="5229360"/>
            <a:ext cx="52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四处拾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1187280" y="2708280"/>
            <a:ext cx="486000" cy="976320"/>
          </a:xfrm>
          <a:prstGeom prst="downArrow">
            <a:avLst>
              <a:gd name="adj1" fmla="val 49676"/>
              <a:gd name="adj2" fmla="val 450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1187280" y="4508640"/>
            <a:ext cx="486000" cy="976320"/>
          </a:xfrm>
          <a:prstGeom prst="downArrow">
            <a:avLst>
              <a:gd name="adj1" fmla="val 50000"/>
              <a:gd name="adj2" fmla="val 5020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4211640" y="5516640"/>
            <a:ext cx="976320" cy="48564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6588000" y="4437000"/>
            <a:ext cx="486000" cy="976320"/>
          </a:xfrm>
          <a:prstGeom prst="upArrow">
            <a:avLst>
              <a:gd name="adj1" fmla="val 50000"/>
              <a:gd name="adj2" fmla="val 5020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6516720" y="2637000"/>
            <a:ext cx="485640" cy="976320"/>
          </a:xfrm>
          <a:prstGeom prst="upArrow">
            <a:avLst>
              <a:gd name="adj1" fmla="val 50000"/>
              <a:gd name="adj2" fmla="val 502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924360" y="2421000"/>
            <a:ext cx="647640" cy="360"/>
            <a:chOff x="3924360" y="2421000"/>
            <a:chExt cx="647640" cy="360"/>
          </a:xfrm>
        </p:grpSpPr>
        <p:sp>
          <p:nvSpPr>
            <p:cNvPr id="152" name="Line 17"/>
            <p:cNvSpPr/>
            <p:nvPr/>
          </p:nvSpPr>
          <p:spPr>
            <a:xfrm>
              <a:off x="3924360" y="2421000"/>
              <a:ext cx="647640" cy="0"/>
            </a:xfrm>
            <a:prstGeom prst="line">
              <a:avLst/>
            </a:prstGeom>
            <a:ln w="76320">
              <a:solidFill>
                <a:srgbClr val="cc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924360" y="2421000"/>
              <a:ext cx="6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Text Box 18"/>
          <p:cNvSpPr/>
          <p:nvPr/>
        </p:nvSpPr>
        <p:spPr>
          <a:xfrm>
            <a:off x="3927600" y="-404280"/>
            <a:ext cx="8506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不畏艰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3927600" y="2304000"/>
            <a:ext cx="85068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坚持不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4T07:48:1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33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