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camera.wav" ContentType="audio/x-wav"/>
  <Override PartName="/ppt/media/image11.jpeg" ContentType="image/jpeg"/>
  <Override PartName="/ppt/media/image9.gif" ContentType="image/gif"/>
  <Override PartName="/ppt/media/type.wav" ContentType="audio/x-wav"/>
  <Override PartName="/ppt/media/image14.gif" ContentType="image/gif"/>
  <Override PartName="/ppt/media/image7.gif" ContentType="image/gif"/>
  <Override PartName="/ppt/media/image10.jpeg" ContentType="image/jpeg"/>
  <Override PartName="/ppt/media/image5.png" ContentType="image/png"/>
  <Override PartName="/ppt/media/Button18.wav" ContentType="audio/x-wav"/>
  <Override PartName="/ppt/media/image15.png" ContentType="image/png"/>
  <Override PartName="/ppt/media/REMINDER.WAV" ContentType="audio/x-wav"/>
  <Override PartName="/ppt/media/image6.gif" ContentType="image/gif"/>
  <Override PartName="/ppt/media/image13.jpeg" ContentType="image/jpeg"/>
  <Override PartName="/ppt/media/image16.jpeg" ContentType="image/jpeg"/>
  <Override PartName="/ppt/media/chimes.wav" ContentType="audio/x-wav"/>
  <Override PartName="/ppt/media/image12.jpeg" ContentType="image/jpeg"/>
  <Override PartName="/ppt/media/cashreg.wav" ContentType="audio/x-wav"/>
  <Override PartName="/ppt/media/image8.gif" ContentType="image/gif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64F4-D1BA-43AB-ACE3-16AA3959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9CE-2E98-46EF-85A5-9474266B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9C33F-93AA-4FFA-B120-EBD4D80F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5B8B8-7FD6-4B45-B892-58C95F8F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582D6-2D7B-4471-910B-83F5A864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7DC84-C4FA-4982-BEF6-D0C5157E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3CD12-A44A-4A1F-87ED-535A1BCD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AD847-C81A-4F17-80DD-4B84B766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179A1-225E-4C78-A734-CDB0A875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81E92-5F8B-47C7-B567-82748615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83E01-5995-432C-B192-5C7CA9ED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15AF4-965B-489B-9069-C09F0675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295-B63F-4678-BB5F-3F747321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7775C-38BF-4A5C-B66F-5F463927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74CD3-12A3-4FDC-9354-E9A74B06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4A953-8831-461F-88DF-2A0B9DA9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EAF0B-62DE-4FC9-880D-A0558A5A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1B3EA-9ABB-4935-B4AD-A6FE0566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D970C-3AA7-4643-87A5-49864998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EA5D3-DB30-4722-807A-4CC68CCB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BE216-BD56-4330-A8FF-47587188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C65ED-69C0-4493-BA4D-39955DA0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3FB56-562B-4C37-ABD5-DA7B2890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6A0-AE49-45C5-9F6E-C6E6CD91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5E35C-CE6E-4CB9-A5C9-202F99A0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BF177-1C69-4087-8F85-39483838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FD73E-D733-49F7-B648-A4E240E7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E7491-2F2B-46FC-B999-813E7A7C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0F502-3F26-4EBF-9327-D662E5D6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4CE96-DA75-4674-A7B8-89586D36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41621-920B-4542-8D72-EA5E076A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BD641-C545-44AD-BC91-D5C9E01B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8CC92-3FC0-4B43-9700-3B6196CB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456B6-58A2-4701-9540-2A4AAC40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9D5F-9282-455B-8DD2-911E31B2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41E19-D105-4F56-B693-BB01F4DB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E942A-F6DC-476D-A882-B5FCD17A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ED192-79D6-46F8-801F-BB471DB7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D503F-E8C7-46C1-BE13-CE4515BE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90EBE-5597-44DA-B77C-E6AF8F10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DF485-A2DC-4382-B9DC-F5E775BC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C279B-C51B-4784-B4A2-B2FA2FE4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DC3AD-A8A7-4620-BA9C-5C3C2682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A4E51-3A86-4505-AE74-BE5F68C7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17565-1FEB-4C1F-93F0-3324223C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89B6-DDB0-4E2B-B839-787781D2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7558E-AAA5-4E36-9F3E-1DA5839B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2265A-2638-410A-A33C-5321B271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BD147-83C2-41BA-B643-A518848E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2791D-EF1D-4365-BB66-06DD7701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B3AC6-1908-4F2B-AC22-4CA91DF7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FB199-7DFB-4D40-88AF-60BF1BF4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F7DB77-2282-40A0-8F3B-CB1C8E16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F0D90B-929B-47B2-86B5-F585295C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E0DB7-258C-40DE-B6FF-80A60884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E33B7E-79FB-4FE9-A0C2-ADC814C0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1078-FEE8-4A7F-AF46-B8E106D1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98B9D-68E0-474B-9F4A-767EA5D4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6071B2-6F27-4BE7-B089-83F4040E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0418F-14AD-4B9B-A971-3F692BA5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8AC5EE-5CCC-45EF-B3B9-1FE3CB67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C1A92F-E8E9-4B2E-B145-619F258C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EEE62-8D42-4CFD-A9FF-668478C6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9CC5E-5915-47CC-BFF5-E0A73693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DC48-65FE-49B3-AD4A-D22C42A3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3DE3-5CC6-46E0-805E-653CCDD3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90CA-2F2F-4E8F-84AE-2A102A55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B86A-86DE-42D0-968D-9BFC8A9F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F2BB-3C81-4527-AA5F-604AE0A5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F3BB-BBF8-4331-B06F-D9762B11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D338-287A-4E75-BDAF-05AF9E11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71CB-963A-4456-AC38-39706E86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EEE2-7C55-4401-8FCA-D5085BD1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5872-8E1A-4255-96A2-5CEA426C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311C0-494C-4149-B583-86EA4B8A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174AE-CEC0-4526-8050-2F9CD96B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B036B-03F8-4532-8AB1-E0073444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E8A31-6B93-4950-9597-F5662482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28E93-9979-48E8-B3B4-869E9110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0345-D81C-41AB-AB2B-70251288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03BD5-2859-4579-A3F5-D33C224E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10620-14FC-49D2-85F3-22218CE8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282B8-4458-470B-A883-47C39941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8063F-1782-4664-BEAD-3BD91741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DE69C-0693-477A-B40C-29635646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26C5B-2F91-4B37-AE64-C7E3A131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734A4-E2D0-4F5D-B337-E51054C3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79A42-C467-4135-8DD4-484EA0E7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62CB4-7F80-41CB-9B64-35E074F9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9B219-D5E1-4907-BEFC-BFD9AA44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5CD0-74F7-45FB-A199-63B1B78C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2081F-E4C3-4FC7-B83F-31B0F1E9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B539F-006B-4C95-98EA-607BEC59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1CD0A-AD94-4300-BA44-13E4FB00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713C2-1B4F-4F88-B17A-FED53F1C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3968A-6982-449B-A88C-75EDB5A5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57AD9-E974-4DAA-8560-03067C27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AD9E8-78D1-4663-A919-EAF07352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DD42F-185A-43B5-908E-40016CAF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2FE68-2331-4CAC-9B90-41BAD96F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8F137-E8CC-4DA4-9C57-BA119BB5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1740-06C5-47C2-8779-B967AA8A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92340-8763-4E85-9838-9CDDE5D1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08C30-8012-45DC-B647-11FD8060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EF3B7-0422-4DA7-A7B4-6119646F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2DBC8-BCB6-446E-ABAC-32207186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FD69D-7ADC-4F46-9D0A-B3FA6E02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3BF86-695F-45CD-9B5B-84DA6E89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2CFD9-491B-49D1-A127-466164E1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58243-229A-44BC-8E10-E2EEC314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80C4E-FC33-4D3C-8999-A6753E6C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3321D-AB75-4F6D-BF15-72914E82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5263-7B90-4C88-BF26-0AA8A05A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2C77F-5F7C-4173-A30B-61F68641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17E75-F4E5-4D67-AFE2-B3347DD3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702AD-BCC1-441A-9D01-F6B4ACE2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F0EDC-6C7E-4DB2-8007-B8634EA6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C30C8-BB4D-4BB4-B3E7-D6A13E81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96599-5D5F-481E-8108-051A0EE2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DEEBF-8FF9-49B3-BBBF-8CFA9577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61233-C12E-4713-AC4E-029A34C2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29DCF-F828-48F6-B060-399510CD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4319B-951B-4358-8294-58C35B62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E015-21D6-4774-A27B-4BA9AC20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9F921-4559-44C7-A782-70B6446C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8B759-4A02-40F1-93E9-30D58D46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CE3AF-A1F2-4FE2-BECE-4DFDE3A6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17E86-6758-487F-ADFB-627234FF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930FD-FF28-4F39-AEF2-9AE2F98F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0CD17-1383-4B40-9CDB-5E4D3F3D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63E41-76C9-42FB-89E4-D619D0B4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BC49D-CFDE-4530-9A2C-6DC0C248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3AFBF-9487-4547-9D91-190A3BED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C8B13-7AF9-4946-BF28-8E71B995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6947-61D0-4754-B8B0-7CF44270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423F7-457C-44CC-9291-57AC2154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1FD2F-C237-4073-95B8-89639734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729CB-4B97-46CD-B14F-6F55275B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464DC-7319-434B-9897-CD272459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1A8A9-3FEF-4162-AE85-4E564D67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C3C51-0AEE-4163-95C0-4F499586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2D592-16DA-4260-BC72-F28FBDD9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8FDE1-2138-47A5-8DB9-9A391F42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D5E6D-BFB5-4A5A-A47B-7D976631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8B25B-6837-44CF-9831-52AC1DB8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696D-5D4A-4B50-AD6C-201280C7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2D08A-EDF5-4944-9C4C-B12A75F3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77499-AF20-489C-A332-D668FD2A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C1567-8880-4664-851F-942ECE80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B62C4-18A5-4557-BCA3-B37DA211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71DDC-C6D5-4A8E-82EE-5A278BA2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5A16A-1015-4033-B84A-BAC9BE01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A277B-9106-4A51-9C76-F2DF4F16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2087B-DE1B-4F20-A27B-8FD3338F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6C116-CCFE-4FC7-838C-615814D3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F9155-AE49-4131-9FBE-55813553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1160"/>
                <a:chOff x="0" y="304920"/>
                <a:chExt cx="9144000" cy="640116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0" y="304920"/>
                  <a:ext cx="9144000" cy="360"/>
                  <a:chOff x="0" y="304920"/>
                  <a:chExt cx="9144000" cy="360"/>
                </a:xfrm>
              </p:grpSpPr>
              <p:sp>
                <p:nvSpPr>
                  <p:cNvPr id="4" name="Line 5"/>
                  <p:cNvSpPr/>
                  <p:nvPr/>
                </p:nvSpPr>
                <p:spPr>
                  <a:xfrm>
                    <a:off x="0" y="3049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" name=""/>
                  <p:cNvSpPr txBox="1"/>
                  <p:nvPr/>
                </p:nvSpPr>
                <p:spPr>
                  <a:xfrm>
                    <a:off x="0" y="3049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" name=""/>
                <p:cNvGrpSpPr/>
                <p:nvPr/>
              </p:nvGrpSpPr>
              <p:grpSpPr>
                <a:xfrm>
                  <a:off x="0" y="609480"/>
                  <a:ext cx="9144000" cy="360"/>
                  <a:chOff x="0" y="609480"/>
                  <a:chExt cx="9144000" cy="360"/>
                </a:xfrm>
              </p:grpSpPr>
              <p:sp>
                <p:nvSpPr>
                  <p:cNvPr id="7" name="Line 6"/>
                  <p:cNvSpPr/>
                  <p:nvPr/>
                </p:nvSpPr>
                <p:spPr>
                  <a:xfrm>
                    <a:off x="0" y="6094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" name=""/>
                  <p:cNvSpPr txBox="1"/>
                  <p:nvPr/>
                </p:nvSpPr>
                <p:spPr>
                  <a:xfrm>
                    <a:off x="0" y="6094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" name=""/>
                <p:cNvGrpSpPr/>
                <p:nvPr/>
              </p:nvGrpSpPr>
              <p:grpSpPr>
                <a:xfrm>
                  <a:off x="0" y="914400"/>
                  <a:ext cx="9144000" cy="360"/>
                  <a:chOff x="0" y="914400"/>
                  <a:chExt cx="9144000" cy="360"/>
                </a:xfrm>
              </p:grpSpPr>
              <p:sp>
                <p:nvSpPr>
                  <p:cNvPr id="10" name="Line 7"/>
                  <p:cNvSpPr/>
                  <p:nvPr/>
                </p:nvSpPr>
                <p:spPr>
                  <a:xfrm>
                    <a:off x="0" y="9144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 txBox="1"/>
                  <p:nvPr/>
                </p:nvSpPr>
                <p:spPr>
                  <a:xfrm>
                    <a:off x="0" y="9144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" name=""/>
                <p:cNvGrpSpPr/>
                <p:nvPr/>
              </p:nvGrpSpPr>
              <p:grpSpPr>
                <a:xfrm>
                  <a:off x="0" y="1219320"/>
                  <a:ext cx="9144000" cy="360"/>
                  <a:chOff x="0" y="1219320"/>
                  <a:chExt cx="9144000" cy="360"/>
                </a:xfrm>
              </p:grpSpPr>
              <p:sp>
                <p:nvSpPr>
                  <p:cNvPr id="13" name="Line 8"/>
                  <p:cNvSpPr/>
                  <p:nvPr/>
                </p:nvSpPr>
                <p:spPr>
                  <a:xfrm>
                    <a:off x="0" y="12193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 txBox="1"/>
                  <p:nvPr/>
                </p:nvSpPr>
                <p:spPr>
                  <a:xfrm>
                    <a:off x="0" y="12193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" name=""/>
                <p:cNvGrpSpPr/>
                <p:nvPr/>
              </p:nvGrpSpPr>
              <p:grpSpPr>
                <a:xfrm>
                  <a:off x="0" y="1523880"/>
                  <a:ext cx="9144000" cy="360"/>
                  <a:chOff x="0" y="1523880"/>
                  <a:chExt cx="9144000" cy="360"/>
                </a:xfrm>
              </p:grpSpPr>
              <p:sp>
                <p:nvSpPr>
                  <p:cNvPr id="16" name="Line 9"/>
                  <p:cNvSpPr/>
                  <p:nvPr/>
                </p:nvSpPr>
                <p:spPr>
                  <a:xfrm>
                    <a:off x="0" y="15238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 txBox="1"/>
                  <p:nvPr/>
                </p:nvSpPr>
                <p:spPr>
                  <a:xfrm>
                    <a:off x="0" y="15238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0" y="1828800"/>
                  <a:ext cx="9144000" cy="360"/>
                  <a:chOff x="0" y="1828800"/>
                  <a:chExt cx="9144000" cy="360"/>
                </a:xfrm>
              </p:grpSpPr>
              <p:sp>
                <p:nvSpPr>
                  <p:cNvPr id="19" name="Line 10"/>
                  <p:cNvSpPr/>
                  <p:nvPr/>
                </p:nvSpPr>
                <p:spPr>
                  <a:xfrm>
                    <a:off x="0" y="18288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 txBox="1"/>
                  <p:nvPr/>
                </p:nvSpPr>
                <p:spPr>
                  <a:xfrm>
                    <a:off x="0" y="18288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0" y="2133720"/>
                  <a:ext cx="9144000" cy="360"/>
                  <a:chOff x="0" y="2133720"/>
                  <a:chExt cx="9144000" cy="360"/>
                </a:xfrm>
              </p:grpSpPr>
              <p:sp>
                <p:nvSpPr>
                  <p:cNvPr id="22" name="Line 11"/>
                  <p:cNvSpPr/>
                  <p:nvPr/>
                </p:nvSpPr>
                <p:spPr>
                  <a:xfrm>
                    <a:off x="0" y="21337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 txBox="1"/>
                  <p:nvPr/>
                </p:nvSpPr>
                <p:spPr>
                  <a:xfrm>
                    <a:off x="0" y="21337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0" y="2438280"/>
                  <a:ext cx="9144000" cy="360"/>
                  <a:chOff x="0" y="2438280"/>
                  <a:chExt cx="9144000" cy="360"/>
                </a:xfrm>
              </p:grpSpPr>
              <p:sp>
                <p:nvSpPr>
                  <p:cNvPr id="25" name="Line 12"/>
                  <p:cNvSpPr/>
                  <p:nvPr/>
                </p:nvSpPr>
                <p:spPr>
                  <a:xfrm>
                    <a:off x="0" y="24382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 txBox="1"/>
                  <p:nvPr/>
                </p:nvSpPr>
                <p:spPr>
                  <a:xfrm>
                    <a:off x="0" y="24382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0" y="2743200"/>
                  <a:ext cx="9144000" cy="360"/>
                  <a:chOff x="0" y="2743200"/>
                  <a:chExt cx="9144000" cy="360"/>
                </a:xfrm>
              </p:grpSpPr>
              <p:sp>
                <p:nvSpPr>
                  <p:cNvPr id="28" name="Line 13"/>
                  <p:cNvSpPr/>
                  <p:nvPr/>
                </p:nvSpPr>
                <p:spPr>
                  <a:xfrm>
                    <a:off x="0" y="27432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 txBox="1"/>
                  <p:nvPr/>
                </p:nvSpPr>
                <p:spPr>
                  <a:xfrm>
                    <a:off x="0" y="27432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0" y="3048120"/>
                  <a:ext cx="9144000" cy="360"/>
                  <a:chOff x="0" y="3048120"/>
                  <a:chExt cx="9144000" cy="360"/>
                </a:xfrm>
              </p:grpSpPr>
              <p:sp>
                <p:nvSpPr>
                  <p:cNvPr id="31" name="Line 14"/>
                  <p:cNvSpPr/>
                  <p:nvPr/>
                </p:nvSpPr>
                <p:spPr>
                  <a:xfrm>
                    <a:off x="0" y="30481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 txBox="1"/>
                  <p:nvPr/>
                </p:nvSpPr>
                <p:spPr>
                  <a:xfrm>
                    <a:off x="0" y="30481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0" y="3352680"/>
                  <a:ext cx="9144000" cy="360"/>
                  <a:chOff x="0" y="3352680"/>
                  <a:chExt cx="9144000" cy="360"/>
                </a:xfrm>
              </p:grpSpPr>
              <p:sp>
                <p:nvSpPr>
                  <p:cNvPr id="34" name="Line 15"/>
                  <p:cNvSpPr/>
                  <p:nvPr/>
                </p:nvSpPr>
                <p:spPr>
                  <a:xfrm>
                    <a:off x="0" y="33526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 txBox="1"/>
                  <p:nvPr/>
                </p:nvSpPr>
                <p:spPr>
                  <a:xfrm>
                    <a:off x="0" y="33526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0" y="3657600"/>
                  <a:ext cx="9144000" cy="360"/>
                  <a:chOff x="0" y="3657600"/>
                  <a:chExt cx="9144000" cy="360"/>
                </a:xfrm>
              </p:grpSpPr>
              <p:sp>
                <p:nvSpPr>
                  <p:cNvPr id="37" name="Line 16"/>
                  <p:cNvSpPr/>
                  <p:nvPr/>
                </p:nvSpPr>
                <p:spPr>
                  <a:xfrm>
                    <a:off x="0" y="36576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 txBox="1"/>
                  <p:nvPr/>
                </p:nvSpPr>
                <p:spPr>
                  <a:xfrm>
                    <a:off x="0" y="36576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0" y="3962520"/>
                  <a:ext cx="9144000" cy="360"/>
                  <a:chOff x="0" y="3962520"/>
                  <a:chExt cx="9144000" cy="360"/>
                </a:xfrm>
              </p:grpSpPr>
              <p:sp>
                <p:nvSpPr>
                  <p:cNvPr id="40" name="Line 17"/>
                  <p:cNvSpPr/>
                  <p:nvPr/>
                </p:nvSpPr>
                <p:spPr>
                  <a:xfrm>
                    <a:off x="0" y="39625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 txBox="1"/>
                  <p:nvPr/>
                </p:nvSpPr>
                <p:spPr>
                  <a:xfrm>
                    <a:off x="0" y="39625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0" y="4267080"/>
                  <a:ext cx="9144000" cy="360"/>
                  <a:chOff x="0" y="4267080"/>
                  <a:chExt cx="9144000" cy="360"/>
                </a:xfrm>
              </p:grpSpPr>
              <p:sp>
                <p:nvSpPr>
                  <p:cNvPr id="43" name="Line 18"/>
                  <p:cNvSpPr/>
                  <p:nvPr/>
                </p:nvSpPr>
                <p:spPr>
                  <a:xfrm>
                    <a:off x="0" y="42670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 txBox="1"/>
                  <p:nvPr/>
                </p:nvSpPr>
                <p:spPr>
                  <a:xfrm>
                    <a:off x="0" y="42670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0" y="4572000"/>
                  <a:ext cx="9144000" cy="360"/>
                  <a:chOff x="0" y="4572000"/>
                  <a:chExt cx="9144000" cy="360"/>
                </a:xfrm>
              </p:grpSpPr>
              <p:sp>
                <p:nvSpPr>
                  <p:cNvPr id="46" name="Line 19"/>
                  <p:cNvSpPr/>
                  <p:nvPr/>
                </p:nvSpPr>
                <p:spPr>
                  <a:xfrm>
                    <a:off x="0" y="45720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 txBox="1"/>
                  <p:nvPr/>
                </p:nvSpPr>
                <p:spPr>
                  <a:xfrm>
                    <a:off x="0" y="45720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0" y="4876920"/>
                  <a:ext cx="9144000" cy="360"/>
                  <a:chOff x="0" y="4876920"/>
                  <a:chExt cx="9144000" cy="360"/>
                </a:xfrm>
              </p:grpSpPr>
              <p:sp>
                <p:nvSpPr>
                  <p:cNvPr id="49" name="Line 20"/>
                  <p:cNvSpPr/>
                  <p:nvPr/>
                </p:nvSpPr>
                <p:spPr>
                  <a:xfrm>
                    <a:off x="0" y="48769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 txBox="1"/>
                  <p:nvPr/>
                </p:nvSpPr>
                <p:spPr>
                  <a:xfrm>
                    <a:off x="0" y="48769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0" y="5181480"/>
                  <a:ext cx="9144000" cy="360"/>
                  <a:chOff x="0" y="5181480"/>
                  <a:chExt cx="9144000" cy="360"/>
                </a:xfrm>
              </p:grpSpPr>
              <p:sp>
                <p:nvSpPr>
                  <p:cNvPr id="52" name="Line 21"/>
                  <p:cNvSpPr/>
                  <p:nvPr/>
                </p:nvSpPr>
                <p:spPr>
                  <a:xfrm>
                    <a:off x="0" y="51814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 txBox="1"/>
                  <p:nvPr/>
                </p:nvSpPr>
                <p:spPr>
                  <a:xfrm>
                    <a:off x="0" y="51814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0" y="5486400"/>
                  <a:ext cx="9144000" cy="360"/>
                  <a:chOff x="0" y="5486400"/>
                  <a:chExt cx="9144000" cy="360"/>
                </a:xfrm>
              </p:grpSpPr>
              <p:sp>
                <p:nvSpPr>
                  <p:cNvPr id="55" name="Line 22"/>
                  <p:cNvSpPr/>
                  <p:nvPr/>
                </p:nvSpPr>
                <p:spPr>
                  <a:xfrm>
                    <a:off x="0" y="54864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 txBox="1"/>
                  <p:nvPr/>
                </p:nvSpPr>
                <p:spPr>
                  <a:xfrm>
                    <a:off x="0" y="54864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0" y="5791320"/>
                  <a:ext cx="9144000" cy="360"/>
                  <a:chOff x="0" y="5791320"/>
                  <a:chExt cx="9144000" cy="360"/>
                </a:xfrm>
              </p:grpSpPr>
              <p:sp>
                <p:nvSpPr>
                  <p:cNvPr id="58" name="Line 23"/>
                  <p:cNvSpPr/>
                  <p:nvPr/>
                </p:nvSpPr>
                <p:spPr>
                  <a:xfrm>
                    <a:off x="0" y="57913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 txBox="1"/>
                  <p:nvPr/>
                </p:nvSpPr>
                <p:spPr>
                  <a:xfrm>
                    <a:off x="0" y="57913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0" y="6095880"/>
                  <a:ext cx="9144000" cy="360"/>
                  <a:chOff x="0" y="6095880"/>
                  <a:chExt cx="9144000" cy="360"/>
                </a:xfrm>
              </p:grpSpPr>
              <p:sp>
                <p:nvSpPr>
                  <p:cNvPr id="61" name="Line 24"/>
                  <p:cNvSpPr/>
                  <p:nvPr/>
                </p:nvSpPr>
                <p:spPr>
                  <a:xfrm>
                    <a:off x="0" y="60958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 txBox="1"/>
                  <p:nvPr/>
                </p:nvSpPr>
                <p:spPr>
                  <a:xfrm>
                    <a:off x="0" y="60958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0" y="6400800"/>
                  <a:ext cx="9144000" cy="360"/>
                  <a:chOff x="0" y="6400800"/>
                  <a:chExt cx="9144000" cy="360"/>
                </a:xfrm>
              </p:grpSpPr>
              <p:sp>
                <p:nvSpPr>
                  <p:cNvPr id="64" name="Line 25"/>
                  <p:cNvSpPr/>
                  <p:nvPr/>
                </p:nvSpPr>
                <p:spPr>
                  <a:xfrm>
                    <a:off x="0" y="64008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 txBox="1"/>
                  <p:nvPr/>
                </p:nvSpPr>
                <p:spPr>
                  <a:xfrm>
                    <a:off x="0" y="64008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0" y="6705720"/>
                  <a:ext cx="9144000" cy="360"/>
                  <a:chOff x="0" y="6705720"/>
                  <a:chExt cx="9144000" cy="360"/>
                </a:xfrm>
              </p:grpSpPr>
              <p:sp>
                <p:nvSpPr>
                  <p:cNvPr id="67" name="Line 26"/>
                  <p:cNvSpPr/>
                  <p:nvPr/>
                </p:nvSpPr>
                <p:spPr>
                  <a:xfrm>
                    <a:off x="0" y="67057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 txBox="1"/>
                  <p:nvPr/>
                </p:nvSpPr>
                <p:spPr>
                  <a:xfrm>
                    <a:off x="0" y="67057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69" name="Group 27"/>
              <p:cNvGrpSpPr/>
              <p:nvPr/>
            </p:nvGrpSpPr>
            <p:grpSpPr>
              <a:xfrm>
                <a:off x="304920" y="0"/>
                <a:ext cx="8534520" cy="6858000"/>
                <a:chOff x="304920" y="0"/>
                <a:chExt cx="8534520" cy="6858000"/>
              </a:xfrm>
            </p:grpSpPr>
            <p:grpSp>
              <p:nvGrpSpPr>
                <p:cNvPr id="70" name=""/>
                <p:cNvGrpSpPr/>
                <p:nvPr/>
              </p:nvGrpSpPr>
              <p:grpSpPr>
                <a:xfrm>
                  <a:off x="304920" y="0"/>
                  <a:ext cx="360" cy="6858000"/>
                  <a:chOff x="304920" y="0"/>
                  <a:chExt cx="360" cy="6858000"/>
                </a:xfrm>
              </p:grpSpPr>
              <p:sp>
                <p:nvSpPr>
                  <p:cNvPr id="71" name="Line 28"/>
                  <p:cNvSpPr/>
                  <p:nvPr/>
                </p:nvSpPr>
                <p:spPr>
                  <a:xfrm>
                    <a:off x="3049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 txBox="1"/>
                  <p:nvPr/>
                </p:nvSpPr>
                <p:spPr>
                  <a:xfrm>
                    <a:off x="3049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" name=""/>
                <p:cNvGrpSpPr/>
                <p:nvPr/>
              </p:nvGrpSpPr>
              <p:grpSpPr>
                <a:xfrm>
                  <a:off x="609480" y="0"/>
                  <a:ext cx="360" cy="6858000"/>
                  <a:chOff x="609480" y="0"/>
                  <a:chExt cx="360" cy="6858000"/>
                </a:xfrm>
              </p:grpSpPr>
              <p:sp>
                <p:nvSpPr>
                  <p:cNvPr id="74" name="Line 29"/>
                  <p:cNvSpPr/>
                  <p:nvPr/>
                </p:nvSpPr>
                <p:spPr>
                  <a:xfrm>
                    <a:off x="6094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 txBox="1"/>
                  <p:nvPr/>
                </p:nvSpPr>
                <p:spPr>
                  <a:xfrm>
                    <a:off x="6094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914400" y="0"/>
                  <a:ext cx="360" cy="6858000"/>
                  <a:chOff x="914400" y="0"/>
                  <a:chExt cx="360" cy="6858000"/>
                </a:xfrm>
              </p:grpSpPr>
              <p:sp>
                <p:nvSpPr>
                  <p:cNvPr id="77" name="Line 30"/>
                  <p:cNvSpPr/>
                  <p:nvPr/>
                </p:nvSpPr>
                <p:spPr>
                  <a:xfrm>
                    <a:off x="9144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 txBox="1"/>
                  <p:nvPr/>
                </p:nvSpPr>
                <p:spPr>
                  <a:xfrm>
                    <a:off x="9144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" name=""/>
                <p:cNvGrpSpPr/>
                <p:nvPr/>
              </p:nvGrpSpPr>
              <p:grpSpPr>
                <a:xfrm>
                  <a:off x="1219320" y="0"/>
                  <a:ext cx="360" cy="6858000"/>
                  <a:chOff x="1219320" y="0"/>
                  <a:chExt cx="360" cy="6858000"/>
                </a:xfrm>
              </p:grpSpPr>
              <p:sp>
                <p:nvSpPr>
                  <p:cNvPr id="80" name="Line 31"/>
                  <p:cNvSpPr/>
                  <p:nvPr/>
                </p:nvSpPr>
                <p:spPr>
                  <a:xfrm>
                    <a:off x="12193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 txBox="1"/>
                  <p:nvPr/>
                </p:nvSpPr>
                <p:spPr>
                  <a:xfrm>
                    <a:off x="12193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2" name=""/>
                <p:cNvGrpSpPr/>
                <p:nvPr/>
              </p:nvGrpSpPr>
              <p:grpSpPr>
                <a:xfrm>
                  <a:off x="1523880" y="0"/>
                  <a:ext cx="360" cy="6858000"/>
                  <a:chOff x="1523880" y="0"/>
                  <a:chExt cx="360" cy="6858000"/>
                </a:xfrm>
              </p:grpSpPr>
              <p:sp>
                <p:nvSpPr>
                  <p:cNvPr id="83" name="Line 32"/>
                  <p:cNvSpPr/>
                  <p:nvPr/>
                </p:nvSpPr>
                <p:spPr>
                  <a:xfrm>
                    <a:off x="15238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 txBox="1"/>
                  <p:nvPr/>
                </p:nvSpPr>
                <p:spPr>
                  <a:xfrm>
                    <a:off x="15238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1828800" y="0"/>
                  <a:ext cx="360" cy="6858000"/>
                  <a:chOff x="1828800" y="0"/>
                  <a:chExt cx="360" cy="6858000"/>
                </a:xfrm>
              </p:grpSpPr>
              <p:sp>
                <p:nvSpPr>
                  <p:cNvPr id="86" name="Line 33"/>
                  <p:cNvSpPr/>
                  <p:nvPr/>
                </p:nvSpPr>
                <p:spPr>
                  <a:xfrm>
                    <a:off x="18288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 txBox="1"/>
                  <p:nvPr/>
                </p:nvSpPr>
                <p:spPr>
                  <a:xfrm>
                    <a:off x="18288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2133720" y="0"/>
                  <a:ext cx="360" cy="6858000"/>
                  <a:chOff x="2133720" y="0"/>
                  <a:chExt cx="360" cy="6858000"/>
                </a:xfrm>
              </p:grpSpPr>
              <p:sp>
                <p:nvSpPr>
                  <p:cNvPr id="89" name="Line 34"/>
                  <p:cNvSpPr/>
                  <p:nvPr/>
                </p:nvSpPr>
                <p:spPr>
                  <a:xfrm>
                    <a:off x="21337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 txBox="1"/>
                  <p:nvPr/>
                </p:nvSpPr>
                <p:spPr>
                  <a:xfrm>
                    <a:off x="21337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2438280" y="0"/>
                  <a:ext cx="360" cy="6858000"/>
                  <a:chOff x="2438280" y="0"/>
                  <a:chExt cx="360" cy="6858000"/>
                </a:xfrm>
              </p:grpSpPr>
              <p:sp>
                <p:nvSpPr>
                  <p:cNvPr id="92" name="Line 35"/>
                  <p:cNvSpPr/>
                  <p:nvPr/>
                </p:nvSpPr>
                <p:spPr>
                  <a:xfrm>
                    <a:off x="24382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 txBox="1"/>
                  <p:nvPr/>
                </p:nvSpPr>
                <p:spPr>
                  <a:xfrm>
                    <a:off x="24382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2743200" y="0"/>
                  <a:ext cx="360" cy="6858000"/>
                  <a:chOff x="2743200" y="0"/>
                  <a:chExt cx="360" cy="6858000"/>
                </a:xfrm>
              </p:grpSpPr>
              <p:sp>
                <p:nvSpPr>
                  <p:cNvPr id="95" name="Line 36"/>
                  <p:cNvSpPr/>
                  <p:nvPr/>
                </p:nvSpPr>
                <p:spPr>
                  <a:xfrm>
                    <a:off x="27432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 txBox="1"/>
                  <p:nvPr/>
                </p:nvSpPr>
                <p:spPr>
                  <a:xfrm>
                    <a:off x="27432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3048120" y="0"/>
                  <a:ext cx="360" cy="6858000"/>
                  <a:chOff x="3048120" y="0"/>
                  <a:chExt cx="360" cy="6858000"/>
                </a:xfrm>
              </p:grpSpPr>
              <p:sp>
                <p:nvSpPr>
                  <p:cNvPr id="98" name="Line 37"/>
                  <p:cNvSpPr/>
                  <p:nvPr/>
                </p:nvSpPr>
                <p:spPr>
                  <a:xfrm>
                    <a:off x="30481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 txBox="1"/>
                  <p:nvPr/>
                </p:nvSpPr>
                <p:spPr>
                  <a:xfrm>
                    <a:off x="30481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3352680" y="0"/>
                  <a:ext cx="360" cy="6858000"/>
                  <a:chOff x="3352680" y="0"/>
                  <a:chExt cx="360" cy="6858000"/>
                </a:xfrm>
              </p:grpSpPr>
              <p:sp>
                <p:nvSpPr>
                  <p:cNvPr id="101" name="Line 38"/>
                  <p:cNvSpPr/>
                  <p:nvPr/>
                </p:nvSpPr>
                <p:spPr>
                  <a:xfrm>
                    <a:off x="33526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 txBox="1"/>
                  <p:nvPr/>
                </p:nvSpPr>
                <p:spPr>
                  <a:xfrm>
                    <a:off x="33526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3657600" y="0"/>
                  <a:ext cx="360" cy="6858000"/>
                  <a:chOff x="3657600" y="0"/>
                  <a:chExt cx="360" cy="6858000"/>
                </a:xfrm>
              </p:grpSpPr>
              <p:sp>
                <p:nvSpPr>
                  <p:cNvPr id="104" name="Line 39"/>
                  <p:cNvSpPr/>
                  <p:nvPr/>
                </p:nvSpPr>
                <p:spPr>
                  <a:xfrm>
                    <a:off x="36576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 txBox="1"/>
                  <p:nvPr/>
                </p:nvSpPr>
                <p:spPr>
                  <a:xfrm>
                    <a:off x="36576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6" name=""/>
                <p:cNvGrpSpPr/>
                <p:nvPr/>
              </p:nvGrpSpPr>
              <p:grpSpPr>
                <a:xfrm>
                  <a:off x="3962520" y="0"/>
                  <a:ext cx="360" cy="6858000"/>
                  <a:chOff x="3962520" y="0"/>
                  <a:chExt cx="360" cy="6858000"/>
                </a:xfrm>
              </p:grpSpPr>
              <p:sp>
                <p:nvSpPr>
                  <p:cNvPr id="107" name="Line 40"/>
                  <p:cNvSpPr/>
                  <p:nvPr/>
                </p:nvSpPr>
                <p:spPr>
                  <a:xfrm>
                    <a:off x="39625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"/>
                  <p:cNvSpPr txBox="1"/>
                  <p:nvPr/>
                </p:nvSpPr>
                <p:spPr>
                  <a:xfrm>
                    <a:off x="39625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4267080" y="0"/>
                  <a:ext cx="360" cy="6858000"/>
                  <a:chOff x="4267080" y="0"/>
                  <a:chExt cx="360" cy="6858000"/>
                </a:xfrm>
              </p:grpSpPr>
              <p:sp>
                <p:nvSpPr>
                  <p:cNvPr id="110" name="Line 41"/>
                  <p:cNvSpPr/>
                  <p:nvPr/>
                </p:nvSpPr>
                <p:spPr>
                  <a:xfrm>
                    <a:off x="42670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1" name=""/>
                  <p:cNvSpPr txBox="1"/>
                  <p:nvPr/>
                </p:nvSpPr>
                <p:spPr>
                  <a:xfrm>
                    <a:off x="42670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4572000" y="0"/>
                  <a:ext cx="360" cy="6858000"/>
                  <a:chOff x="4572000" y="0"/>
                  <a:chExt cx="360" cy="6858000"/>
                </a:xfrm>
              </p:grpSpPr>
              <p:sp>
                <p:nvSpPr>
                  <p:cNvPr id="113" name="Line 42"/>
                  <p:cNvSpPr/>
                  <p:nvPr/>
                </p:nvSpPr>
                <p:spPr>
                  <a:xfrm>
                    <a:off x="45720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4" name=""/>
                  <p:cNvSpPr txBox="1"/>
                  <p:nvPr/>
                </p:nvSpPr>
                <p:spPr>
                  <a:xfrm>
                    <a:off x="45720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4876920" y="0"/>
                  <a:ext cx="360" cy="6858000"/>
                  <a:chOff x="4876920" y="0"/>
                  <a:chExt cx="360" cy="6858000"/>
                </a:xfrm>
              </p:grpSpPr>
              <p:sp>
                <p:nvSpPr>
                  <p:cNvPr id="116" name="Line 43"/>
                  <p:cNvSpPr/>
                  <p:nvPr/>
                </p:nvSpPr>
                <p:spPr>
                  <a:xfrm>
                    <a:off x="48769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7" name=""/>
                  <p:cNvSpPr txBox="1"/>
                  <p:nvPr/>
                </p:nvSpPr>
                <p:spPr>
                  <a:xfrm>
                    <a:off x="48769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5181480" y="0"/>
                  <a:ext cx="360" cy="6858000"/>
                  <a:chOff x="5181480" y="0"/>
                  <a:chExt cx="360" cy="6858000"/>
                </a:xfrm>
              </p:grpSpPr>
              <p:sp>
                <p:nvSpPr>
                  <p:cNvPr id="119" name="Line 44"/>
                  <p:cNvSpPr/>
                  <p:nvPr/>
                </p:nvSpPr>
                <p:spPr>
                  <a:xfrm>
                    <a:off x="51814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0" name=""/>
                  <p:cNvSpPr txBox="1"/>
                  <p:nvPr/>
                </p:nvSpPr>
                <p:spPr>
                  <a:xfrm>
                    <a:off x="51814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5486400" y="0"/>
                  <a:ext cx="360" cy="6858000"/>
                  <a:chOff x="5486400" y="0"/>
                  <a:chExt cx="360" cy="6858000"/>
                </a:xfrm>
              </p:grpSpPr>
              <p:sp>
                <p:nvSpPr>
                  <p:cNvPr id="122" name="Line 45"/>
                  <p:cNvSpPr/>
                  <p:nvPr/>
                </p:nvSpPr>
                <p:spPr>
                  <a:xfrm>
                    <a:off x="54864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3" name=""/>
                  <p:cNvSpPr txBox="1"/>
                  <p:nvPr/>
                </p:nvSpPr>
                <p:spPr>
                  <a:xfrm>
                    <a:off x="54864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5791320" y="0"/>
                  <a:ext cx="360" cy="6858000"/>
                  <a:chOff x="5791320" y="0"/>
                  <a:chExt cx="360" cy="6858000"/>
                </a:xfrm>
              </p:grpSpPr>
              <p:sp>
                <p:nvSpPr>
                  <p:cNvPr id="125" name="Line 46"/>
                  <p:cNvSpPr/>
                  <p:nvPr/>
                </p:nvSpPr>
                <p:spPr>
                  <a:xfrm>
                    <a:off x="57913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6" name=""/>
                  <p:cNvSpPr txBox="1"/>
                  <p:nvPr/>
                </p:nvSpPr>
                <p:spPr>
                  <a:xfrm>
                    <a:off x="57913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6095880" y="0"/>
                  <a:ext cx="360" cy="6858000"/>
                  <a:chOff x="6095880" y="0"/>
                  <a:chExt cx="360" cy="6858000"/>
                </a:xfrm>
              </p:grpSpPr>
              <p:sp>
                <p:nvSpPr>
                  <p:cNvPr id="128" name="Line 47"/>
                  <p:cNvSpPr/>
                  <p:nvPr/>
                </p:nvSpPr>
                <p:spPr>
                  <a:xfrm>
                    <a:off x="60958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9" name=""/>
                  <p:cNvSpPr txBox="1"/>
                  <p:nvPr/>
                </p:nvSpPr>
                <p:spPr>
                  <a:xfrm>
                    <a:off x="60958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400800" y="0"/>
                  <a:ext cx="360" cy="6858000"/>
                  <a:chOff x="6400800" y="0"/>
                  <a:chExt cx="360" cy="6858000"/>
                </a:xfrm>
              </p:grpSpPr>
              <p:sp>
                <p:nvSpPr>
                  <p:cNvPr id="131" name="Line 48"/>
                  <p:cNvSpPr/>
                  <p:nvPr/>
                </p:nvSpPr>
                <p:spPr>
                  <a:xfrm>
                    <a:off x="64008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2" name=""/>
                  <p:cNvSpPr txBox="1"/>
                  <p:nvPr/>
                </p:nvSpPr>
                <p:spPr>
                  <a:xfrm>
                    <a:off x="64008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6705720" y="0"/>
                  <a:ext cx="360" cy="6858000"/>
                  <a:chOff x="6705720" y="0"/>
                  <a:chExt cx="360" cy="6858000"/>
                </a:xfrm>
              </p:grpSpPr>
              <p:sp>
                <p:nvSpPr>
                  <p:cNvPr id="134" name="Line 49"/>
                  <p:cNvSpPr/>
                  <p:nvPr/>
                </p:nvSpPr>
                <p:spPr>
                  <a:xfrm>
                    <a:off x="67057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5" name=""/>
                  <p:cNvSpPr txBox="1"/>
                  <p:nvPr/>
                </p:nvSpPr>
                <p:spPr>
                  <a:xfrm>
                    <a:off x="67057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010280" y="0"/>
                  <a:ext cx="360" cy="6858000"/>
                  <a:chOff x="7010280" y="0"/>
                  <a:chExt cx="360" cy="6858000"/>
                </a:xfrm>
              </p:grpSpPr>
              <p:sp>
                <p:nvSpPr>
                  <p:cNvPr id="137" name="Line 50"/>
                  <p:cNvSpPr/>
                  <p:nvPr/>
                </p:nvSpPr>
                <p:spPr>
                  <a:xfrm>
                    <a:off x="70102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8" name=""/>
                  <p:cNvSpPr txBox="1"/>
                  <p:nvPr/>
                </p:nvSpPr>
                <p:spPr>
                  <a:xfrm>
                    <a:off x="70102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315200" y="0"/>
                  <a:ext cx="360" cy="6858000"/>
                  <a:chOff x="7315200" y="0"/>
                  <a:chExt cx="360" cy="6858000"/>
                </a:xfrm>
              </p:grpSpPr>
              <p:sp>
                <p:nvSpPr>
                  <p:cNvPr id="140" name="Line 51"/>
                  <p:cNvSpPr/>
                  <p:nvPr/>
                </p:nvSpPr>
                <p:spPr>
                  <a:xfrm>
                    <a:off x="73152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1" name=""/>
                  <p:cNvSpPr txBox="1"/>
                  <p:nvPr/>
                </p:nvSpPr>
                <p:spPr>
                  <a:xfrm>
                    <a:off x="73152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620120" y="0"/>
                  <a:ext cx="360" cy="6858000"/>
                  <a:chOff x="7620120" y="0"/>
                  <a:chExt cx="360" cy="6858000"/>
                </a:xfrm>
              </p:grpSpPr>
              <p:sp>
                <p:nvSpPr>
                  <p:cNvPr id="143" name="Line 52"/>
                  <p:cNvSpPr/>
                  <p:nvPr/>
                </p:nvSpPr>
                <p:spPr>
                  <a:xfrm>
                    <a:off x="76201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4" name=""/>
                  <p:cNvSpPr txBox="1"/>
                  <p:nvPr/>
                </p:nvSpPr>
                <p:spPr>
                  <a:xfrm>
                    <a:off x="76201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924680" y="0"/>
                  <a:ext cx="360" cy="6858000"/>
                  <a:chOff x="7924680" y="0"/>
                  <a:chExt cx="360" cy="6858000"/>
                </a:xfrm>
              </p:grpSpPr>
              <p:sp>
                <p:nvSpPr>
                  <p:cNvPr id="146" name="Line 53"/>
                  <p:cNvSpPr/>
                  <p:nvPr/>
                </p:nvSpPr>
                <p:spPr>
                  <a:xfrm>
                    <a:off x="79246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7" name=""/>
                  <p:cNvSpPr txBox="1"/>
                  <p:nvPr/>
                </p:nvSpPr>
                <p:spPr>
                  <a:xfrm>
                    <a:off x="79246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8229600" y="0"/>
                  <a:ext cx="360" cy="6858000"/>
                  <a:chOff x="8229600" y="0"/>
                  <a:chExt cx="360" cy="6858000"/>
                </a:xfrm>
              </p:grpSpPr>
              <p:sp>
                <p:nvSpPr>
                  <p:cNvPr id="149" name="Line 54"/>
                  <p:cNvSpPr/>
                  <p:nvPr/>
                </p:nvSpPr>
                <p:spPr>
                  <a:xfrm>
                    <a:off x="82296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0" name=""/>
                  <p:cNvSpPr txBox="1"/>
                  <p:nvPr/>
                </p:nvSpPr>
                <p:spPr>
                  <a:xfrm>
                    <a:off x="82296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8534520" y="0"/>
                  <a:ext cx="360" cy="6858000"/>
                  <a:chOff x="8534520" y="0"/>
                  <a:chExt cx="360" cy="6858000"/>
                </a:xfrm>
              </p:grpSpPr>
              <p:sp>
                <p:nvSpPr>
                  <p:cNvPr id="152" name="Line 55"/>
                  <p:cNvSpPr/>
                  <p:nvPr/>
                </p:nvSpPr>
                <p:spPr>
                  <a:xfrm>
                    <a:off x="85345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3" name=""/>
                  <p:cNvSpPr txBox="1"/>
                  <p:nvPr/>
                </p:nvSpPr>
                <p:spPr>
                  <a:xfrm>
                    <a:off x="85345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8839080" y="0"/>
                  <a:ext cx="360" cy="6858000"/>
                  <a:chOff x="8839080" y="0"/>
                  <a:chExt cx="360" cy="6858000"/>
                </a:xfrm>
              </p:grpSpPr>
              <p:sp>
                <p:nvSpPr>
                  <p:cNvPr id="155" name="Line 56"/>
                  <p:cNvSpPr/>
                  <p:nvPr/>
                </p:nvSpPr>
                <p:spPr>
                  <a:xfrm>
                    <a:off x="88390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"/>
                  <p:cNvSpPr txBox="1"/>
                  <p:nvPr/>
                </p:nvSpPr>
                <p:spPr>
                  <a:xfrm>
                    <a:off x="88390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5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8839080" y="0"/>
              <a:ext cx="360" cy="2362320"/>
              <a:chOff x="8839080" y="0"/>
              <a:chExt cx="360" cy="2362320"/>
            </a:xfrm>
          </p:grpSpPr>
          <p:sp>
            <p:nvSpPr>
              <p:cNvPr id="159" name="Line 58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8839080" y="0"/>
                <a:ext cx="360" cy="2362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414360" y="1513440"/>
                <a:ext cx="1784160" cy="360"/>
                <a:chOff x="414360" y="1513440"/>
                <a:chExt cx="1784160" cy="360"/>
              </a:xfrm>
            </p:grpSpPr>
            <p:sp>
              <p:nvSpPr>
                <p:cNvPr id="163" name="Line 60"/>
                <p:cNvSpPr/>
                <p:nvPr/>
              </p:nvSpPr>
              <p:spPr>
                <a:xfrm flipH="1">
                  <a:off x="414360" y="1513440"/>
                  <a:ext cx="178416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4" name=""/>
                <p:cNvSpPr txBox="1"/>
                <p:nvPr/>
              </p:nvSpPr>
              <p:spPr>
                <a:xfrm>
                  <a:off x="414360" y="1513440"/>
                  <a:ext cx="1784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08400" y="1419120"/>
                <a:ext cx="360" cy="2320920"/>
                <a:chOff x="608400" y="1419120"/>
                <a:chExt cx="360" cy="2320920"/>
              </a:xfrm>
            </p:grpSpPr>
            <p:sp>
              <p:nvSpPr>
                <p:cNvPr id="166" name="Line 61"/>
                <p:cNvSpPr/>
                <p:nvPr/>
              </p:nvSpPr>
              <p:spPr>
                <a:xfrm>
                  <a:off x="608400" y="1419120"/>
                  <a:ext cx="0" cy="232092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7" name=""/>
                <p:cNvSpPr txBox="1"/>
                <p:nvPr/>
              </p:nvSpPr>
              <p:spPr>
                <a:xfrm>
                  <a:off x="608400" y="1419120"/>
                  <a:ext cx="36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8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4C54-0678-47BB-A318-720C61EEF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42B0-49C7-4150-A685-07EB3A835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9BF0-6460-418C-9E9C-FA7689DAF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8AE4-5664-478C-B2BE-3E2E858E0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9534-3980-4BB4-8F2D-EFE1F4CE4EBA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49E8-0836-4C35-A7AA-9189A91911C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4C81-E03B-4433-9CC5-62008C82D6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5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53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54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grpSp>
              <p:nvGrpSpPr>
                <p:cNvPr id="255" name=""/>
                <p:cNvGrpSpPr/>
                <p:nvPr/>
              </p:nvGrpSpPr>
              <p:grpSpPr>
                <a:xfrm>
                  <a:off x="0" y="304920"/>
                  <a:ext cx="9144000" cy="360"/>
                  <a:chOff x="0" y="304920"/>
                  <a:chExt cx="9144000" cy="360"/>
                </a:xfrm>
              </p:grpSpPr>
              <p:sp>
                <p:nvSpPr>
                  <p:cNvPr id="256" name="Line 6"/>
                  <p:cNvSpPr/>
                  <p:nvPr/>
                </p:nvSpPr>
                <p:spPr>
                  <a:xfrm>
                    <a:off x="0" y="3049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7" name=""/>
                  <p:cNvSpPr txBox="1"/>
                  <p:nvPr/>
                </p:nvSpPr>
                <p:spPr>
                  <a:xfrm>
                    <a:off x="0" y="3049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0" y="609480"/>
                  <a:ext cx="9144000" cy="360"/>
                  <a:chOff x="0" y="609480"/>
                  <a:chExt cx="9144000" cy="360"/>
                </a:xfrm>
              </p:grpSpPr>
              <p:sp>
                <p:nvSpPr>
                  <p:cNvPr id="259" name="Line 7"/>
                  <p:cNvSpPr/>
                  <p:nvPr/>
                </p:nvSpPr>
                <p:spPr>
                  <a:xfrm>
                    <a:off x="0" y="6094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0" name=""/>
                  <p:cNvSpPr txBox="1"/>
                  <p:nvPr/>
                </p:nvSpPr>
                <p:spPr>
                  <a:xfrm>
                    <a:off x="0" y="6094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0" y="914400"/>
                  <a:ext cx="9144000" cy="360"/>
                  <a:chOff x="0" y="914400"/>
                  <a:chExt cx="9144000" cy="360"/>
                </a:xfrm>
              </p:grpSpPr>
              <p:sp>
                <p:nvSpPr>
                  <p:cNvPr id="262" name="Line 8"/>
                  <p:cNvSpPr/>
                  <p:nvPr/>
                </p:nvSpPr>
                <p:spPr>
                  <a:xfrm>
                    <a:off x="0" y="9144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3" name=""/>
                  <p:cNvSpPr txBox="1"/>
                  <p:nvPr/>
                </p:nvSpPr>
                <p:spPr>
                  <a:xfrm>
                    <a:off x="0" y="9144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0" y="1219320"/>
                  <a:ext cx="9144000" cy="360"/>
                  <a:chOff x="0" y="1219320"/>
                  <a:chExt cx="9144000" cy="360"/>
                </a:xfrm>
              </p:grpSpPr>
              <p:sp>
                <p:nvSpPr>
                  <p:cNvPr id="265" name="Line 9"/>
                  <p:cNvSpPr/>
                  <p:nvPr/>
                </p:nvSpPr>
                <p:spPr>
                  <a:xfrm>
                    <a:off x="0" y="12193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6" name=""/>
                  <p:cNvSpPr txBox="1"/>
                  <p:nvPr/>
                </p:nvSpPr>
                <p:spPr>
                  <a:xfrm>
                    <a:off x="0" y="12193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0" y="1523880"/>
                  <a:ext cx="9144000" cy="360"/>
                  <a:chOff x="0" y="1523880"/>
                  <a:chExt cx="9144000" cy="360"/>
                </a:xfrm>
              </p:grpSpPr>
              <p:sp>
                <p:nvSpPr>
                  <p:cNvPr id="268" name="Line 10"/>
                  <p:cNvSpPr/>
                  <p:nvPr/>
                </p:nvSpPr>
                <p:spPr>
                  <a:xfrm>
                    <a:off x="0" y="15238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9" name=""/>
                  <p:cNvSpPr txBox="1"/>
                  <p:nvPr/>
                </p:nvSpPr>
                <p:spPr>
                  <a:xfrm>
                    <a:off x="0" y="15238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0" y="1828800"/>
                  <a:ext cx="9144000" cy="360"/>
                  <a:chOff x="0" y="1828800"/>
                  <a:chExt cx="9144000" cy="360"/>
                </a:xfrm>
              </p:grpSpPr>
              <p:sp>
                <p:nvSpPr>
                  <p:cNvPr id="271" name="Line 11"/>
                  <p:cNvSpPr/>
                  <p:nvPr/>
                </p:nvSpPr>
                <p:spPr>
                  <a:xfrm>
                    <a:off x="0" y="18288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2" name=""/>
                  <p:cNvSpPr txBox="1"/>
                  <p:nvPr/>
                </p:nvSpPr>
                <p:spPr>
                  <a:xfrm>
                    <a:off x="0" y="18288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0" y="2133720"/>
                  <a:ext cx="9144000" cy="360"/>
                  <a:chOff x="0" y="2133720"/>
                  <a:chExt cx="9144000" cy="360"/>
                </a:xfrm>
              </p:grpSpPr>
              <p:sp>
                <p:nvSpPr>
                  <p:cNvPr id="274" name="Line 12"/>
                  <p:cNvSpPr/>
                  <p:nvPr/>
                </p:nvSpPr>
                <p:spPr>
                  <a:xfrm>
                    <a:off x="0" y="21337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5" name=""/>
                  <p:cNvSpPr txBox="1"/>
                  <p:nvPr/>
                </p:nvSpPr>
                <p:spPr>
                  <a:xfrm>
                    <a:off x="0" y="21337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0" y="2438280"/>
                  <a:ext cx="9144000" cy="360"/>
                  <a:chOff x="0" y="2438280"/>
                  <a:chExt cx="9144000" cy="360"/>
                </a:xfrm>
              </p:grpSpPr>
              <p:sp>
                <p:nvSpPr>
                  <p:cNvPr id="277" name="Line 13"/>
                  <p:cNvSpPr/>
                  <p:nvPr/>
                </p:nvSpPr>
                <p:spPr>
                  <a:xfrm>
                    <a:off x="0" y="24382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8" name=""/>
                  <p:cNvSpPr txBox="1"/>
                  <p:nvPr/>
                </p:nvSpPr>
                <p:spPr>
                  <a:xfrm>
                    <a:off x="0" y="24382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0" y="2743200"/>
                  <a:ext cx="9144000" cy="360"/>
                  <a:chOff x="0" y="2743200"/>
                  <a:chExt cx="9144000" cy="360"/>
                </a:xfrm>
              </p:grpSpPr>
              <p:sp>
                <p:nvSpPr>
                  <p:cNvPr id="280" name="Line 14"/>
                  <p:cNvSpPr/>
                  <p:nvPr/>
                </p:nvSpPr>
                <p:spPr>
                  <a:xfrm>
                    <a:off x="0" y="27432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1" name=""/>
                  <p:cNvSpPr txBox="1"/>
                  <p:nvPr/>
                </p:nvSpPr>
                <p:spPr>
                  <a:xfrm>
                    <a:off x="0" y="27432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0" y="3048120"/>
                  <a:ext cx="9144000" cy="360"/>
                  <a:chOff x="0" y="3048120"/>
                  <a:chExt cx="9144000" cy="360"/>
                </a:xfrm>
              </p:grpSpPr>
              <p:sp>
                <p:nvSpPr>
                  <p:cNvPr id="283" name="Line 15"/>
                  <p:cNvSpPr/>
                  <p:nvPr/>
                </p:nvSpPr>
                <p:spPr>
                  <a:xfrm>
                    <a:off x="0" y="30481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4" name=""/>
                  <p:cNvSpPr txBox="1"/>
                  <p:nvPr/>
                </p:nvSpPr>
                <p:spPr>
                  <a:xfrm>
                    <a:off x="0" y="30481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0" y="3352680"/>
                  <a:ext cx="9144000" cy="360"/>
                  <a:chOff x="0" y="3352680"/>
                  <a:chExt cx="9144000" cy="360"/>
                </a:xfrm>
              </p:grpSpPr>
              <p:sp>
                <p:nvSpPr>
                  <p:cNvPr id="286" name="Line 16"/>
                  <p:cNvSpPr/>
                  <p:nvPr/>
                </p:nvSpPr>
                <p:spPr>
                  <a:xfrm>
                    <a:off x="0" y="33526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7" name=""/>
                  <p:cNvSpPr txBox="1"/>
                  <p:nvPr/>
                </p:nvSpPr>
                <p:spPr>
                  <a:xfrm>
                    <a:off x="0" y="33526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0" y="3657600"/>
                  <a:ext cx="9144000" cy="360"/>
                  <a:chOff x="0" y="3657600"/>
                  <a:chExt cx="9144000" cy="360"/>
                </a:xfrm>
              </p:grpSpPr>
              <p:sp>
                <p:nvSpPr>
                  <p:cNvPr id="289" name="Line 17"/>
                  <p:cNvSpPr/>
                  <p:nvPr/>
                </p:nvSpPr>
                <p:spPr>
                  <a:xfrm>
                    <a:off x="0" y="36576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0" name=""/>
                  <p:cNvSpPr txBox="1"/>
                  <p:nvPr/>
                </p:nvSpPr>
                <p:spPr>
                  <a:xfrm>
                    <a:off x="0" y="36576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0" y="3962520"/>
                  <a:ext cx="9144000" cy="360"/>
                  <a:chOff x="0" y="3962520"/>
                  <a:chExt cx="9144000" cy="360"/>
                </a:xfrm>
              </p:grpSpPr>
              <p:sp>
                <p:nvSpPr>
                  <p:cNvPr id="292" name="Line 18"/>
                  <p:cNvSpPr/>
                  <p:nvPr/>
                </p:nvSpPr>
                <p:spPr>
                  <a:xfrm>
                    <a:off x="0" y="39625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3" name=""/>
                  <p:cNvSpPr txBox="1"/>
                  <p:nvPr/>
                </p:nvSpPr>
                <p:spPr>
                  <a:xfrm>
                    <a:off x="0" y="39625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0" y="4267080"/>
                  <a:ext cx="9144000" cy="360"/>
                  <a:chOff x="0" y="4267080"/>
                  <a:chExt cx="9144000" cy="360"/>
                </a:xfrm>
              </p:grpSpPr>
              <p:sp>
                <p:nvSpPr>
                  <p:cNvPr id="295" name="Line 19"/>
                  <p:cNvSpPr/>
                  <p:nvPr/>
                </p:nvSpPr>
                <p:spPr>
                  <a:xfrm>
                    <a:off x="0" y="42670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6" name=""/>
                  <p:cNvSpPr txBox="1"/>
                  <p:nvPr/>
                </p:nvSpPr>
                <p:spPr>
                  <a:xfrm>
                    <a:off x="0" y="42670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0" y="4572000"/>
                  <a:ext cx="9144000" cy="360"/>
                  <a:chOff x="0" y="4572000"/>
                  <a:chExt cx="9144000" cy="360"/>
                </a:xfrm>
              </p:grpSpPr>
              <p:sp>
                <p:nvSpPr>
                  <p:cNvPr id="298" name="Line 20"/>
                  <p:cNvSpPr/>
                  <p:nvPr/>
                </p:nvSpPr>
                <p:spPr>
                  <a:xfrm>
                    <a:off x="0" y="45720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9" name=""/>
                  <p:cNvSpPr txBox="1"/>
                  <p:nvPr/>
                </p:nvSpPr>
                <p:spPr>
                  <a:xfrm>
                    <a:off x="0" y="45720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0" y="4876920"/>
                  <a:ext cx="9144000" cy="360"/>
                  <a:chOff x="0" y="4876920"/>
                  <a:chExt cx="9144000" cy="360"/>
                </a:xfrm>
              </p:grpSpPr>
              <p:sp>
                <p:nvSpPr>
                  <p:cNvPr id="301" name="Line 21"/>
                  <p:cNvSpPr/>
                  <p:nvPr/>
                </p:nvSpPr>
                <p:spPr>
                  <a:xfrm>
                    <a:off x="0" y="48769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2" name=""/>
                  <p:cNvSpPr txBox="1"/>
                  <p:nvPr/>
                </p:nvSpPr>
                <p:spPr>
                  <a:xfrm>
                    <a:off x="0" y="48769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0" y="5181480"/>
                  <a:ext cx="9144000" cy="360"/>
                  <a:chOff x="0" y="5181480"/>
                  <a:chExt cx="9144000" cy="360"/>
                </a:xfrm>
              </p:grpSpPr>
              <p:sp>
                <p:nvSpPr>
                  <p:cNvPr id="304" name="Line 22"/>
                  <p:cNvSpPr/>
                  <p:nvPr/>
                </p:nvSpPr>
                <p:spPr>
                  <a:xfrm>
                    <a:off x="0" y="51814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5" name=""/>
                  <p:cNvSpPr txBox="1"/>
                  <p:nvPr/>
                </p:nvSpPr>
                <p:spPr>
                  <a:xfrm>
                    <a:off x="0" y="51814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0" y="5486400"/>
                  <a:ext cx="9144000" cy="360"/>
                  <a:chOff x="0" y="5486400"/>
                  <a:chExt cx="9144000" cy="360"/>
                </a:xfrm>
              </p:grpSpPr>
              <p:sp>
                <p:nvSpPr>
                  <p:cNvPr id="307" name="Line 23"/>
                  <p:cNvSpPr/>
                  <p:nvPr/>
                </p:nvSpPr>
                <p:spPr>
                  <a:xfrm>
                    <a:off x="0" y="54864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8" name=""/>
                  <p:cNvSpPr txBox="1"/>
                  <p:nvPr/>
                </p:nvSpPr>
                <p:spPr>
                  <a:xfrm>
                    <a:off x="0" y="54864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0" y="5791320"/>
                  <a:ext cx="9144000" cy="360"/>
                  <a:chOff x="0" y="5791320"/>
                  <a:chExt cx="9144000" cy="360"/>
                </a:xfrm>
              </p:grpSpPr>
              <p:sp>
                <p:nvSpPr>
                  <p:cNvPr id="310" name="Line 24"/>
                  <p:cNvSpPr/>
                  <p:nvPr/>
                </p:nvSpPr>
                <p:spPr>
                  <a:xfrm>
                    <a:off x="0" y="57913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1" name=""/>
                  <p:cNvSpPr txBox="1"/>
                  <p:nvPr/>
                </p:nvSpPr>
                <p:spPr>
                  <a:xfrm>
                    <a:off x="0" y="57913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0" y="6095880"/>
                  <a:ext cx="9144000" cy="360"/>
                  <a:chOff x="0" y="6095880"/>
                  <a:chExt cx="9144000" cy="360"/>
                </a:xfrm>
              </p:grpSpPr>
              <p:sp>
                <p:nvSpPr>
                  <p:cNvPr id="313" name="Line 25"/>
                  <p:cNvSpPr/>
                  <p:nvPr/>
                </p:nvSpPr>
                <p:spPr>
                  <a:xfrm>
                    <a:off x="0" y="60958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4" name=""/>
                  <p:cNvSpPr txBox="1"/>
                  <p:nvPr/>
                </p:nvSpPr>
                <p:spPr>
                  <a:xfrm>
                    <a:off x="0" y="60958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0" y="6400800"/>
                  <a:ext cx="9144000" cy="360"/>
                  <a:chOff x="0" y="6400800"/>
                  <a:chExt cx="9144000" cy="360"/>
                </a:xfrm>
              </p:grpSpPr>
              <p:sp>
                <p:nvSpPr>
                  <p:cNvPr id="316" name="Line 26"/>
                  <p:cNvSpPr/>
                  <p:nvPr/>
                </p:nvSpPr>
                <p:spPr>
                  <a:xfrm>
                    <a:off x="0" y="64008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7" name=""/>
                  <p:cNvSpPr txBox="1"/>
                  <p:nvPr/>
                </p:nvSpPr>
                <p:spPr>
                  <a:xfrm>
                    <a:off x="0" y="64008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0" y="6705720"/>
                  <a:ext cx="9144000" cy="360"/>
                  <a:chOff x="0" y="6705720"/>
                  <a:chExt cx="9144000" cy="360"/>
                </a:xfrm>
              </p:grpSpPr>
              <p:sp>
                <p:nvSpPr>
                  <p:cNvPr id="319" name="Line 27"/>
                  <p:cNvSpPr/>
                  <p:nvPr/>
                </p:nvSpPr>
                <p:spPr>
                  <a:xfrm>
                    <a:off x="0" y="67057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0" name=""/>
                  <p:cNvSpPr txBox="1"/>
                  <p:nvPr/>
                </p:nvSpPr>
                <p:spPr>
                  <a:xfrm>
                    <a:off x="0" y="67057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304920" y="0"/>
                  <a:ext cx="360" cy="6858000"/>
                  <a:chOff x="304920" y="0"/>
                  <a:chExt cx="360" cy="6858000"/>
                </a:xfrm>
              </p:grpSpPr>
              <p:sp>
                <p:nvSpPr>
                  <p:cNvPr id="322" name="Line 28"/>
                  <p:cNvSpPr/>
                  <p:nvPr/>
                </p:nvSpPr>
                <p:spPr>
                  <a:xfrm>
                    <a:off x="3049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3" name=""/>
                  <p:cNvSpPr txBox="1"/>
                  <p:nvPr/>
                </p:nvSpPr>
                <p:spPr>
                  <a:xfrm>
                    <a:off x="3049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609480" y="0"/>
                  <a:ext cx="360" cy="6858000"/>
                  <a:chOff x="609480" y="0"/>
                  <a:chExt cx="360" cy="6858000"/>
                </a:xfrm>
              </p:grpSpPr>
              <p:sp>
                <p:nvSpPr>
                  <p:cNvPr id="325" name="Line 29"/>
                  <p:cNvSpPr/>
                  <p:nvPr/>
                </p:nvSpPr>
                <p:spPr>
                  <a:xfrm>
                    <a:off x="6094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6" name=""/>
                  <p:cNvSpPr txBox="1"/>
                  <p:nvPr/>
                </p:nvSpPr>
                <p:spPr>
                  <a:xfrm>
                    <a:off x="6094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914400" y="0"/>
                  <a:ext cx="360" cy="6858000"/>
                  <a:chOff x="914400" y="0"/>
                  <a:chExt cx="360" cy="6858000"/>
                </a:xfrm>
              </p:grpSpPr>
              <p:sp>
                <p:nvSpPr>
                  <p:cNvPr id="328" name="Line 30"/>
                  <p:cNvSpPr/>
                  <p:nvPr/>
                </p:nvSpPr>
                <p:spPr>
                  <a:xfrm>
                    <a:off x="9144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9" name=""/>
                  <p:cNvSpPr txBox="1"/>
                  <p:nvPr/>
                </p:nvSpPr>
                <p:spPr>
                  <a:xfrm>
                    <a:off x="9144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1219320" y="0"/>
                  <a:ext cx="360" cy="6858000"/>
                  <a:chOff x="1219320" y="0"/>
                  <a:chExt cx="360" cy="6858000"/>
                </a:xfrm>
              </p:grpSpPr>
              <p:sp>
                <p:nvSpPr>
                  <p:cNvPr id="331" name="Line 31"/>
                  <p:cNvSpPr/>
                  <p:nvPr/>
                </p:nvSpPr>
                <p:spPr>
                  <a:xfrm>
                    <a:off x="12193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2" name=""/>
                  <p:cNvSpPr txBox="1"/>
                  <p:nvPr/>
                </p:nvSpPr>
                <p:spPr>
                  <a:xfrm>
                    <a:off x="12193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1523880" y="0"/>
                  <a:ext cx="360" cy="6858000"/>
                  <a:chOff x="1523880" y="0"/>
                  <a:chExt cx="360" cy="6858000"/>
                </a:xfrm>
              </p:grpSpPr>
              <p:sp>
                <p:nvSpPr>
                  <p:cNvPr id="334" name="Line 32"/>
                  <p:cNvSpPr/>
                  <p:nvPr/>
                </p:nvSpPr>
                <p:spPr>
                  <a:xfrm>
                    <a:off x="15238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5" name=""/>
                  <p:cNvSpPr txBox="1"/>
                  <p:nvPr/>
                </p:nvSpPr>
                <p:spPr>
                  <a:xfrm>
                    <a:off x="15238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1828800" y="0"/>
                  <a:ext cx="360" cy="6858000"/>
                  <a:chOff x="1828800" y="0"/>
                  <a:chExt cx="360" cy="6858000"/>
                </a:xfrm>
              </p:grpSpPr>
              <p:sp>
                <p:nvSpPr>
                  <p:cNvPr id="337" name="Line 33"/>
                  <p:cNvSpPr/>
                  <p:nvPr/>
                </p:nvSpPr>
                <p:spPr>
                  <a:xfrm>
                    <a:off x="18288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8" name=""/>
                  <p:cNvSpPr txBox="1"/>
                  <p:nvPr/>
                </p:nvSpPr>
                <p:spPr>
                  <a:xfrm>
                    <a:off x="18288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2133720" y="0"/>
                  <a:ext cx="360" cy="6858000"/>
                  <a:chOff x="2133720" y="0"/>
                  <a:chExt cx="360" cy="6858000"/>
                </a:xfrm>
              </p:grpSpPr>
              <p:sp>
                <p:nvSpPr>
                  <p:cNvPr id="340" name="Line 34"/>
                  <p:cNvSpPr/>
                  <p:nvPr/>
                </p:nvSpPr>
                <p:spPr>
                  <a:xfrm>
                    <a:off x="21337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1" name=""/>
                  <p:cNvSpPr txBox="1"/>
                  <p:nvPr/>
                </p:nvSpPr>
                <p:spPr>
                  <a:xfrm>
                    <a:off x="21337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2438280" y="0"/>
                  <a:ext cx="360" cy="6858000"/>
                  <a:chOff x="2438280" y="0"/>
                  <a:chExt cx="360" cy="6858000"/>
                </a:xfrm>
              </p:grpSpPr>
              <p:sp>
                <p:nvSpPr>
                  <p:cNvPr id="343" name="Line 35"/>
                  <p:cNvSpPr/>
                  <p:nvPr/>
                </p:nvSpPr>
                <p:spPr>
                  <a:xfrm>
                    <a:off x="24382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4" name=""/>
                  <p:cNvSpPr txBox="1"/>
                  <p:nvPr/>
                </p:nvSpPr>
                <p:spPr>
                  <a:xfrm>
                    <a:off x="24382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2743200" y="0"/>
                  <a:ext cx="360" cy="6858000"/>
                  <a:chOff x="2743200" y="0"/>
                  <a:chExt cx="360" cy="6858000"/>
                </a:xfrm>
              </p:grpSpPr>
              <p:sp>
                <p:nvSpPr>
                  <p:cNvPr id="346" name="Line 36"/>
                  <p:cNvSpPr/>
                  <p:nvPr/>
                </p:nvSpPr>
                <p:spPr>
                  <a:xfrm>
                    <a:off x="27432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7" name=""/>
                  <p:cNvSpPr txBox="1"/>
                  <p:nvPr/>
                </p:nvSpPr>
                <p:spPr>
                  <a:xfrm>
                    <a:off x="27432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3048120" y="0"/>
                  <a:ext cx="360" cy="6858000"/>
                  <a:chOff x="3048120" y="0"/>
                  <a:chExt cx="360" cy="6858000"/>
                </a:xfrm>
              </p:grpSpPr>
              <p:sp>
                <p:nvSpPr>
                  <p:cNvPr id="349" name="Line 37"/>
                  <p:cNvSpPr/>
                  <p:nvPr/>
                </p:nvSpPr>
                <p:spPr>
                  <a:xfrm>
                    <a:off x="30481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0" name=""/>
                  <p:cNvSpPr txBox="1"/>
                  <p:nvPr/>
                </p:nvSpPr>
                <p:spPr>
                  <a:xfrm>
                    <a:off x="30481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3352680" y="0"/>
                  <a:ext cx="360" cy="6858000"/>
                  <a:chOff x="3352680" y="0"/>
                  <a:chExt cx="360" cy="6858000"/>
                </a:xfrm>
              </p:grpSpPr>
              <p:sp>
                <p:nvSpPr>
                  <p:cNvPr id="352" name="Line 38"/>
                  <p:cNvSpPr/>
                  <p:nvPr/>
                </p:nvSpPr>
                <p:spPr>
                  <a:xfrm>
                    <a:off x="33526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3" name=""/>
                  <p:cNvSpPr txBox="1"/>
                  <p:nvPr/>
                </p:nvSpPr>
                <p:spPr>
                  <a:xfrm>
                    <a:off x="33526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3657600" y="0"/>
                  <a:ext cx="360" cy="6858000"/>
                  <a:chOff x="3657600" y="0"/>
                  <a:chExt cx="360" cy="6858000"/>
                </a:xfrm>
              </p:grpSpPr>
              <p:sp>
                <p:nvSpPr>
                  <p:cNvPr id="355" name="Line 39"/>
                  <p:cNvSpPr/>
                  <p:nvPr/>
                </p:nvSpPr>
                <p:spPr>
                  <a:xfrm>
                    <a:off x="36576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6" name=""/>
                  <p:cNvSpPr txBox="1"/>
                  <p:nvPr/>
                </p:nvSpPr>
                <p:spPr>
                  <a:xfrm>
                    <a:off x="36576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3962520" y="0"/>
                  <a:ext cx="360" cy="6858000"/>
                  <a:chOff x="3962520" y="0"/>
                  <a:chExt cx="360" cy="6858000"/>
                </a:xfrm>
              </p:grpSpPr>
              <p:sp>
                <p:nvSpPr>
                  <p:cNvPr id="358" name="Line 40"/>
                  <p:cNvSpPr/>
                  <p:nvPr/>
                </p:nvSpPr>
                <p:spPr>
                  <a:xfrm>
                    <a:off x="39625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9" name=""/>
                  <p:cNvSpPr txBox="1"/>
                  <p:nvPr/>
                </p:nvSpPr>
                <p:spPr>
                  <a:xfrm>
                    <a:off x="39625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4267080" y="0"/>
                  <a:ext cx="360" cy="6858000"/>
                  <a:chOff x="4267080" y="0"/>
                  <a:chExt cx="360" cy="6858000"/>
                </a:xfrm>
              </p:grpSpPr>
              <p:sp>
                <p:nvSpPr>
                  <p:cNvPr id="361" name="Line 41"/>
                  <p:cNvSpPr/>
                  <p:nvPr/>
                </p:nvSpPr>
                <p:spPr>
                  <a:xfrm>
                    <a:off x="42670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2" name=""/>
                  <p:cNvSpPr txBox="1"/>
                  <p:nvPr/>
                </p:nvSpPr>
                <p:spPr>
                  <a:xfrm>
                    <a:off x="42670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4572000" y="0"/>
                  <a:ext cx="360" cy="6858000"/>
                  <a:chOff x="4572000" y="0"/>
                  <a:chExt cx="360" cy="6858000"/>
                </a:xfrm>
              </p:grpSpPr>
              <p:sp>
                <p:nvSpPr>
                  <p:cNvPr id="364" name="Line 42"/>
                  <p:cNvSpPr/>
                  <p:nvPr/>
                </p:nvSpPr>
                <p:spPr>
                  <a:xfrm>
                    <a:off x="45720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5" name=""/>
                  <p:cNvSpPr txBox="1"/>
                  <p:nvPr/>
                </p:nvSpPr>
                <p:spPr>
                  <a:xfrm>
                    <a:off x="45720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4876920" y="0"/>
                  <a:ext cx="360" cy="6858000"/>
                  <a:chOff x="4876920" y="0"/>
                  <a:chExt cx="360" cy="6858000"/>
                </a:xfrm>
              </p:grpSpPr>
              <p:sp>
                <p:nvSpPr>
                  <p:cNvPr id="367" name="Line 43"/>
                  <p:cNvSpPr/>
                  <p:nvPr/>
                </p:nvSpPr>
                <p:spPr>
                  <a:xfrm>
                    <a:off x="48769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8" name=""/>
                  <p:cNvSpPr txBox="1"/>
                  <p:nvPr/>
                </p:nvSpPr>
                <p:spPr>
                  <a:xfrm>
                    <a:off x="48769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5181480" y="0"/>
                  <a:ext cx="360" cy="6858000"/>
                  <a:chOff x="5181480" y="0"/>
                  <a:chExt cx="360" cy="6858000"/>
                </a:xfrm>
              </p:grpSpPr>
              <p:sp>
                <p:nvSpPr>
                  <p:cNvPr id="370" name="Line 44"/>
                  <p:cNvSpPr/>
                  <p:nvPr/>
                </p:nvSpPr>
                <p:spPr>
                  <a:xfrm>
                    <a:off x="51814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1" name=""/>
                  <p:cNvSpPr txBox="1"/>
                  <p:nvPr/>
                </p:nvSpPr>
                <p:spPr>
                  <a:xfrm>
                    <a:off x="51814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5486400" y="0"/>
                  <a:ext cx="360" cy="6858000"/>
                  <a:chOff x="5486400" y="0"/>
                  <a:chExt cx="360" cy="6858000"/>
                </a:xfrm>
              </p:grpSpPr>
              <p:sp>
                <p:nvSpPr>
                  <p:cNvPr id="373" name="Line 45"/>
                  <p:cNvSpPr/>
                  <p:nvPr/>
                </p:nvSpPr>
                <p:spPr>
                  <a:xfrm>
                    <a:off x="54864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4" name=""/>
                  <p:cNvSpPr txBox="1"/>
                  <p:nvPr/>
                </p:nvSpPr>
                <p:spPr>
                  <a:xfrm>
                    <a:off x="54864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5791320" y="0"/>
                  <a:ext cx="360" cy="6858000"/>
                  <a:chOff x="5791320" y="0"/>
                  <a:chExt cx="360" cy="6858000"/>
                </a:xfrm>
              </p:grpSpPr>
              <p:sp>
                <p:nvSpPr>
                  <p:cNvPr id="376" name="Line 46"/>
                  <p:cNvSpPr/>
                  <p:nvPr/>
                </p:nvSpPr>
                <p:spPr>
                  <a:xfrm>
                    <a:off x="57913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7" name=""/>
                  <p:cNvSpPr txBox="1"/>
                  <p:nvPr/>
                </p:nvSpPr>
                <p:spPr>
                  <a:xfrm>
                    <a:off x="57913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6095880" y="0"/>
                  <a:ext cx="360" cy="6858000"/>
                  <a:chOff x="6095880" y="0"/>
                  <a:chExt cx="360" cy="6858000"/>
                </a:xfrm>
              </p:grpSpPr>
              <p:sp>
                <p:nvSpPr>
                  <p:cNvPr id="379" name="Line 47"/>
                  <p:cNvSpPr/>
                  <p:nvPr/>
                </p:nvSpPr>
                <p:spPr>
                  <a:xfrm>
                    <a:off x="60958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0" name=""/>
                  <p:cNvSpPr txBox="1"/>
                  <p:nvPr/>
                </p:nvSpPr>
                <p:spPr>
                  <a:xfrm>
                    <a:off x="60958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6400800" y="0"/>
                  <a:ext cx="360" cy="6858000"/>
                  <a:chOff x="6400800" y="0"/>
                  <a:chExt cx="360" cy="6858000"/>
                </a:xfrm>
              </p:grpSpPr>
              <p:sp>
                <p:nvSpPr>
                  <p:cNvPr id="382" name="Line 48"/>
                  <p:cNvSpPr/>
                  <p:nvPr/>
                </p:nvSpPr>
                <p:spPr>
                  <a:xfrm>
                    <a:off x="64008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3" name=""/>
                  <p:cNvSpPr txBox="1"/>
                  <p:nvPr/>
                </p:nvSpPr>
                <p:spPr>
                  <a:xfrm>
                    <a:off x="64008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6705720" y="0"/>
                  <a:ext cx="360" cy="6858000"/>
                  <a:chOff x="6705720" y="0"/>
                  <a:chExt cx="360" cy="6858000"/>
                </a:xfrm>
              </p:grpSpPr>
              <p:sp>
                <p:nvSpPr>
                  <p:cNvPr id="385" name="Line 49"/>
                  <p:cNvSpPr/>
                  <p:nvPr/>
                </p:nvSpPr>
                <p:spPr>
                  <a:xfrm>
                    <a:off x="67057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6" name=""/>
                  <p:cNvSpPr txBox="1"/>
                  <p:nvPr/>
                </p:nvSpPr>
                <p:spPr>
                  <a:xfrm>
                    <a:off x="67057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7010280" y="0"/>
                  <a:ext cx="360" cy="6858000"/>
                  <a:chOff x="7010280" y="0"/>
                  <a:chExt cx="360" cy="6858000"/>
                </a:xfrm>
              </p:grpSpPr>
              <p:sp>
                <p:nvSpPr>
                  <p:cNvPr id="388" name="Line 50"/>
                  <p:cNvSpPr/>
                  <p:nvPr/>
                </p:nvSpPr>
                <p:spPr>
                  <a:xfrm>
                    <a:off x="70102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9" name=""/>
                  <p:cNvSpPr txBox="1"/>
                  <p:nvPr/>
                </p:nvSpPr>
                <p:spPr>
                  <a:xfrm>
                    <a:off x="70102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7315200" y="0"/>
                  <a:ext cx="360" cy="6858000"/>
                  <a:chOff x="7315200" y="0"/>
                  <a:chExt cx="360" cy="6858000"/>
                </a:xfrm>
              </p:grpSpPr>
              <p:sp>
                <p:nvSpPr>
                  <p:cNvPr id="391" name="Line 51"/>
                  <p:cNvSpPr/>
                  <p:nvPr/>
                </p:nvSpPr>
                <p:spPr>
                  <a:xfrm>
                    <a:off x="73152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2" name=""/>
                  <p:cNvSpPr txBox="1"/>
                  <p:nvPr/>
                </p:nvSpPr>
                <p:spPr>
                  <a:xfrm>
                    <a:off x="73152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7620120" y="0"/>
                  <a:ext cx="360" cy="6858000"/>
                  <a:chOff x="7620120" y="0"/>
                  <a:chExt cx="360" cy="6858000"/>
                </a:xfrm>
              </p:grpSpPr>
              <p:sp>
                <p:nvSpPr>
                  <p:cNvPr id="394" name="Line 52"/>
                  <p:cNvSpPr/>
                  <p:nvPr/>
                </p:nvSpPr>
                <p:spPr>
                  <a:xfrm>
                    <a:off x="76201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5" name=""/>
                  <p:cNvSpPr txBox="1"/>
                  <p:nvPr/>
                </p:nvSpPr>
                <p:spPr>
                  <a:xfrm>
                    <a:off x="76201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7924680" y="0"/>
                  <a:ext cx="360" cy="6858000"/>
                  <a:chOff x="7924680" y="0"/>
                  <a:chExt cx="360" cy="6858000"/>
                </a:xfrm>
              </p:grpSpPr>
              <p:sp>
                <p:nvSpPr>
                  <p:cNvPr id="397" name="Line 53"/>
                  <p:cNvSpPr/>
                  <p:nvPr/>
                </p:nvSpPr>
                <p:spPr>
                  <a:xfrm>
                    <a:off x="79246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8" name=""/>
                  <p:cNvSpPr txBox="1"/>
                  <p:nvPr/>
                </p:nvSpPr>
                <p:spPr>
                  <a:xfrm>
                    <a:off x="79246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8229600" y="0"/>
                  <a:ext cx="360" cy="6858000"/>
                  <a:chOff x="8229600" y="0"/>
                  <a:chExt cx="360" cy="6858000"/>
                </a:xfrm>
              </p:grpSpPr>
              <p:sp>
                <p:nvSpPr>
                  <p:cNvPr id="400" name="Line 54"/>
                  <p:cNvSpPr/>
                  <p:nvPr/>
                </p:nvSpPr>
                <p:spPr>
                  <a:xfrm>
                    <a:off x="82296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1" name=""/>
                  <p:cNvSpPr txBox="1"/>
                  <p:nvPr/>
                </p:nvSpPr>
                <p:spPr>
                  <a:xfrm>
                    <a:off x="82296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8534520" y="0"/>
                  <a:ext cx="360" cy="6858000"/>
                  <a:chOff x="8534520" y="0"/>
                  <a:chExt cx="360" cy="6858000"/>
                </a:xfrm>
              </p:grpSpPr>
              <p:sp>
                <p:nvSpPr>
                  <p:cNvPr id="403" name="Line 55"/>
                  <p:cNvSpPr/>
                  <p:nvPr/>
                </p:nvSpPr>
                <p:spPr>
                  <a:xfrm>
                    <a:off x="85345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4" name=""/>
                  <p:cNvSpPr txBox="1"/>
                  <p:nvPr/>
                </p:nvSpPr>
                <p:spPr>
                  <a:xfrm>
                    <a:off x="85345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8839080" y="0"/>
                  <a:ext cx="360" cy="6858000"/>
                  <a:chOff x="8839080" y="0"/>
                  <a:chExt cx="360" cy="6858000"/>
                </a:xfrm>
              </p:grpSpPr>
              <p:sp>
                <p:nvSpPr>
                  <p:cNvPr id="406" name="Line 56"/>
                  <p:cNvSpPr/>
                  <p:nvPr/>
                </p:nvSpPr>
                <p:spPr>
                  <a:xfrm>
                    <a:off x="88390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7" name=""/>
                  <p:cNvSpPr txBox="1"/>
                  <p:nvPr/>
                </p:nvSpPr>
                <p:spPr>
                  <a:xfrm>
                    <a:off x="88390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408" name=""/>
              <p:cNvGrpSpPr/>
              <p:nvPr/>
            </p:nvGrpSpPr>
            <p:grpSpPr>
              <a:xfrm>
                <a:off x="8839080" y="0"/>
                <a:ext cx="360" cy="2362320"/>
                <a:chOff x="8839080" y="0"/>
                <a:chExt cx="360" cy="2362320"/>
              </a:xfrm>
            </p:grpSpPr>
            <p:sp>
              <p:nvSpPr>
                <p:cNvPr id="409" name="Line 57"/>
                <p:cNvSpPr/>
                <p:nvPr/>
              </p:nvSpPr>
              <p:spPr>
                <a:xfrm>
                  <a:off x="8839080" y="0"/>
                  <a:ext cx="0" cy="236232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0" name=""/>
                <p:cNvSpPr txBox="1"/>
                <p:nvPr/>
              </p:nvSpPr>
              <p:spPr>
                <a:xfrm>
                  <a:off x="8839080" y="0"/>
                  <a:ext cx="360" cy="236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411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803160" y="887400"/>
                <a:ext cx="360" cy="2851200"/>
                <a:chOff x="803160" y="887400"/>
                <a:chExt cx="360" cy="2851200"/>
              </a:xfrm>
            </p:grpSpPr>
            <p:sp>
              <p:nvSpPr>
                <p:cNvPr id="413" name="Line 59"/>
                <p:cNvSpPr/>
                <p:nvPr/>
              </p:nvSpPr>
              <p:spPr>
                <a:xfrm>
                  <a:off x="803160" y="887400"/>
                  <a:ext cx="0" cy="28512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4" name=""/>
                <p:cNvSpPr txBox="1"/>
                <p:nvPr/>
              </p:nvSpPr>
              <p:spPr>
                <a:xfrm>
                  <a:off x="803160" y="887400"/>
                  <a:ext cx="360" cy="28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4680" y="3053880"/>
                <a:ext cx="5097600" cy="1800"/>
                <a:chOff x="4680" y="3053880"/>
                <a:chExt cx="5097600" cy="1800"/>
              </a:xfrm>
            </p:grpSpPr>
            <p:sp>
              <p:nvSpPr>
                <p:cNvPr id="416" name="Line 60"/>
                <p:cNvSpPr/>
                <p:nvPr/>
              </p:nvSpPr>
              <p:spPr>
                <a:xfrm flipH="1" flipV="1">
                  <a:off x="4680" y="3053880"/>
                  <a:ext cx="5097600" cy="18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7" name=""/>
                <p:cNvSpPr txBox="1"/>
                <p:nvPr/>
              </p:nvSpPr>
              <p:spPr>
                <a:xfrm rot="10800000">
                  <a:off x="4680" y="3053880"/>
                  <a:ext cx="509760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609480" y="1488600"/>
                <a:ext cx="6050160" cy="1800"/>
                <a:chOff x="609480" y="1488600"/>
                <a:chExt cx="6050160" cy="1800"/>
              </a:xfrm>
            </p:grpSpPr>
            <p:sp>
              <p:nvSpPr>
                <p:cNvPr id="419" name="Line 61"/>
                <p:cNvSpPr/>
                <p:nvPr/>
              </p:nvSpPr>
              <p:spPr>
                <a:xfrm flipH="1" flipV="1">
                  <a:off x="609480" y="1488600"/>
                  <a:ext cx="6050160" cy="18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0" name=""/>
                <p:cNvSpPr txBox="1"/>
                <p:nvPr/>
              </p:nvSpPr>
              <p:spPr>
                <a:xfrm rot="10800000">
                  <a:off x="609480" y="1488240"/>
                  <a:ext cx="60501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1" name="Arc 62"/>
              <p:cNvSpPr/>
              <p:nvPr/>
            </p:nvSpPr>
            <p:spPr>
              <a:xfrm flipH="1" rot="16200000">
                <a:off x="671040" y="1362600"/>
                <a:ext cx="247680" cy="24948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22" name="Group 63"/>
            <p:cNvGrpSpPr/>
            <p:nvPr/>
          </p:nvGrpSpPr>
          <p:grpSpPr>
            <a:xfrm>
              <a:off x="2349000" y="3098880"/>
              <a:ext cx="6045840" cy="2876400"/>
              <a:chOff x="2349000" y="3098880"/>
              <a:chExt cx="6045840" cy="287640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2349000" y="5463720"/>
                <a:ext cx="6045840" cy="360"/>
                <a:chOff x="2349000" y="5463720"/>
                <a:chExt cx="6045840" cy="360"/>
              </a:xfrm>
            </p:grpSpPr>
            <p:sp>
              <p:nvSpPr>
                <p:cNvPr id="424" name="Line 64"/>
                <p:cNvSpPr/>
                <p:nvPr/>
              </p:nvSpPr>
              <p:spPr>
                <a:xfrm>
                  <a:off x="2349360" y="5464080"/>
                  <a:ext cx="604548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5" name=""/>
                <p:cNvSpPr txBox="1"/>
                <p:nvPr/>
              </p:nvSpPr>
              <p:spPr>
                <a:xfrm rot="10800000">
                  <a:off x="2349000" y="5463360"/>
                  <a:ext cx="6045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8210520" y="3098880"/>
                <a:ext cx="360" cy="2876400"/>
                <a:chOff x="8210520" y="3098880"/>
                <a:chExt cx="360" cy="2876400"/>
              </a:xfrm>
            </p:grpSpPr>
            <p:sp>
              <p:nvSpPr>
                <p:cNvPr id="427" name="Line 65"/>
                <p:cNvSpPr/>
                <p:nvPr/>
              </p:nvSpPr>
              <p:spPr>
                <a:xfrm>
                  <a:off x="8210520" y="3098880"/>
                  <a:ext cx="0" cy="28764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8" name=""/>
                <p:cNvSpPr txBox="1"/>
                <p:nvPr/>
              </p:nvSpPr>
              <p:spPr>
                <a:xfrm>
                  <a:off x="8210520" y="3098880"/>
                  <a:ext cx="360" cy="287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9" name="Arc 66"/>
              <p:cNvSpPr/>
              <p:nvPr/>
            </p:nvSpPr>
            <p:spPr>
              <a:xfrm rot="5400000">
                <a:off x="8087400" y="5309280"/>
                <a:ext cx="24732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3B85-A645-4189-AE6C-72EED71E5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9415-8C38-4150-9523-06BF0B707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C98C-1F1E-4963-922E-5BEB789A1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4375-65BA-4D82-8363-A36C9C0C9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FE92-A9FB-4856-8F6E-29F471AD5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13FD-C050-46E1-8B0E-4DEBD150A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8DCC-6DF2-4701-95BA-E8DA1151A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moban/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shreg.wav"/><Relationship Id="rId6" Type="http://schemas.openxmlformats.org/officeDocument/2006/relationships/audio" Target="../media/Button18.wav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audio" Target="../media/REMINDER.WAV"/><Relationship Id="rId4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矩形 8"/>
          <p:cNvSpPr/>
          <p:nvPr/>
        </p:nvSpPr>
        <p:spPr>
          <a:xfrm>
            <a:off x="2484360" y="5214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82" name="图片 1" descr=""/>
          <p:cNvPicPr/>
          <p:nvPr/>
        </p:nvPicPr>
        <p:blipFill>
          <a:blip r:embed="rId1"/>
          <a:stretch/>
        </p:blipFill>
        <p:spPr>
          <a:xfrm>
            <a:off x="2205000" y="2924280"/>
            <a:ext cx="4403880" cy="2776320"/>
          </a:xfrm>
          <a:prstGeom prst="rect">
            <a:avLst/>
          </a:prstGeom>
          <a:ln w="0">
            <a:noFill/>
          </a:ln>
        </p:spPr>
      </p:pic>
      <p:pic>
        <p:nvPicPr>
          <p:cNvPr id="883" name="矩形 2" descr=""/>
          <p:cNvPicPr/>
          <p:nvPr/>
        </p:nvPicPr>
        <p:blipFill>
          <a:blip r:embed="rId2"/>
          <a:stretch/>
        </p:blipFill>
        <p:spPr>
          <a:xfrm>
            <a:off x="1467000" y="476280"/>
            <a:ext cx="5678280" cy="701640"/>
          </a:xfrm>
          <a:prstGeom prst="rect">
            <a:avLst/>
          </a:prstGeom>
          <a:ln w="0">
            <a:noFill/>
          </a:ln>
        </p:spPr>
      </p:pic>
      <p:sp>
        <p:nvSpPr>
          <p:cNvPr id="8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40458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60120" y="260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1" lang="zh-CN" sz="4800" spc="-1" strike="noStrike">
                <a:solidFill>
                  <a:srgbClr val="800000"/>
                </a:solidFill>
                <a:latin typeface="Tahoma"/>
                <a:ea typeface="楷体_GB2312"/>
              </a:rPr>
              <a:t>桂花摇落以后，挑去小枝小叶，晒上几天太阳，收在铁盒子里，可以加在茶叶里泡茶，过年时还可以做羔饼</a:t>
            </a:r>
            <a:r>
              <a:rPr b="1" lang="zh-CN" sz="4800" spc="-1" strike="noStrike">
                <a:solidFill>
                  <a:srgbClr val="800000"/>
                </a:solidFill>
                <a:latin typeface="Tahoma"/>
              </a:rPr>
              <a:t>。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908" name="Picture 5" descr="4"/>
          <p:cNvPicPr/>
          <p:nvPr/>
        </p:nvPicPr>
        <p:blipFill>
          <a:blip r:embed="rId1"/>
          <a:stretch/>
        </p:blipFill>
        <p:spPr>
          <a:xfrm rot="1092000">
            <a:off x="-107640" y="-171360"/>
            <a:ext cx="15858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 txBox="1"/>
          <p:nvPr/>
        </p:nvSpPr>
        <p:spPr>
          <a:xfrm>
            <a:off x="394920" y="260280"/>
            <a:ext cx="9001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spcAft>
                <a:spcPts val="1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  <a:ea typeface="楷体_GB2312"/>
              </a:rPr>
              <a:t>可是母亲说：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  <a:ea typeface="楷体_GB2312"/>
              </a:rPr>
              <a:t>这里的桂花再香，也比不上家乡院子里的桂花。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于是，我又想起了在故乡童年时代的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摇花乐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，还有那摇落的阵阵桂花雨。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458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F422-95F7-4381-8EBB-02496C56E021}" type="slidenum">
              <a:rPr b="0" lang="zh-CN" sz="1400" spc="-1" strike="noStrike">
                <a:solidFill>
                  <a:srgbClr val="40458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3890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扩展思维练习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323640" y="980640"/>
            <a:ext cx="8351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学习文中的表达方法，说一说  你童年难与忘怀的人和事，或说一说你喜欢的植物或家乡的特产。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684360" y="1835280"/>
            <a:ext cx="798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spcAft>
                <a:spcPts val="224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自由读课文，依据自己的理解，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谈感受。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800000"/>
                </a:solidFill>
                <a:latin typeface="Tahoma"/>
              </a:rPr>
              <a:t>最感兴趣处，最动情   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800000"/>
                </a:solidFill>
                <a:latin typeface="Tahoma"/>
              </a:rPr>
              <a:t>处，有疑点处，分别用自己喜欢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800000"/>
                </a:solidFill>
                <a:latin typeface="Tahoma"/>
              </a:rPr>
              <a:t>的方式做上记号。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86" name="Picture 6" descr="17"/>
          <p:cNvPicPr/>
          <p:nvPr/>
        </p:nvPicPr>
        <p:blipFill>
          <a:blip r:embed="rId2"/>
          <a:stretch/>
        </p:blipFill>
        <p:spPr>
          <a:xfrm>
            <a:off x="684360" y="260280"/>
            <a:ext cx="820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02920" y="44280"/>
            <a:ext cx="280980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阅读提示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250560" y="981000"/>
            <a:ext cx="889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spcAft>
                <a:spcPts val="901"/>
              </a:spcAft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Tahoma"/>
              </a:rPr>
              <a:t>                </a:t>
            </a:r>
            <a:r>
              <a:rPr b="1" lang="zh-CN" sz="3600" spc="-1" strike="noStrike">
                <a:solidFill>
                  <a:srgbClr val="800000"/>
                </a:solidFill>
                <a:latin typeface="Tahoma"/>
              </a:rPr>
              <a:t>这是一篇回忆童年生活的文章，饱含着作者对童年往事的无比怀念。读读课文，说说课文主要写了一件什么事，想象课文描写的情景，体会作者表达的思想感情。再回忆一下自己的童年生活，有没有不能忘怀的人和事？如果有，说给大家听听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89" name="Picture 4" descr="HAT"/>
          <p:cNvPicPr/>
          <p:nvPr/>
        </p:nvPicPr>
        <p:blipFill>
          <a:blip r:embed="rId2"/>
          <a:stretch/>
        </p:blipFill>
        <p:spPr>
          <a:xfrm>
            <a:off x="179280" y="-47520"/>
            <a:ext cx="108900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-360" y="-316440"/>
            <a:ext cx="324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ahoma"/>
              </a:rPr>
              <a:t>阅读要求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250560" y="90792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说说课文主要讲了一件什么事？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边读边想象课文描述的情景。边读边体会作者表达的思想感情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回忆自己的童年生活，如有不能忘怀的人和事，说给大家听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92" name="Picture 4" descr="045"/>
          <p:cNvPicPr/>
          <p:nvPr/>
        </p:nvPicPr>
        <p:blipFill>
          <a:blip r:embed="rId1"/>
          <a:stretch/>
        </p:blipFill>
        <p:spPr>
          <a:xfrm>
            <a:off x="3203640" y="115920"/>
            <a:ext cx="10778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 txBox="1"/>
          <p:nvPr/>
        </p:nvSpPr>
        <p:spPr>
          <a:xfrm>
            <a:off x="324000" y="549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zh-CN" sz="4400" spc="-1" strike="noStrike">
                <a:solidFill>
                  <a:srgbClr val="000099"/>
                </a:solidFill>
                <a:latin typeface="Tahoma"/>
              </a:rPr>
              <a:t>分别画出描述桂花树和桂花香气的语句，想一想每句话的意思，并与同小组的同学交流感受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94" name="Picture 13" descr="7(6)"/>
          <p:cNvPicPr/>
          <p:nvPr/>
        </p:nvPicPr>
        <p:blipFill>
          <a:blip r:embed="rId2"/>
          <a:stretch/>
        </p:blipFill>
        <p:spPr>
          <a:xfrm>
            <a:off x="1324080" y="4076640"/>
            <a:ext cx="1952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-397080" y="115560"/>
            <a:ext cx="9815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桂花树的样子笨笨的，不像梅树那样有姿态。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896" name="Picture 4" descr="s8"/>
          <p:cNvPicPr/>
          <p:nvPr/>
        </p:nvPicPr>
        <p:blipFill>
          <a:blip r:embed="rId1"/>
          <a:stretch/>
        </p:blipFill>
        <p:spPr>
          <a:xfrm>
            <a:off x="5105520" y="1628640"/>
            <a:ext cx="3504960" cy="411480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5" descr="s7"/>
          <p:cNvPicPr/>
          <p:nvPr/>
        </p:nvPicPr>
        <p:blipFill>
          <a:blip r:embed="rId2"/>
          <a:stretch/>
        </p:blipFill>
        <p:spPr>
          <a:xfrm>
            <a:off x="846000" y="1614600"/>
            <a:ext cx="3581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609480" y="-27000"/>
            <a:ext cx="7994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不开花时，只是满树的叶子；开花时，仔细地在树丛里寻找，才能看到那些小花。可是桂花的香气，太迷人了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33560" indent="-133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33560" indent="-133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33560" indent="-133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33560" indent="-133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33560" indent="-133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33560" indent="-133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33560" indent="-133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99" name="Picture 5" descr="GUIHUA10"/>
          <p:cNvPicPr/>
          <p:nvPr/>
        </p:nvPicPr>
        <p:blipFill>
          <a:blip r:embed="rId1"/>
          <a:stretch/>
        </p:blipFill>
        <p:spPr>
          <a:xfrm>
            <a:off x="990720" y="1628640"/>
            <a:ext cx="7162560" cy="2982960"/>
          </a:xfrm>
          <a:prstGeom prst="rect">
            <a:avLst/>
          </a:prstGeom>
          <a:ln w="0">
            <a:noFill/>
          </a:ln>
        </p:spPr>
      </p:pic>
      <p:sp>
        <p:nvSpPr>
          <p:cNvPr id="900" name="Text Box 6"/>
          <p:cNvSpPr/>
          <p:nvPr/>
        </p:nvSpPr>
        <p:spPr>
          <a:xfrm>
            <a:off x="755640" y="4437000"/>
            <a:ext cx="784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桂花盛开的时候，不说香飘十里，至少前后十几家邻居，没有不浸在桂花香里的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1" name="Text Box 7"/>
          <p:cNvSpPr/>
          <p:nvPr/>
        </p:nvSpPr>
        <p:spPr>
          <a:xfrm>
            <a:off x="1403280" y="59500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全年，整个村子都浸在桂花的香气里。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2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f89f7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40458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40458c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4360" y="436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45000"/>
              </a:lnSpc>
              <a:spcBef>
                <a:spcPts val="165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1" lang="zh-CN" sz="4800" spc="-1" strike="noStrike">
                <a:solidFill>
                  <a:srgbClr val="000066"/>
                </a:solidFill>
                <a:latin typeface="Tahoma"/>
                <a:ea typeface="楷体_GB2312"/>
              </a:rPr>
              <a:t>画出描写摇桂花树和表达心情的句子，边读边想象课文描述的情景。边读边体会作者表达的思想感情。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 Box 4"/>
          <p:cNvSpPr/>
          <p:nvPr/>
        </p:nvSpPr>
        <p:spPr>
          <a:xfrm>
            <a:off x="324000" y="2708280"/>
            <a:ext cx="88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5" name="Text Box 5"/>
          <p:cNvSpPr/>
          <p:nvPr/>
        </p:nvSpPr>
        <p:spPr>
          <a:xfrm>
            <a:off x="0" y="5027760"/>
            <a:ext cx="9396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1" lang="zh-CN" sz="3200" spc="-1" strike="noStrike">
                <a:solidFill>
                  <a:srgbClr val="800000"/>
                </a:solidFill>
                <a:latin typeface="Tahoma"/>
                <a:ea typeface="楷体_GB2312"/>
              </a:rPr>
              <a:t>这下，我可乐了，帮大人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抱着桂花树</a:t>
            </a:r>
            <a:r>
              <a:rPr b="1" lang="zh-CN" sz="3200" spc="-1" strike="noStrike">
                <a:solidFill>
                  <a:srgbClr val="993300"/>
                </a:solidFill>
                <a:latin typeface="Tahoma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使劲地摇</a:t>
            </a:r>
            <a:r>
              <a:rPr b="1" lang="zh-CN" sz="3200" spc="-1" strike="noStrike">
                <a:solidFill>
                  <a:srgbClr val="993300"/>
                </a:solidFill>
                <a:latin typeface="Tahoma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800000"/>
                </a:solidFill>
                <a:latin typeface="Tahoma"/>
                <a:ea typeface="楷体_GB2312"/>
              </a:rPr>
              <a:t>桂花纷纷落下来，我们满头满身都是桂花。我喊：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啊！真像下雨，好香的雨啊！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906" name="Picture 7" descr="桂花雨a"/>
          <p:cNvPicPr/>
          <p:nvPr/>
        </p:nvPicPr>
        <p:blipFill>
          <a:blip r:embed="rId1"/>
          <a:stretch/>
        </p:blipFill>
        <p:spPr>
          <a:xfrm>
            <a:off x="2109960" y="0"/>
            <a:ext cx="489564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06:4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11Z</dcterms:modified>
  <cp:revision>13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