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C75-FFA8-4DA3-8D0E-0625F519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196-899D-4551-99C1-907D23B4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E2F-710D-4934-A7FD-9723ECB1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466-B110-4606-88C6-F129A0BA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C22-89A0-4451-9D5A-E3194818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B673-DC99-4315-915D-3B296C7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4311-5E02-409A-BB49-A2691B7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7550-9502-42B8-9E6D-3B84D15A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E18-E825-41A5-9DCB-2A16A59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175-2AC6-4690-8D05-502072A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C112-7CFC-41FB-9F7E-F3DF3C8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683-3BBB-4FAE-9410-0DF4D246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BDB2-5F03-40F8-AE74-1538CB8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5D0-7AD0-4653-98F0-B8D29C5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3A8-B5F2-48DD-8CCC-F3414180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8135-5E69-4A6A-A76F-DEF3F432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1D0-D018-4772-9685-B07786AA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3F6-1990-484C-8323-309D3753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299-AB4C-4C20-B9F1-C43F8CE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DDC-29B7-4A36-816F-A2D54D9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FB9-80B5-4F5F-BD51-5D8D0C7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D26-6F3C-4067-995C-812F0FE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541-6FD3-4D50-A903-76F3CFC3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47A-3A7C-453A-9F94-6E7321FC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89C-A312-4FE6-971A-D596E983E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B9A-C742-4329-A420-3C89EC6272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88A0-5DF9-4CD3-8CBC-67D2C4DC9E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2050920" y="1123920"/>
            <a:ext cx="55944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桂林山水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2205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2205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绿啊，绿得仿佛那是一块无瑕的翡翠。</a:t>
            </a:r>
            <a:r>
              <a:rPr b="1" lang="zh-CN" sz="3600" spc="-1" strike="noStrike">
                <a:solidFill>
                  <a:srgbClr val="4d220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17" name="Picture 4" descr="2007318124159920"/>
          <p:cNvPicPr/>
          <p:nvPr/>
        </p:nvPicPr>
        <p:blipFill>
          <a:blip r:embed="rId1"/>
          <a:stretch/>
        </p:blipFill>
        <p:spPr>
          <a:xfrm>
            <a:off x="-34920" y="1628640"/>
            <a:ext cx="9178920" cy="5470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101760" y="650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瑕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6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27" descr="1"/>
          <p:cNvPicPr/>
          <p:nvPr/>
        </p:nvPicPr>
        <p:blipFill>
          <a:blip r:embed="rId2"/>
          <a:stretch/>
        </p:blipFill>
        <p:spPr>
          <a:xfrm rot="19083000">
            <a:off x="7956720" y="620640"/>
            <a:ext cx="76644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28" descr="1"/>
          <p:cNvPicPr/>
          <p:nvPr/>
        </p:nvPicPr>
        <p:blipFill>
          <a:blip r:embed="rId3"/>
          <a:stretch/>
        </p:blipFill>
        <p:spPr>
          <a:xfrm>
            <a:off x="7380360" y="260280"/>
            <a:ext cx="660240" cy="673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29"/>
          <p:cNvSpPr/>
          <p:nvPr/>
        </p:nvSpPr>
        <p:spPr>
          <a:xfrm>
            <a:off x="324000" y="189000"/>
            <a:ext cx="820872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漓江的水真静啊，静得让你感觉不到它在流动；漓江的水真清啊，清得可以看见江底的沙石；漓江的水真绿啊，绿得仿佛那是一块无瑕的翡翠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7 -0.007005 C -0.006886 0.064856 -0.011159 0.13672 -0.011159 0.200523 C -0.011159 0.264325 0.005203 0.325181 -0.002437 0.375045 C -0.010093 0.424907 -0.011876 0.509236 -0.057232 0.498973 C -0.102589 0.488708 -0.206109 0.289985 -0.27459 0.313443 C -0.342712 0.336919 -0.383807 0.568634 -0.467051 0.640882 C -0.550296 0.713108 -0.723188 0.72887 -0.774415 0.746466 E">
                                      <p:cBhvr>
                                        <p:cTn id="171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4 0.019529 C -0.078566 0.043119 -0.156078 0.067028 -0.196782 0.123136 C -0.237669 0.178928 -0.20457 0.295607 -0.246333 0.356178 C -0.28775 0.416432 -0.391104 0.479565 -0.447027 0.485611 C -0.502949 0.491354 -0.52773 0.357776 -0.581349 0.391573 C -0.634968 0.425357 -0.737262 0.6396 -0.768414 0.689332 E">
                                      <p:cBhvr>
                                        <p:cTn id="173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26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28" descr="101"/>
          <p:cNvPicPr/>
          <p:nvPr/>
        </p:nvPicPr>
        <p:blipFill>
          <a:blip r:embed="rId2"/>
          <a:stretch/>
        </p:blipFill>
        <p:spPr>
          <a:xfrm>
            <a:off x="7164360" y="5157720"/>
            <a:ext cx="1778040" cy="1359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9"/>
          <p:cNvSpPr/>
          <p:nvPr/>
        </p:nvSpPr>
        <p:spPr>
          <a:xfrm>
            <a:off x="250920" y="666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我看见过波澜壮阔的大海，玩赏过水平如镜的西湖，却从没看见过漓江这样的水。漓江的水真静啊，静得让你感觉不到它在流动；漓江的水真清啊，清得可以看见江底的沙石；漓江的水真绿啊，绿得仿佛那是一块无瑕的翡翠。船桨激起的微波扩散出一道道水纹，才让你感觉到船在前进，岸在后移。</a:t>
            </a:r>
            <a:br>
              <a:rPr sz="4400"/>
            </a:b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26" name="1.wav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9009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26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7" descr="101"/>
          <p:cNvPicPr/>
          <p:nvPr/>
        </p:nvPicPr>
        <p:blipFill>
          <a:blip r:embed="rId2"/>
          <a:stretch/>
        </p:blipFill>
        <p:spPr>
          <a:xfrm>
            <a:off x="7164360" y="5157720"/>
            <a:ext cx="1778040" cy="1359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28"/>
          <p:cNvSpPr/>
          <p:nvPr/>
        </p:nvSpPr>
        <p:spPr>
          <a:xfrm>
            <a:off x="250920" y="666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我看见过波澜壮阔的大海，玩赏过水平如镜的西湖，却从没看见过漓江这样的水。漓江的水真静啊，静得让你感觉不到它在流动；漓江的水真清啊，清得可以看见江底的沙石；漓江的水真绿啊，绿得仿佛那是一块无瑕的翡翠。船桨激起的微波扩散出一道道水纹，才让你感觉到船在前进，岸在后移。</a:t>
            </a:r>
            <a:br>
              <a:rPr sz="4400"/>
            </a:b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30" name="1.wav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4d220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220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9009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108000" y="476280"/>
            <a:ext cx="89884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看见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_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玩赏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却从没看见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漓江的水真静啊，静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；漓江的水真清啊， 清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；漓江的水真绿啊 ，绿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船桨激起的微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才让你感觉到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34" name="Picture 4" descr="101"/>
          <p:cNvPicPr/>
          <p:nvPr/>
        </p:nvPicPr>
        <p:blipFill>
          <a:blip r:embed="rId2"/>
          <a:stretch/>
        </p:blipFill>
        <p:spPr>
          <a:xfrm>
            <a:off x="7164360" y="5157720"/>
            <a:ext cx="17780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356000" y="260280"/>
            <a:ext cx="478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桂林的山真奇啊，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座座拔地而起，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各不相连，像老人，像巨象，像骆驼，奇峰罗列，形态万千。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36" name="Picture 3" descr="sdms1"/>
          <p:cNvPicPr/>
          <p:nvPr/>
        </p:nvPicPr>
        <p:blipFill>
          <a:blip r:embed="rId1"/>
          <a:stretch/>
        </p:blipFill>
        <p:spPr>
          <a:xfrm>
            <a:off x="0" y="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51437img200871411271349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0100204130032732"/>
          <p:cNvPicPr/>
          <p:nvPr/>
        </p:nvPicPr>
        <p:blipFill>
          <a:blip r:embed="rId3"/>
          <a:stretch/>
        </p:blipFill>
        <p:spPr>
          <a:xfrm>
            <a:off x="4356000" y="3645000"/>
            <a:ext cx="4930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70319103500793"/>
          <p:cNvPicPr/>
          <p:nvPr/>
        </p:nvPicPr>
        <p:blipFill>
          <a:blip r:embed="rId1"/>
          <a:stretch/>
        </p:blipFill>
        <p:spPr>
          <a:xfrm>
            <a:off x="-638280" y="0"/>
            <a:ext cx="9782280" cy="68803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2166982594261969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7042821370111447"/>
          <p:cNvPicPr/>
          <p:nvPr/>
        </p:nvPicPr>
        <p:blipFill>
          <a:blip r:embed="rId1"/>
          <a:stretch/>
        </p:blipFill>
        <p:spPr>
          <a:xfrm>
            <a:off x="0" y="0"/>
            <a:ext cx="10117080" cy="7101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0dbc88035f11562e738b6530"/>
          <p:cNvPicPr/>
          <p:nvPr/>
        </p:nvPicPr>
        <p:blipFill>
          <a:blip r:embed="rId1"/>
          <a:stretch/>
        </p:blipFill>
        <p:spPr>
          <a:xfrm>
            <a:off x="36360" y="-19080"/>
            <a:ext cx="9433080" cy="723744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2"/>
          <p:cNvSpPr/>
          <p:nvPr/>
        </p:nvSpPr>
        <p:spPr>
          <a:xfrm>
            <a:off x="2268360" y="112392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86" name="Picture 9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6732720" y="765000"/>
            <a:ext cx="1944720" cy="550800"/>
          </a:xfrm>
          <a:prstGeom prst="rect">
            <a:avLst/>
          </a:prstGeom>
          <a:solidFill>
            <a:srgbClr val="009900">
              <a:alpha val="30000"/>
            </a:srgbClr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桂林山水</a:t>
            </a:r>
            <a:endParaRPr b="0" lang="en-US" sz="3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88" name="Picture 3" descr="1"/>
          <p:cNvPicPr/>
          <p:nvPr/>
        </p:nvPicPr>
        <p:blipFill>
          <a:blip r:embed="rId2"/>
          <a:stretch/>
        </p:blipFill>
        <p:spPr>
          <a:xfrm rot="19083000">
            <a:off x="7524360" y="1412640"/>
            <a:ext cx="7668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0" y="0"/>
            <a:ext cx="2087640" cy="642600"/>
          </a:xfrm>
          <a:prstGeom prst="rect">
            <a:avLst/>
          </a:prstGeom>
          <a:solidFill>
            <a:srgbClr val="009900">
              <a:alpha val="61000"/>
            </a:srgbClr>
          </a:solidFill>
          <a:ln w="15840">
            <a:solidFill>
              <a:srgbClr val="99cc00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桂林山水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732720" y="0"/>
            <a:ext cx="1944720" cy="550800"/>
          </a:xfrm>
          <a:prstGeom prst="rect">
            <a:avLst/>
          </a:prstGeom>
          <a:solidFill>
            <a:srgbClr val="009900">
              <a:alpha val="30000"/>
            </a:srgbClr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课文朗诵</a:t>
            </a:r>
            <a:endParaRPr b="0" lang="en-US" sz="30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971640" y="2637000"/>
            <a:ext cx="5472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d0d">
                      <a:alpha val="60000"/>
                    </a:srgbClr>
                  </a:outerShdw>
                </a:effectLst>
                <a:latin typeface="楷体_GB2312"/>
              </a:rPr>
              <a:t>课文朗读</a:t>
            </a:r>
            <a:endParaRPr b="1" lang="en-US" sz="3600" spc="1" strike="noStrike">
              <a:ln w="12600">
                <a:solidFill>
                  <a:srgbClr val="b2b2b2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d0d">
                    <a:alpha val="6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2" name="Picture 7" descr="u=2489993501,1090455210&amp;fm=15&amp;gp=0"/>
          <p:cNvPicPr/>
          <p:nvPr/>
        </p:nvPicPr>
        <p:blipFill>
          <a:blip r:embed="rId3"/>
          <a:stretch/>
        </p:blipFill>
        <p:spPr>
          <a:xfrm>
            <a:off x="250920" y="1123920"/>
            <a:ext cx="12967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u=1713945446,3326113457&amp;fm=0&amp;gp=0"/>
          <p:cNvPicPr/>
          <p:nvPr/>
        </p:nvPicPr>
        <p:blipFill>
          <a:blip r:embed="rId4"/>
          <a:stretch/>
        </p:blipFill>
        <p:spPr>
          <a:xfrm>
            <a:off x="6516720" y="2565360"/>
            <a:ext cx="19224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2.59259E-006 L -0.49601 -2.59259E-006 E">
                                      <p:cBhvr>
                                        <p:cTn id="15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2.59259E-006 L -0.49601 -2.59259E-006 E">
                                      <p:cBhvr>
                                        <p:cTn id="17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8083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081880" y="981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形态万千</a:t>
            </a:r>
            <a:endParaRPr b="0" lang="en-US" sz="6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37520" y="2781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奇峰罗列</a:t>
            </a:r>
            <a:endParaRPr b="0" lang="en-US" sz="6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937520" y="4562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拔地而起</a:t>
            </a:r>
            <a:endParaRPr b="0" lang="en-US" sz="66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356000" y="260280"/>
            <a:ext cx="478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桂林的山真奇啊，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座座拔地而起，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各不相连，像老人，像巨象，像骆驼，奇峰罗列，形态万千。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49" name="Picture 3" descr="sdms1"/>
          <p:cNvPicPr/>
          <p:nvPr/>
        </p:nvPicPr>
        <p:blipFill>
          <a:blip r:embed="rId1"/>
          <a:stretch/>
        </p:blipFill>
        <p:spPr>
          <a:xfrm>
            <a:off x="0" y="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51437img200871411271349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20100204130032732"/>
          <p:cNvPicPr/>
          <p:nvPr/>
        </p:nvPicPr>
        <p:blipFill>
          <a:blip r:embed="rId3"/>
          <a:stretch/>
        </p:blipFill>
        <p:spPr>
          <a:xfrm>
            <a:off x="4356000" y="3573360"/>
            <a:ext cx="49309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92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桂林的山真秀啊，像翠绿的屏障，像新生的竹笋，色彩明丽，倒映水中。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54" name="Picture 4" descr="861031953758448762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79280" y="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桂林的山真险啊，危峰兀立，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怪石嶙峋，好象一不小心就会栽倒下来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57" name="Picture 4" descr="FJ016"/>
          <p:cNvPicPr/>
          <p:nvPr/>
        </p:nvPicPr>
        <p:blipFill>
          <a:blip r:embed="rId1"/>
          <a:srcRect l="16843" t="35556" r="39301" b="40000"/>
          <a:stretch/>
        </p:blipFill>
        <p:spPr>
          <a:xfrm>
            <a:off x="0" y="170028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22760" y="-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危峰兀立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012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怪石嶙峋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6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2205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220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1"/>
          <p:cNvPicPr/>
          <p:nvPr/>
        </p:nvPicPr>
        <p:blipFill>
          <a:blip r:embed="rId2"/>
          <a:stretch/>
        </p:blipFill>
        <p:spPr>
          <a:xfrm rot="19083000">
            <a:off x="8376840" y="259920"/>
            <a:ext cx="766800" cy="86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1"/>
          <p:cNvPicPr/>
          <p:nvPr/>
        </p:nvPicPr>
        <p:blipFill>
          <a:blip r:embed="rId3"/>
          <a:stretch/>
        </p:blipFill>
        <p:spPr>
          <a:xfrm>
            <a:off x="7596360" y="0"/>
            <a:ext cx="660240" cy="67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0" y="404640"/>
            <a:ext cx="8820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攀登过峰峦雄伟的泰山，游览过红叶似火的香山，却从没看见过桂林这一带的山，桂林的山真奇啊，一座座拔地而起，各不相连，像老人，像巨象，像骆驼，奇峰罗列，形态万千；桂林的山真秀啊，像翠绿的屏障，像新生的竹笋，色彩明丽，到映水中；桂林的山真险啊，危峰兀立，怪石嶙峋，好像一不小心就会栽倒下来。</a:t>
            </a:r>
            <a:br>
              <a:rPr sz="4000"/>
            </a:b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65" name="2.wav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C -0.00452 0.08056 -0.00868 0.16158 -0.00868 0.2331 C -0.00868 0.30486 0.00763 0.37338 4.44444E-006 0.42917 C -0.00764 0.48542 -0.00938 0.58009 -0.05487 0.56875 C -0.1 0.55695 -0.2033 0.3338 -0.27171 0.35996 C -0.33959 0.38634 -0.38073 0.64676 -0.46372 0.72824 C -0.54688 0.80949 -0.71945 0.82708 -0.77049 0.84699 E">
                                      <p:cBhvr>
                                        <p:cTn id="280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C -0.07535 0.0287 -0.15035 0.05833 -0.18976 0.12685 C -0.22952 0.19514 -0.19722 0.33796 -0.23785 0.41204 C -0.27795 0.48588 -0.37813 0.56319 -0.43229 0.57037 C -0.48663 0.57754 -0.51059 0.41412 -0.56267 0.45555 C -0.61441 0.49676 -0.71372 0.75879 -0.74375 0.81991 E">
                                      <p:cBhvr>
                                        <p:cTn id="282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27437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1"/>
          <p:cNvPicPr/>
          <p:nvPr/>
        </p:nvPicPr>
        <p:blipFill>
          <a:blip r:embed="rId2"/>
          <a:stretch/>
        </p:blipFill>
        <p:spPr>
          <a:xfrm rot="19083000">
            <a:off x="8376840" y="259920"/>
            <a:ext cx="76680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1"/>
          <p:cNvPicPr/>
          <p:nvPr/>
        </p:nvPicPr>
        <p:blipFill>
          <a:blip r:embed="rId3"/>
          <a:stretch/>
        </p:blipFill>
        <p:spPr>
          <a:xfrm>
            <a:off x="7596360" y="0"/>
            <a:ext cx="660240" cy="673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404640"/>
            <a:ext cx="8820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攀登过峰峦雄伟的泰山，游览过红叶似火的香山，却从没看见过桂林这一带的山，桂林的山真奇啊，一座座拔地而起，各不相连，像老人，像巨象，像骆驼，奇峰罗列，形态万千；桂林的山真秀啊，像翠绿的屏障，像新生的竹笋，色彩明丽，到映水中；桂林的山真险啊，危峰兀立，怪石嶙峋，好像一不小心就会栽倒下来。</a:t>
            </a:r>
            <a:br>
              <a:rPr sz="4000"/>
            </a:b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70" name="2.wav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C -0.00452 0.08056 -0.00868 0.16158 -0.00868 0.2331 C -0.00868 0.30486 0.00763 0.37338 4.44444E-006 0.42917 C -0.00764 0.48542 -0.00938 0.58009 -0.05487 0.56875 C -0.1 0.55695 -0.2033 0.3338 -0.27171 0.35996 C -0.33959 0.38634 -0.38073 0.64676 -0.46372 0.72824 C -0.54688 0.80949 -0.71945 0.82708 -0.77049 0.84699 E">
                                      <p:cBhvr>
                                        <p:cTn id="295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C -0.07535 0.0287 -0.15035 0.05833 -0.18976 0.12685 C -0.22952 0.19514 -0.19722 0.33796 -0.23785 0.41204 C -0.27795 0.48588 -0.37813 0.56319 -0.43229 0.57037 C -0.48663 0.57754 -0.51059 0.41412 -0.56267 0.45555 C -0.61441 0.49676 -0.71372 0.75879 -0.74375 0.81991 E">
                                      <p:cBhvr>
                                        <p:cTn id="297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74375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漓江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这样的山围绕着这样的水，这样的水倒映这样的山，再加上空中云雾迷蒙，山间绿树红花，江上竹筏小舟，才让你感到像是走进了连绵不断的画卷，真是“舟行碧波上，人在画中游”。</a:t>
            </a:r>
            <a:endParaRPr b="0" lang="en-US" sz="2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73" name="3.wav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DE15-CD06-4737-9A3B-31675EBED8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2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bcb337f0428d91fc7831aa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0" y="0"/>
            <a:ext cx="2087640" cy="642600"/>
          </a:xfrm>
          <a:prstGeom prst="rect">
            <a:avLst/>
          </a:prstGeom>
          <a:solidFill>
            <a:srgbClr val="009900">
              <a:alpha val="61000"/>
            </a:srgbClr>
          </a:solidFill>
          <a:ln w="15840">
            <a:solidFill>
              <a:srgbClr val="99cc00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桂林山水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525840" y="1916280"/>
            <a:ext cx="209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业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选择其中一题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收集有关桂林山水风景名胜的资料，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编写一则导游词。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模仿文章描写桂林山水的段落，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写家乡的山水。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为桂林山水画一幅宣传画。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81" name="Picture 4" descr="图片1"/>
          <p:cNvPicPr/>
          <p:nvPr/>
        </p:nvPicPr>
        <p:blipFill>
          <a:blip r:embed="rId2"/>
          <a:stretch/>
        </p:blipFill>
        <p:spPr>
          <a:xfrm>
            <a:off x="7020000" y="260280"/>
            <a:ext cx="1668240" cy="1987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742212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业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83" name="Picture 7" descr="112"/>
          <p:cNvPicPr/>
          <p:nvPr/>
        </p:nvPicPr>
        <p:blipFill>
          <a:blip r:embed="rId3"/>
          <a:stretch/>
        </p:blipFill>
        <p:spPr>
          <a:xfrm>
            <a:off x="6877080" y="4751280"/>
            <a:ext cx="22669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4360" y="260280"/>
            <a:ext cx="93614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静啊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静得让你感觉不到它在流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96" name="Picture 4" descr="20041130101951182"/>
          <p:cNvPicPr/>
          <p:nvPr/>
        </p:nvPicPr>
        <p:blipFill>
          <a:blip r:embed="rId1"/>
          <a:stretch/>
        </p:blipFill>
        <p:spPr>
          <a:xfrm>
            <a:off x="-28440" y="1349280"/>
            <a:ext cx="9173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船桨激起的微波扩散出一道道水纹，才让你感觉到船在前进，岸在后移。</a:t>
            </a: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99" name="Picture 4" descr="20041130101951182"/>
          <p:cNvPicPr/>
          <p:nvPr/>
        </p:nvPicPr>
        <p:blipFill>
          <a:blip r:embed="rId1"/>
          <a:stretch/>
        </p:blipFill>
        <p:spPr>
          <a:xfrm>
            <a:off x="-34920" y="1270080"/>
            <a:ext cx="91789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0" y="0"/>
            <a:ext cx="91440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漓江的水真静啊，静得让你感觉不到它在流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船桨激起的微波扩散出一道道水纹，才让你感觉到船在前进，岸在后移。</a:t>
            </a:r>
            <a:endParaRPr b="0" lang="en-US" sz="3200" spc="-1" strike="noStrike">
              <a:solidFill>
                <a:srgbClr val="4d220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02" name="Picture 1028" descr="20041130101951182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87280" y="189000"/>
            <a:ext cx="72723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清啊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得可以看见江底的沙石。</a:t>
            </a:r>
            <a:r>
              <a:rPr b="0" lang="zh-CN" sz="2400" spc="-1" strike="noStrike">
                <a:solidFill>
                  <a:srgbClr val="4d22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05" name="Picture 4" descr="glss_0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87280" y="189000"/>
            <a:ext cx="72723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清啊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——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4d22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08" name="Picture 4" descr="glss_01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42920" y="189000"/>
            <a:ext cx="727236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清啊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清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清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11" name="Picture 4" descr="glss_01"/>
          <p:cNvPicPr/>
          <p:nvPr/>
        </p:nvPicPr>
        <p:blipFill>
          <a:blip r:embed="rId1"/>
          <a:stretch/>
        </p:blipFill>
        <p:spPr>
          <a:xfrm>
            <a:off x="3240" y="1413000"/>
            <a:ext cx="91407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4920" y="115920"/>
            <a:ext cx="30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205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87280" y="189000"/>
            <a:ext cx="72723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漓江的水真清啊，</a:t>
            </a:r>
            <a:endParaRPr b="0" lang="en-US" sz="4400" spc="-1" strike="noStrike">
              <a:solidFill>
                <a:srgbClr val="4d220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得可以看见江底的沙石。</a:t>
            </a:r>
            <a:r>
              <a:rPr b="0" lang="zh-CN" sz="2400" spc="-1" strike="noStrike">
                <a:solidFill>
                  <a:srgbClr val="4d22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2205"/>
              </a:solidFill>
              <a:latin typeface="Arial"/>
            </a:endParaRPr>
          </a:p>
        </p:txBody>
      </p:sp>
      <p:pic>
        <p:nvPicPr>
          <p:cNvPr id="114" name="Picture 4" descr="glss_0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5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0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