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465E-80F9-40D9-B409-0154B2366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6175-39AD-431F-8DA4-58EBAD37D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6DFC-E4C8-4631-A323-BCA57F8D3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304E-9A70-419F-8FB4-C53F72733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26D9A-41A0-450F-AB99-A563FE34F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BD502-6BCD-46B2-BB49-090789967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F846C-EDE0-49B5-9422-4417CE1D6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5A9B3-B5DF-4739-B1F9-2A59EF555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7B519-B49B-4FB4-B743-447520DDE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BD83D-F24C-4618-9887-475AF2B78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EB0C6-5388-41F6-860D-0D3CADC8B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7BCD-469E-4C88-800E-77F34B75A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DFF69-1C71-4729-8461-AB27CA03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6D259-2711-425E-A65F-F5D1266A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BACD0-3F18-48B6-8729-7525FB5E5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C1F14-0212-4157-B57A-0F02877E0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B7D8A-327E-4FE2-AC10-9B57BC779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B85B1-A1D5-4DCE-9063-9755F828E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AAA36-E966-4290-974B-1C64421B1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D1309-29EE-4B0D-B4EB-15A3CC18D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32272-464E-4AEB-B74A-0577FE524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7BDB6-2F6B-4CD5-968B-3840E73CC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8E8D-A2DD-4440-895A-85ABC1F94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283FD-11F2-493B-B808-1D4CB11E0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5436D-93B3-487E-8F22-DDEAA7CC1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2B71D-33E5-4200-A481-3ECE74272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7A8EC-9845-41D6-83FD-5803A7BC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5828F-3B9C-42C9-B319-E0569B528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D7B81-000F-4383-8F57-45CF5F929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A31CD-9EF2-4A65-8A88-22C1CF7B3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B53D-7530-4D6A-9A06-1B24C777B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454B-EA29-4553-9097-44624C862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7777-FFDD-45CF-AC1B-FEC256BBE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2F22-8FDA-4789-9207-04E9269DD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C8B1-B1CB-4931-88B2-2681F1DA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5AE1-C788-49F2-AFD2-7BF83AF21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C1F3B-DB68-41B4-85F5-7423627A3D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950C0-61F7-43F6-BBC4-5622B9269A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73886-2E5E-4C73-8924-8B0AF086E427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0D843-1DDD-4759-BBC3-69E21C25681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257,9,&#24187;&#28783;&#29255; 9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257,9,&#24187;&#28783;&#29255; 9" TargetMode="External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257,9,&#24187;&#28783;&#29255; 9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257,9,&#24187;&#28783;&#29255; 9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257,9,&#24187;&#28783;&#29255; 9" TargetMode="External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257,9,&#24187;&#28783;&#29255; 9" TargetMode="External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14"/>
          <p:cNvSpPr/>
          <p:nvPr/>
        </p:nvSpPr>
        <p:spPr>
          <a:xfrm>
            <a:off x="324000" y="2133720"/>
            <a:ext cx="446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6"/>
          <p:cNvSpPr/>
          <p:nvPr/>
        </p:nvSpPr>
        <p:spPr>
          <a:xfrm>
            <a:off x="7542360" y="404640"/>
            <a:ext cx="1277640" cy="59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华文新魏"/>
                <a:ea typeface="华文新魏"/>
              </a:rPr>
              <a:t>题西林壁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7"/>
          <p:cNvSpPr/>
          <p:nvPr/>
        </p:nvSpPr>
        <p:spPr>
          <a:xfrm>
            <a:off x="376200" y="404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9"/>
          <p:cNvSpPr/>
          <p:nvPr/>
        </p:nvSpPr>
        <p:spPr>
          <a:xfrm>
            <a:off x="808200" y="13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21"/>
          <p:cNvSpPr/>
          <p:nvPr/>
        </p:nvSpPr>
        <p:spPr>
          <a:xfrm>
            <a:off x="1311120" y="62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22" descr="8630362006628170922843"/>
          <p:cNvPicPr/>
          <p:nvPr/>
        </p:nvPicPr>
        <p:blipFill>
          <a:blip r:embed="rId1"/>
          <a:stretch/>
        </p:blipFill>
        <p:spPr>
          <a:xfrm>
            <a:off x="0" y="507960"/>
            <a:ext cx="7402680" cy="5329440"/>
          </a:xfrm>
          <a:prstGeom prst="rect">
            <a:avLst/>
          </a:prstGeom>
          <a:ln w="0">
            <a:noFill/>
          </a:ln>
        </p:spPr>
      </p:pic>
      <p:sp>
        <p:nvSpPr>
          <p:cNvPr id="129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文本框 1"/>
          <p:cNvSpPr/>
          <p:nvPr/>
        </p:nvSpPr>
        <p:spPr>
          <a:xfrm>
            <a:off x="108000" y="2205000"/>
            <a:ext cx="714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古诗两首语文课件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4"/>
          <p:cNvSpPr/>
          <p:nvPr/>
        </p:nvSpPr>
        <p:spPr>
          <a:xfrm>
            <a:off x="380880" y="1752480"/>
            <a:ext cx="82296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假如你现在就面对着庐山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你能用我站在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看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________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说一句话吗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380880" y="5335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Times New Roman"/>
                <a:ea typeface="华文琥珀"/>
              </a:rPr>
              <a:t>仿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7620120" y="5791320"/>
            <a:ext cx="914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6600cc"/>
                </a:solidFill>
                <a:uFillTx/>
                <a:latin typeface="Times New Roman"/>
                <a:ea typeface="华文行楷"/>
                <a:hlinkClick r:id="rId1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380880" y="533520"/>
            <a:ext cx="85345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ff"/>
                </a:solidFill>
                <a:latin typeface="Times New Roman"/>
                <a:ea typeface="华文琥珀"/>
              </a:rPr>
              <a:t>诗歌思想感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ff"/>
                </a:solidFill>
                <a:latin typeface="Times New Roman"/>
                <a:ea typeface="华文琥珀"/>
              </a:rPr>
              <a:t>第一、二句赞美庐山景色的雄奇壮观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ff"/>
                </a:solidFill>
                <a:latin typeface="Times New Roman"/>
                <a:ea typeface="华文琥珀"/>
              </a:rPr>
              <a:t>地三、四句寓理：要想对某事物有全面的、符合实际的认识，就必须站在各管的立场上，来观察分析事物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457200" y="12682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457200" y="345744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457200" y="34416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7596360" y="5950080"/>
            <a:ext cx="914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6600cc"/>
                </a:solidFill>
                <a:uFillTx/>
                <a:latin typeface="Times New Roman"/>
                <a:ea typeface="华文行楷"/>
                <a:hlinkClick r:id="rId1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AutoShape 5"/>
          <p:cNvSpPr/>
          <p:nvPr/>
        </p:nvSpPr>
        <p:spPr>
          <a:xfrm>
            <a:off x="1476360" y="620640"/>
            <a:ext cx="304920" cy="5181840"/>
          </a:xfrm>
          <a:custGeom>
            <a:avLst/>
            <a:gdLst>
              <a:gd name="textAreaLeft" fmla="*/ 194760 w 304920"/>
              <a:gd name="textAreaRight" fmla="*/ 305280 w 304920"/>
              <a:gd name="textAreaTop" fmla="*/ 135000 h 5181840"/>
              <a:gd name="textAreaBottom" fmla="*/ 5046840 h 5181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1619280" y="155736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写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2"/>
          <p:cNvSpPr/>
          <p:nvPr/>
        </p:nvSpPr>
        <p:spPr>
          <a:xfrm>
            <a:off x="2771640" y="162864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18"/>
          <p:cNvSpPr/>
          <p:nvPr/>
        </p:nvSpPr>
        <p:spPr>
          <a:xfrm>
            <a:off x="2050920" y="393372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明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AutoShape 29"/>
          <p:cNvSpPr/>
          <p:nvPr/>
        </p:nvSpPr>
        <p:spPr>
          <a:xfrm>
            <a:off x="6443640" y="3357720"/>
            <a:ext cx="152280" cy="1218960"/>
          </a:xfrm>
          <a:custGeom>
            <a:avLst/>
            <a:gdLst>
              <a:gd name="textAreaLeft" fmla="*/ 0 w 152280"/>
              <a:gd name="textAreaRight" fmla="*/ 55080 w 15228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32"/>
          <p:cNvSpPr/>
          <p:nvPr/>
        </p:nvSpPr>
        <p:spPr>
          <a:xfrm>
            <a:off x="152280" y="2909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题西林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AutoShape 45"/>
          <p:cNvSpPr/>
          <p:nvPr/>
        </p:nvSpPr>
        <p:spPr>
          <a:xfrm>
            <a:off x="2987640" y="1268280"/>
            <a:ext cx="287280" cy="1157400"/>
          </a:xfrm>
          <a:custGeom>
            <a:avLst/>
            <a:gdLst>
              <a:gd name="textAreaLeft" fmla="*/ 183600 w 287280"/>
              <a:gd name="textAreaRight" fmla="*/ 287640 w 287280"/>
              <a:gd name="textAreaTop" fmla="*/ 29880 h 1157400"/>
              <a:gd name="textAreaBottom" fmla="*/ 1127520 h 11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47"/>
          <p:cNvSpPr/>
          <p:nvPr/>
        </p:nvSpPr>
        <p:spPr>
          <a:xfrm>
            <a:off x="3203640" y="3573360"/>
            <a:ext cx="144360" cy="1157400"/>
          </a:xfrm>
          <a:custGeom>
            <a:avLst/>
            <a:gdLst>
              <a:gd name="textAreaLeft" fmla="*/ 92160 w 144360"/>
              <a:gd name="textAreaRight" fmla="*/ 144360 w 144360"/>
              <a:gd name="textAreaTop" fmla="*/ 29880 h 1157400"/>
              <a:gd name="textAreaBottom" fmla="*/ 1127520 h 11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49"/>
          <p:cNvSpPr/>
          <p:nvPr/>
        </p:nvSpPr>
        <p:spPr>
          <a:xfrm>
            <a:off x="6443640" y="1268280"/>
            <a:ext cx="152280" cy="1219320"/>
          </a:xfrm>
          <a:custGeom>
            <a:avLst/>
            <a:gdLst>
              <a:gd name="textAreaLeft" fmla="*/ 0 w 152280"/>
              <a:gd name="textAreaRight" fmla="*/ 5508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51"/>
          <p:cNvSpPr/>
          <p:nvPr/>
        </p:nvSpPr>
        <p:spPr>
          <a:xfrm>
            <a:off x="3733560" y="907920"/>
            <a:ext cx="19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横     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成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52"/>
          <p:cNvSpPr/>
          <p:nvPr/>
        </p:nvSpPr>
        <p:spPr>
          <a:xfrm>
            <a:off x="6836760" y="3716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寄意深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55"/>
          <p:cNvSpPr/>
          <p:nvPr/>
        </p:nvSpPr>
        <p:spPr>
          <a:xfrm>
            <a:off x="3492360" y="45086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只   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此山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57"/>
          <p:cNvSpPr/>
          <p:nvPr/>
        </p:nvSpPr>
        <p:spPr>
          <a:xfrm>
            <a:off x="6908400" y="1628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变幻莫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58"/>
          <p:cNvSpPr/>
          <p:nvPr/>
        </p:nvSpPr>
        <p:spPr>
          <a:xfrm>
            <a:off x="3492360" y="155736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侧     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成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59"/>
          <p:cNvSpPr/>
          <p:nvPr/>
        </p:nvSpPr>
        <p:spPr>
          <a:xfrm>
            <a:off x="3870000" y="3521160"/>
            <a:ext cx="194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   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真面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61"/>
          <p:cNvSpPr/>
          <p:nvPr/>
        </p:nvSpPr>
        <p:spPr>
          <a:xfrm rot="10800000">
            <a:off x="7884720" y="765000"/>
            <a:ext cx="576360" cy="5181840"/>
          </a:xfrm>
          <a:custGeom>
            <a:avLst/>
            <a:gdLst>
              <a:gd name="textAreaLeft" fmla="*/ 368280 w 576360"/>
              <a:gd name="textAreaRight" fmla="*/ 576720 w 576360"/>
              <a:gd name="textAreaTop" fmla="*/ 135000 h 5181840"/>
              <a:gd name="textAreaBottom" fmla="*/ 5046840 h 5181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62"/>
          <p:cNvSpPr/>
          <p:nvPr/>
        </p:nvSpPr>
        <p:spPr>
          <a:xfrm>
            <a:off x="4066200" y="2133720"/>
            <a:ext cx="19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远近高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64"/>
          <p:cNvSpPr/>
          <p:nvPr/>
        </p:nvSpPr>
        <p:spPr>
          <a:xfrm>
            <a:off x="3133800" y="3933720"/>
            <a:ext cx="26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65"/>
          <p:cNvSpPr/>
          <p:nvPr/>
        </p:nvSpPr>
        <p:spPr>
          <a:xfrm>
            <a:off x="8392680" y="1970640"/>
            <a:ext cx="606960" cy="299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赞美庐山奇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0A43C-770D-4FE5-A272-D148AFFEAAD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380880" y="53352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ff"/>
                </a:solidFill>
                <a:latin typeface="Times New Roman"/>
                <a:ea typeface="华文琥珀"/>
              </a:rPr>
              <a:t>对偶的巧妙运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ff"/>
                </a:solidFill>
                <a:latin typeface="Times New Roman"/>
                <a:ea typeface="华文琥珀"/>
              </a:rPr>
              <a:t>       </a:t>
            </a:r>
            <a:r>
              <a:rPr b="0" lang="zh-CN" sz="3600" spc="-1" strike="noStrike">
                <a:solidFill>
                  <a:srgbClr val="6600ff"/>
                </a:solidFill>
                <a:latin typeface="Times New Roman"/>
                <a:ea typeface="华文琥珀"/>
              </a:rPr>
              <a:t>对偶作为一种修辞方法，使用字相等、结构形式相同，意义对成的一对短语后句子来表达两个相对或相近意思的语言方式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468360" y="12682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457200" y="345744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457200" y="34416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7596360" y="5950080"/>
            <a:ext cx="914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6600cc"/>
                </a:solidFill>
                <a:uFillTx/>
                <a:latin typeface="Times New Roman"/>
                <a:ea typeface="华文行楷"/>
                <a:hlinkClick r:id="rId1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Oval 9"/>
          <p:cNvSpPr/>
          <p:nvPr/>
        </p:nvSpPr>
        <p:spPr>
          <a:xfrm>
            <a:off x="457200" y="228600"/>
            <a:ext cx="259092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457200" y="380880"/>
            <a:ext cx="281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6600"/>
                </a:solidFill>
                <a:latin typeface="Times New Roman"/>
                <a:ea typeface="华文行楷"/>
              </a:rPr>
              <a:t>认识生字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4"/>
          <p:cNvSpPr/>
          <p:nvPr/>
        </p:nvSpPr>
        <p:spPr>
          <a:xfrm>
            <a:off x="539640" y="1981080"/>
            <a:ext cx="8353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</a:t>
            </a:r>
            <a:r>
              <a:rPr b="1" lang="zh-CN" sz="6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莫 腊 浑 疑 豚 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Oval 2"/>
          <p:cNvSpPr/>
          <p:nvPr/>
        </p:nvSpPr>
        <p:spPr>
          <a:xfrm>
            <a:off x="457200" y="228600"/>
            <a:ext cx="259092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457200" y="380880"/>
            <a:ext cx="281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6600"/>
                </a:solidFill>
                <a:latin typeface="Times New Roman"/>
                <a:ea typeface="华文行楷"/>
              </a:rPr>
              <a:t>学习生字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539640" y="1773360"/>
            <a:ext cx="835344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1735920" y="2276640"/>
            <a:ext cx="5667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莫 腊 浑 疑 豚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Oval 4"/>
          <p:cNvSpPr/>
          <p:nvPr/>
        </p:nvSpPr>
        <p:spPr>
          <a:xfrm>
            <a:off x="457200" y="228600"/>
            <a:ext cx="259092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457200" y="380880"/>
            <a:ext cx="281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6600"/>
                </a:solidFill>
                <a:latin typeface="Times New Roman"/>
                <a:ea typeface="华文行楷"/>
              </a:rPr>
              <a:t>学习词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179280" y="1844640"/>
            <a:ext cx="883944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闲人莫入  腊梅  浑浊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怀疑  豚鼠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Oval 2"/>
          <p:cNvSpPr/>
          <p:nvPr/>
        </p:nvSpPr>
        <p:spPr>
          <a:xfrm>
            <a:off x="457200" y="228600"/>
            <a:ext cx="259092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380880"/>
            <a:ext cx="281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6600"/>
                </a:solidFill>
                <a:latin typeface="Times New Roman"/>
                <a:ea typeface="华文行楷"/>
              </a:rPr>
              <a:t>学习词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304920" y="1413000"/>
            <a:ext cx="883908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岭  侧面  缘故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重叠  重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Oval 2"/>
          <p:cNvSpPr/>
          <p:nvPr/>
        </p:nvSpPr>
        <p:spPr>
          <a:xfrm>
            <a:off x="457200" y="228600"/>
            <a:ext cx="259092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457200" y="380880"/>
            <a:ext cx="281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6600"/>
                </a:solidFill>
                <a:latin typeface="Times New Roman"/>
                <a:ea typeface="华文行楷"/>
              </a:rPr>
              <a:t>理解字词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304920" y="1413000"/>
            <a:ext cx="8839080" cy="71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岭：高大山脉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峰：高而尖的山头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识：认识，知道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缘：因为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4"/>
          <p:cNvSpPr/>
          <p:nvPr/>
        </p:nvSpPr>
        <p:spPr>
          <a:xfrm>
            <a:off x="380880" y="5335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Times New Roman"/>
                <a:ea typeface="华文琥珀"/>
              </a:rPr>
              <a:t>诗句意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468360" y="126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457200" y="345744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457200" y="34416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7596360" y="5950080"/>
            <a:ext cx="914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6600cc"/>
                </a:solidFill>
                <a:uFillTx/>
                <a:latin typeface="Times New Roman"/>
                <a:ea typeface="华文行楷"/>
                <a:hlinkClick r:id="rId1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122400" y="1690560"/>
            <a:ext cx="841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179280" y="1773360"/>
            <a:ext cx="864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横看成岭侧成峰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横着看，庐山是一条山岭，连绵不断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侧着看却仿佛变成了一座山峰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文本框 8200"/>
          <p:cNvSpPr/>
          <p:nvPr/>
        </p:nvSpPr>
        <p:spPr>
          <a:xfrm>
            <a:off x="971640" y="1341360"/>
            <a:ext cx="4454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6600cc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380880" y="5335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Times New Roman"/>
                <a:ea typeface="华文琥珀"/>
              </a:rPr>
              <a:t>诗句意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468360" y="12682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457200" y="345744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457200" y="34416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7596360" y="5950080"/>
            <a:ext cx="914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6600cc"/>
                </a:solidFill>
                <a:uFillTx/>
                <a:latin typeface="Times New Roman"/>
                <a:ea typeface="华文行楷"/>
                <a:hlinkClick r:id="rId1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324000" y="1916280"/>
            <a:ext cx="864072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远近高低各不同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向远处、近处、高处、低处看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看到的庐山景色都不相同。</a:t>
            </a:r>
            <a:br>
              <a:rPr sz="4000"/>
            </a:br>
            <a:br>
              <a:rPr sz="18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380880" y="5335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Times New Roman"/>
                <a:ea typeface="华文琥珀"/>
              </a:rPr>
              <a:t>诗句意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468360" y="12682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457200" y="345744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457200" y="34416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7596360" y="5950080"/>
            <a:ext cx="914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6600cc"/>
                </a:solidFill>
                <a:uFillTx/>
                <a:latin typeface="Times New Roman"/>
                <a:ea typeface="华文行楷"/>
                <a:hlinkClick r:id="rId1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519120" y="1628640"/>
            <a:ext cx="8624880" cy="36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不识庐山真面目：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我”没有认清庐山的真面目全景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只缘身在此山中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只因为我站在庐山中。</a:t>
            </a:r>
            <a:br>
              <a:rPr sz="4000"/>
            </a:br>
            <a:br>
              <a:rPr sz="18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9T06:53:57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2:59:20Z</dcterms:modified>
  <cp:revision>3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