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cashreg.wav" ContentType="audio/x-wav"/>
  <Override PartName="/ppt/media/image13.png" ContentType="image/png"/>
  <Override PartName="/ppt/media/image8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type.wav" ContentType="audio/x-wav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DBB-6586-4768-89D9-81B025F2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140-E3A8-4339-9772-918018C3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E9332-266D-45BC-B701-FFEB7080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DCC5-B821-480C-B6A0-46E5FDB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17198-1DD2-4FA7-AE31-35017873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BBDEB-DE67-4EE2-A9DB-7C89639B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E0584-E264-4CEA-AD47-9C05642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332E6-D689-41E3-BC59-E8C58DC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8CFD3-0AB6-4CB2-BCAC-A43A415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B39EB-74B2-4420-A8FF-B1FB0A00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53D14-D3F0-4632-B133-F9173879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2B284-22C0-44FE-8D26-0010DB9D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C2F-CC0A-4914-9C72-A2D4D53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67D49-16E9-462E-BFEC-9CAA0420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67F88-245A-4EE8-9463-94660DC4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FB94A-F361-4429-8DED-4B32CDC4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8E3FE-9939-498B-A4D7-4406426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B518A-0BBC-4570-B54B-1FCA1A46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CFA74-DF70-49EA-B68B-702ED62A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37993-FFAE-48D3-A0C1-A94A06FC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D8E22-5A95-42BC-A9C3-1B20CB6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2F231-7F65-4937-A605-41BEEB5C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F36A3-A0F7-48B7-895D-1464F95F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7C3-F332-4185-8709-54F24CC3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7630D-0672-41A7-A899-449A8453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C9EAC-1312-48AB-B2F4-D176480C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88C42-8FC5-4211-9100-3BB9AE33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C5622-3274-4031-AFA8-B873CD2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9010E-942C-48CF-B688-B7753262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D5803-96CC-46A1-8F41-21FF438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832A9-39A4-4ED7-B8A9-C4E370A7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DCAFA-F908-4639-9ED4-87B8006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63B1B-FA87-486F-B948-780AAE8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3524-AC55-48AB-80D6-672F969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9B51-565E-47E4-961D-B4A0DC2E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BD7F-22AD-49F3-9CDC-94B7889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56F79-6636-41A1-A21D-C1E6446A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2E2FF-4998-40CC-9CA4-829175B3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B8F2D-C630-4841-9AEB-DF128E6C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E3747-AD25-4D50-A64F-3E424C12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60DDB-57A2-4CD5-843E-37AAF41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51BA4-0F2A-4AA2-B472-29A2C08F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0E1B4-6312-42C1-BEFD-8694C66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D0AD4-6DD1-4DA5-A74A-B6603CEE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2597-6D51-4A8E-A48B-0BC6A8C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A47D-B982-4FC4-9479-436F39F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95571-EC39-4A06-8C0D-D48C061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47556-50F8-4E57-8665-F400E4A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8B0A8-A940-4801-8608-F88D03DC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9F40-077C-42DD-8527-D88C9C83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132DC-4D2A-461E-B476-F9C258E5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FF0C2-C38F-41A3-9F20-FE2B3C3D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CD9FC-8A2A-4006-9E08-429826A1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0521B-5098-4513-ACF6-0418A3D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4E2CF-0ADA-437C-B822-C645EDD1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98F40-E8BA-4716-8BFA-22B2BB30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087B-A4F4-4684-BA72-C16C637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1F335-C957-48E5-A6E0-F0735F5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5E400-E33E-4E93-BA34-878A528F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A98A5-4845-4EA5-A7CC-C517A5B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7408E-F71A-4A55-ACD0-66D4BA6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4366B-0A61-4EC2-AED5-8DD1FF66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8E1CC1-1959-4B7A-8739-E2B34ECA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F2497-FD3B-459D-B3F6-BC5C3BAD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B61E8-4687-4070-92B4-5DDBDE60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C5249-99E5-4D04-B08F-55EA1E4C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F695F-7AE1-4796-A057-48C41340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B342-2F43-4F44-AC45-1D038AA7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54C5C-8469-47DB-AB1D-97083AB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4E97E-4C39-49AE-9A9F-183D08C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59453-0FC1-4FB0-ACF6-D41EE70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F0720-3885-4C3F-97B4-481C596D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D6373-A806-416D-A870-DA3F973D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75DD5-9F88-4AB9-8861-80FBB8C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186E2-64ED-4455-B2C5-918743E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F3D95-0986-4A2B-BEC1-F03E59C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39466-BD4E-4223-981F-5CC13DAF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15BA6-8155-4B64-8E69-25D238BE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33D-87C0-413B-B63F-59D09A6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81F70-6022-4D88-B7DB-94E7BA2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CDE4C-352E-4695-8627-A7F2DF70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13ECA-67C2-453D-80D1-D55F69C5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2EDDD-FC46-45D8-A210-B865C5A1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5EC70-0FC7-4B37-8E82-BD7F7821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CE683-560C-43C3-ACF5-A07B9B7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2DDB1-41D0-4DE9-A38E-CD3464D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5678A-B14F-4A95-AE42-B7BDBE0C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03EFE-6043-4F77-A4D6-60EB3DF4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C8A9E-AC12-4898-B03A-1AFBD152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4A9-D1B0-416C-A9BA-E020CC6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80A0C-87C6-4BA5-8C03-FDD08D2D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D449-2E79-48E3-BC7A-D468DAFB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8CB-28C6-4E04-B815-D8055530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7AA-767B-485F-98BF-30EE9AC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220-5A07-4E27-9D02-75996AB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25E6-2EDA-4270-9309-4D8E84B7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5DD-7E3A-4F90-96A0-03BA1425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FE5-94F7-4EEE-887A-13044B8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7DCB-5E08-4FD9-8F65-7BC70EE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9D8F-7CA7-482C-810F-5CD026BB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07CA-E678-4805-B88F-15F4B35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C70B-75AA-4B6C-9289-F75DB78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5BB2-D331-4FE3-B221-E086CA8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838-5461-4AB0-B1A2-BA69D01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565D-C136-4E68-9CC6-BB1CC246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D7B7-4909-419B-BA20-2828E15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361C-05B0-4B8E-8917-4E555DA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5F60-77D2-426B-8E1B-EA56CE1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D3F0-119E-4E84-BEF2-E0F1AA4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7850-30E6-432F-B491-0E8E66A1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75BF-7016-4292-BAED-7C661B48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5D63-F3F9-4BA0-B354-D3EA6E03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C562-FBB3-42A1-8D74-E3FBC3D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9AE8A-27CF-4A57-9594-7810FA5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D7F-85D2-48B9-90A2-3A7AA0E4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AD46-F419-422B-814F-81BBAD89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F022-D5D5-4938-BFB3-90CBB4A4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3165-2FC3-44E4-8E2F-21DBD3E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2AB1A-4685-4B8F-899D-48A8FCA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38D0-E976-4DE2-A512-76047B5F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D1BC-9F02-4714-950E-B4779FF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5721-4AA8-49DE-9263-14CA87C9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0B43-7187-42AC-959F-504397BE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4878-BAED-4A1B-9406-71650898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D51A-101E-4F5F-8295-AC6101F9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9E5-750B-48C1-8788-51597384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7E70-8297-4E1A-83AE-CF3336E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3AF3-D3CD-4556-A7AF-B5E9614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05E0-05C6-4862-9F6D-193DE859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386F-124F-4010-9EF9-15693008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B6A1-ED92-4B21-83DD-BD9FF2C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1F09-4721-4AFA-B032-CA8254E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7B39-CBAC-48D1-81E2-B962C3EE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8BB9-686B-4015-AC98-70604F4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3BE3-D99D-4D6C-8A1A-9420584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A709D-5A0D-4815-9C55-0395AA1D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A1F-9A39-4AEA-ABC2-DF97E13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4203-06E2-4CD8-A55A-766EA6FF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02F2-B6A0-47F3-8BCC-1FB7B847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D723-F417-47E5-B6D7-4C3F1F7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C693E-DE9B-42B6-9FD9-F419D68D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9A70-0FD0-4ECD-B85F-71F2FE99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9A4D-45D5-4DFE-BDD9-248D21BC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0269-AEEC-4A66-9186-93B77C5C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80D86-E3D5-4328-A845-C5BA16E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C94E-BAE5-4826-94A4-6D843DA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B61E-DD56-434C-A016-D76D094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FA3-FCA3-49BB-84F0-57ADCB8A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7E2CF-E8C8-4B8F-B30D-30DDCE2C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7C959-0D43-42E1-B428-32C90FFE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C6209-9909-4BBB-9AF2-253076ED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A8F0-19BF-4C3D-AD9C-A4468322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4E9C-9E41-4337-8632-CFEB9A5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DE04-C3AA-4418-81FC-9D0CB376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E6A73-76B2-414F-8EDB-4C918CF9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2085-BCCF-4139-AB8D-C40FAB39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5B6B-CC00-4C1A-B90E-127F470C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9D55-E3DF-4631-9466-E7CC0EC5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C60-365D-45D1-B0B4-4E17CE9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9DD2-B212-4119-BAFF-FA1EBFB6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DD76-48F3-48FD-A0C6-024D16D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1940-3835-4135-8384-F6D1EF2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5048-6F8B-498C-99ED-612CC46B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A464-5A72-4F2C-845D-5E0717F3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D7DC-ED91-4FEF-BE3B-723D6C18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7720-ED81-4E7B-9882-F83A2EAA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8D0F-D434-4400-848A-A6F74AC4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0DC16-3E0B-40B1-BBCA-3524122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C3148-20E4-4E98-B4B7-CC49500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219-1B90-49B5-9965-BC1A5839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E5A7D-19C4-4A3F-9EAE-9DC607B7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DDECD-D129-4F46-A7C0-E07370A1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8C625-35AF-4843-A4E0-A002BE86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26B4-773C-467F-916D-CC9BB81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827FB-D799-4ACE-B8BF-3E721247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CF8C2-52F2-4111-B476-584C91B5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29983-630A-4348-9FF8-D03F4688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5A337-19D1-4DAF-BB49-1000E44A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B8712-5203-418A-9597-33F93AE1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B5A09-BC99-4E74-9FEA-0078E9E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1160"/>
                <a:chOff x="0" y="304920"/>
                <a:chExt cx="9144000" cy="640116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4" name="Line 5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7" name="Line 6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10" name="Line 7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13" name="Line 8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16" name="Line 9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19" name="Line 10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22" name="Line 11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25" name="Line 12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28" name="Line 13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31" name="Line 14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34" name="Line 15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37" name="Line 16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40" name="Line 17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43" name="Line 18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46" name="Line 19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49" name="Line 20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52" name="Line 21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55" name="Line 22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58" name="Line 23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61" name="Line 24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64" name="Line 25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67" name="Line 26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9" name="Group 27"/>
              <p:cNvGrpSpPr/>
              <p:nvPr/>
            </p:nvGrpSpPr>
            <p:grpSpPr>
              <a:xfrm>
                <a:off x="304920" y="0"/>
                <a:ext cx="8534520" cy="6858000"/>
                <a:chOff x="304920" y="0"/>
                <a:chExt cx="8534520" cy="685800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71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74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77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80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83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86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89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92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95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98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101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104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107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110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113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4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116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7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119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0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122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3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125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6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128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9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131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2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134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5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137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8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140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1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143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146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149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0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152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3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155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57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39080" y="0"/>
              <a:ext cx="360" cy="2362320"/>
              <a:chOff x="8839080" y="0"/>
              <a:chExt cx="360" cy="2362320"/>
            </a:xfrm>
          </p:grpSpPr>
          <p:sp>
            <p:nvSpPr>
              <p:cNvPr id="159" name="Line 58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8839080" y="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1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14360" y="1513440"/>
                <a:ext cx="1784160" cy="360"/>
                <a:chOff x="414360" y="1513440"/>
                <a:chExt cx="1784160" cy="360"/>
              </a:xfrm>
            </p:grpSpPr>
            <p:sp>
              <p:nvSpPr>
                <p:cNvPr id="163" name="Line 60"/>
                <p:cNvSpPr/>
                <p:nvPr/>
              </p:nvSpPr>
              <p:spPr>
                <a:xfrm flipH="1">
                  <a:off x="414360" y="1513440"/>
                  <a:ext cx="178416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414360" y="1513440"/>
                  <a:ext cx="1784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8400" y="1419120"/>
                <a:ext cx="360" cy="2320920"/>
                <a:chOff x="608400" y="1419120"/>
                <a:chExt cx="360" cy="2320920"/>
              </a:xfrm>
            </p:grpSpPr>
            <p:sp>
              <p:nvSpPr>
                <p:cNvPr id="166" name="Line 61"/>
                <p:cNvSpPr/>
                <p:nvPr/>
              </p:nvSpPr>
              <p:spPr>
                <a:xfrm>
                  <a:off x="608400" y="1419120"/>
                  <a:ext cx="0" cy="23209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7" name=""/>
                <p:cNvSpPr txBox="1"/>
                <p:nvPr/>
              </p:nvSpPr>
              <p:spPr>
                <a:xfrm>
                  <a:off x="608400" y="1419120"/>
                  <a:ext cx="36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8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DCE-EB74-42DB-8FF4-7C062775E0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74A6-485B-4008-A288-12647EC27445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6FE5-280E-46CC-9C51-3C0DCD206B8E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3DBC-5B6E-44F2-9D72-F1BCC7E4A71C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AE8-3CE0-43D1-9D0C-8FCF5F96788E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5686-838F-4E6E-ABF7-15B724292927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66E1-3627-4403-8D79-A9476CB05545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F67-9816-4D18-B594-94FDD63144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EE9-723F-4A78-8EC9-4B4E99EDAE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139-A27C-4794-8A7B-D7B679712F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9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9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0" y="304920"/>
                  <a:ext cx="9144000" cy="360"/>
                  <a:chOff x="0" y="304920"/>
                  <a:chExt cx="9144000" cy="360"/>
                </a:xfrm>
              </p:grpSpPr>
              <p:sp>
                <p:nvSpPr>
                  <p:cNvPr id="297" name="Line 6"/>
                  <p:cNvSpPr/>
                  <p:nvPr/>
                </p:nvSpPr>
                <p:spPr>
                  <a:xfrm>
                    <a:off x="0" y="304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8" name=""/>
                  <p:cNvSpPr txBox="1"/>
                  <p:nvPr/>
                </p:nvSpPr>
                <p:spPr>
                  <a:xfrm>
                    <a:off x="0" y="304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0" y="609480"/>
                  <a:ext cx="9144000" cy="360"/>
                  <a:chOff x="0" y="609480"/>
                  <a:chExt cx="9144000" cy="360"/>
                </a:xfrm>
              </p:grpSpPr>
              <p:sp>
                <p:nvSpPr>
                  <p:cNvPr id="300" name="Line 7"/>
                  <p:cNvSpPr/>
                  <p:nvPr/>
                </p:nvSpPr>
                <p:spPr>
                  <a:xfrm>
                    <a:off x="0" y="609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1" name=""/>
                  <p:cNvSpPr txBox="1"/>
                  <p:nvPr/>
                </p:nvSpPr>
                <p:spPr>
                  <a:xfrm>
                    <a:off x="0" y="609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0" y="914400"/>
                  <a:ext cx="9144000" cy="360"/>
                  <a:chOff x="0" y="914400"/>
                  <a:chExt cx="9144000" cy="360"/>
                </a:xfrm>
              </p:grpSpPr>
              <p:sp>
                <p:nvSpPr>
                  <p:cNvPr id="303" name="Line 8"/>
                  <p:cNvSpPr/>
                  <p:nvPr/>
                </p:nvSpPr>
                <p:spPr>
                  <a:xfrm>
                    <a:off x="0" y="914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"/>
                  <p:cNvSpPr txBox="1"/>
                  <p:nvPr/>
                </p:nvSpPr>
                <p:spPr>
                  <a:xfrm>
                    <a:off x="0" y="914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0" y="1219320"/>
                  <a:ext cx="9144000" cy="360"/>
                  <a:chOff x="0" y="1219320"/>
                  <a:chExt cx="9144000" cy="360"/>
                </a:xfrm>
              </p:grpSpPr>
              <p:sp>
                <p:nvSpPr>
                  <p:cNvPr id="306" name="Line 9"/>
                  <p:cNvSpPr/>
                  <p:nvPr/>
                </p:nvSpPr>
                <p:spPr>
                  <a:xfrm>
                    <a:off x="0" y="1219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>
                    <a:off x="0" y="1219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0" y="1523880"/>
                  <a:ext cx="9144000" cy="360"/>
                  <a:chOff x="0" y="1523880"/>
                  <a:chExt cx="9144000" cy="360"/>
                </a:xfrm>
              </p:grpSpPr>
              <p:sp>
                <p:nvSpPr>
                  <p:cNvPr id="309" name="Line 10"/>
                  <p:cNvSpPr/>
                  <p:nvPr/>
                </p:nvSpPr>
                <p:spPr>
                  <a:xfrm>
                    <a:off x="0" y="1523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>
                    <a:off x="0" y="1523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0" y="1828800"/>
                  <a:ext cx="9144000" cy="360"/>
                  <a:chOff x="0" y="1828800"/>
                  <a:chExt cx="9144000" cy="360"/>
                </a:xfrm>
              </p:grpSpPr>
              <p:sp>
                <p:nvSpPr>
                  <p:cNvPr id="312" name="Line 11"/>
                  <p:cNvSpPr/>
                  <p:nvPr/>
                </p:nvSpPr>
                <p:spPr>
                  <a:xfrm>
                    <a:off x="0" y="1828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0" y="1828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0" y="2133720"/>
                  <a:ext cx="9144000" cy="360"/>
                  <a:chOff x="0" y="2133720"/>
                  <a:chExt cx="9144000" cy="360"/>
                </a:xfrm>
              </p:grpSpPr>
              <p:sp>
                <p:nvSpPr>
                  <p:cNvPr id="315" name="Line 12"/>
                  <p:cNvSpPr/>
                  <p:nvPr/>
                </p:nvSpPr>
                <p:spPr>
                  <a:xfrm>
                    <a:off x="0" y="2133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6" name=""/>
                  <p:cNvSpPr txBox="1"/>
                  <p:nvPr/>
                </p:nvSpPr>
                <p:spPr>
                  <a:xfrm>
                    <a:off x="0" y="2133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0" y="2438280"/>
                  <a:ext cx="9144000" cy="360"/>
                  <a:chOff x="0" y="2438280"/>
                  <a:chExt cx="9144000" cy="360"/>
                </a:xfrm>
              </p:grpSpPr>
              <p:sp>
                <p:nvSpPr>
                  <p:cNvPr id="318" name="Line 13"/>
                  <p:cNvSpPr/>
                  <p:nvPr/>
                </p:nvSpPr>
                <p:spPr>
                  <a:xfrm>
                    <a:off x="0" y="24382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0" y="24382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0" y="2743200"/>
                  <a:ext cx="9144000" cy="360"/>
                  <a:chOff x="0" y="2743200"/>
                  <a:chExt cx="9144000" cy="360"/>
                </a:xfrm>
              </p:grpSpPr>
              <p:sp>
                <p:nvSpPr>
                  <p:cNvPr id="321" name="Line 14"/>
                  <p:cNvSpPr/>
                  <p:nvPr/>
                </p:nvSpPr>
                <p:spPr>
                  <a:xfrm>
                    <a:off x="0" y="27432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>
                    <a:off x="0" y="27432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0" y="3048120"/>
                  <a:ext cx="9144000" cy="360"/>
                  <a:chOff x="0" y="3048120"/>
                  <a:chExt cx="9144000" cy="360"/>
                </a:xfrm>
              </p:grpSpPr>
              <p:sp>
                <p:nvSpPr>
                  <p:cNvPr id="324" name="Line 15"/>
                  <p:cNvSpPr/>
                  <p:nvPr/>
                </p:nvSpPr>
                <p:spPr>
                  <a:xfrm>
                    <a:off x="0" y="30481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5" name=""/>
                  <p:cNvSpPr txBox="1"/>
                  <p:nvPr/>
                </p:nvSpPr>
                <p:spPr>
                  <a:xfrm>
                    <a:off x="0" y="30481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0" y="3352680"/>
                  <a:ext cx="9144000" cy="360"/>
                  <a:chOff x="0" y="3352680"/>
                  <a:chExt cx="9144000" cy="360"/>
                </a:xfrm>
              </p:grpSpPr>
              <p:sp>
                <p:nvSpPr>
                  <p:cNvPr id="327" name="Line 16"/>
                  <p:cNvSpPr/>
                  <p:nvPr/>
                </p:nvSpPr>
                <p:spPr>
                  <a:xfrm>
                    <a:off x="0" y="33526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8" name=""/>
                  <p:cNvSpPr txBox="1"/>
                  <p:nvPr/>
                </p:nvSpPr>
                <p:spPr>
                  <a:xfrm>
                    <a:off x="0" y="33526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0" y="3657600"/>
                  <a:ext cx="9144000" cy="360"/>
                  <a:chOff x="0" y="3657600"/>
                  <a:chExt cx="9144000" cy="360"/>
                </a:xfrm>
              </p:grpSpPr>
              <p:sp>
                <p:nvSpPr>
                  <p:cNvPr id="330" name="Line 17"/>
                  <p:cNvSpPr/>
                  <p:nvPr/>
                </p:nvSpPr>
                <p:spPr>
                  <a:xfrm>
                    <a:off x="0" y="36576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"/>
                  <p:cNvSpPr txBox="1"/>
                  <p:nvPr/>
                </p:nvSpPr>
                <p:spPr>
                  <a:xfrm>
                    <a:off x="0" y="36576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0" y="3962520"/>
                  <a:ext cx="9144000" cy="360"/>
                  <a:chOff x="0" y="3962520"/>
                  <a:chExt cx="9144000" cy="360"/>
                </a:xfrm>
              </p:grpSpPr>
              <p:sp>
                <p:nvSpPr>
                  <p:cNvPr id="333" name="Line 18"/>
                  <p:cNvSpPr/>
                  <p:nvPr/>
                </p:nvSpPr>
                <p:spPr>
                  <a:xfrm>
                    <a:off x="0" y="39625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4" name=""/>
                  <p:cNvSpPr txBox="1"/>
                  <p:nvPr/>
                </p:nvSpPr>
                <p:spPr>
                  <a:xfrm>
                    <a:off x="0" y="39625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0" y="4267080"/>
                  <a:ext cx="9144000" cy="360"/>
                  <a:chOff x="0" y="4267080"/>
                  <a:chExt cx="9144000" cy="360"/>
                </a:xfrm>
              </p:grpSpPr>
              <p:sp>
                <p:nvSpPr>
                  <p:cNvPr id="336" name="Line 19"/>
                  <p:cNvSpPr/>
                  <p:nvPr/>
                </p:nvSpPr>
                <p:spPr>
                  <a:xfrm>
                    <a:off x="0" y="42670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7" name=""/>
                  <p:cNvSpPr txBox="1"/>
                  <p:nvPr/>
                </p:nvSpPr>
                <p:spPr>
                  <a:xfrm>
                    <a:off x="0" y="42670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0" y="4572000"/>
                  <a:ext cx="9144000" cy="360"/>
                  <a:chOff x="0" y="4572000"/>
                  <a:chExt cx="9144000" cy="360"/>
                </a:xfrm>
              </p:grpSpPr>
              <p:sp>
                <p:nvSpPr>
                  <p:cNvPr id="339" name="Line 20"/>
                  <p:cNvSpPr/>
                  <p:nvPr/>
                </p:nvSpPr>
                <p:spPr>
                  <a:xfrm>
                    <a:off x="0" y="45720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0" name=""/>
                  <p:cNvSpPr txBox="1"/>
                  <p:nvPr/>
                </p:nvSpPr>
                <p:spPr>
                  <a:xfrm>
                    <a:off x="0" y="45720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0" y="4876920"/>
                  <a:ext cx="9144000" cy="360"/>
                  <a:chOff x="0" y="4876920"/>
                  <a:chExt cx="9144000" cy="360"/>
                </a:xfrm>
              </p:grpSpPr>
              <p:sp>
                <p:nvSpPr>
                  <p:cNvPr id="342" name="Line 21"/>
                  <p:cNvSpPr/>
                  <p:nvPr/>
                </p:nvSpPr>
                <p:spPr>
                  <a:xfrm>
                    <a:off x="0" y="48769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"/>
                  <p:cNvSpPr txBox="1"/>
                  <p:nvPr/>
                </p:nvSpPr>
                <p:spPr>
                  <a:xfrm>
                    <a:off x="0" y="48769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0" y="5181480"/>
                  <a:ext cx="9144000" cy="360"/>
                  <a:chOff x="0" y="5181480"/>
                  <a:chExt cx="9144000" cy="360"/>
                </a:xfrm>
              </p:grpSpPr>
              <p:sp>
                <p:nvSpPr>
                  <p:cNvPr id="345" name="Line 22"/>
                  <p:cNvSpPr/>
                  <p:nvPr/>
                </p:nvSpPr>
                <p:spPr>
                  <a:xfrm>
                    <a:off x="0" y="51814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"/>
                  <p:cNvSpPr txBox="1"/>
                  <p:nvPr/>
                </p:nvSpPr>
                <p:spPr>
                  <a:xfrm>
                    <a:off x="0" y="51814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0" y="5486400"/>
                  <a:ext cx="9144000" cy="360"/>
                  <a:chOff x="0" y="5486400"/>
                  <a:chExt cx="9144000" cy="360"/>
                </a:xfrm>
              </p:grpSpPr>
              <p:sp>
                <p:nvSpPr>
                  <p:cNvPr id="348" name="Line 23"/>
                  <p:cNvSpPr/>
                  <p:nvPr/>
                </p:nvSpPr>
                <p:spPr>
                  <a:xfrm>
                    <a:off x="0" y="54864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9" name=""/>
                  <p:cNvSpPr txBox="1"/>
                  <p:nvPr/>
                </p:nvSpPr>
                <p:spPr>
                  <a:xfrm>
                    <a:off x="0" y="54864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0" y="5791320"/>
                  <a:ext cx="9144000" cy="360"/>
                  <a:chOff x="0" y="5791320"/>
                  <a:chExt cx="9144000" cy="360"/>
                </a:xfrm>
              </p:grpSpPr>
              <p:sp>
                <p:nvSpPr>
                  <p:cNvPr id="351" name="Line 24"/>
                  <p:cNvSpPr/>
                  <p:nvPr/>
                </p:nvSpPr>
                <p:spPr>
                  <a:xfrm>
                    <a:off x="0" y="57913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2" name=""/>
                  <p:cNvSpPr txBox="1"/>
                  <p:nvPr/>
                </p:nvSpPr>
                <p:spPr>
                  <a:xfrm>
                    <a:off x="0" y="57913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0" y="6095880"/>
                  <a:ext cx="9144000" cy="360"/>
                  <a:chOff x="0" y="6095880"/>
                  <a:chExt cx="9144000" cy="360"/>
                </a:xfrm>
              </p:grpSpPr>
              <p:sp>
                <p:nvSpPr>
                  <p:cNvPr id="354" name="Line 25"/>
                  <p:cNvSpPr/>
                  <p:nvPr/>
                </p:nvSpPr>
                <p:spPr>
                  <a:xfrm>
                    <a:off x="0" y="609588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5" name=""/>
                  <p:cNvSpPr txBox="1"/>
                  <p:nvPr/>
                </p:nvSpPr>
                <p:spPr>
                  <a:xfrm>
                    <a:off x="0" y="609588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0" y="6400800"/>
                  <a:ext cx="9144000" cy="360"/>
                  <a:chOff x="0" y="6400800"/>
                  <a:chExt cx="9144000" cy="360"/>
                </a:xfrm>
              </p:grpSpPr>
              <p:sp>
                <p:nvSpPr>
                  <p:cNvPr id="357" name="Line 26"/>
                  <p:cNvSpPr/>
                  <p:nvPr/>
                </p:nvSpPr>
                <p:spPr>
                  <a:xfrm>
                    <a:off x="0" y="640080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8" name=""/>
                  <p:cNvSpPr txBox="1"/>
                  <p:nvPr/>
                </p:nvSpPr>
                <p:spPr>
                  <a:xfrm>
                    <a:off x="0" y="640080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0" y="6705720"/>
                  <a:ext cx="9144000" cy="360"/>
                  <a:chOff x="0" y="6705720"/>
                  <a:chExt cx="9144000" cy="360"/>
                </a:xfrm>
              </p:grpSpPr>
              <p:sp>
                <p:nvSpPr>
                  <p:cNvPr id="360" name="Line 27"/>
                  <p:cNvSpPr/>
                  <p:nvPr/>
                </p:nvSpPr>
                <p:spPr>
                  <a:xfrm>
                    <a:off x="0" y="6705720"/>
                    <a:ext cx="9144000" cy="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1" name=""/>
                  <p:cNvSpPr txBox="1"/>
                  <p:nvPr/>
                </p:nvSpPr>
                <p:spPr>
                  <a:xfrm>
                    <a:off x="0" y="6705720"/>
                    <a:ext cx="914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304920" y="0"/>
                  <a:ext cx="360" cy="6858000"/>
                  <a:chOff x="304920" y="0"/>
                  <a:chExt cx="360" cy="6858000"/>
                </a:xfrm>
              </p:grpSpPr>
              <p:sp>
                <p:nvSpPr>
                  <p:cNvPr id="363" name="Line 28"/>
                  <p:cNvSpPr/>
                  <p:nvPr/>
                </p:nvSpPr>
                <p:spPr>
                  <a:xfrm>
                    <a:off x="304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4" name=""/>
                  <p:cNvSpPr txBox="1"/>
                  <p:nvPr/>
                </p:nvSpPr>
                <p:spPr>
                  <a:xfrm>
                    <a:off x="304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09480" y="0"/>
                  <a:ext cx="360" cy="6858000"/>
                  <a:chOff x="609480" y="0"/>
                  <a:chExt cx="360" cy="6858000"/>
                </a:xfrm>
              </p:grpSpPr>
              <p:sp>
                <p:nvSpPr>
                  <p:cNvPr id="366" name="Line 29"/>
                  <p:cNvSpPr/>
                  <p:nvPr/>
                </p:nvSpPr>
                <p:spPr>
                  <a:xfrm>
                    <a:off x="609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7" name=""/>
                  <p:cNvSpPr txBox="1"/>
                  <p:nvPr/>
                </p:nvSpPr>
                <p:spPr>
                  <a:xfrm>
                    <a:off x="609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914400" y="0"/>
                  <a:ext cx="360" cy="6858000"/>
                  <a:chOff x="914400" y="0"/>
                  <a:chExt cx="360" cy="6858000"/>
                </a:xfrm>
              </p:grpSpPr>
              <p:sp>
                <p:nvSpPr>
                  <p:cNvPr id="369" name="Line 30"/>
                  <p:cNvSpPr/>
                  <p:nvPr/>
                </p:nvSpPr>
                <p:spPr>
                  <a:xfrm>
                    <a:off x="914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"/>
                  <p:cNvSpPr txBox="1"/>
                  <p:nvPr/>
                </p:nvSpPr>
                <p:spPr>
                  <a:xfrm>
                    <a:off x="914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1219320" y="0"/>
                  <a:ext cx="360" cy="6858000"/>
                  <a:chOff x="1219320" y="0"/>
                  <a:chExt cx="360" cy="6858000"/>
                </a:xfrm>
              </p:grpSpPr>
              <p:sp>
                <p:nvSpPr>
                  <p:cNvPr id="372" name="Line 31"/>
                  <p:cNvSpPr/>
                  <p:nvPr/>
                </p:nvSpPr>
                <p:spPr>
                  <a:xfrm>
                    <a:off x="1219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3" name=""/>
                  <p:cNvSpPr txBox="1"/>
                  <p:nvPr/>
                </p:nvSpPr>
                <p:spPr>
                  <a:xfrm>
                    <a:off x="1219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1523880" y="0"/>
                  <a:ext cx="360" cy="6858000"/>
                  <a:chOff x="1523880" y="0"/>
                  <a:chExt cx="360" cy="6858000"/>
                </a:xfrm>
              </p:grpSpPr>
              <p:sp>
                <p:nvSpPr>
                  <p:cNvPr id="375" name="Line 32"/>
                  <p:cNvSpPr/>
                  <p:nvPr/>
                </p:nvSpPr>
                <p:spPr>
                  <a:xfrm>
                    <a:off x="1523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6" name=""/>
                  <p:cNvSpPr txBox="1"/>
                  <p:nvPr/>
                </p:nvSpPr>
                <p:spPr>
                  <a:xfrm>
                    <a:off x="1523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1828800" y="0"/>
                  <a:ext cx="360" cy="6858000"/>
                  <a:chOff x="1828800" y="0"/>
                  <a:chExt cx="360" cy="6858000"/>
                </a:xfrm>
              </p:grpSpPr>
              <p:sp>
                <p:nvSpPr>
                  <p:cNvPr id="378" name="Line 33"/>
                  <p:cNvSpPr/>
                  <p:nvPr/>
                </p:nvSpPr>
                <p:spPr>
                  <a:xfrm>
                    <a:off x="1828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9" name=""/>
                  <p:cNvSpPr txBox="1"/>
                  <p:nvPr/>
                </p:nvSpPr>
                <p:spPr>
                  <a:xfrm>
                    <a:off x="1828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133720" y="0"/>
                  <a:ext cx="360" cy="6858000"/>
                  <a:chOff x="2133720" y="0"/>
                  <a:chExt cx="360" cy="6858000"/>
                </a:xfrm>
              </p:grpSpPr>
              <p:sp>
                <p:nvSpPr>
                  <p:cNvPr id="381" name="Line 34"/>
                  <p:cNvSpPr/>
                  <p:nvPr/>
                </p:nvSpPr>
                <p:spPr>
                  <a:xfrm>
                    <a:off x="2133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2" name=""/>
                  <p:cNvSpPr txBox="1"/>
                  <p:nvPr/>
                </p:nvSpPr>
                <p:spPr>
                  <a:xfrm>
                    <a:off x="2133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2438280" y="0"/>
                  <a:ext cx="360" cy="6858000"/>
                  <a:chOff x="2438280" y="0"/>
                  <a:chExt cx="360" cy="6858000"/>
                </a:xfrm>
              </p:grpSpPr>
              <p:sp>
                <p:nvSpPr>
                  <p:cNvPr id="384" name="Line 35"/>
                  <p:cNvSpPr/>
                  <p:nvPr/>
                </p:nvSpPr>
                <p:spPr>
                  <a:xfrm>
                    <a:off x="2438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5" name=""/>
                  <p:cNvSpPr txBox="1"/>
                  <p:nvPr/>
                </p:nvSpPr>
                <p:spPr>
                  <a:xfrm>
                    <a:off x="2438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2743200" y="0"/>
                  <a:ext cx="360" cy="6858000"/>
                  <a:chOff x="2743200" y="0"/>
                  <a:chExt cx="360" cy="6858000"/>
                </a:xfrm>
              </p:grpSpPr>
              <p:sp>
                <p:nvSpPr>
                  <p:cNvPr id="387" name="Line 36"/>
                  <p:cNvSpPr/>
                  <p:nvPr/>
                </p:nvSpPr>
                <p:spPr>
                  <a:xfrm>
                    <a:off x="2743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8" name=""/>
                  <p:cNvSpPr txBox="1"/>
                  <p:nvPr/>
                </p:nvSpPr>
                <p:spPr>
                  <a:xfrm>
                    <a:off x="2743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048120" y="0"/>
                  <a:ext cx="360" cy="6858000"/>
                  <a:chOff x="3048120" y="0"/>
                  <a:chExt cx="360" cy="6858000"/>
                </a:xfrm>
              </p:grpSpPr>
              <p:sp>
                <p:nvSpPr>
                  <p:cNvPr id="390" name="Line 37"/>
                  <p:cNvSpPr/>
                  <p:nvPr/>
                </p:nvSpPr>
                <p:spPr>
                  <a:xfrm>
                    <a:off x="3048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1" name=""/>
                  <p:cNvSpPr txBox="1"/>
                  <p:nvPr/>
                </p:nvSpPr>
                <p:spPr>
                  <a:xfrm>
                    <a:off x="3048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3352680" y="0"/>
                  <a:ext cx="360" cy="6858000"/>
                  <a:chOff x="3352680" y="0"/>
                  <a:chExt cx="360" cy="6858000"/>
                </a:xfrm>
              </p:grpSpPr>
              <p:sp>
                <p:nvSpPr>
                  <p:cNvPr id="393" name="Line 38"/>
                  <p:cNvSpPr/>
                  <p:nvPr/>
                </p:nvSpPr>
                <p:spPr>
                  <a:xfrm>
                    <a:off x="3352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4" name=""/>
                  <p:cNvSpPr txBox="1"/>
                  <p:nvPr/>
                </p:nvSpPr>
                <p:spPr>
                  <a:xfrm>
                    <a:off x="3352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3657600" y="0"/>
                  <a:ext cx="360" cy="6858000"/>
                  <a:chOff x="3657600" y="0"/>
                  <a:chExt cx="360" cy="6858000"/>
                </a:xfrm>
              </p:grpSpPr>
              <p:sp>
                <p:nvSpPr>
                  <p:cNvPr id="396" name="Line 39"/>
                  <p:cNvSpPr/>
                  <p:nvPr/>
                </p:nvSpPr>
                <p:spPr>
                  <a:xfrm>
                    <a:off x="3657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>
                    <a:off x="3657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3962520" y="0"/>
                  <a:ext cx="360" cy="6858000"/>
                  <a:chOff x="3962520" y="0"/>
                  <a:chExt cx="360" cy="6858000"/>
                </a:xfrm>
              </p:grpSpPr>
              <p:sp>
                <p:nvSpPr>
                  <p:cNvPr id="399" name="Line 40"/>
                  <p:cNvSpPr/>
                  <p:nvPr/>
                </p:nvSpPr>
                <p:spPr>
                  <a:xfrm>
                    <a:off x="3962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>
                    <a:off x="3962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4267080" y="0"/>
                  <a:ext cx="360" cy="6858000"/>
                  <a:chOff x="4267080" y="0"/>
                  <a:chExt cx="360" cy="6858000"/>
                </a:xfrm>
              </p:grpSpPr>
              <p:sp>
                <p:nvSpPr>
                  <p:cNvPr id="402" name="Line 41"/>
                  <p:cNvSpPr/>
                  <p:nvPr/>
                </p:nvSpPr>
                <p:spPr>
                  <a:xfrm>
                    <a:off x="4267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>
                    <a:off x="4267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4572000" y="0"/>
                  <a:ext cx="360" cy="6858000"/>
                  <a:chOff x="4572000" y="0"/>
                  <a:chExt cx="360" cy="6858000"/>
                </a:xfrm>
              </p:grpSpPr>
              <p:sp>
                <p:nvSpPr>
                  <p:cNvPr id="405" name="Line 42"/>
                  <p:cNvSpPr/>
                  <p:nvPr/>
                </p:nvSpPr>
                <p:spPr>
                  <a:xfrm>
                    <a:off x="45720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>
                    <a:off x="45720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4876920" y="0"/>
                  <a:ext cx="360" cy="6858000"/>
                  <a:chOff x="4876920" y="0"/>
                  <a:chExt cx="360" cy="6858000"/>
                </a:xfrm>
              </p:grpSpPr>
              <p:sp>
                <p:nvSpPr>
                  <p:cNvPr id="408" name="Line 43"/>
                  <p:cNvSpPr/>
                  <p:nvPr/>
                </p:nvSpPr>
                <p:spPr>
                  <a:xfrm>
                    <a:off x="48769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"/>
                  <p:cNvSpPr txBox="1"/>
                  <p:nvPr/>
                </p:nvSpPr>
                <p:spPr>
                  <a:xfrm>
                    <a:off x="48769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5181480" y="0"/>
                  <a:ext cx="360" cy="6858000"/>
                  <a:chOff x="5181480" y="0"/>
                  <a:chExt cx="360" cy="6858000"/>
                </a:xfrm>
              </p:grpSpPr>
              <p:sp>
                <p:nvSpPr>
                  <p:cNvPr id="411" name="Line 44"/>
                  <p:cNvSpPr/>
                  <p:nvPr/>
                </p:nvSpPr>
                <p:spPr>
                  <a:xfrm>
                    <a:off x="51814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2" name=""/>
                  <p:cNvSpPr txBox="1"/>
                  <p:nvPr/>
                </p:nvSpPr>
                <p:spPr>
                  <a:xfrm>
                    <a:off x="51814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5486400" y="0"/>
                  <a:ext cx="360" cy="6858000"/>
                  <a:chOff x="5486400" y="0"/>
                  <a:chExt cx="360" cy="6858000"/>
                </a:xfrm>
              </p:grpSpPr>
              <p:sp>
                <p:nvSpPr>
                  <p:cNvPr id="414" name="Line 45"/>
                  <p:cNvSpPr/>
                  <p:nvPr/>
                </p:nvSpPr>
                <p:spPr>
                  <a:xfrm>
                    <a:off x="54864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5" name=""/>
                  <p:cNvSpPr txBox="1"/>
                  <p:nvPr/>
                </p:nvSpPr>
                <p:spPr>
                  <a:xfrm>
                    <a:off x="54864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5791320" y="0"/>
                  <a:ext cx="360" cy="6858000"/>
                  <a:chOff x="5791320" y="0"/>
                  <a:chExt cx="360" cy="6858000"/>
                </a:xfrm>
              </p:grpSpPr>
              <p:sp>
                <p:nvSpPr>
                  <p:cNvPr id="417" name="Line 46"/>
                  <p:cNvSpPr/>
                  <p:nvPr/>
                </p:nvSpPr>
                <p:spPr>
                  <a:xfrm>
                    <a:off x="57913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8" name=""/>
                  <p:cNvSpPr txBox="1"/>
                  <p:nvPr/>
                </p:nvSpPr>
                <p:spPr>
                  <a:xfrm>
                    <a:off x="57913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6095880" y="0"/>
                  <a:ext cx="360" cy="6858000"/>
                  <a:chOff x="6095880" y="0"/>
                  <a:chExt cx="360" cy="6858000"/>
                </a:xfrm>
              </p:grpSpPr>
              <p:sp>
                <p:nvSpPr>
                  <p:cNvPr id="420" name="Line 47"/>
                  <p:cNvSpPr/>
                  <p:nvPr/>
                </p:nvSpPr>
                <p:spPr>
                  <a:xfrm>
                    <a:off x="60958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1" name=""/>
                  <p:cNvSpPr txBox="1"/>
                  <p:nvPr/>
                </p:nvSpPr>
                <p:spPr>
                  <a:xfrm>
                    <a:off x="60958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400800" y="0"/>
                  <a:ext cx="360" cy="6858000"/>
                  <a:chOff x="6400800" y="0"/>
                  <a:chExt cx="360" cy="6858000"/>
                </a:xfrm>
              </p:grpSpPr>
              <p:sp>
                <p:nvSpPr>
                  <p:cNvPr id="423" name="Line 48"/>
                  <p:cNvSpPr/>
                  <p:nvPr/>
                </p:nvSpPr>
                <p:spPr>
                  <a:xfrm>
                    <a:off x="64008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4" name=""/>
                  <p:cNvSpPr txBox="1"/>
                  <p:nvPr/>
                </p:nvSpPr>
                <p:spPr>
                  <a:xfrm>
                    <a:off x="64008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705720" y="0"/>
                  <a:ext cx="360" cy="6858000"/>
                  <a:chOff x="6705720" y="0"/>
                  <a:chExt cx="360" cy="6858000"/>
                </a:xfrm>
              </p:grpSpPr>
              <p:sp>
                <p:nvSpPr>
                  <p:cNvPr id="426" name="Line 49"/>
                  <p:cNvSpPr/>
                  <p:nvPr/>
                </p:nvSpPr>
                <p:spPr>
                  <a:xfrm>
                    <a:off x="67057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7" name=""/>
                  <p:cNvSpPr txBox="1"/>
                  <p:nvPr/>
                </p:nvSpPr>
                <p:spPr>
                  <a:xfrm>
                    <a:off x="67057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010280" y="0"/>
                  <a:ext cx="360" cy="6858000"/>
                  <a:chOff x="7010280" y="0"/>
                  <a:chExt cx="360" cy="6858000"/>
                </a:xfrm>
              </p:grpSpPr>
              <p:sp>
                <p:nvSpPr>
                  <p:cNvPr id="429" name="Line 50"/>
                  <p:cNvSpPr/>
                  <p:nvPr/>
                </p:nvSpPr>
                <p:spPr>
                  <a:xfrm>
                    <a:off x="70102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0" name=""/>
                  <p:cNvSpPr txBox="1"/>
                  <p:nvPr/>
                </p:nvSpPr>
                <p:spPr>
                  <a:xfrm>
                    <a:off x="70102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315200" y="0"/>
                  <a:ext cx="360" cy="6858000"/>
                  <a:chOff x="7315200" y="0"/>
                  <a:chExt cx="360" cy="6858000"/>
                </a:xfrm>
              </p:grpSpPr>
              <p:sp>
                <p:nvSpPr>
                  <p:cNvPr id="432" name="Line 51"/>
                  <p:cNvSpPr/>
                  <p:nvPr/>
                </p:nvSpPr>
                <p:spPr>
                  <a:xfrm>
                    <a:off x="73152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3" name=""/>
                  <p:cNvSpPr txBox="1"/>
                  <p:nvPr/>
                </p:nvSpPr>
                <p:spPr>
                  <a:xfrm>
                    <a:off x="73152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620120" y="0"/>
                  <a:ext cx="360" cy="6858000"/>
                  <a:chOff x="7620120" y="0"/>
                  <a:chExt cx="360" cy="6858000"/>
                </a:xfrm>
              </p:grpSpPr>
              <p:sp>
                <p:nvSpPr>
                  <p:cNvPr id="435" name="Line 52"/>
                  <p:cNvSpPr/>
                  <p:nvPr/>
                </p:nvSpPr>
                <p:spPr>
                  <a:xfrm>
                    <a:off x="76201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76201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924680" y="0"/>
                  <a:ext cx="360" cy="6858000"/>
                  <a:chOff x="7924680" y="0"/>
                  <a:chExt cx="360" cy="6858000"/>
                </a:xfrm>
              </p:grpSpPr>
              <p:sp>
                <p:nvSpPr>
                  <p:cNvPr id="438" name="Line 53"/>
                  <p:cNvSpPr/>
                  <p:nvPr/>
                </p:nvSpPr>
                <p:spPr>
                  <a:xfrm>
                    <a:off x="79246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9" name=""/>
                  <p:cNvSpPr txBox="1"/>
                  <p:nvPr/>
                </p:nvSpPr>
                <p:spPr>
                  <a:xfrm>
                    <a:off x="79246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8229600" y="0"/>
                  <a:ext cx="360" cy="6858000"/>
                  <a:chOff x="8229600" y="0"/>
                  <a:chExt cx="360" cy="6858000"/>
                </a:xfrm>
              </p:grpSpPr>
              <p:sp>
                <p:nvSpPr>
                  <p:cNvPr id="441" name="Line 54"/>
                  <p:cNvSpPr/>
                  <p:nvPr/>
                </p:nvSpPr>
                <p:spPr>
                  <a:xfrm>
                    <a:off x="822960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2" name=""/>
                  <p:cNvSpPr txBox="1"/>
                  <p:nvPr/>
                </p:nvSpPr>
                <p:spPr>
                  <a:xfrm>
                    <a:off x="822960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8534520" y="0"/>
                  <a:ext cx="360" cy="6858000"/>
                  <a:chOff x="8534520" y="0"/>
                  <a:chExt cx="360" cy="6858000"/>
                </a:xfrm>
              </p:grpSpPr>
              <p:sp>
                <p:nvSpPr>
                  <p:cNvPr id="444" name="Line 55"/>
                  <p:cNvSpPr/>
                  <p:nvPr/>
                </p:nvSpPr>
                <p:spPr>
                  <a:xfrm>
                    <a:off x="853452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5" name=""/>
                  <p:cNvSpPr txBox="1"/>
                  <p:nvPr/>
                </p:nvSpPr>
                <p:spPr>
                  <a:xfrm>
                    <a:off x="853452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8839080" y="0"/>
                  <a:ext cx="360" cy="6858000"/>
                  <a:chOff x="8839080" y="0"/>
                  <a:chExt cx="360" cy="6858000"/>
                </a:xfrm>
              </p:grpSpPr>
              <p:sp>
                <p:nvSpPr>
                  <p:cNvPr id="447" name="Line 56"/>
                  <p:cNvSpPr/>
                  <p:nvPr/>
                </p:nvSpPr>
                <p:spPr>
                  <a:xfrm>
                    <a:off x="8839080" y="0"/>
                    <a:ext cx="0" cy="6858000"/>
                  </a:xfrm>
                  <a:prstGeom prst="line">
                    <a:avLst/>
                  </a:prstGeom>
                  <a:ln w="9360">
                    <a:solidFill>
                      <a:srgbClr val="cfdbf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8" name=""/>
                  <p:cNvSpPr txBox="1"/>
                  <p:nvPr/>
                </p:nvSpPr>
                <p:spPr>
                  <a:xfrm>
                    <a:off x="8839080" y="0"/>
                    <a:ext cx="360" cy="685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0458c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8839080" y="0"/>
                <a:ext cx="360" cy="2362320"/>
                <a:chOff x="8839080" y="0"/>
                <a:chExt cx="360" cy="2362320"/>
              </a:xfrm>
            </p:grpSpPr>
            <p:sp>
              <p:nvSpPr>
                <p:cNvPr id="450" name="Line 57"/>
                <p:cNvSpPr/>
                <p:nvPr/>
              </p:nvSpPr>
              <p:spPr>
                <a:xfrm>
                  <a:off x="8839080" y="0"/>
                  <a:ext cx="0" cy="236232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1" name=""/>
                <p:cNvSpPr txBox="1"/>
                <p:nvPr/>
              </p:nvSpPr>
              <p:spPr>
                <a:xfrm>
                  <a:off x="8839080" y="0"/>
                  <a:ext cx="360" cy="236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52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803160" y="887400"/>
                <a:ext cx="360" cy="2851200"/>
                <a:chOff x="803160" y="887400"/>
                <a:chExt cx="360" cy="2851200"/>
              </a:xfrm>
            </p:grpSpPr>
            <p:sp>
              <p:nvSpPr>
                <p:cNvPr id="454" name="Line 59"/>
                <p:cNvSpPr/>
                <p:nvPr/>
              </p:nvSpPr>
              <p:spPr>
                <a:xfrm>
                  <a:off x="803160" y="887400"/>
                  <a:ext cx="0" cy="28512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5" name=""/>
                <p:cNvSpPr txBox="1"/>
                <p:nvPr/>
              </p:nvSpPr>
              <p:spPr>
                <a:xfrm>
                  <a:off x="803160" y="887400"/>
                  <a:ext cx="360" cy="28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680" y="3053880"/>
                <a:ext cx="5097600" cy="1800"/>
                <a:chOff x="4680" y="3053880"/>
                <a:chExt cx="5097600" cy="1800"/>
              </a:xfrm>
            </p:grpSpPr>
            <p:sp>
              <p:nvSpPr>
                <p:cNvPr id="457" name="Line 60"/>
                <p:cNvSpPr/>
                <p:nvPr/>
              </p:nvSpPr>
              <p:spPr>
                <a:xfrm flipH="1" flipV="1">
                  <a:off x="4680" y="3053880"/>
                  <a:ext cx="509760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8" name=""/>
                <p:cNvSpPr txBox="1"/>
                <p:nvPr/>
              </p:nvSpPr>
              <p:spPr>
                <a:xfrm rot="10800000">
                  <a:off x="4680" y="3053880"/>
                  <a:ext cx="50976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09480" y="1488600"/>
                <a:ext cx="6050160" cy="1800"/>
                <a:chOff x="609480" y="1488600"/>
                <a:chExt cx="6050160" cy="1800"/>
              </a:xfrm>
            </p:grpSpPr>
            <p:sp>
              <p:nvSpPr>
                <p:cNvPr id="460" name="Line 61"/>
                <p:cNvSpPr/>
                <p:nvPr/>
              </p:nvSpPr>
              <p:spPr>
                <a:xfrm flipH="1" flipV="1">
                  <a:off x="609480" y="1488600"/>
                  <a:ext cx="6050160" cy="18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1" name=""/>
                <p:cNvSpPr txBox="1"/>
                <p:nvPr/>
              </p:nvSpPr>
              <p:spPr>
                <a:xfrm rot="10800000">
                  <a:off x="609480" y="1488240"/>
                  <a:ext cx="60501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62" name="Arc 62"/>
              <p:cNvSpPr/>
              <p:nvPr/>
            </p:nvSpPr>
            <p:spPr>
              <a:xfrm flipH="1" rot="16200000">
                <a:off x="671040" y="1362600"/>
                <a:ext cx="247680" cy="24948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463" name="Group 63"/>
            <p:cNvGrpSpPr/>
            <p:nvPr/>
          </p:nvGrpSpPr>
          <p:grpSpPr>
            <a:xfrm>
              <a:off x="2349000" y="3098880"/>
              <a:ext cx="6045840" cy="2876400"/>
              <a:chOff x="2349000" y="3098880"/>
              <a:chExt cx="6045840" cy="28764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349000" y="5463720"/>
                <a:ext cx="6045840" cy="360"/>
                <a:chOff x="2349000" y="5463720"/>
                <a:chExt cx="6045840" cy="360"/>
              </a:xfrm>
            </p:grpSpPr>
            <p:sp>
              <p:nvSpPr>
                <p:cNvPr id="465" name="Line 64"/>
                <p:cNvSpPr/>
                <p:nvPr/>
              </p:nvSpPr>
              <p:spPr>
                <a:xfrm>
                  <a:off x="2349360" y="5464080"/>
                  <a:ext cx="6045480" cy="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6" name=""/>
                <p:cNvSpPr txBox="1"/>
                <p:nvPr/>
              </p:nvSpPr>
              <p:spPr>
                <a:xfrm rot="10800000">
                  <a:off x="2349000" y="5463360"/>
                  <a:ext cx="604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8210520" y="3098880"/>
                <a:ext cx="360" cy="2876400"/>
                <a:chOff x="8210520" y="3098880"/>
                <a:chExt cx="360" cy="2876400"/>
              </a:xfrm>
            </p:grpSpPr>
            <p:sp>
              <p:nvSpPr>
                <p:cNvPr id="468" name="Line 65"/>
                <p:cNvSpPr/>
                <p:nvPr/>
              </p:nvSpPr>
              <p:spPr>
                <a:xfrm>
                  <a:off x="8210520" y="3098880"/>
                  <a:ext cx="0" cy="2876400"/>
                </a:xfrm>
                <a:prstGeom prst="line">
                  <a:avLst/>
                </a:prstGeom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>
                  <a:off x="8210520" y="3098880"/>
                  <a:ext cx="360" cy="28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70" name="Arc 66"/>
              <p:cNvSpPr/>
              <p:nvPr/>
            </p:nvSpPr>
            <p:spPr>
              <a:xfrm rot="5400000">
                <a:off x="8087400" y="5309280"/>
                <a:ext cx="24732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68D2-10DE-40B8-B3A4-17A019E7DF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9286-59D1-4219-980F-0965A72A8098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1BA-0209-4614-8D3D-EF620EDDBE0E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EFDD-B0D0-4C7F-A251-06C744F446E6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4D28-199B-48A0-B042-00DE330CAF52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2051-7BE6-4B43-BF50-F02854CA76A6}" type="slidenum">
              <a:rPr b="0" lang="zh-CN" sz="1200" spc="-1" strike="noStrike">
                <a:solidFill>
                  <a:srgbClr val="898989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228600" y="1143000"/>
            <a:ext cx="6400800" cy="360"/>
            <a:chOff x="228600" y="1143000"/>
            <a:chExt cx="6400800" cy="360"/>
          </a:xfrm>
        </p:grpSpPr>
        <p:sp>
          <p:nvSpPr>
            <p:cNvPr id="964" name="Line 2"/>
            <p:cNvSpPr/>
            <p:nvPr/>
          </p:nvSpPr>
          <p:spPr>
            <a:xfrm>
              <a:off x="228600" y="1143000"/>
              <a:ext cx="6400800" cy="0"/>
            </a:xfrm>
            <a:prstGeom prst="line">
              <a:avLst/>
            </a:prstGeom>
            <a:ln w="57240">
              <a:solidFill>
                <a:srgbClr val="3399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228600" y="1143000"/>
              <a:ext cx="640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966" name="Text Box 3"/>
          <p:cNvSpPr/>
          <p:nvPr/>
        </p:nvSpPr>
        <p:spPr>
          <a:xfrm>
            <a:off x="684360" y="476280"/>
            <a:ext cx="44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58c"/>
                </a:solidFill>
                <a:latin typeface="Times New Roman"/>
                <a:ea typeface="华文细黑"/>
              </a:rPr>
              <a:t>九年义务教育小学语文第三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67" name="WordArt 6" descr=""/>
          <p:cNvPicPr/>
          <p:nvPr/>
        </p:nvPicPr>
        <p:blipFill>
          <a:blip r:embed="rId2"/>
          <a:stretch/>
        </p:blipFill>
        <p:spPr>
          <a:xfrm>
            <a:off x="1411200" y="2119320"/>
            <a:ext cx="5996160" cy="151452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40458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23" name="Picture 6" descr="FR016C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4"/>
          <p:cNvSpPr/>
          <p:nvPr/>
        </p:nvSpPr>
        <p:spPr>
          <a:xfrm>
            <a:off x="6673320" y="2082960"/>
            <a:ext cx="11498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宿：投宿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篱落：篱笆稀稀落落的样子。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径：小路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寻：寻找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1187280" y="1719360"/>
            <a:ext cx="3529080" cy="3764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宿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新市徐公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杨万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篱落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疏疏一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径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深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树头花落未成阴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儿童急走追黄蝶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飞入菜花无处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寻</a:t>
            </a: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Text Box 3"/>
          <p:cNvSpPr/>
          <p:nvPr/>
        </p:nvSpPr>
        <p:spPr>
          <a:xfrm>
            <a:off x="468360" y="907920"/>
            <a:ext cx="3529080" cy="31154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宿新市徐公店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篱落疏疏一径深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ahoma"/>
                <a:ea typeface="楷体_GB2312"/>
              </a:rPr>
              <a:t>树头花落未成阴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儿童急走追黄蝶，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楷体_GB2312"/>
              </a:rPr>
              <a:t>飞入菜花无处寻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30" name="Picture 7" descr="wVnuP_RGbHa2VM"/>
          <p:cNvPicPr/>
          <p:nvPr/>
        </p:nvPicPr>
        <p:blipFill>
          <a:blip r:embed="rId1"/>
          <a:srcRect l="0" t="19310" r="11862" b="0"/>
          <a:stretch/>
        </p:blipFill>
        <p:spPr>
          <a:xfrm>
            <a:off x="3419640" y="3429000"/>
            <a:ext cx="5616360" cy="3429000"/>
          </a:xfrm>
          <a:prstGeom prst="rect">
            <a:avLst/>
          </a:prstGeom>
          <a:ln w="0">
            <a:noFill/>
          </a:ln>
        </p:spPr>
      </p:pic>
      <p:sp>
        <p:nvSpPr>
          <p:cNvPr id="1031" name="Text Box 8"/>
          <p:cNvSpPr/>
          <p:nvPr/>
        </p:nvSpPr>
        <p:spPr>
          <a:xfrm>
            <a:off x="1042920" y="537372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  <a:ea typeface="楷体_GB2312"/>
              </a:rPr>
              <a:t>篱笆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32" name="Picture 10" descr="167"/>
          <p:cNvPicPr/>
          <p:nvPr/>
        </p:nvPicPr>
        <p:blipFill>
          <a:blip r:embed="rId2"/>
          <a:srcRect l="0" t="0" r="25895" b="0"/>
          <a:stretch/>
        </p:blipFill>
        <p:spPr>
          <a:xfrm>
            <a:off x="0" y="0"/>
            <a:ext cx="4356000" cy="5003640"/>
          </a:xfrm>
          <a:prstGeom prst="rect">
            <a:avLst/>
          </a:prstGeom>
          <a:ln w="0">
            <a:noFill/>
          </a:ln>
        </p:spPr>
      </p:pic>
      <p:sp>
        <p:nvSpPr>
          <p:cNvPr id="1033" name="Text Box 11"/>
          <p:cNvSpPr/>
          <p:nvPr/>
        </p:nvSpPr>
        <p:spPr>
          <a:xfrm>
            <a:off x="5003640" y="98100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篱落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  <a:ea typeface="楷体_GB2312"/>
              </a:rPr>
              <a:t>疏疏一</a:t>
            </a:r>
            <a:r>
              <a:rPr b="0" lang="zh-CN" sz="3600" spc="-1" strike="noStrike">
                <a:solidFill>
                  <a:srgbClr val="660066"/>
                </a:solidFill>
                <a:latin typeface="Tahoma"/>
                <a:ea typeface="楷体_GB2312"/>
              </a:rPr>
              <a:t>径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  <a:ea typeface="楷体_GB2312"/>
              </a:rPr>
              <a:t>深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4" name="AutoShape 12"/>
          <p:cNvSpPr/>
          <p:nvPr/>
        </p:nvSpPr>
        <p:spPr>
          <a:xfrm>
            <a:off x="7743960" y="223524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12152"/>
              <a:gd name="adj5" fmla="val -111199"/>
              <a:gd name="adj6" fmla="val -16148"/>
            </a:avLst>
          </a:prstGeom>
          <a:solidFill>
            <a:srgbClr val="ecd882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小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36" name="Picture 5" descr="20083271057412_2"/>
          <p:cNvPicPr/>
          <p:nvPr/>
        </p:nvPicPr>
        <p:blipFill>
          <a:blip r:embed="rId1"/>
          <a:srcRect l="2273" t="3038" r="0" b="0"/>
          <a:stretch/>
        </p:blipFill>
        <p:spPr>
          <a:xfrm>
            <a:off x="0" y="0"/>
            <a:ext cx="3071880" cy="2281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7" descr="00130144"/>
          <p:cNvPicPr/>
          <p:nvPr/>
        </p:nvPicPr>
        <p:blipFill>
          <a:blip r:embed="rId2"/>
          <a:stretch/>
        </p:blipFill>
        <p:spPr>
          <a:xfrm>
            <a:off x="2556000" y="2060640"/>
            <a:ext cx="6408720" cy="479736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10"/>
          <p:cNvSpPr/>
          <p:nvPr/>
        </p:nvSpPr>
        <p:spPr>
          <a:xfrm>
            <a:off x="-23400" y="2924280"/>
            <a:ext cx="164268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ahoma"/>
                <a:ea typeface="楷体_GB2312"/>
              </a:rPr>
              <a:t>油 菜 花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9" name="文本框 8200"/>
          <p:cNvSpPr/>
          <p:nvPr/>
        </p:nvSpPr>
        <p:spPr>
          <a:xfrm>
            <a:off x="4067280" y="1268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f89f7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40458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41" name="Picture 5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3503520" cy="26226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6" descr="%E5%8F%B0%E7%81%A3%E9%BB%83%E8%9D%B6"/>
          <p:cNvPicPr/>
          <p:nvPr/>
        </p:nvPicPr>
        <p:blipFill>
          <a:blip r:embed="rId2"/>
          <a:stretch/>
        </p:blipFill>
        <p:spPr>
          <a:xfrm>
            <a:off x="0" y="0"/>
            <a:ext cx="4897440" cy="4254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20083271057412_2"/>
          <p:cNvPicPr/>
          <p:nvPr/>
        </p:nvPicPr>
        <p:blipFill>
          <a:blip r:embed="rId3"/>
          <a:srcRect l="2273" t="3038" r="0" b="0"/>
          <a:stretch/>
        </p:blipFill>
        <p:spPr>
          <a:xfrm>
            <a:off x="6156360" y="4498920"/>
            <a:ext cx="2987640" cy="221940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8"/>
          <p:cNvSpPr/>
          <p:nvPr/>
        </p:nvSpPr>
        <p:spPr>
          <a:xfrm>
            <a:off x="1763640" y="50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楷体_GB2312"/>
              </a:rPr>
              <a:t>黄蝶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46" name="Picture 5" descr="1459342_101154039_2"/>
          <p:cNvPicPr/>
          <p:nvPr/>
        </p:nvPicPr>
        <p:blipFill>
          <a:blip r:embed="rId1"/>
          <a:srcRect l="0" t="0" r="0" b="54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6" descr="%E5%8F%B0%E7%81%A3%E9%BB%83%E8%9D%B6"/>
          <p:cNvPicPr/>
          <p:nvPr/>
        </p:nvPicPr>
        <p:blipFill>
          <a:blip r:embed="rId2"/>
          <a:stretch/>
        </p:blipFill>
        <p:spPr>
          <a:xfrm>
            <a:off x="5364000" y="0"/>
            <a:ext cx="2953080" cy="256536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7"/>
          <p:cNvSpPr/>
          <p:nvPr/>
        </p:nvSpPr>
        <p:spPr>
          <a:xfrm>
            <a:off x="684360" y="620640"/>
            <a:ext cx="3527280" cy="64260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飞入菜花无处寻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50" name="Picture 2" descr="FR01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田字格0"/>
          <p:cNvPicPr/>
          <p:nvPr/>
        </p:nvPicPr>
        <p:blipFill>
          <a:blip r:embed="rId2"/>
          <a:stretch/>
        </p:blipFill>
        <p:spPr>
          <a:xfrm>
            <a:off x="1908000" y="2205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4"/>
          <p:cNvSpPr/>
          <p:nvPr/>
        </p:nvSpPr>
        <p:spPr>
          <a:xfrm>
            <a:off x="2124000" y="2205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imes New Roman"/>
                <a:ea typeface="楷体_GB2312"/>
              </a:rPr>
              <a:t>追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53" name="Picture 5" descr="田字格0"/>
          <p:cNvPicPr/>
          <p:nvPr/>
        </p:nvPicPr>
        <p:blipFill>
          <a:blip r:embed="rId3"/>
          <a:stretch/>
        </p:blipFill>
        <p:spPr>
          <a:xfrm>
            <a:off x="5105520" y="22096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6"/>
          <p:cNvSpPr/>
          <p:nvPr/>
        </p:nvSpPr>
        <p:spPr>
          <a:xfrm>
            <a:off x="5292720" y="227664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imes New Roman"/>
                <a:ea typeface="楷体_GB2312"/>
              </a:rPr>
              <a:t>烧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5" name="WordArt 8"/>
          <p:cNvSpPr txBox="1"/>
          <p:nvPr/>
        </p:nvSpPr>
        <p:spPr>
          <a:xfrm>
            <a:off x="2819520" y="685800"/>
            <a:ext cx="373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我会写</a:t>
            </a:r>
            <a:endParaRPr b="1" lang="en-US" sz="2400" spc="1" strike="noStrike">
              <a:ln w="12600">
                <a:solidFill>
                  <a:srgbClr val="0033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pic>
        <p:nvPicPr>
          <p:cNvPr id="1056" name="Picture 9" descr="田字格0"/>
          <p:cNvPicPr/>
          <p:nvPr/>
        </p:nvPicPr>
        <p:blipFill>
          <a:blip r:embed="rId4"/>
          <a:stretch/>
        </p:blipFill>
        <p:spPr>
          <a:xfrm>
            <a:off x="1908000" y="44323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057" name="Text Box 10"/>
          <p:cNvSpPr/>
          <p:nvPr/>
        </p:nvSpPr>
        <p:spPr>
          <a:xfrm>
            <a:off x="2124000" y="443232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imes New Roman"/>
                <a:ea typeface="楷体_GB2312"/>
              </a:rPr>
              <a:t>徐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58" name="Picture 11" descr="田字格0"/>
          <p:cNvPicPr/>
          <p:nvPr/>
        </p:nvPicPr>
        <p:blipFill>
          <a:blip r:embed="rId5"/>
          <a:stretch/>
        </p:blipFill>
        <p:spPr>
          <a:xfrm>
            <a:off x="5105520" y="44370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059" name="Text Box 12"/>
          <p:cNvSpPr/>
          <p:nvPr/>
        </p:nvSpPr>
        <p:spPr>
          <a:xfrm>
            <a:off x="5292720" y="450360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imes New Roman"/>
                <a:ea typeface="楷体_GB2312"/>
              </a:rPr>
              <a:t>菜</a:t>
            </a:r>
            <a:endParaRPr b="0" lang="en-US" sz="9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1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3"/>
          <p:cNvSpPr/>
          <p:nvPr/>
        </p:nvSpPr>
        <p:spPr>
          <a:xfrm>
            <a:off x="971640" y="665280"/>
            <a:ext cx="525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咏    柳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贺知章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碧玉妆成一树高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万条垂下绿丝绦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不知细叶谁裁出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二月春风似剪刀。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3" name="Picture 4" descr="未命名"/>
          <p:cNvPicPr/>
          <p:nvPr/>
        </p:nvPicPr>
        <p:blipFill>
          <a:blip r:embed="rId2"/>
          <a:stretch/>
        </p:blipFill>
        <p:spPr>
          <a:xfrm>
            <a:off x="7848720" y="6019920"/>
            <a:ext cx="838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5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6" name="WordArt 3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577800" cy="199404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4"/>
          <p:cNvSpPr/>
          <p:nvPr/>
        </p:nvSpPr>
        <p:spPr>
          <a:xfrm>
            <a:off x="1042920" y="765000"/>
            <a:ext cx="44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春   日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朱   熹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胜日寻芳泗水滨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无边光景一时新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等闲识得东风面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万紫千红总是春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8" name="Picture 5" descr="未命名"/>
          <p:cNvPicPr/>
          <p:nvPr/>
        </p:nvPicPr>
        <p:blipFill>
          <a:blip r:embed="rId3"/>
          <a:stretch/>
        </p:blipFill>
        <p:spPr>
          <a:xfrm>
            <a:off x="7956720" y="6021360"/>
            <a:ext cx="838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矩形 8"/>
          <p:cNvSpPr/>
          <p:nvPr/>
        </p:nvSpPr>
        <p:spPr>
          <a:xfrm>
            <a:off x="584280" y="44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611280" y="1773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华文琥珀"/>
                <a:ea typeface="华文琥珀"/>
              </a:rPr>
              <a:t>是什么季节</a:t>
            </a:r>
            <a:r>
              <a:rPr b="0" lang="zh-CN" sz="4800" spc="-1" strike="noStrike">
                <a:solidFill>
                  <a:srgbClr val="cc3300"/>
                </a:solidFill>
                <a:latin typeface="华文琥珀"/>
                <a:ea typeface="华文琥珀"/>
              </a:rPr>
              <a:t>?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3" name="WordArt 5"/>
          <p:cNvSpPr txBox="1"/>
          <p:nvPr/>
        </p:nvSpPr>
        <p:spPr>
          <a:xfrm rot="20684400">
            <a:off x="990720" y="456840"/>
            <a:ext cx="165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00000"/>
                </a:gradFill>
                <a:latin typeface="宋体"/>
              </a:rPr>
              <a:t>猜猜看</a:t>
            </a:r>
            <a:r>
              <a: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00000"/>
                </a:gradFill>
                <a:latin typeface="宋体"/>
              </a:rPr>
              <a:t>: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00000"/>
              </a:gradFill>
              <a:latin typeface="宋体"/>
              <a:ea typeface="宋体"/>
            </a:endParaRPr>
          </a:p>
        </p:txBody>
      </p:sp>
      <p:pic>
        <p:nvPicPr>
          <p:cNvPr id="974" name="Picture 6" descr=""/>
          <p:cNvPicPr/>
          <p:nvPr/>
        </p:nvPicPr>
        <p:blipFill>
          <a:blip r:embed="rId1"/>
          <a:stretch/>
        </p:blipFill>
        <p:spPr>
          <a:xfrm>
            <a:off x="0" y="3514680"/>
            <a:ext cx="4643280" cy="3343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7" descr=""/>
          <p:cNvPicPr/>
          <p:nvPr/>
        </p:nvPicPr>
        <p:blipFill>
          <a:blip r:embed="rId2"/>
          <a:srcRect l="13887" t="0" r="0" b="0"/>
          <a:stretch/>
        </p:blipFill>
        <p:spPr>
          <a:xfrm>
            <a:off x="4500720" y="0"/>
            <a:ext cx="466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0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3"/>
          <p:cNvSpPr/>
          <p:nvPr/>
        </p:nvSpPr>
        <p:spPr>
          <a:xfrm>
            <a:off x="611280" y="836640"/>
            <a:ext cx="547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清  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杜  牧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清明时节雨纷纷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路上行人欲断魂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借问酒家何处有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牧童遥指杏花村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2" name="Picture 4" descr="未命名"/>
          <p:cNvPicPr/>
          <p:nvPr/>
        </p:nvPicPr>
        <p:blipFill>
          <a:blip r:embed="rId2"/>
          <a:stretch/>
        </p:blipFill>
        <p:spPr>
          <a:xfrm>
            <a:off x="7956720" y="6021360"/>
            <a:ext cx="838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4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3"/>
          <p:cNvSpPr/>
          <p:nvPr/>
        </p:nvSpPr>
        <p:spPr>
          <a:xfrm>
            <a:off x="1116000" y="333360"/>
            <a:ext cx="525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游园不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叶绍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应怜屐齿印苍苔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小扣柴扉久不开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春色满园关不住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  <a:ea typeface="楷体_GB2312"/>
              </a:rPr>
              <a:t>一枝红杏出墙来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6" name="Picture 4" descr="未命名"/>
          <p:cNvPicPr/>
          <p:nvPr/>
        </p:nvPicPr>
        <p:blipFill>
          <a:blip r:embed="rId2"/>
          <a:stretch/>
        </p:blipFill>
        <p:spPr>
          <a:xfrm>
            <a:off x="7848720" y="6019920"/>
            <a:ext cx="838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78" name="Picture 2" descr="kuang023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1116000" y="1413000"/>
            <a:ext cx="763272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*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背诵本课的两首古诗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**</a:t>
            </a:r>
            <a:r>
              <a:rPr b="0" lang="zh-CN" sz="40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收集描写春天的古诗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***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了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宿新市徐公店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了插图，我还能编个故事。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0" name="WordArt 4"/>
          <p:cNvSpPr txBox="1"/>
          <p:nvPr/>
        </p:nvSpPr>
        <p:spPr>
          <a:xfrm>
            <a:off x="684360" y="333360"/>
            <a:ext cx="15825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081" name="MTM_002.mid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75E-3B5E-454B-9964-10EE1BD8FFF7}" type="slidenum">
              <a:rPr b="0" lang="zh-CN" sz="1400" spc="-1" strike="noStrike">
                <a:solidFill>
                  <a:srgbClr val="40458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88" name="图片 9" descr=""/>
          <p:cNvPicPr/>
          <p:nvPr/>
        </p:nvPicPr>
        <p:blipFill>
          <a:blip r:embed="rId16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1089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91" name="Picture 10" descr="png-0644"/>
          <p:cNvPicPr/>
          <p:nvPr/>
        </p:nvPicPr>
        <p:blipFill>
          <a:blip r:embed="rId17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1" descr="png-0652"/>
          <p:cNvPicPr/>
          <p:nvPr/>
        </p:nvPicPr>
        <p:blipFill>
          <a:blip r:embed="rId18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77" name="Picture 4" descr=""/>
          <p:cNvPicPr/>
          <p:nvPr/>
        </p:nvPicPr>
        <p:blipFill>
          <a:blip r:embed="rId1"/>
          <a:stretch/>
        </p:blipFill>
        <p:spPr>
          <a:xfrm>
            <a:off x="0" y="3514680"/>
            <a:ext cx="4643280" cy="3343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5" descr=""/>
          <p:cNvPicPr/>
          <p:nvPr/>
        </p:nvPicPr>
        <p:blipFill>
          <a:blip r:embed="rId2"/>
          <a:srcRect l="13887" t="0" r="0" b="0"/>
          <a:stretch/>
        </p:blipFill>
        <p:spPr>
          <a:xfrm>
            <a:off x="450072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7"/>
          <p:cNvSpPr/>
          <p:nvPr/>
        </p:nvSpPr>
        <p:spPr>
          <a:xfrm>
            <a:off x="601560" y="1447920"/>
            <a:ext cx="43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.</a:t>
            </a:r>
            <a:r>
              <a:rPr b="0" lang="zh-CN" sz="6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古诗两首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81" name="Picture 2" descr="FR01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" descr=""/>
          <p:cNvPicPr/>
          <p:nvPr/>
        </p:nvPicPr>
        <p:blipFill>
          <a:blip r:embed="rId2"/>
          <a:stretch/>
        </p:blipFill>
        <p:spPr>
          <a:xfrm>
            <a:off x="2184480" y="765000"/>
            <a:ext cx="4775040" cy="53280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6" descr=""/>
          <p:cNvPicPr/>
          <p:nvPr/>
        </p:nvPicPr>
        <p:blipFill>
          <a:blip r:embed="rId3"/>
          <a:stretch/>
        </p:blipFill>
        <p:spPr>
          <a:xfrm>
            <a:off x="7308720" y="1341360"/>
            <a:ext cx="1406520" cy="15843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7" descr=""/>
          <p:cNvPicPr/>
          <p:nvPr/>
        </p:nvPicPr>
        <p:blipFill>
          <a:blip r:embed="rId4"/>
          <a:stretch/>
        </p:blipFill>
        <p:spPr>
          <a:xfrm>
            <a:off x="7236000" y="3141720"/>
            <a:ext cx="1611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3429000" y="3933720"/>
            <a:ext cx="2085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离离：草木长的得很茂盛的样子。</a:t>
            </a:r>
            <a:br>
              <a:rPr sz="3200"/>
            </a:br>
            <a:r>
              <a:rPr b="0" lang="zh-CN" sz="32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枯：枯萎 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。 </a:t>
            </a:r>
            <a:br>
              <a:rPr sz="3200"/>
            </a:br>
            <a:r>
              <a:rPr b="0" lang="zh-CN" sz="32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尽：完、全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1258920" y="696960"/>
            <a:ext cx="59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  <a:ea typeface="楷体_GB2312"/>
              </a:rPr>
              <a:t>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  <a:ea typeface="楷体_GB2312"/>
              </a:rPr>
              <a:t>白居易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  <a:ea typeface="楷体_GB2312"/>
              </a:rPr>
              <a:t>离离原上草，一岁一枯荣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  <a:ea typeface="楷体_GB2312"/>
              </a:rPr>
              <a:t>野火烧不尽，春风吹又生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89" name="Picture 5" descr="214_15792"/>
          <p:cNvPicPr/>
          <p:nvPr/>
        </p:nvPicPr>
        <p:blipFill>
          <a:blip r:embed="rId1"/>
          <a:stretch/>
        </p:blipFill>
        <p:spPr>
          <a:xfrm>
            <a:off x="2687760" y="2279520"/>
            <a:ext cx="6456240" cy="45784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7" descr="az2_069"/>
          <p:cNvPicPr/>
          <p:nvPr/>
        </p:nvPicPr>
        <p:blipFill>
          <a:blip r:embed="rId2"/>
          <a:srcRect l="0" t="33780" r="0" b="0"/>
          <a:stretch/>
        </p:blipFill>
        <p:spPr>
          <a:xfrm>
            <a:off x="0" y="0"/>
            <a:ext cx="4249800" cy="4202280"/>
          </a:xfrm>
          <a:prstGeom prst="rect">
            <a:avLst/>
          </a:prstGeom>
          <a:ln w="0">
            <a:noFill/>
          </a:ln>
        </p:spPr>
      </p:pic>
      <p:sp>
        <p:nvSpPr>
          <p:cNvPr id="991" name="Text Box 8"/>
          <p:cNvSpPr/>
          <p:nvPr/>
        </p:nvSpPr>
        <p:spPr>
          <a:xfrm>
            <a:off x="4788000" y="476280"/>
            <a:ext cx="338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野火烧不尽，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  <a:ea typeface="楷体_GB2312"/>
              </a:rPr>
              <a:t>春风吹又生。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9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5"/>
          <p:cNvSpPr/>
          <p:nvPr/>
        </p:nvSpPr>
        <p:spPr>
          <a:xfrm>
            <a:off x="1692360" y="333360"/>
            <a:ext cx="5327640" cy="3764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赋得古原草送别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居易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离离原上草，一岁一枯荣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野火烧不尽，春风吹又生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远芳侵古道，晴翠接荒城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送王孙去，萋萋满别情。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96" name="Group 6"/>
          <p:cNvGrpSpPr/>
          <p:nvPr/>
        </p:nvGrpSpPr>
        <p:grpSpPr>
          <a:xfrm>
            <a:off x="1752480" y="2438280"/>
            <a:ext cx="2233800" cy="2233440"/>
            <a:chOff x="1752480" y="2438280"/>
            <a:chExt cx="2233800" cy="2233440"/>
          </a:xfrm>
        </p:grpSpPr>
        <p:sp>
          <p:nvSpPr>
            <p:cNvPr id="997" name="Rectangle 7"/>
            <p:cNvSpPr/>
            <p:nvPr/>
          </p:nvSpPr>
          <p:spPr>
            <a:xfrm>
              <a:off x="1752480" y="2441160"/>
              <a:ext cx="2233800" cy="223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1752480" y="3592080"/>
              <a:ext cx="2233800" cy="360"/>
              <a:chOff x="1752480" y="3592080"/>
              <a:chExt cx="2233800" cy="360"/>
            </a:xfrm>
          </p:grpSpPr>
          <p:sp>
            <p:nvSpPr>
              <p:cNvPr id="999" name="Line 8"/>
              <p:cNvSpPr/>
              <p:nvPr/>
            </p:nvSpPr>
            <p:spPr>
              <a:xfrm>
                <a:off x="1752480" y="3592080"/>
                <a:ext cx="2233800" cy="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1752480" y="3592080"/>
                <a:ext cx="2233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2828880" y="2438280"/>
              <a:ext cx="1440" cy="2230560"/>
              <a:chOff x="2828880" y="2438280"/>
              <a:chExt cx="1440" cy="2230560"/>
            </a:xfrm>
          </p:grpSpPr>
          <p:sp>
            <p:nvSpPr>
              <p:cNvPr id="1002" name="Line 9"/>
              <p:cNvSpPr/>
              <p:nvPr/>
            </p:nvSpPr>
            <p:spPr>
              <a:xfrm flipH="1">
                <a:off x="2828880" y="2438280"/>
                <a:ext cx="1440" cy="223056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 rot="5400000">
                <a:off x="1713960" y="3552840"/>
                <a:ext cx="223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04" name="WordArt 10"/>
          <p:cNvSpPr txBox="1"/>
          <p:nvPr/>
        </p:nvSpPr>
        <p:spPr>
          <a:xfrm>
            <a:off x="2895480" y="5335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我会写</a:t>
            </a:r>
            <a:endParaRPr b="1" lang="en-US" sz="2400" spc="1" strike="noStrike">
              <a:ln w="12600">
                <a:solidFill>
                  <a:srgbClr val="0033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sp>
        <p:nvSpPr>
          <p:cNvPr id="1005" name="WordArt 29"/>
          <p:cNvSpPr txBox="1"/>
          <p:nvPr/>
        </p:nvSpPr>
        <p:spPr>
          <a:xfrm>
            <a:off x="2195640" y="2852640"/>
            <a:ext cx="1371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枯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grpSp>
        <p:nvGrpSpPr>
          <p:cNvPr id="1006" name="Group 30"/>
          <p:cNvGrpSpPr/>
          <p:nvPr/>
        </p:nvGrpSpPr>
        <p:grpSpPr>
          <a:xfrm>
            <a:off x="4495680" y="2438280"/>
            <a:ext cx="2133720" cy="2309400"/>
            <a:chOff x="4495680" y="2438280"/>
            <a:chExt cx="2133720" cy="2309400"/>
          </a:xfrm>
        </p:grpSpPr>
        <p:sp>
          <p:nvSpPr>
            <p:cNvPr id="1007" name="Rectangle 31"/>
            <p:cNvSpPr/>
            <p:nvPr/>
          </p:nvSpPr>
          <p:spPr>
            <a:xfrm>
              <a:off x="4495680" y="2441520"/>
              <a:ext cx="2133720" cy="2306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495680" y="3631320"/>
              <a:ext cx="2133720" cy="360"/>
              <a:chOff x="4495680" y="3631320"/>
              <a:chExt cx="2133720" cy="360"/>
            </a:xfrm>
          </p:grpSpPr>
          <p:sp>
            <p:nvSpPr>
              <p:cNvPr id="1009" name="Line 32"/>
              <p:cNvSpPr/>
              <p:nvPr/>
            </p:nvSpPr>
            <p:spPr>
              <a:xfrm>
                <a:off x="4495680" y="3631320"/>
                <a:ext cx="2133720" cy="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4495680" y="3631320"/>
                <a:ext cx="213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5523480" y="2438280"/>
              <a:ext cx="1080" cy="2306160"/>
              <a:chOff x="5523480" y="2438280"/>
              <a:chExt cx="1080" cy="2306160"/>
            </a:xfrm>
          </p:grpSpPr>
          <p:sp>
            <p:nvSpPr>
              <p:cNvPr id="1012" name="Line 33"/>
              <p:cNvSpPr/>
              <p:nvPr/>
            </p:nvSpPr>
            <p:spPr>
              <a:xfrm flipH="1">
                <a:off x="5523480" y="2438280"/>
                <a:ext cx="1080" cy="230616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 rot="5400000">
                <a:off x="4370760" y="3590640"/>
                <a:ext cx="2306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14" name="WordArt 34"/>
          <p:cNvSpPr txBox="1"/>
          <p:nvPr/>
        </p:nvSpPr>
        <p:spPr>
          <a:xfrm>
            <a:off x="4876920" y="2971800"/>
            <a:ext cx="1218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荣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 spd="med">
    <p:randomBar dir="vert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16" name="Picture 2" descr="FR01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9"/>
          <p:cNvSpPr/>
          <p:nvPr/>
        </p:nvSpPr>
        <p:spPr>
          <a:xfrm>
            <a:off x="7772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18" name="Picture 13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581360" cy="43005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4" descr=""/>
          <p:cNvPicPr/>
          <p:nvPr/>
        </p:nvPicPr>
        <p:blipFill>
          <a:blip r:embed="rId3"/>
          <a:srcRect l="1180" t="0" r="0" b="0"/>
          <a:stretch/>
        </p:blipFill>
        <p:spPr>
          <a:xfrm>
            <a:off x="2050920" y="5157720"/>
            <a:ext cx="59770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4:11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8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