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0.gif" ContentType="image/gif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png" ContentType="image/png"/>
  <Override PartName="/ppt/media/image32.jpeg" ContentType="image/jpe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213-90A0-4F14-AA52-A515070E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379-81A6-4831-B343-C7FA8347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ABB-AF0F-49AB-993C-CD1B00EA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ECB-52BF-425D-B438-8AF86838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71EA-A552-4522-B5EA-C971DA46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D78F-BC7A-42C0-AB96-157200C7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4018-54F8-4685-A4C6-A4413913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09E3-9D59-4714-B990-BF21A393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7760-0845-44B5-9F87-38E6A06B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3692-875E-4F3C-8B96-5425579A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E27D-0DB6-46F5-8E99-3AD0DCFA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566-6144-4AD7-AA57-3910E275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D274-C0AC-4EC6-B9BE-4FAAAFC8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AD13-873E-4F9B-996E-745ACEE8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30FF-06CB-47F4-B8AF-8C467FFA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A5A0-5F03-49F6-A772-31591F50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BDC2-CDA8-4D91-AC3C-21F12EB7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FD1A-E78A-4340-9CCA-64153F5D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0FD9-A5F2-4D59-A09E-59867003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57491-9F8F-4DC8-8616-B8857F8A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C9ED-AC53-42D5-8CC8-56EAF46F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2B49-9E13-47D7-9FCB-AD87F0B3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C15-A413-4636-A9A3-0B6BB66A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5B47-9D02-4B3F-B65F-BFCCA42A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CCF9-C04B-41A3-8D13-36EFCA5D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7649-574C-4920-A2B8-4AABAA00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3B60-0593-4532-91C3-29607A6A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19A4-A033-4955-8BCF-AB984FEB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A3FF-6A40-4093-BF4F-8BD62FAC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47F3-A330-429A-B264-A4E8886E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49A-BE86-4727-B2B5-E7D788F2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246-654B-4D04-9BCC-CC83E19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B76-4F09-4DAA-B713-42694394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946-9BEB-4758-B353-30C4F2A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5C6-37AF-42B8-B10F-E96DCD9D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F82-3026-42FF-85B5-31929028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43D9-C1F7-473A-BCBF-ABAC1A0C9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3028-2DEA-46E1-B826-B82F4810B77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206B-DE1F-4DFD-8057-1F372BA6AD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8F7-9F15-4E6C-9BFA-B69FC9510B4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5.pn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hyperlink" Target="-1,-1,NEXT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场景062413"/>
          <p:cNvPicPr/>
          <p:nvPr/>
        </p:nvPicPr>
        <p:blipFill>
          <a:blip r:embed="rId1"/>
          <a:stretch/>
        </p:blipFill>
        <p:spPr>
          <a:xfrm>
            <a:off x="2484360" y="404640"/>
            <a:ext cx="6175440" cy="58327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3"/>
          <p:cNvSpPr txBox="1"/>
          <p:nvPr/>
        </p:nvSpPr>
        <p:spPr>
          <a:xfrm rot="5400000">
            <a:off x="-900360" y="2852640"/>
            <a:ext cx="5616720" cy="143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66ff"/>
                </a:solidFill>
                <a:latin typeface="宋体"/>
              </a:rPr>
              <a:t>果园机器人语文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66ff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66ff"/>
                </a:solidFill>
                <a:latin typeface="宋体"/>
              </a:rPr>
              <a:t>课件免费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pull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4005000"/>
            <a:ext cx="856908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果园机器人在果园中（        ）的工作着，</a:t>
            </a:r>
            <a:br>
              <a:rPr sz="3200"/>
            </a:b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它们有的（　　　　），有的（　　　），</a:t>
            </a:r>
            <a:br>
              <a:rPr sz="3200"/>
            </a:b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还有的（　　　）。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6" name="Picture 3" descr="lanmu_35557"/>
          <p:cNvPicPr/>
          <p:nvPr/>
        </p:nvPicPr>
        <p:blipFill>
          <a:blip r:embed="rId1"/>
          <a:stretch/>
        </p:blipFill>
        <p:spPr>
          <a:xfrm>
            <a:off x="468360" y="1052640"/>
            <a:ext cx="8209080" cy="316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小学语文(记叙文）03"/>
          <p:cNvPicPr/>
          <p:nvPr/>
        </p:nvPicPr>
        <p:blipFill>
          <a:blip r:embed="rId2"/>
          <a:stretch/>
        </p:blipFill>
        <p:spPr>
          <a:xfrm>
            <a:off x="539640" y="189000"/>
            <a:ext cx="237672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2"/>
          <p:cNvSpPr/>
          <p:nvPr/>
        </p:nvSpPr>
        <p:spPr>
          <a:xfrm>
            <a:off x="179280" y="191628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小朋友，这些机器人真能干，有了这些好帮手，果农们就省心多了，可派这些机器人去摘果子后，发愁的事又来了。到底是什么事呢？让我们好好读读第三自然段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找到发愁的事情把他划下来。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19360" y="50004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感受机器人的缺点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3167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朗读感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Rectangle 1030"/>
          <p:cNvSpPr/>
          <p:nvPr/>
        </p:nvSpPr>
        <p:spPr>
          <a:xfrm>
            <a:off x="395280" y="98100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麻烦一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如果没有电，他们是要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“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罢工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”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1031"/>
          <p:cNvSpPr/>
          <p:nvPr/>
        </p:nvSpPr>
        <p:spPr>
          <a:xfrm>
            <a:off x="324000" y="3284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麻烦三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电了，机器人就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饿倒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1036"/>
          <p:cNvSpPr/>
          <p:nvPr/>
        </p:nvSpPr>
        <p:spPr>
          <a:xfrm>
            <a:off x="395280" y="227664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麻烦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可能让机器人拖着长长的电线走来走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1037"/>
          <p:cNvSpPr/>
          <p:nvPr/>
        </p:nvSpPr>
        <p:spPr>
          <a:xfrm>
            <a:off x="2480400" y="4221000"/>
            <a:ext cx="387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麻烦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让果农在大片密密的果树林里一个个地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找“饿倒”了的机器人，那可太麻烦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840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小小科学家，自学</a:t>
            </a: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4. 5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自然段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268280"/>
            <a:ext cx="7848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样看来，如果没有电的话，机器人就会“罢工”，会“饿倒”就不能帮助果农了。怎么办呢？请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 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自然段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找找他们是怎么解决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用线划下来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96800" y="4149720"/>
            <a:ext cx="40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们只要“吃”树上掉下的水果就可以干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1280" y="3357720"/>
            <a:ext cx="38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让机器人自己充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755640" y="508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地上的水果不够“吃”了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主人就会立刻告诉它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从树上摘些果子“吃’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3419640" y="620640"/>
            <a:ext cx="244764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能源来源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72" name="Picture 3" descr="场景0624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981000"/>
            <a:ext cx="2120760" cy="3311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场景0624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92280"/>
            <a:ext cx="3780000" cy="3457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场景0624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4724280"/>
            <a:ext cx="540072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场景062433"/>
          <p:cNvPicPr/>
          <p:nvPr/>
        </p:nvPicPr>
        <p:blipFill>
          <a:blip r:embed="rId7"/>
          <a:stretch/>
        </p:blipFill>
        <p:spPr>
          <a:xfrm>
            <a:off x="2268360" y="2060640"/>
            <a:ext cx="5113440" cy="3168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2411280" y="134136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吃水果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----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糖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----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630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朗读感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79280" y="3645000"/>
            <a:ext cx="83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趣三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们只要“吃”树上掉下的水果就可以干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种机器人的肚子里，如果装了特殊的电池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就可以把吃进去的水果变成糖，再把糖变成电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98100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趣一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没有电，他们是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罢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0" y="1700280"/>
            <a:ext cx="88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趣二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为电池的电很快就会用完的，没电了，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器人就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饿倒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让果农在大片密密的果树林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个个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去找</a:t>
            </a:r>
            <a:r>
              <a:rPr b="1" lang="zh-CN" sz="2800" spc="-1" strike="noStrike">
                <a:solidFill>
                  <a:srgbClr val="3399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饿倒</a:t>
            </a:r>
            <a:r>
              <a:rPr b="1" lang="zh-CN" sz="2800" spc="-1" strike="noStrike">
                <a:solidFill>
                  <a:srgbClr val="3399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了的机器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那可太麻烦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727000" y="5651640"/>
            <a:ext cx="33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“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麻烦怎么又变成有趣了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4005000"/>
            <a:ext cx="856908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83" name="Picture 3" descr="lanmu_35557"/>
          <p:cNvPicPr/>
          <p:nvPr/>
        </p:nvPicPr>
        <p:blipFill>
          <a:blip r:embed="rId1"/>
          <a:stretch/>
        </p:blipFill>
        <p:spPr>
          <a:xfrm>
            <a:off x="611280" y="1700280"/>
            <a:ext cx="8208720" cy="31669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2480" y="73656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欣赏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536400" y="1176480"/>
            <a:ext cx="1800360" cy="4190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684360" y="2133720"/>
            <a:ext cx="648144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小组交流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你知道机器人还能干什么吗？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</a:rPr>
              <a:t>走进机器人世界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88" name="Picture 4" descr="001ec949ffcb0b9e9fa623"/>
          <p:cNvPicPr/>
          <p:nvPr/>
        </p:nvPicPr>
        <p:blipFill>
          <a:blip r:embed="rId1"/>
          <a:stretch/>
        </p:blipFill>
        <p:spPr>
          <a:xfrm>
            <a:off x="1979640" y="1728720"/>
            <a:ext cx="475308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3059280" y="580536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"/>
              </a:rPr>
              <a:t>会做饭的机器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0" name="Picture 8" descr="小学语文(记叙文）06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9"/>
          <p:cNvSpPr txBox="1"/>
          <p:nvPr/>
        </p:nvSpPr>
        <p:spPr>
          <a:xfrm rot="5400000">
            <a:off x="-792000" y="324972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p:transition>
    <p:comb dir="vert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1b0d4f0f3ed085136059f3c0"/>
          <p:cNvPicPr/>
          <p:nvPr/>
        </p:nvPicPr>
        <p:blipFill>
          <a:blip r:embed="rId1"/>
          <a:stretch/>
        </p:blipFill>
        <p:spPr>
          <a:xfrm>
            <a:off x="1619280" y="1447920"/>
            <a:ext cx="5689440" cy="4233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539640" y="580536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   福娃机器人能够感应到一米范围内的游客，与人对话、摄影留念、唱歌舞蹈，还能回答与奥运会相关的问题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4" name="Picture 9" descr="小学语文(记叙文）06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195" name="WordArt 12"/>
          <p:cNvSpPr txBox="1"/>
          <p:nvPr/>
        </p:nvSpPr>
        <p:spPr>
          <a:xfrm rot="5400000">
            <a:off x="-792000" y="324972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7"/>
          <p:cNvSpPr/>
          <p:nvPr/>
        </p:nvSpPr>
        <p:spPr>
          <a:xfrm>
            <a:off x="5940360" y="21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创设情境，导入课题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162828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Picture 4" descr="1108311006b85c59bda90a101e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700280"/>
            <a:ext cx="600084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3632040" y="5786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"/>
              </a:rPr>
              <a:t>擦玻璃机器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7" name="Picture 7" descr="1277642640046"/>
          <p:cNvPicPr/>
          <p:nvPr/>
        </p:nvPicPr>
        <p:blipFill>
          <a:blip r:embed="rId1"/>
          <a:stretch/>
        </p:blipFill>
        <p:spPr>
          <a:xfrm>
            <a:off x="1547640" y="1630440"/>
            <a:ext cx="5977080" cy="40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小学语文(记叙文）06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2"/>
          <p:cNvSpPr txBox="1"/>
          <p:nvPr/>
        </p:nvSpPr>
        <p:spPr>
          <a:xfrm rot="5400000">
            <a:off x="-792000" y="324972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2009214174443182"/>
          <p:cNvPicPr/>
          <p:nvPr/>
        </p:nvPicPr>
        <p:blipFill>
          <a:blip r:embed="rId1"/>
          <a:stretch/>
        </p:blipFill>
        <p:spPr>
          <a:xfrm>
            <a:off x="1547640" y="1677960"/>
            <a:ext cx="5545440" cy="4326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"/>
          <p:cNvSpPr/>
          <p:nvPr/>
        </p:nvSpPr>
        <p:spPr>
          <a:xfrm>
            <a:off x="3459600" y="6002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"/>
              </a:rPr>
              <a:t>会装小汽车的机器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2" name="Picture 8" descr="小学语文(记叙文）06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203" name="WordArt 11"/>
          <p:cNvSpPr txBox="1"/>
          <p:nvPr/>
        </p:nvSpPr>
        <p:spPr>
          <a:xfrm rot="5400000">
            <a:off x="-792000" y="368316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F10b"/>
          <p:cNvPicPr/>
          <p:nvPr/>
        </p:nvPicPr>
        <p:blipFill>
          <a:blip r:embed="rId1"/>
          <a:stretch/>
        </p:blipFill>
        <p:spPr>
          <a:xfrm>
            <a:off x="1547640" y="1800360"/>
            <a:ext cx="5472360" cy="4206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3649680" y="607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"/>
              </a:rPr>
              <a:t>导盲机器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6" name="Picture 7" descr="小学语文(记叙文）06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0"/>
          <p:cNvSpPr txBox="1"/>
          <p:nvPr/>
        </p:nvSpPr>
        <p:spPr>
          <a:xfrm rot="5400000">
            <a:off x="-792000" y="3538440"/>
            <a:ext cx="352764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mage"/>
          <p:cNvPicPr/>
          <p:nvPr/>
        </p:nvPicPr>
        <p:blipFill>
          <a:blip r:embed="rId1"/>
          <a:srcRect l="0" t="0" r="9742" b="0"/>
          <a:stretch/>
        </p:blipFill>
        <p:spPr>
          <a:xfrm>
            <a:off x="1476360" y="1700280"/>
            <a:ext cx="6191280" cy="4022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3721320" y="5857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"/>
              </a:rPr>
              <a:t>灭火机器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0" name="Picture 9" descr="小学语文(记叙文）06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12"/>
          <p:cNvSpPr txBox="1"/>
          <p:nvPr/>
        </p:nvSpPr>
        <p:spPr>
          <a:xfrm rot="5400000">
            <a:off x="-792000" y="332280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小学语文(记叙文）06"/>
          <p:cNvPicPr/>
          <p:nvPr/>
        </p:nvPicPr>
        <p:blipFill>
          <a:blip r:embed="rId1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684360" y="1700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聪明能干的机器人越来越受到大家的欢迎了，他们不但能够进入厨房制作佳肴，还能够投身火海奋勇救火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展开想像，说一说自己想发明什么样的机器人，它有哪些本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2009121112204843859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walledancingrobotplaysmp3s"/>
          <p:cNvPicPr/>
          <p:nvPr/>
        </p:nvPicPr>
        <p:blipFill>
          <a:blip r:embed="rId2"/>
          <a:stretch/>
        </p:blipFill>
        <p:spPr>
          <a:xfrm>
            <a:off x="250920" y="476280"/>
            <a:ext cx="8713800" cy="6381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image004"/>
          <p:cNvPicPr/>
          <p:nvPr/>
        </p:nvPicPr>
        <p:blipFill>
          <a:blip r:embed="rId3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01300000162748121212973834182"/>
          <p:cNvPicPr/>
          <p:nvPr/>
        </p:nvPicPr>
        <p:blipFill>
          <a:blip r:embed="rId4"/>
          <a:stretch/>
        </p:blipFill>
        <p:spPr>
          <a:xfrm>
            <a:off x="0" y="415800"/>
            <a:ext cx="9144000" cy="6442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01300000164151124901230842315"/>
          <p:cNvPicPr/>
          <p:nvPr/>
        </p:nvPicPr>
        <p:blipFill>
          <a:blip r:embed="rId5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048adde9af95d15cdbf1a6d"/>
          <p:cNvPicPr/>
          <p:nvPr/>
        </p:nvPicPr>
        <p:blipFill>
          <a:blip r:embed="rId6"/>
          <a:stretch/>
        </p:blipFill>
        <p:spPr>
          <a:xfrm>
            <a:off x="0" y="525600"/>
            <a:ext cx="9144000" cy="6332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faacb5645734f4bdf636546d"/>
          <p:cNvPicPr/>
          <p:nvPr/>
        </p:nvPicPr>
        <p:blipFill>
          <a:blip r:embed="rId7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FD7E-CCF4-496C-93C8-92D57A93FDDB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50560" y="1915920"/>
            <a:ext cx="793116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写一篇关于未来机器人的作文。以现实生活为出发点，内容要新颖、独特、有创意，大胆想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小练笔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2627280" y="3500280"/>
            <a:ext cx="374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楷体_GB2312"/>
              </a:rPr>
              <a:t>相信你是最棒的</a:t>
            </a:r>
            <a:r>
              <a:rPr b="0" lang="en-US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楷体_GB2312"/>
              </a:rPr>
              <a:t>~!</a:t>
            </a:r>
            <a:endParaRPr b="0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Picture 4" descr="3534513_202427087579_2[1]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Picture 4" descr="9291836_212737390138_2[1]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Picture 4" descr="5155800_110432110070_2[1]"/>
          <p:cNvPicPr/>
          <p:nvPr/>
        </p:nvPicPr>
        <p:blipFill>
          <a:blip r:embed="rId1"/>
          <a:stretch/>
        </p:blipFill>
        <p:spPr>
          <a:xfrm>
            <a:off x="-324000" y="-603360"/>
            <a:ext cx="9753840" cy="81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0810220115042976"/>
          <p:cNvPicPr/>
          <p:nvPr/>
        </p:nvPicPr>
        <p:blipFill>
          <a:blip r:embed="rId1"/>
          <a:srcRect l="2756" t="3342" r="1816" b="11496"/>
          <a:stretch/>
        </p:blipFill>
        <p:spPr>
          <a:xfrm>
            <a:off x="1332000" y="2781360"/>
            <a:ext cx="640872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>
            <a:hlinkClick r:id="rId2"/>
          </p:cNvPr>
          <p:cNvSpPr/>
          <p:nvPr/>
        </p:nvSpPr>
        <p:spPr>
          <a:xfrm>
            <a:off x="1187280" y="90792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咦，这个果农怎么有点发愁呢？请翻到课本的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华文中宋"/>
              </a:rPr>
              <a:t>9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页，从第一自然段中找找原因吧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680170090"/>
          <p:cNvPicPr/>
          <p:nvPr/>
        </p:nvPicPr>
        <p:blipFill>
          <a:blip r:embed="rId1"/>
          <a:stretch/>
        </p:blipFill>
        <p:spPr>
          <a:xfrm>
            <a:off x="4716360" y="1700280"/>
            <a:ext cx="4081680" cy="46800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3"/>
          <p:cNvGrpSpPr/>
          <p:nvPr/>
        </p:nvGrpSpPr>
        <p:grpSpPr>
          <a:xfrm>
            <a:off x="1403280" y="620640"/>
            <a:ext cx="4098960" cy="1219320"/>
            <a:chOff x="1403280" y="620640"/>
            <a:chExt cx="4098960" cy="1219320"/>
          </a:xfrm>
        </p:grpSpPr>
        <p:sp>
          <p:nvSpPr>
            <p:cNvPr id="143" name="AutoShape 4"/>
            <p:cNvSpPr/>
            <p:nvPr/>
          </p:nvSpPr>
          <p:spPr>
            <a:xfrm>
              <a:off x="2478240" y="620640"/>
              <a:ext cx="295092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Arial"/>
                </a:rPr>
                <a:t>怎么办呢？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44" name="Picture 5" descr="fyvu"/>
            <p:cNvPicPr/>
            <p:nvPr/>
          </p:nvPicPr>
          <p:blipFill>
            <a:blip r:embed="rId2"/>
            <a:stretch/>
          </p:blipFill>
          <p:spPr>
            <a:xfrm>
              <a:off x="1403280" y="62064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6"/>
            <p:cNvSpPr/>
            <p:nvPr/>
          </p:nvSpPr>
          <p:spPr>
            <a:xfrm>
              <a:off x="2693880" y="620640"/>
              <a:ext cx="2808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46" name="Picture 7" descr="[]"/>
          <p:cNvPicPr/>
          <p:nvPr/>
        </p:nvPicPr>
        <p:blipFill>
          <a:blip r:embed="rId3"/>
          <a:stretch/>
        </p:blipFill>
        <p:spPr>
          <a:xfrm>
            <a:off x="6372360" y="4365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611280" y="220500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把果子从树上摘下来，要把它们运到很远的地方去卖，实在忙不过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4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94920" y="2421000"/>
            <a:ext cx="8294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果园机器人能帮果农做些什么呢？你能读读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二自然段告诉大家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50920" y="4005360"/>
            <a:ext cx="88930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它们能把成熟的果子从树上摘下来，整齐地装进纸箱，然后运到指定的地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50920" y="220500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747080" y="299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感受机器人的能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看图说说果园机器人是如何工作的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3" name="Picture 5" descr="lanmu_35557"/>
          <p:cNvPicPr/>
          <p:nvPr/>
        </p:nvPicPr>
        <p:blipFill>
          <a:blip r:embed="rId1"/>
          <a:stretch/>
        </p:blipFill>
        <p:spPr>
          <a:xfrm>
            <a:off x="395280" y="1989000"/>
            <a:ext cx="8424720" cy="3591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小学语文(记叙文）03"/>
          <p:cNvPicPr/>
          <p:nvPr/>
        </p:nvPicPr>
        <p:blipFill>
          <a:blip r:embed="rId2"/>
          <a:stretch/>
        </p:blipFill>
        <p:spPr>
          <a:xfrm>
            <a:off x="1116000" y="981000"/>
            <a:ext cx="237636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2:30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6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