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F2E-3AD2-4132-97BA-A19D6B44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F0C-EDAD-4486-892F-6B7FFF1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554-2A80-4105-ABA9-0E24B4EF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347-033E-477F-A443-6C94C46F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18F7-EB0F-4F5F-B7F0-EA94E280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368D-A364-4FA3-8B32-F5A01F76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08BA-ADAA-40C5-8F68-DDE9300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3597-30F3-440B-A0D3-8ED358A8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4648-BBE7-4542-B9DC-C283B5B7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4E06-9772-4564-8A6E-145F284B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7131-8068-4E39-B7E8-40B26C8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5B3-40C9-4395-8E9C-D5DCA595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773F-ECF0-4D56-8FEF-5E8ADB76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1126-6CC4-4684-8EF8-0C67AA52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DBCA-49BD-4272-B5AA-AD54B0CC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26FC-1DF4-431C-8E5C-C542284D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2DF3-18FB-4B35-96A3-954373ED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89BC-7F34-4C57-B0A6-14C44B35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F94B6-40CD-4974-8B84-FC27C63A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E847-9B70-4026-B682-86429081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7743C-C06B-40EA-98B0-FD8DD4F4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45D6-E5C7-44EF-AD74-B20F87ED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EF4-42E3-417B-888A-13967B53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F225-8E05-440B-A3FB-C33D54DA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560D7-0A3E-4217-A275-828C7F33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01F81-E004-444A-8B38-F3B2CA3B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FE2C-C4C2-4FB8-8371-105A65D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C713-7A5A-4A59-96AB-F8782175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8599-772D-4D9B-B1BE-1E5B5B9F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77A7-4940-4D78-A78C-087F168F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EB5-F848-4BFE-B45E-EE7500F9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A4E-DCC2-4DD2-A4CC-A0018B04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BDA-5C8B-4E42-8B78-A46A2318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616-354E-451C-9C95-E39FF65D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7B3-5FEC-4C6F-AFB1-EE37A94A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898-0478-46D0-B147-4754186F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091-ABBA-406D-8C7A-C948E2B9F2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CADB-7741-41BD-B9CB-43EE32253E9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3E39-F7C2-4294-90F3-315D421C0A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F631-A940-48AA-9B6C-671E73C9D78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3"/>
          <p:cNvSpPr/>
          <p:nvPr/>
        </p:nvSpPr>
        <p:spPr>
          <a:xfrm>
            <a:off x="103320" y="6453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63640" y="2349360"/>
            <a:ext cx="6696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77777"/>
                </a:solidFill>
                <a:latin typeface="Times New Roman"/>
                <a:ea typeface="楷体_GB2312"/>
              </a:rPr>
              <a:t>           </a:t>
            </a:r>
            <a:r>
              <a:rPr b="1" lang="zh-CN" sz="6600" spc="-1" strike="noStrike">
                <a:solidFill>
                  <a:srgbClr val="777777"/>
                </a:solidFill>
                <a:latin typeface="Times New Roman"/>
                <a:ea typeface="楷体_GB2312"/>
              </a:rPr>
              <a:t>是快乐的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63640" y="3284640"/>
            <a:ext cx="2303640" cy="360"/>
            <a:chOff x="1763640" y="3284640"/>
            <a:chExt cx="2303640" cy="360"/>
          </a:xfrm>
        </p:grpSpPr>
        <p:sp>
          <p:nvSpPr>
            <p:cNvPr id="126" name="Line 10"/>
            <p:cNvSpPr/>
            <p:nvPr/>
          </p:nvSpPr>
          <p:spPr>
            <a:xfrm>
              <a:off x="1763640" y="3284640"/>
              <a:ext cx="2303640" cy="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763640" y="3284640"/>
              <a:ext cx="230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8" name="Text Box 13"/>
          <p:cNvSpPr/>
          <p:nvPr/>
        </p:nvSpPr>
        <p:spPr>
          <a:xfrm>
            <a:off x="1752480" y="2178000"/>
            <a:ext cx="23050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给予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600200" y="1600200"/>
            <a:ext cx="2666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Dotum"/>
                <a:ea typeface="Dotum"/>
              </a:rPr>
              <a:t>jĬ   yŭ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Picture 16" descr="天使１"/>
          <p:cNvPicPr/>
          <p:nvPr/>
        </p:nvPicPr>
        <p:blipFill>
          <a:blip r:embed="rId1"/>
          <a:stretch/>
        </p:blipFill>
        <p:spPr>
          <a:xfrm>
            <a:off x="103320" y="208080"/>
            <a:ext cx="1447560" cy="120636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文本框 2"/>
          <p:cNvSpPr/>
          <p:nvPr/>
        </p:nvSpPr>
        <p:spPr>
          <a:xfrm>
            <a:off x="1620000" y="83664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方正毡笔黑简体"/>
                <a:ea typeface="方正毡笔黑简体"/>
              </a:rPr>
              <a:t>给予是快乐的课件</a:t>
            </a:r>
            <a:r>
              <a:rPr b="0" lang="en-US" sz="4000" spc="-1" strike="noStrike">
                <a:solidFill>
                  <a:srgbClr val="ff0066"/>
                </a:solidFill>
                <a:latin typeface="方正毡笔黑简体"/>
                <a:ea typeface="方正毡笔黑简体"/>
              </a:rPr>
              <a:t>PPT</a:t>
            </a:r>
            <a:r>
              <a:rPr b="0" lang="zh-CN" sz="4000" spc="-1" strike="noStrike">
                <a:solidFill>
                  <a:srgbClr val="ff0066"/>
                </a:solidFill>
                <a:latin typeface="方正毡笔黑简体"/>
                <a:ea typeface="方正毡笔黑简体"/>
              </a:rPr>
              <a:t>模板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380880" y="1447920"/>
            <a:ext cx="87631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男孩睁大了眼睛：“你是说，这车是你哥哥给的，你不用花一分钱？”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8001000" y="5562720"/>
            <a:ext cx="533520" cy="7617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761760"/>
              <a:gd name="textAreaBottom" fmla="*/ 727200 h 761760"/>
            </a:gdLst>
            <a:ahLst/>
            <a:rect l="textAreaLeft" t="textAreaTop" r="textAreaRight" b="textAreaBottom"/>
            <a:pathLst>
              <a:path w="21600" h="30834">
                <a:moveTo>
                  <a:pt x="0" y="0"/>
                </a:moveTo>
                <a:lnTo>
                  <a:pt x="21600" y="0"/>
                </a:lnTo>
                <a:lnTo>
                  <a:pt x="21600" y="30834"/>
                </a:lnTo>
                <a:lnTo>
                  <a:pt x="0" y="30834"/>
                </a:lnTo>
                <a:close/>
              </a:path>
              <a:path fill="lightenLess" w="21600" h="30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34">
                <a:moveTo>
                  <a:pt x="21600" y="0"/>
                </a:moveTo>
                <a:lnTo>
                  <a:pt x="21600" y="30834"/>
                </a:lnTo>
                <a:lnTo>
                  <a:pt x="20200" y="29434"/>
                </a:lnTo>
                <a:lnTo>
                  <a:pt x="20200" y="1400"/>
                </a:lnTo>
                <a:close/>
              </a:path>
              <a:path fill="darkenLess" w="21600" h="30834">
                <a:moveTo>
                  <a:pt x="21600" y="30834"/>
                </a:moveTo>
                <a:lnTo>
                  <a:pt x="0" y="30834"/>
                </a:lnTo>
                <a:lnTo>
                  <a:pt x="1400" y="29434"/>
                </a:lnTo>
                <a:lnTo>
                  <a:pt x="20200" y="29434"/>
                </a:lnTo>
                <a:close/>
              </a:path>
              <a:path fill="lighten" w="21600" h="30834">
                <a:moveTo>
                  <a:pt x="0" y="30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34"/>
                </a:lnTo>
                <a:close/>
              </a:path>
              <a:path fill="darken" w="21600" h="30834">
                <a:moveTo>
                  <a:pt x="3794" y="12110"/>
                </a:moveTo>
                <a:lnTo>
                  <a:pt x="7301" y="12110"/>
                </a:lnTo>
                <a:lnTo>
                  <a:pt x="7301" y="17445"/>
                </a:lnTo>
                <a:cubicBezTo>
                  <a:pt x="7301" y="18368"/>
                  <a:pt x="8102" y="19099"/>
                  <a:pt x="9138" y="19099"/>
                </a:cubicBezTo>
                <a:lnTo>
                  <a:pt x="10800" y="19099"/>
                </a:lnTo>
                <a:cubicBezTo>
                  <a:pt x="11836" y="19099"/>
                  <a:pt x="12636" y="18368"/>
                  <a:pt x="12636" y="17445"/>
                </a:cubicBezTo>
                <a:lnTo>
                  <a:pt x="12636" y="12110"/>
                </a:lnTo>
                <a:lnTo>
                  <a:pt x="10800" y="12110"/>
                </a:lnTo>
                <a:lnTo>
                  <a:pt x="14308" y="8602"/>
                </a:lnTo>
                <a:lnTo>
                  <a:pt x="17981" y="12110"/>
                </a:lnTo>
                <a:lnTo>
                  <a:pt x="16144" y="12110"/>
                </a:lnTo>
                <a:lnTo>
                  <a:pt x="16144" y="17445"/>
                </a:lnTo>
                <a:cubicBezTo>
                  <a:pt x="16144" y="20213"/>
                  <a:pt x="13568" y="22772"/>
                  <a:pt x="10800" y="22772"/>
                </a:cubicBezTo>
                <a:lnTo>
                  <a:pt x="9138" y="22772"/>
                </a:lnTo>
                <a:cubicBezTo>
                  <a:pt x="6370" y="22772"/>
                  <a:pt x="3794" y="20213"/>
                  <a:pt x="3794" y="17445"/>
                </a:cubicBez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430360" y="1414440"/>
            <a:ext cx="4248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睁大了眼睛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7091280" y="2351160"/>
            <a:ext cx="1297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给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90840" y="3214800"/>
            <a:ext cx="2592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分钱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"/>
                            </p:stCondLst>
                            <p:childTnLst>
                              <p:par>
                                <p:cTn id="1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39640" y="1413000"/>
            <a:ext cx="8460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不一会儿他出来了，背着一个小孩，显然是他的弟弟，看上去腿有残疾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246720" y="3232080"/>
            <a:ext cx="2521080" cy="10083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腿有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70000" y="4149720"/>
            <a:ext cx="2232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残疾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8001000" y="5562720"/>
            <a:ext cx="533520" cy="7617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761760"/>
              <a:gd name="textAreaBottom" fmla="*/ 727200 h 761760"/>
            </a:gdLst>
            <a:ahLst/>
            <a:rect l="textAreaLeft" t="textAreaTop" r="textAreaRight" b="textAreaBottom"/>
            <a:pathLst>
              <a:path w="21600" h="30834">
                <a:moveTo>
                  <a:pt x="0" y="0"/>
                </a:moveTo>
                <a:lnTo>
                  <a:pt x="21600" y="0"/>
                </a:lnTo>
                <a:lnTo>
                  <a:pt x="21600" y="30834"/>
                </a:lnTo>
                <a:lnTo>
                  <a:pt x="0" y="30834"/>
                </a:lnTo>
                <a:close/>
              </a:path>
              <a:path fill="lightenLess" w="21600" h="30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34">
                <a:moveTo>
                  <a:pt x="21600" y="0"/>
                </a:moveTo>
                <a:lnTo>
                  <a:pt x="21600" y="30834"/>
                </a:lnTo>
                <a:lnTo>
                  <a:pt x="20200" y="29434"/>
                </a:lnTo>
                <a:lnTo>
                  <a:pt x="20200" y="1400"/>
                </a:lnTo>
                <a:close/>
              </a:path>
              <a:path fill="darkenLess" w="21600" h="30834">
                <a:moveTo>
                  <a:pt x="21600" y="30834"/>
                </a:moveTo>
                <a:lnTo>
                  <a:pt x="0" y="30834"/>
                </a:lnTo>
                <a:lnTo>
                  <a:pt x="1400" y="29434"/>
                </a:lnTo>
                <a:lnTo>
                  <a:pt x="20200" y="29434"/>
                </a:lnTo>
                <a:close/>
              </a:path>
              <a:path fill="lighten" w="21600" h="30834">
                <a:moveTo>
                  <a:pt x="0" y="30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34"/>
                </a:lnTo>
                <a:close/>
              </a:path>
              <a:path fill="darken" w="21600" h="30834">
                <a:moveTo>
                  <a:pt x="3794" y="12110"/>
                </a:moveTo>
                <a:lnTo>
                  <a:pt x="7301" y="12110"/>
                </a:lnTo>
                <a:lnTo>
                  <a:pt x="7301" y="17445"/>
                </a:lnTo>
                <a:cubicBezTo>
                  <a:pt x="7301" y="18368"/>
                  <a:pt x="8102" y="19099"/>
                  <a:pt x="9138" y="19099"/>
                </a:cubicBezTo>
                <a:lnTo>
                  <a:pt x="10800" y="19099"/>
                </a:lnTo>
                <a:cubicBezTo>
                  <a:pt x="11836" y="19099"/>
                  <a:pt x="12636" y="18368"/>
                  <a:pt x="12636" y="17445"/>
                </a:cubicBezTo>
                <a:lnTo>
                  <a:pt x="12636" y="12110"/>
                </a:lnTo>
                <a:lnTo>
                  <a:pt x="10800" y="12110"/>
                </a:lnTo>
                <a:lnTo>
                  <a:pt x="14308" y="8602"/>
                </a:lnTo>
                <a:lnTo>
                  <a:pt x="17981" y="12110"/>
                </a:lnTo>
                <a:lnTo>
                  <a:pt x="16144" y="12110"/>
                </a:lnTo>
                <a:lnTo>
                  <a:pt x="16144" y="17445"/>
                </a:lnTo>
                <a:cubicBezTo>
                  <a:pt x="16144" y="20213"/>
                  <a:pt x="13568" y="22772"/>
                  <a:pt x="10800" y="22772"/>
                </a:cubicBezTo>
                <a:lnTo>
                  <a:pt x="9138" y="22772"/>
                </a:lnTo>
                <a:cubicBezTo>
                  <a:pt x="6370" y="22772"/>
                  <a:pt x="3794" y="20213"/>
                  <a:pt x="3794" y="17445"/>
                </a:cubicBez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"/>
                            </p:stCondLst>
                            <p:childTnLst>
                              <p:par>
                                <p:cTn id="1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5"/>
          <p:cNvSpPr/>
          <p:nvPr/>
        </p:nvSpPr>
        <p:spPr>
          <a:xfrm>
            <a:off x="539640" y="1916280"/>
            <a:ext cx="8209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他把弟弟放在最下面的台阶上，两个人紧靠着坐下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162920" y="2800440"/>
            <a:ext cx="1512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紧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85640" y="3735360"/>
            <a:ext cx="1800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靠着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8001000" y="5562720"/>
            <a:ext cx="533520" cy="7617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761760"/>
              <a:gd name="textAreaBottom" fmla="*/ 727200 h 761760"/>
            </a:gdLst>
            <a:ahLst/>
            <a:rect l="textAreaLeft" t="textAreaTop" r="textAreaRight" b="textAreaBottom"/>
            <a:pathLst>
              <a:path w="21600" h="30834">
                <a:moveTo>
                  <a:pt x="0" y="0"/>
                </a:moveTo>
                <a:lnTo>
                  <a:pt x="21600" y="0"/>
                </a:lnTo>
                <a:lnTo>
                  <a:pt x="21600" y="30834"/>
                </a:lnTo>
                <a:lnTo>
                  <a:pt x="0" y="30834"/>
                </a:lnTo>
                <a:close/>
              </a:path>
              <a:path fill="lightenLess" w="21600" h="30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34">
                <a:moveTo>
                  <a:pt x="21600" y="0"/>
                </a:moveTo>
                <a:lnTo>
                  <a:pt x="21600" y="30834"/>
                </a:lnTo>
                <a:lnTo>
                  <a:pt x="20200" y="29434"/>
                </a:lnTo>
                <a:lnTo>
                  <a:pt x="20200" y="1400"/>
                </a:lnTo>
                <a:close/>
              </a:path>
              <a:path fill="darkenLess" w="21600" h="30834">
                <a:moveTo>
                  <a:pt x="21600" y="30834"/>
                </a:moveTo>
                <a:lnTo>
                  <a:pt x="0" y="30834"/>
                </a:lnTo>
                <a:lnTo>
                  <a:pt x="1400" y="29434"/>
                </a:lnTo>
                <a:lnTo>
                  <a:pt x="20200" y="29434"/>
                </a:lnTo>
                <a:close/>
              </a:path>
              <a:path fill="lighten" w="21600" h="30834">
                <a:moveTo>
                  <a:pt x="0" y="30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34"/>
                </a:lnTo>
                <a:close/>
              </a:path>
              <a:path fill="darken" w="21600" h="30834">
                <a:moveTo>
                  <a:pt x="3794" y="12110"/>
                </a:moveTo>
                <a:lnTo>
                  <a:pt x="7301" y="12110"/>
                </a:lnTo>
                <a:lnTo>
                  <a:pt x="7301" y="17445"/>
                </a:lnTo>
                <a:cubicBezTo>
                  <a:pt x="7301" y="18368"/>
                  <a:pt x="8102" y="19099"/>
                  <a:pt x="9138" y="19099"/>
                </a:cubicBezTo>
                <a:lnTo>
                  <a:pt x="10800" y="19099"/>
                </a:lnTo>
                <a:cubicBezTo>
                  <a:pt x="11836" y="19099"/>
                  <a:pt x="12636" y="18368"/>
                  <a:pt x="12636" y="17445"/>
                </a:cubicBezTo>
                <a:lnTo>
                  <a:pt x="12636" y="12110"/>
                </a:lnTo>
                <a:lnTo>
                  <a:pt x="10800" y="12110"/>
                </a:lnTo>
                <a:lnTo>
                  <a:pt x="14308" y="8602"/>
                </a:lnTo>
                <a:lnTo>
                  <a:pt x="17981" y="12110"/>
                </a:lnTo>
                <a:lnTo>
                  <a:pt x="16144" y="12110"/>
                </a:lnTo>
                <a:lnTo>
                  <a:pt x="16144" y="17445"/>
                </a:lnTo>
                <a:cubicBezTo>
                  <a:pt x="16144" y="20213"/>
                  <a:pt x="13568" y="22772"/>
                  <a:pt x="10800" y="22772"/>
                </a:cubicBezTo>
                <a:lnTo>
                  <a:pt x="9138" y="22772"/>
                </a:lnTo>
                <a:cubicBezTo>
                  <a:pt x="6370" y="22772"/>
                  <a:pt x="3794" y="20213"/>
                  <a:pt x="3794" y="17445"/>
                </a:cubicBez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文本框 8194"/>
          <p:cNvSpPr/>
          <p:nvPr/>
        </p:nvSpPr>
        <p:spPr>
          <a:xfrm>
            <a:off x="1116000" y="4941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"/>
                            </p:stCondLst>
                            <p:childTnLst>
                              <p:par>
                                <p:cTn id="1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576360" y="1628640"/>
            <a:ext cx="8028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这是他哥哥送给他的圣诞礼物！将来，我也要送你一辆这样的新车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062000" y="2567160"/>
            <a:ext cx="3816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圣诞礼物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643280" y="3483000"/>
            <a:ext cx="3600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这样的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8001000" y="5562720"/>
            <a:ext cx="533520" cy="7617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761760"/>
              <a:gd name="textAreaBottom" fmla="*/ 727200 h 761760"/>
            </a:gdLst>
            <a:ahLst/>
            <a:rect l="textAreaLeft" t="textAreaTop" r="textAreaRight" b="textAreaBottom"/>
            <a:pathLst>
              <a:path w="21600" h="30834">
                <a:moveTo>
                  <a:pt x="0" y="0"/>
                </a:moveTo>
                <a:lnTo>
                  <a:pt x="21600" y="0"/>
                </a:lnTo>
                <a:lnTo>
                  <a:pt x="21600" y="30834"/>
                </a:lnTo>
                <a:lnTo>
                  <a:pt x="0" y="30834"/>
                </a:lnTo>
                <a:close/>
              </a:path>
              <a:path fill="lightenLess" w="21600" h="30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34">
                <a:moveTo>
                  <a:pt x="21600" y="0"/>
                </a:moveTo>
                <a:lnTo>
                  <a:pt x="21600" y="30834"/>
                </a:lnTo>
                <a:lnTo>
                  <a:pt x="20200" y="29434"/>
                </a:lnTo>
                <a:lnTo>
                  <a:pt x="20200" y="1400"/>
                </a:lnTo>
                <a:close/>
              </a:path>
              <a:path fill="darkenLess" w="21600" h="30834">
                <a:moveTo>
                  <a:pt x="21600" y="30834"/>
                </a:moveTo>
                <a:lnTo>
                  <a:pt x="0" y="30834"/>
                </a:lnTo>
                <a:lnTo>
                  <a:pt x="1400" y="29434"/>
                </a:lnTo>
                <a:lnTo>
                  <a:pt x="20200" y="29434"/>
                </a:lnTo>
                <a:close/>
              </a:path>
              <a:path fill="lighten" w="21600" h="30834">
                <a:moveTo>
                  <a:pt x="0" y="30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34"/>
                </a:lnTo>
                <a:close/>
              </a:path>
              <a:path fill="darken" w="21600" h="30834">
                <a:moveTo>
                  <a:pt x="3794" y="12110"/>
                </a:moveTo>
                <a:lnTo>
                  <a:pt x="7301" y="12110"/>
                </a:lnTo>
                <a:lnTo>
                  <a:pt x="7301" y="17445"/>
                </a:lnTo>
                <a:cubicBezTo>
                  <a:pt x="7301" y="18368"/>
                  <a:pt x="8102" y="19099"/>
                  <a:pt x="9138" y="19099"/>
                </a:cubicBezTo>
                <a:lnTo>
                  <a:pt x="10800" y="19099"/>
                </a:lnTo>
                <a:cubicBezTo>
                  <a:pt x="11836" y="19099"/>
                  <a:pt x="12636" y="18368"/>
                  <a:pt x="12636" y="17445"/>
                </a:cubicBezTo>
                <a:lnTo>
                  <a:pt x="12636" y="12110"/>
                </a:lnTo>
                <a:lnTo>
                  <a:pt x="10800" y="12110"/>
                </a:lnTo>
                <a:lnTo>
                  <a:pt x="14308" y="8602"/>
                </a:lnTo>
                <a:lnTo>
                  <a:pt x="17981" y="12110"/>
                </a:lnTo>
                <a:lnTo>
                  <a:pt x="16144" y="12110"/>
                </a:lnTo>
                <a:lnTo>
                  <a:pt x="16144" y="17445"/>
                </a:lnTo>
                <a:cubicBezTo>
                  <a:pt x="16144" y="20213"/>
                  <a:pt x="13568" y="22772"/>
                  <a:pt x="10800" y="22772"/>
                </a:cubicBezTo>
                <a:lnTo>
                  <a:pt x="9138" y="22772"/>
                </a:lnTo>
                <a:cubicBezTo>
                  <a:pt x="6370" y="22772"/>
                  <a:pt x="3794" y="20213"/>
                  <a:pt x="3794" y="17445"/>
                </a:cubicBez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250920" y="1484280"/>
            <a:ext cx="8713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到那时候，你就可以坐在车里，亲眼看看我跟你讲的摆在橱窗里的那些好看的圣诞礼物了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670200" y="2384280"/>
            <a:ext cx="2592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亲眼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8001000" y="5562720"/>
            <a:ext cx="533520" cy="7617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761760"/>
              <a:gd name="textAreaBottom" fmla="*/ 727200 h 761760"/>
            </a:gdLst>
            <a:ahLst/>
            <a:rect l="textAreaLeft" t="textAreaTop" r="textAreaRight" b="textAreaBottom"/>
            <a:pathLst>
              <a:path w="21600" h="30834">
                <a:moveTo>
                  <a:pt x="0" y="0"/>
                </a:moveTo>
                <a:lnTo>
                  <a:pt x="21600" y="0"/>
                </a:lnTo>
                <a:lnTo>
                  <a:pt x="21600" y="30834"/>
                </a:lnTo>
                <a:lnTo>
                  <a:pt x="0" y="30834"/>
                </a:lnTo>
                <a:close/>
              </a:path>
              <a:path fill="lightenLess" w="21600" h="30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34">
                <a:moveTo>
                  <a:pt x="21600" y="0"/>
                </a:moveTo>
                <a:lnTo>
                  <a:pt x="21600" y="30834"/>
                </a:lnTo>
                <a:lnTo>
                  <a:pt x="20200" y="29434"/>
                </a:lnTo>
                <a:lnTo>
                  <a:pt x="20200" y="1400"/>
                </a:lnTo>
                <a:close/>
              </a:path>
              <a:path fill="darkenLess" w="21600" h="30834">
                <a:moveTo>
                  <a:pt x="21600" y="30834"/>
                </a:moveTo>
                <a:lnTo>
                  <a:pt x="0" y="30834"/>
                </a:lnTo>
                <a:lnTo>
                  <a:pt x="1400" y="29434"/>
                </a:lnTo>
                <a:lnTo>
                  <a:pt x="20200" y="29434"/>
                </a:lnTo>
                <a:close/>
              </a:path>
              <a:path fill="lighten" w="21600" h="30834">
                <a:moveTo>
                  <a:pt x="0" y="30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34"/>
                </a:lnTo>
                <a:close/>
              </a:path>
              <a:path fill="darken" w="21600" h="30834">
                <a:moveTo>
                  <a:pt x="3794" y="12110"/>
                </a:moveTo>
                <a:lnTo>
                  <a:pt x="7301" y="12110"/>
                </a:lnTo>
                <a:lnTo>
                  <a:pt x="7301" y="17445"/>
                </a:lnTo>
                <a:cubicBezTo>
                  <a:pt x="7301" y="18368"/>
                  <a:pt x="8102" y="19099"/>
                  <a:pt x="9138" y="19099"/>
                </a:cubicBezTo>
                <a:lnTo>
                  <a:pt x="10800" y="19099"/>
                </a:lnTo>
                <a:cubicBezTo>
                  <a:pt x="11836" y="19099"/>
                  <a:pt x="12636" y="18368"/>
                  <a:pt x="12636" y="17445"/>
                </a:cubicBezTo>
                <a:lnTo>
                  <a:pt x="12636" y="12110"/>
                </a:lnTo>
                <a:lnTo>
                  <a:pt x="10800" y="12110"/>
                </a:lnTo>
                <a:lnTo>
                  <a:pt x="14308" y="8602"/>
                </a:lnTo>
                <a:lnTo>
                  <a:pt x="17981" y="12110"/>
                </a:lnTo>
                <a:lnTo>
                  <a:pt x="16144" y="12110"/>
                </a:lnTo>
                <a:lnTo>
                  <a:pt x="16144" y="17445"/>
                </a:lnTo>
                <a:cubicBezTo>
                  <a:pt x="16144" y="20213"/>
                  <a:pt x="13568" y="22772"/>
                  <a:pt x="10800" y="22772"/>
                </a:cubicBezTo>
                <a:lnTo>
                  <a:pt x="9138" y="22772"/>
                </a:lnTo>
                <a:cubicBezTo>
                  <a:pt x="6370" y="22772"/>
                  <a:pt x="3794" y="20213"/>
                  <a:pt x="3794" y="17445"/>
                </a:cubicBez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B189-9BF6-4277-B634-3B58C1E49199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5"/>
          <p:cNvSpPr txBox="1"/>
          <p:nvPr/>
        </p:nvSpPr>
        <p:spPr>
          <a:xfrm>
            <a:off x="1447920" y="1600200"/>
            <a:ext cx="6858000" cy="24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大家，再见！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11280" y="1341360"/>
            <a:ext cx="8064360" cy="331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77777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777777"/>
                </a:solidFill>
                <a:latin typeface="楷体_GB2312"/>
                <a:ea typeface="楷体_GB2312"/>
              </a:rPr>
              <a:t>男孩惊叹地说：</a:t>
            </a: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777777"/>
                </a:solidFill>
                <a:latin typeface="楷体_GB2312"/>
                <a:ea typeface="楷体_GB2312"/>
              </a:rPr>
              <a:t>哇！我希望     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77777"/>
                </a:solidFill>
                <a:latin typeface="楷体_GB2312"/>
                <a:ea typeface="楷体_GB2312"/>
              </a:rPr>
              <a:t>           </a:t>
            </a: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777777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59280" y="3139920"/>
            <a:ext cx="5184720" cy="1800"/>
            <a:chOff x="3059280" y="3139920"/>
            <a:chExt cx="5184720" cy="1800"/>
          </a:xfrm>
        </p:grpSpPr>
        <p:sp>
          <p:nvSpPr>
            <p:cNvPr id="135" name="Line 5"/>
            <p:cNvSpPr/>
            <p:nvPr/>
          </p:nvSpPr>
          <p:spPr>
            <a:xfrm>
              <a:off x="3059280" y="3139920"/>
              <a:ext cx="5184720" cy="1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3059280" y="3139920"/>
              <a:ext cx="5184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55640" y="4149720"/>
            <a:ext cx="3816360" cy="360"/>
            <a:chOff x="755640" y="4149720"/>
            <a:chExt cx="3816360" cy="360"/>
          </a:xfrm>
        </p:grpSpPr>
        <p:sp>
          <p:nvSpPr>
            <p:cNvPr id="138" name="Line 6"/>
            <p:cNvSpPr/>
            <p:nvPr/>
          </p:nvSpPr>
          <p:spPr>
            <a:xfrm>
              <a:off x="755640" y="4149720"/>
              <a:ext cx="3816360" cy="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755640" y="414972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059280" y="3139920"/>
            <a:ext cx="5184720" cy="1800"/>
            <a:chOff x="3059280" y="3139920"/>
            <a:chExt cx="5184720" cy="1800"/>
          </a:xfrm>
        </p:grpSpPr>
        <p:sp>
          <p:nvSpPr>
            <p:cNvPr id="141" name="Line 9"/>
            <p:cNvSpPr/>
            <p:nvPr/>
          </p:nvSpPr>
          <p:spPr>
            <a:xfrm>
              <a:off x="3059280" y="3139920"/>
              <a:ext cx="5184720" cy="1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3059280" y="3139920"/>
              <a:ext cx="5184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3" name="Text Box 10"/>
          <p:cNvSpPr/>
          <p:nvPr/>
        </p:nvSpPr>
        <p:spPr>
          <a:xfrm>
            <a:off x="611280" y="3213000"/>
            <a:ext cx="4465440" cy="239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59280" y="3139920"/>
            <a:ext cx="5184720" cy="1800"/>
            <a:chOff x="3059280" y="3139920"/>
            <a:chExt cx="5184720" cy="1800"/>
          </a:xfrm>
        </p:grpSpPr>
        <p:sp>
          <p:nvSpPr>
            <p:cNvPr id="145" name="Line 11"/>
            <p:cNvSpPr/>
            <p:nvPr/>
          </p:nvSpPr>
          <p:spPr>
            <a:xfrm>
              <a:off x="3059280" y="3139920"/>
              <a:ext cx="5184720" cy="1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059280" y="3139920"/>
              <a:ext cx="5184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7" name="Text Box 12"/>
          <p:cNvSpPr/>
          <p:nvPr/>
        </p:nvSpPr>
        <p:spPr>
          <a:xfrm>
            <a:off x="611280" y="3213000"/>
            <a:ext cx="4465440" cy="239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59280" y="3139920"/>
            <a:ext cx="5184720" cy="1800"/>
            <a:chOff x="3059280" y="3139920"/>
            <a:chExt cx="5184720" cy="1800"/>
          </a:xfrm>
        </p:grpSpPr>
        <p:sp>
          <p:nvSpPr>
            <p:cNvPr id="149" name="Line 13"/>
            <p:cNvSpPr/>
            <p:nvPr/>
          </p:nvSpPr>
          <p:spPr>
            <a:xfrm>
              <a:off x="3059280" y="3139920"/>
              <a:ext cx="5184720" cy="1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059280" y="3139920"/>
              <a:ext cx="5184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059280" y="3139920"/>
            <a:ext cx="5184720" cy="1800"/>
            <a:chOff x="3059280" y="3139920"/>
            <a:chExt cx="5184720" cy="1800"/>
          </a:xfrm>
        </p:grpSpPr>
        <p:sp>
          <p:nvSpPr>
            <p:cNvPr id="152" name="Line 15"/>
            <p:cNvSpPr/>
            <p:nvPr/>
          </p:nvSpPr>
          <p:spPr>
            <a:xfrm>
              <a:off x="3059280" y="3139920"/>
              <a:ext cx="5184720" cy="1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059280" y="3139920"/>
              <a:ext cx="5184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54" name="Picture 19" descr="蝴蝶４"/>
          <p:cNvPicPr/>
          <p:nvPr/>
        </p:nvPicPr>
        <p:blipFill>
          <a:blip r:embed="rId1"/>
          <a:stretch/>
        </p:blipFill>
        <p:spPr>
          <a:xfrm>
            <a:off x="6724800" y="396252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0"/>
          <p:cNvSpPr/>
          <p:nvPr/>
        </p:nvSpPr>
        <p:spPr>
          <a:xfrm>
            <a:off x="6732720" y="4292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8001000" y="42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1341360"/>
            <a:ext cx="8064360" cy="331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77777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777777"/>
                </a:solidFill>
                <a:latin typeface="楷体_GB2312"/>
                <a:ea typeface="楷体_GB2312"/>
              </a:rPr>
              <a:t>男孩惊叹地说：</a:t>
            </a: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777777"/>
                </a:solidFill>
                <a:latin typeface="楷体_GB2312"/>
                <a:ea typeface="楷体_GB2312"/>
              </a:rPr>
              <a:t>哇！我希望     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77777"/>
                </a:solidFill>
                <a:latin typeface="楷体_GB2312"/>
                <a:ea typeface="楷体_GB2312"/>
              </a:rPr>
              <a:t>           </a:t>
            </a: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777777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59280" y="3139920"/>
            <a:ext cx="5184720" cy="1800"/>
            <a:chOff x="3059280" y="3139920"/>
            <a:chExt cx="5184720" cy="1800"/>
          </a:xfrm>
        </p:grpSpPr>
        <p:sp>
          <p:nvSpPr>
            <p:cNvPr id="159" name="Line 3"/>
            <p:cNvSpPr/>
            <p:nvPr/>
          </p:nvSpPr>
          <p:spPr>
            <a:xfrm>
              <a:off x="3059280" y="3139920"/>
              <a:ext cx="5184720" cy="1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3059280" y="3139920"/>
              <a:ext cx="5184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55640" y="4149720"/>
            <a:ext cx="3816360" cy="360"/>
            <a:chOff x="755640" y="4149720"/>
            <a:chExt cx="3816360" cy="360"/>
          </a:xfrm>
        </p:grpSpPr>
        <p:sp>
          <p:nvSpPr>
            <p:cNvPr id="162" name="Line 4"/>
            <p:cNvSpPr/>
            <p:nvPr/>
          </p:nvSpPr>
          <p:spPr>
            <a:xfrm>
              <a:off x="755640" y="4149720"/>
              <a:ext cx="3816360" cy="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755640" y="414972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4" name="Text Box 5"/>
          <p:cNvSpPr/>
          <p:nvPr/>
        </p:nvSpPr>
        <p:spPr>
          <a:xfrm>
            <a:off x="2916360" y="2154240"/>
            <a:ext cx="5041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  <a:ea typeface="楷体_GB2312"/>
              </a:rPr>
              <a:t>自己也能当这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59280" y="3139920"/>
            <a:ext cx="5184720" cy="1800"/>
            <a:chOff x="3059280" y="3139920"/>
            <a:chExt cx="5184720" cy="1800"/>
          </a:xfrm>
        </p:grpSpPr>
        <p:sp>
          <p:nvSpPr>
            <p:cNvPr id="166" name="Line 6"/>
            <p:cNvSpPr/>
            <p:nvPr/>
          </p:nvSpPr>
          <p:spPr>
            <a:xfrm>
              <a:off x="3059280" y="3139920"/>
              <a:ext cx="5184720" cy="1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059280" y="3139920"/>
              <a:ext cx="5184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8" name="Text Box 7"/>
          <p:cNvSpPr/>
          <p:nvPr/>
        </p:nvSpPr>
        <p:spPr>
          <a:xfrm>
            <a:off x="611280" y="3213000"/>
            <a:ext cx="4465440" cy="239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3139920"/>
            <a:ext cx="5184720" cy="1800"/>
            <a:chOff x="3059280" y="3139920"/>
            <a:chExt cx="5184720" cy="1800"/>
          </a:xfrm>
        </p:grpSpPr>
        <p:sp>
          <p:nvSpPr>
            <p:cNvPr id="170" name="Line 8"/>
            <p:cNvSpPr/>
            <p:nvPr/>
          </p:nvSpPr>
          <p:spPr>
            <a:xfrm>
              <a:off x="3059280" y="3139920"/>
              <a:ext cx="5184720" cy="1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059280" y="3139920"/>
              <a:ext cx="5184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2" name="Text Box 9"/>
          <p:cNvSpPr/>
          <p:nvPr/>
        </p:nvSpPr>
        <p:spPr>
          <a:xfrm>
            <a:off x="611280" y="3213000"/>
            <a:ext cx="4465440" cy="239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59280" y="3139920"/>
            <a:ext cx="5184720" cy="1800"/>
            <a:chOff x="3059280" y="3139920"/>
            <a:chExt cx="5184720" cy="1800"/>
          </a:xfrm>
        </p:grpSpPr>
        <p:sp>
          <p:nvSpPr>
            <p:cNvPr id="174" name="Line 10"/>
            <p:cNvSpPr/>
            <p:nvPr/>
          </p:nvSpPr>
          <p:spPr>
            <a:xfrm>
              <a:off x="3059280" y="3139920"/>
              <a:ext cx="5184720" cy="1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3059280" y="3139920"/>
              <a:ext cx="5184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6" name="Text Box 12"/>
          <p:cNvSpPr/>
          <p:nvPr/>
        </p:nvSpPr>
        <p:spPr>
          <a:xfrm>
            <a:off x="468360" y="3162240"/>
            <a:ext cx="4465440" cy="239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样的哥哥</a:t>
            </a:r>
            <a:r>
              <a:rPr b="1" lang="zh-CN" sz="6000" spc="-1" strike="noStrike">
                <a:solidFill>
                  <a:srgbClr val="777777"/>
                </a:solidFill>
                <a:latin typeface="楷体_GB2312"/>
                <a:ea typeface="楷体_GB2312"/>
              </a:rPr>
              <a:t>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7" name="Picture 13" descr="蝴蝶４"/>
          <p:cNvPicPr/>
          <p:nvPr/>
        </p:nvPicPr>
        <p:blipFill>
          <a:blip r:embed="rId1"/>
          <a:stretch/>
        </p:blipFill>
        <p:spPr>
          <a:xfrm>
            <a:off x="6724800" y="396252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4"/>
          <p:cNvSpPr/>
          <p:nvPr/>
        </p:nvSpPr>
        <p:spPr>
          <a:xfrm>
            <a:off x="6705720" y="4281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8001000" y="42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05084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32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77777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777777"/>
                </a:solidFill>
                <a:latin typeface="Arial"/>
                <a:ea typeface="楷体_GB2312"/>
              </a:rPr>
              <a:t>男孩跳下车，三步两步跑上台阶进了屋。不一会儿他出来了，背着一个小孩，显然是他的弟弟，看上去腿有残疾。他把弟弟放在最下面的台阶上，两个人紧靠着坐下。他指着保罗的车，说：“看见了吗？很漂亮，对不对？这是他哥哥送给他的圣诞礼物！将来，我也要送你一辆这样的新车。到那时候，你就可以坐在车里，亲眼看看我跟你讲的摆在橱窗里的那些好看的圣诞礼物了。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2" name="秋日的私语.mp3" descr=""/>
          <p:cNvPicPr/>
          <p:nvPr/>
        </p:nvPicPr>
        <p:blipFill>
          <a:blip r:embed="rId1"/>
          <a:stretch/>
        </p:blipFill>
        <p:spPr>
          <a:xfrm>
            <a:off x="8153280" y="60199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1908000" y="1190520"/>
            <a:ext cx="28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 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2590920"/>
            <a:ext cx="6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447920" y="4572000"/>
            <a:ext cx="13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819520" y="5410080"/>
            <a:ext cx="120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900000" y="2421000"/>
            <a:ext cx="71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87280" y="2205000"/>
            <a:ext cx="9325080" cy="21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7777"/>
                </a:solidFill>
                <a:latin typeface="Arial"/>
                <a:ea typeface="楷体_GB2312"/>
              </a:rPr>
              <a:t>   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  <a:ea typeface="楷体_GB2312"/>
              </a:rPr>
              <a:t>(  </a:t>
            </a:r>
            <a:r>
              <a:rPr b="1" lang="zh-CN" sz="5400" spc="-1" strike="noStrike">
                <a:solidFill>
                  <a:srgbClr val="777777"/>
                </a:solidFill>
                <a:latin typeface="Arial"/>
                <a:ea typeface="楷体_GB2312"/>
              </a:rPr>
              <a:t>谁</a:t>
            </a: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  <a:ea typeface="楷体_GB2312"/>
              </a:rPr>
              <a:t>)</a:t>
            </a: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楷体_GB2312"/>
              </a:rPr>
              <a:t>因为 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  <a:ea typeface="楷体_GB2312"/>
              </a:rPr>
              <a:t>(    </a:t>
            </a:r>
            <a:r>
              <a:rPr b="1" lang="zh-CN" sz="5400" spc="-1" strike="noStrike">
                <a:solidFill>
                  <a:srgbClr val="777777"/>
                </a:solidFill>
                <a:latin typeface="Arial"/>
                <a:ea typeface="楷体_GB2312"/>
              </a:rPr>
              <a:t>什么  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  <a:ea typeface="楷体_GB2312"/>
              </a:rPr>
              <a:t>),</a:t>
            </a: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楷体_GB2312"/>
              </a:rPr>
              <a:t>所以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楷体_GB2312"/>
              </a:rPr>
              <a:t>感到快乐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5102280" y="1011240"/>
            <a:ext cx="242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77777"/>
                </a:solidFill>
                <a:latin typeface="Arial"/>
                <a:ea typeface="楷体_GB2312"/>
              </a:rPr>
              <a:t>保罗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265400" y="4611600"/>
            <a:ext cx="22269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77777"/>
                </a:solidFill>
                <a:latin typeface="Arial"/>
                <a:ea typeface="楷体_GB2312"/>
              </a:rPr>
              <a:t>小男孩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4932360" y="4581360"/>
            <a:ext cx="316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77777"/>
                </a:solidFill>
                <a:latin typeface="Arial"/>
                <a:ea typeface="楷体_GB2312"/>
              </a:rPr>
              <a:t>保罗的哥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117440" y="969840"/>
            <a:ext cx="244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77777"/>
                </a:solidFill>
                <a:latin typeface="Arial"/>
                <a:ea typeface="楷体_GB2312"/>
              </a:rPr>
              <a:t>小弟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908000" y="2276640"/>
            <a:ext cx="5688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给予是快乐的</a:t>
            </a:r>
            <a:r>
              <a:rPr b="1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!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395280" y="1979640"/>
            <a:ext cx="83883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77777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777777"/>
                </a:solidFill>
                <a:latin typeface="Arial"/>
                <a:ea typeface="楷体_GB2312"/>
              </a:rPr>
              <a:t>我也曾因为</a:t>
            </a:r>
            <a:r>
              <a:rPr b="1" lang="zh-CN" sz="5400" spc="-1" strike="noStrike" u="sng">
                <a:solidFill>
                  <a:srgbClr val="777777"/>
                </a:solidFill>
                <a:uFillTx/>
                <a:latin typeface="Arial"/>
                <a:ea typeface="楷体_GB2312"/>
              </a:rPr>
              <a:t>                    </a:t>
            </a:r>
            <a:r>
              <a:rPr b="1" lang="en-US" sz="5400" spc="-1" strike="noStrike">
                <a:solidFill>
                  <a:srgbClr val="777777"/>
                </a:solidFill>
                <a:latin typeface="Arial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777777"/>
                </a:solidFill>
                <a:latin typeface="Arial"/>
                <a:ea typeface="楷体_GB2312"/>
              </a:rPr>
              <a:t>所以感到高兴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29"/>
          <p:cNvSpPr/>
          <p:nvPr/>
        </p:nvSpPr>
        <p:spPr>
          <a:xfrm>
            <a:off x="1908000" y="2276640"/>
            <a:ext cx="568836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给予是快乐的</a:t>
            </a:r>
            <a:r>
              <a:rPr b="1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!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755640" y="1413000"/>
            <a:ext cx="871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95280" y="1125360"/>
            <a:ext cx="8137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777777"/>
                </a:solidFill>
                <a:latin typeface="Arial"/>
                <a:ea typeface="楷体_GB2312"/>
              </a:rPr>
              <a:t>一个男孩在他闪亮的新车旁走来走去，有    时候伸手轻轻地摸一下，满脸羡慕的神情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086360" y="2008080"/>
            <a:ext cx="2009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60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走来走去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80880" y="388152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满脸羡慕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371600" y="295596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轻轻地摸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8001000" y="5562720"/>
            <a:ext cx="533520" cy="7617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761760"/>
              <a:gd name="textAreaBottom" fmla="*/ 727200 h 761760"/>
            </a:gdLst>
            <a:ahLst/>
            <a:rect l="textAreaLeft" t="textAreaTop" r="textAreaRight" b="textAreaBottom"/>
            <a:pathLst>
              <a:path w="21600" h="30834">
                <a:moveTo>
                  <a:pt x="0" y="0"/>
                </a:moveTo>
                <a:lnTo>
                  <a:pt x="21600" y="0"/>
                </a:lnTo>
                <a:lnTo>
                  <a:pt x="21600" y="30834"/>
                </a:lnTo>
                <a:lnTo>
                  <a:pt x="0" y="30834"/>
                </a:lnTo>
                <a:close/>
              </a:path>
              <a:path fill="lightenLess" w="21600" h="30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34">
                <a:moveTo>
                  <a:pt x="21600" y="0"/>
                </a:moveTo>
                <a:lnTo>
                  <a:pt x="21600" y="30834"/>
                </a:lnTo>
                <a:lnTo>
                  <a:pt x="20200" y="29434"/>
                </a:lnTo>
                <a:lnTo>
                  <a:pt x="20200" y="1400"/>
                </a:lnTo>
                <a:close/>
              </a:path>
              <a:path fill="darkenLess" w="21600" h="30834">
                <a:moveTo>
                  <a:pt x="21600" y="30834"/>
                </a:moveTo>
                <a:lnTo>
                  <a:pt x="0" y="30834"/>
                </a:lnTo>
                <a:lnTo>
                  <a:pt x="1400" y="29434"/>
                </a:lnTo>
                <a:lnTo>
                  <a:pt x="20200" y="29434"/>
                </a:lnTo>
                <a:close/>
              </a:path>
              <a:path fill="lighten" w="21600" h="30834">
                <a:moveTo>
                  <a:pt x="0" y="30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34"/>
                </a:lnTo>
                <a:close/>
              </a:path>
              <a:path fill="darken" w="21600" h="30834">
                <a:moveTo>
                  <a:pt x="3794" y="12110"/>
                </a:moveTo>
                <a:lnTo>
                  <a:pt x="7301" y="12110"/>
                </a:lnTo>
                <a:lnTo>
                  <a:pt x="7301" y="17445"/>
                </a:lnTo>
                <a:cubicBezTo>
                  <a:pt x="7301" y="18368"/>
                  <a:pt x="8102" y="19099"/>
                  <a:pt x="9138" y="19099"/>
                </a:cubicBezTo>
                <a:lnTo>
                  <a:pt x="10800" y="19099"/>
                </a:lnTo>
                <a:cubicBezTo>
                  <a:pt x="11836" y="19099"/>
                  <a:pt x="12636" y="18368"/>
                  <a:pt x="12636" y="17445"/>
                </a:cubicBezTo>
                <a:lnTo>
                  <a:pt x="12636" y="12110"/>
                </a:lnTo>
                <a:lnTo>
                  <a:pt x="10800" y="12110"/>
                </a:lnTo>
                <a:lnTo>
                  <a:pt x="14308" y="8602"/>
                </a:lnTo>
                <a:lnTo>
                  <a:pt x="17981" y="12110"/>
                </a:lnTo>
                <a:lnTo>
                  <a:pt x="16144" y="12110"/>
                </a:lnTo>
                <a:lnTo>
                  <a:pt x="16144" y="17445"/>
                </a:lnTo>
                <a:cubicBezTo>
                  <a:pt x="16144" y="20213"/>
                  <a:pt x="13568" y="22772"/>
                  <a:pt x="10800" y="22772"/>
                </a:cubicBezTo>
                <a:lnTo>
                  <a:pt x="9138" y="22772"/>
                </a:lnTo>
                <a:cubicBezTo>
                  <a:pt x="6370" y="22772"/>
                  <a:pt x="3794" y="20213"/>
                  <a:pt x="3794" y="17445"/>
                </a:cubicBez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1"/>
                            </p:stCondLst>
                            <p:childTnLst>
                              <p:par>
                                <p:cTn id="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1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13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