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274-CA3B-4778-918E-2E590625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BCF-1D2D-4898-9DAB-6FCBFE0C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84B-877C-4F04-A914-0301E7CA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C27-0EFF-4AB5-A376-59CD5BA1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8DF3-8047-468E-9CB3-B507E7BA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590D-B7CB-4A81-816B-297ED0B2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F9CF-719D-4643-AF7E-256390B9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174E-DCB1-4B17-8925-6E659B41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811E-D917-4945-858D-E278C151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FD63-A3F0-4152-B00E-DC59A53F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11BE-9C2C-468B-8098-78B2A4EF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743-BD53-4E39-A3DB-860C1969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7D89-EC55-466A-B93F-37B5FD08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3F86-99B1-40BB-A99A-02E82F2D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5FB6-BA72-42B9-8DE2-0E4D5266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3EB6-8E72-48A2-8ABB-79D920AA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E64E-A3E4-4B95-84A1-06D0875B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CDA-E41D-47A4-B41E-E584C293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3B3-A25A-4206-9768-7B9FBC1F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8B2-FFD4-4B45-BE7C-7CE19959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200-761D-4F1E-85F7-2B68B01B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A51-BD8F-409E-8D94-FA8F8829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9F3-5B31-47E9-ABEA-04F3D62D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949-4BFD-4CC9-9FA4-A28F6B55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315E-80E5-46B6-89C7-9F6E87A08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5990-97E0-4457-9ADE-3CF58479A59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B7F0-2099-4F3D-837A-80C279DCB8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68,4,&#24187;&#28783;&#29255; 4" TargetMode="External"/><Relationship Id="rId3" Type="http://schemas.openxmlformats.org/officeDocument/2006/relationships/hyperlink" Target="287,5,&#24187;&#28783;&#29255; 5" TargetMode="External"/><Relationship Id="rId4" Type="http://schemas.openxmlformats.org/officeDocument/2006/relationships/hyperlink" Target="299,6,&#24187;&#28783;&#29255; 6" TargetMode="External"/><Relationship Id="rId5" Type="http://schemas.openxmlformats.org/officeDocument/2006/relationships/hyperlink" Target="292,14,       &#22920;&#22920;&#20174;&#24320;&#22987;&#36141;&#29289;&#21040;&#32467;&#26463;&#65292;&#22905;&#30340;&#24863;&#24773;&#21457;&#29983;&#20102;&#21738;&#20123;&#21464;&#21270;&#65311;&#33021;&#35828;&#35828;&#21457;&#29983;&#21464;&#21270;&#30340;&#21407;&#22240;&#21527;&#65311; " TargetMode="External"/><Relationship Id="rId6" Type="http://schemas.openxmlformats.org/officeDocument/2006/relationships/hyperlink" Target="296,26,1.&#32473;&#19979;&#38754;&#30340;&#21477;&#23376;&#25442;&#20010;&#35828;&#27861;&#65292;&#24847;&#24605;&#19981;&#21464;&#24182;&#20307;&#20250;&#20004;&#20010;&#21477;&#23376;&#22312;&#34920;&#36798;&#25928;&#26524;&#19978;&#26377;&#20160;&#20040;&#19981;&#21516;&#65306;     &#20182;&#20204;&#24590;&#20040;&#20250;&#20080;&#21040;&#24456;&#22810;&#24456;&#22909;&#30340;&#31036;&#29289;&#21602;&#65311;...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hristmas"/>
          <p:cNvPicPr/>
          <p:nvPr/>
        </p:nvPicPr>
        <p:blipFill>
          <a:blip r:embed="rId1"/>
          <a:stretch/>
        </p:blipFill>
        <p:spPr>
          <a:xfrm>
            <a:off x="0" y="1125360"/>
            <a:ext cx="3786120" cy="4480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682560" y="765000"/>
            <a:ext cx="657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予树语文课件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11280" y="333360"/>
            <a:ext cx="3805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jǐ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3995640" y="4869000"/>
            <a:ext cx="79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c6ff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我会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4788000" y="4869000"/>
            <a:ext cx="79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c6ff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5580000" y="4869000"/>
            <a:ext cx="79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c6ff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我会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6372360" y="4869000"/>
            <a:ext cx="79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c6ff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我会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7164360" y="4869000"/>
            <a:ext cx="79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c6ff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我会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900000" y="333360"/>
            <a:ext cx="7201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回家途中，孩子们兴高采烈。你给我一点儿暗示，我让你摸摸口袋，不断让别人猜测自己买了什么礼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只有八岁的小女儿金吉娅沉默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77058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透过塑料口袋，我发现，她只买了一些棒棒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种五十美分一大把的棒棒糖！我有些生气：她到底用这二十美元做了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539640" y="33336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金吉娅的声音很低，显然在没能给我们买到像样的礼物而难过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3348720"/>
            <a:ext cx="77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个圣诞节，她不但送给我们棒棒糖，还送给我们善良、仁爱、同情和体贴，以及一个陌生女孩如愿以偿的笑脸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7924680" y="5867280"/>
            <a:ext cx="381240" cy="3812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8200"/>
          <p:cNvSpPr/>
          <p:nvPr/>
        </p:nvSpPr>
        <p:spPr>
          <a:xfrm>
            <a:off x="736560" y="16812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妈从开始购物到结束，她的感情发生了哪些变化？能说说发生变化的原因吗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619280" y="2276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担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900000" y="333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回家途中，孩子们兴高采烈。你给我一点儿暗示，我让你摸摸口袋，不断让别人猜测自己买了什么礼物。只有八岁的小女儿金吉娅沉默不语。透过塑料口袋，我发现，她只买了一些棒棒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种五十美分一大把的棒棒糖！我有些生气：她到底用这二十美元做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260360" y="333360"/>
            <a:ext cx="68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回家途中，孩子们兴高采烈。你给我一点儿暗示，我让你摸摸口袋，不断让别人猜测自己买了什么礼物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只有八岁的小女儿金吉娅沉默不语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透过塑料口袋，我发现，她只买了一些棒棒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种五十美分一大把的棒棒糖！我有些生气：她到底用这二十美元做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068800" y="299736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193760" y="264960"/>
            <a:ext cx="705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回家途中，孩子们兴高采烈。你给我一点儿暗示，我让你摸摸口袋，不断让别人猜测自己买了什么礼物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只有八岁的小女儿金吉娅沉默不语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透过塑料口袋，我发现，她只买了一些棒棒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种五十美分一大把的棒棒糖！我有些生气：她到底用这二十美元做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997520" y="29653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76212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981080" y="3124080"/>
            <a:ext cx="27432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826920" y="1066680"/>
            <a:ext cx="75582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妈妈，我们有这么多人，已经能得到许多礼物了，而那个小女孩却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什么都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hristmas"/>
          <p:cNvPicPr/>
          <p:nvPr/>
        </p:nvPicPr>
        <p:blipFill>
          <a:blip r:embed="rId1"/>
          <a:stretch/>
        </p:blipFill>
        <p:spPr>
          <a:xfrm>
            <a:off x="5651640" y="3284640"/>
            <a:ext cx="2519280" cy="2981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76212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981080" y="3124080"/>
            <a:ext cx="27432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828720" y="1066680"/>
            <a:ext cx="74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妈妈，我们有这么多人，已经能得到许多礼物了，而那个小女孩却没有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6"/>
          <p:cNvSpPr/>
          <p:nvPr/>
        </p:nvSpPr>
        <p:spPr>
          <a:xfrm>
            <a:off x="468360" y="90792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743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94920" y="-360"/>
            <a:ext cx="62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我知道</a:t>
            </a:r>
            <a:r>
              <a:rPr b="0" lang="en-US" sz="5400" spc="-1" strike="noStrike">
                <a:solidFill>
                  <a:srgbClr val="ff33cc"/>
                </a:solidFill>
                <a:latin typeface="隶书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年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是圣诞节。这是西方国家最重要的节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当于中国的春节。圣诞节的庆祝活动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晚上的圣诞夜开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持续到第二年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。在圣诞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围着圣诞树唱歌跳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人穿上红衣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上白胡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扮成圣诞老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孩子们分发礼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395280" y="241668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个圣诞节，她不但送给我们棒棒糖，还送给我们善良、仁爱、同情和体贴，以及一个陌生女孩如愿以偿的笑脸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christmas"/>
          <p:cNvPicPr/>
          <p:nvPr/>
        </p:nvPicPr>
        <p:blipFill>
          <a:blip r:embed="rId1"/>
          <a:stretch/>
        </p:blipFill>
        <p:spPr>
          <a:xfrm>
            <a:off x="6227640" y="3789360"/>
            <a:ext cx="1838520" cy="21747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6"/>
          <p:cNvSpPr/>
          <p:nvPr/>
        </p:nvSpPr>
        <p:spPr>
          <a:xfrm>
            <a:off x="324000" y="404640"/>
            <a:ext cx="792000" cy="863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2124000" y="260280"/>
            <a:ext cx="792360" cy="863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3924360" y="476280"/>
            <a:ext cx="792000" cy="863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5508720" y="260280"/>
            <a:ext cx="792000" cy="863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7451640" y="333360"/>
            <a:ext cx="792360" cy="863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想对金吉娅说点什么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042920" y="2205000"/>
            <a:ext cx="698508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042920" y="2924280"/>
            <a:ext cx="6985080" cy="360"/>
            <a:chOff x="1042920" y="2924280"/>
            <a:chExt cx="6985080" cy="360"/>
          </a:xfrm>
        </p:grpSpPr>
        <p:sp>
          <p:nvSpPr>
            <p:cNvPr id="161" name="Line 6"/>
            <p:cNvSpPr/>
            <p:nvPr/>
          </p:nvSpPr>
          <p:spPr>
            <a:xfrm>
              <a:off x="1042920" y="2924280"/>
              <a:ext cx="6985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1042920" y="2924280"/>
              <a:ext cx="698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042920" y="3789360"/>
            <a:ext cx="6985080" cy="360"/>
            <a:chOff x="1042920" y="3789360"/>
            <a:chExt cx="6985080" cy="360"/>
          </a:xfrm>
        </p:grpSpPr>
        <p:sp>
          <p:nvSpPr>
            <p:cNvPr id="164" name="Line 7"/>
            <p:cNvSpPr/>
            <p:nvPr/>
          </p:nvSpPr>
          <p:spPr>
            <a:xfrm>
              <a:off x="1042920" y="3789360"/>
              <a:ext cx="6985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1042920" y="3789360"/>
              <a:ext cx="698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042920" y="4724280"/>
            <a:ext cx="6985080" cy="360"/>
            <a:chOff x="1042920" y="4724280"/>
            <a:chExt cx="6985080" cy="360"/>
          </a:xfrm>
        </p:grpSpPr>
        <p:sp>
          <p:nvSpPr>
            <p:cNvPr id="167" name="Line 8"/>
            <p:cNvSpPr/>
            <p:nvPr/>
          </p:nvSpPr>
          <p:spPr>
            <a:xfrm>
              <a:off x="1042920" y="4724280"/>
              <a:ext cx="6985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1042920" y="4724280"/>
              <a:ext cx="698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042920" y="5516640"/>
            <a:ext cx="6985080" cy="360"/>
            <a:chOff x="1042920" y="5516640"/>
            <a:chExt cx="6985080" cy="360"/>
          </a:xfrm>
        </p:grpSpPr>
        <p:sp>
          <p:nvSpPr>
            <p:cNvPr id="170" name="Line 9"/>
            <p:cNvSpPr/>
            <p:nvPr/>
          </p:nvSpPr>
          <p:spPr>
            <a:xfrm>
              <a:off x="1042920" y="5516640"/>
              <a:ext cx="6985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1042920" y="5516640"/>
              <a:ext cx="698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468360" y="1052640"/>
            <a:ext cx="8229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假如你是那个小女孩，你又想说什么呢？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现在想想为什么用给予树作题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826920" y="328032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684360" y="476280"/>
            <a:ext cx="2592360" cy="100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1692360" y="1700280"/>
            <a:ext cx="5473440" cy="403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认真读书，提出主要的问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找（重点句子和词语）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谈（自己的理解和感受）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读（感情朗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8200"/>
          <p:cNvSpPr/>
          <p:nvPr/>
        </p:nvSpPr>
        <p:spPr>
          <a:xfrm>
            <a:off x="736560" y="16812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阅读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好汉查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觉得查理是个怎样的孩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给下面的句子换个说法，意思不变并体会两个句子在表达效果上有什么不同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他们怎么会买到很多很好的礼物呢？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认识坡折号，并体会它的作用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我发现，她只买了一些棒棒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那些五十美分一大把的棒棒糖！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抄写喜欢的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7924680" y="5867280"/>
            <a:ext cx="381240" cy="3812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读主题学习丛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  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768C-09B0-4CD0-AFEA-5AF6BF2AE1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图片2"/>
          <p:cNvPicPr/>
          <p:nvPr/>
        </p:nvPicPr>
        <p:blipFill>
          <a:blip r:embed="rId1"/>
          <a:srcRect l="11704" t="0" r="0" b="0"/>
          <a:stretch/>
        </p:blipFill>
        <p:spPr>
          <a:xfrm>
            <a:off x="0" y="0"/>
            <a:ext cx="854388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图片2"/>
          <p:cNvPicPr/>
          <p:nvPr/>
        </p:nvPicPr>
        <p:blipFill>
          <a:blip r:embed="rId2"/>
          <a:srcRect l="48012" t="0" r="0" b="0"/>
          <a:stretch/>
        </p:blipFill>
        <p:spPr>
          <a:xfrm>
            <a:off x="449280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762120" y="274320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Tahoma"/>
                <a:ea typeface="隶书"/>
              </a:rPr>
              <a:t>同学们，再见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02_给爱德琳的诗.MP3" descr=""/>
          <p:cNvPicPr/>
          <p:nvPr/>
        </p:nvPicPr>
        <p:blipFill>
          <a:blip r:embed="rId3"/>
          <a:stretch/>
        </p:blipFill>
        <p:spPr>
          <a:xfrm>
            <a:off x="7848720" y="5181480"/>
            <a:ext cx="38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26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27"/>
          <p:cNvSpPr/>
          <p:nvPr/>
        </p:nvSpPr>
        <p:spPr>
          <a:xfrm>
            <a:off x="1619280" y="692280"/>
            <a:ext cx="727380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探  祝福  担心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裕  猜测  立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  拥抱  仁爱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贴 兴高采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圣诞  诚挚  援助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沉默不语 如愿以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31"/>
          <p:cNvSpPr/>
          <p:nvPr/>
        </p:nvSpPr>
        <p:spPr>
          <a:xfrm>
            <a:off x="7924680" y="5867280"/>
            <a:ext cx="381240" cy="3812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1619280" y="227196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担  宽  裕  买  猜  糖 卡  盼  仁  贴  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492360" y="928800"/>
          <a:ext cx="863640" cy="91584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</a:tblGrid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Rectangle 63"/>
          <p:cNvSpPr/>
          <p:nvPr/>
        </p:nvSpPr>
        <p:spPr>
          <a:xfrm>
            <a:off x="3492360" y="94932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8"/>
          <p:cNvSpPr/>
          <p:nvPr/>
        </p:nvSpPr>
        <p:spPr>
          <a:xfrm>
            <a:off x="7924680" y="5867280"/>
            <a:ext cx="381240" cy="3812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116000" y="3000240"/>
            <a:ext cx="6481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圣诞节快要到了。该选购圣诞礼物了。孩子们热烈地讨论这个问题，互相试探对方的心意，希望送出最诚挚的祝福，收到最甜蜜的笑容。让我担心的是，家里并不宽裕，我只攒了一百美元，却要有五个孩子来分享，他们怎么可能买到很多很好的礼物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16000" y="2874960"/>
            <a:ext cx="6481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圣诞节前夕，我给了每个孩子二十美元，提醒每人至少准备四份礼物。接着，我把他们带到一个商场，分头去采购，约定两小时后一起回家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258920" y="2819520"/>
            <a:ext cx="648180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家途中，孩子们兴高采烈。你给我一点儿暗示，我让你摸摸口袋，不断让别人猜测自己买了什么礼物。只有八岁的小女儿金吉娅沉默不语。透过塑料口袋，我发现，她只买了一些棒棒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种五十美分一大把的棒棒糖！我有些生气：她到底用这二十美元做了什么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684360" y="2945880"/>
            <a:ext cx="806580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回到家，我立即把她叫到我的房间，打算和她好好谈谈。没等我问，金吉娅先开口了：“妈妈，我拿着钱到处逛，本来想送给您和哥哥姐姐一些漂亮的礼物。后来，我看到了一棵援助中心的‘给予树’。树上有很多卡片，其中一张是一个小女孩写的。她一直盼望圣诞老人送给她一个穿着裙子的洋娃娃，于是，我取下卡片，买了洋娃娃，把它和卡片一起送到了援助中心的礼品区。”金吉娅的声音很低，显然在为没能给我们买到像样的礼物而难过。“我的钱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够买这写棒棒糖了。可是妈妈，我们有那么多人，已经能收到许多礼物了，而那个小女孩却什么也没有。”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05052218034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1116000" y="3000240"/>
            <a:ext cx="6481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紧紧地拥抱着金吉娅。这个圣诞节，她不但送给我们棒棒糖，还送给我们善良、仁爱、同情和体贴，以及一个陌生女孩如愿以偿的笑脸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7:08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14Z</dcterms:modified>
  <cp:revision>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