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1AA-28C6-4511-BDEE-E5525C28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D723-1535-427A-8E94-DD3402D0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886B-0AD5-4FF4-B242-C84100FB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5839-4159-4180-A373-2E27F847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002E-3626-430A-AD11-9B202D65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ACB1-CDFE-423F-A6AA-860FEDF7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71E3-0900-4182-A6D5-4BE90451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F0F7-F190-4FEE-ACBF-84BDC2D5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3FBF-00BC-45AB-8C41-CA223C6C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C1EA-E883-4C1D-B36C-C80FF765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9E96-67AD-4142-826C-27514A07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BF6B-B692-40E8-913F-20DC03C3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F53A-AFA5-4E0A-94A9-F97FCD62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210F-6F33-4210-A6FA-8757DE90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A549-6A88-4DD3-AB0F-C86B77FB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6B45-099C-4942-B21E-4461F724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AAC5-6923-4A3B-86FD-B90E3B95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7D78-60DC-4071-9C55-30B1250B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B37B-DAD5-4F07-8CA7-E3AA7DD3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54B5-EC40-4A70-8E19-5FF1933E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6AB-063E-4AB6-9D65-E552B8C7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B83A-CBE3-4E9C-90D0-B8443E92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7880-BF81-44BC-BECC-70C260B9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B41-BA9D-487C-967F-9B39C230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5DA6-08B2-4020-A71B-C32C8DDB7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A4CB-AC9B-411E-8414-02E62DDB79B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CEA3-41F9-4F1C-BAFB-34043F733A4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tele.lbx777.com/yw0002/x_hcdgs/xgzs01.ht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you.video.sina.com.cn/b/9094423-1323652160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187280" y="3718080"/>
            <a:ext cx="729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火车的故事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课件模板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1d17bd2fbe1af51a349bf7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内燃机车"/>
          <p:cNvPicPr/>
          <p:nvPr/>
        </p:nvPicPr>
        <p:blipFill>
          <a:blip r:embed="rId2"/>
          <a:stretch/>
        </p:blipFill>
        <p:spPr>
          <a:xfrm>
            <a:off x="0" y="0"/>
            <a:ext cx="9144000" cy="3733920"/>
          </a:xfrm>
          <a:prstGeom prst="rect">
            <a:avLst/>
          </a:prstGeom>
          <a:ln w="0">
            <a:noFill/>
          </a:ln>
        </p:spPr>
      </p:pic>
      <p:sp>
        <p:nvSpPr>
          <p:cNvPr id="117" name="WordArt 4"/>
          <p:cNvSpPr txBox="1"/>
          <p:nvPr/>
        </p:nvSpPr>
        <p:spPr>
          <a:xfrm>
            <a:off x="228600" y="3962520"/>
            <a:ext cx="18669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内燃机车</a:t>
            </a:r>
            <a:endParaRPr b="1" lang="en-US" sz="9600" spc="1" strike="noStrike">
              <a:ln w="12600">
                <a:solidFill>
                  <a:srgbClr val="000099"/>
                </a:solidFill>
                <a:round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362320" y="464832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它烧汽油、柴油或煤气，不会产生多少烟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1d17bd2fbe1af51a349bf7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0" y="457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小明查了好几本书。原来，一节一节的车厢是由机车带动的。最早的机车是蒸汽机车。后来，人们把内燃机装到火车上，制成了内燃机车。再后来，又发明了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电力火车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、磁悬浮火车。这样的火车速度快，污染小，真称得上是“绿色环保型”火车了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d17bd2fbe1af51a349bf7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dba1b0A"/>
          <p:cNvPicPr/>
          <p:nvPr/>
        </p:nvPicPr>
        <p:blipFill>
          <a:blip r:embed="rId2"/>
          <a:stretch/>
        </p:blipFill>
        <p:spPr>
          <a:xfrm>
            <a:off x="0" y="0"/>
            <a:ext cx="9144000" cy="36417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4"/>
          <p:cNvSpPr txBox="1"/>
          <p:nvPr/>
        </p:nvSpPr>
        <p:spPr>
          <a:xfrm>
            <a:off x="380880" y="3733920"/>
            <a:ext cx="22482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电力机车</a:t>
            </a:r>
            <a:endParaRPr b="1" lang="en-US" sz="9600" spc="1" strike="noStrike">
              <a:ln w="12600">
                <a:solidFill>
                  <a:srgbClr val="000099"/>
                </a:solidFill>
                <a:round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828800" y="48006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电力机车的车顶上有两根电线。它行驶时，下面靠两根铁轨，上面靠两根电线提供能量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d17bd2fbe1af51a349bf7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0" y="457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小明查了好几本书。原来，一节一节的车厢是由机车带动的。最早的机车是蒸汽机车。后来，人们把内燃机装到火车上，制成了内燃机车。再后来，又发明了电力火车、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磁悬浮火车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。这样的火车速度快，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污染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小，真称得上是“绿色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环保型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”火车了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d17bd2fbe1af51a349bf7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xuanfu"/>
          <p:cNvPicPr/>
          <p:nvPr/>
        </p:nvPicPr>
        <p:blipFill>
          <a:blip r:embed="rId2"/>
          <a:stretch/>
        </p:blipFill>
        <p:spPr>
          <a:xfrm>
            <a:off x="0" y="0"/>
            <a:ext cx="4419720" cy="3297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兹悬浮火车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362320" y="38098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当今世界上最先进的火车，速度快，接近普通飞机。这种火车只有中间一根铁轨，最特别的是它是浮在轨道上的。它在日本、德国常见，我国在研究制造中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WordArt 6"/>
          <p:cNvSpPr txBox="1"/>
          <p:nvPr/>
        </p:nvSpPr>
        <p:spPr>
          <a:xfrm>
            <a:off x="0" y="3733920"/>
            <a:ext cx="22478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磁悬浮机车</a:t>
            </a:r>
            <a:endParaRPr b="1" lang="en-US" sz="9600" spc="1" strike="noStrike">
              <a:ln w="12600">
                <a:solidFill>
                  <a:srgbClr val="000099"/>
                </a:solidFill>
                <a:round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661920" y="6292800"/>
            <a:ext cx="53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tele.lbx777.com/yw0002/x_hcdgs/xgzs01.ht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1d17bd2fbe1af51a349bf7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457200" y="0"/>
            <a:ext cx="83059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爸爸告诉小明，我国的火车不断</a:t>
            </a:r>
            <a:r>
              <a:rPr b="1" lang="zh-CN" sz="4800" spc="-1" strike="noStrike">
                <a:solidFill>
                  <a:srgbClr val="9933ff"/>
                </a:solidFill>
                <a:latin typeface="Arial"/>
                <a:ea typeface="楷体_GB2312"/>
              </a:rPr>
              <a:t>提速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。现在从北京到上海，可以</a:t>
            </a:r>
            <a:r>
              <a:rPr b="1" lang="zh-CN" sz="10600" spc="-1" strike="noStrike">
                <a:solidFill>
                  <a:srgbClr val="ff0066"/>
                </a:solidFill>
                <a:latin typeface="Arial"/>
                <a:ea typeface="楷体_GB2312"/>
              </a:rPr>
              <a:t>夕发朝至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057040" y="3200400"/>
            <a:ext cx="1219680" cy="533520"/>
            <a:chOff x="2057040" y="3200400"/>
            <a:chExt cx="1219680" cy="533520"/>
          </a:xfrm>
        </p:grpSpPr>
        <p:sp>
          <p:nvSpPr>
            <p:cNvPr id="136" name="Line 4"/>
            <p:cNvSpPr/>
            <p:nvPr/>
          </p:nvSpPr>
          <p:spPr>
            <a:xfrm flipH="1">
              <a:off x="2057040" y="3200400"/>
              <a:ext cx="1219320" cy="533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2057400" y="3200400"/>
              <a:ext cx="12193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Text Box 5"/>
          <p:cNvSpPr/>
          <p:nvPr/>
        </p:nvSpPr>
        <p:spPr>
          <a:xfrm>
            <a:off x="838080" y="380988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ff"/>
                </a:solidFill>
                <a:latin typeface="Arial"/>
                <a:ea typeface="楷体_GB2312"/>
              </a:rPr>
              <a:t>晚上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114440" y="3200400"/>
            <a:ext cx="609840" cy="762120"/>
            <a:chOff x="4114440" y="3200400"/>
            <a:chExt cx="609840" cy="762120"/>
          </a:xfrm>
        </p:grpSpPr>
        <p:sp>
          <p:nvSpPr>
            <p:cNvPr id="140" name="Line 6"/>
            <p:cNvSpPr/>
            <p:nvPr/>
          </p:nvSpPr>
          <p:spPr>
            <a:xfrm flipH="1">
              <a:off x="4114440" y="320040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114800" y="3200400"/>
              <a:ext cx="60948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Text Box 7"/>
          <p:cNvSpPr/>
          <p:nvPr/>
        </p:nvSpPr>
        <p:spPr>
          <a:xfrm>
            <a:off x="3048120" y="388620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99ff"/>
                </a:solidFill>
                <a:latin typeface="Arial"/>
                <a:ea typeface="楷体_GB2312"/>
              </a:rPr>
              <a:t>出发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171840" y="3200400"/>
            <a:ext cx="152640" cy="838080"/>
            <a:chOff x="6171840" y="3200400"/>
            <a:chExt cx="152640" cy="838080"/>
          </a:xfrm>
        </p:grpSpPr>
        <p:sp>
          <p:nvSpPr>
            <p:cNvPr id="144" name="Line 8"/>
            <p:cNvSpPr/>
            <p:nvPr/>
          </p:nvSpPr>
          <p:spPr>
            <a:xfrm flipH="1">
              <a:off x="6171840" y="3200400"/>
              <a:ext cx="152280" cy="838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6172200" y="3200400"/>
              <a:ext cx="15228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Text Box 9"/>
          <p:cNvSpPr/>
          <p:nvPr/>
        </p:nvSpPr>
        <p:spPr>
          <a:xfrm>
            <a:off x="5257800" y="388620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楷体_GB2312"/>
              </a:rPr>
              <a:t>早上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696080" y="3200400"/>
            <a:ext cx="304920" cy="762120"/>
            <a:chOff x="7696080" y="3200400"/>
            <a:chExt cx="304920" cy="762120"/>
          </a:xfrm>
        </p:grpSpPr>
        <p:sp>
          <p:nvSpPr>
            <p:cNvPr id="148" name="Line 10"/>
            <p:cNvSpPr/>
            <p:nvPr/>
          </p:nvSpPr>
          <p:spPr>
            <a:xfrm>
              <a:off x="7696080" y="3200400"/>
              <a:ext cx="304920" cy="762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7696080" y="3200400"/>
              <a:ext cx="30492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Text Box 11"/>
          <p:cNvSpPr/>
          <p:nvPr/>
        </p:nvSpPr>
        <p:spPr>
          <a:xfrm>
            <a:off x="7620120" y="388620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到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304920" y="5562720"/>
            <a:ext cx="830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夕发朝至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：晚上出发早上到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各种火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762120" y="114300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能读好这句话吗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3808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听爸爸说，世界上海拔最高的铁路－青藏铁路已经在２００６年通车了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143000" y="160020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爸爸讲，我国正在修建世界上海拔最高的铁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藏铁路。等铁路修成了，火车就可以开到“世界屋脊”上了。这真是一个了不起的创举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684440" y="46483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创举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200400" y="2209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海拔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008760" y="341316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世界屋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116000" y="4005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脊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文本框 1"/>
          <p:cNvSpPr/>
          <p:nvPr/>
        </p:nvSpPr>
        <p:spPr>
          <a:xfrm>
            <a:off x="691200" y="5805360"/>
            <a:ext cx="413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</a:t>
            </a:r>
            <a:r>
              <a:rPr b="1" lang="zh-CN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è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列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一列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列车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7"/>
          <p:cNvSpPr/>
          <p:nvPr/>
        </p:nvSpPr>
        <p:spPr>
          <a:xfrm>
            <a:off x="3505320" y="331308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026" descr="0kwct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27"/>
          <p:cNvSpPr/>
          <p:nvPr/>
        </p:nvSpPr>
        <p:spPr>
          <a:xfrm>
            <a:off x="2286000" y="838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28"/>
          <p:cNvSpPr/>
          <p:nvPr/>
        </p:nvSpPr>
        <p:spPr>
          <a:xfrm>
            <a:off x="2057400" y="3808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小明和爸爸去郊游。他们看到一列火车飞驰而过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1905120" y="68580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òng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弄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弄坏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别弄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á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查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检查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查出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ù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速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迅速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速度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1905120" y="685800"/>
            <a:ext cx="3124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断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不断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断开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í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提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提速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提问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ū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修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修建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修路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建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建设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建立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世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世上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世界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1905120" y="685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è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界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世界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边界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1066680" y="68580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9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创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创造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创立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26" descr="0kwct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27"/>
          <p:cNvSpPr/>
          <p:nvPr/>
        </p:nvSpPr>
        <p:spPr>
          <a:xfrm>
            <a:off x="2286000" y="838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028"/>
          <p:cNvSpPr/>
          <p:nvPr/>
        </p:nvSpPr>
        <p:spPr>
          <a:xfrm>
            <a:off x="2057400" y="3808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小明和爸爸去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郊游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。他们看到一列火车飞驰而过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2009042317575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1905120" y="68580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èng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600200" y="2209680"/>
            <a:ext cx="2971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800" spc="-1" strike="noStrike">
                <a:solidFill>
                  <a:srgbClr val="0000ff"/>
                </a:solidFill>
                <a:latin typeface="Arial"/>
                <a:ea typeface="楷体_GB2312"/>
              </a:rPr>
              <a:t>梦</a:t>
            </a:r>
            <a:endParaRPr b="1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4038480" y="34290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梦想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3962520" y="507348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  <a:ea typeface="楷体_GB2312"/>
              </a:rPr>
              <a:t>（梦乡）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609480" y="1295280"/>
            <a:ext cx="762012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iāo   liè   nòng  chá    sù   duàn    tí     xi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郊   列   弄   查   速   断   提   修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ià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hì    jiè  chuàng  mèng  mí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建   世   界   创      梦   名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文本框 1"/>
          <p:cNvSpPr/>
          <p:nvPr/>
        </p:nvSpPr>
        <p:spPr>
          <a:xfrm>
            <a:off x="-6138360" y="2651040"/>
            <a:ext cx="413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</a:t>
            </a:r>
            <a:r>
              <a:rPr b="1" lang="zh-CN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文本框 2"/>
          <p:cNvSpPr/>
          <p:nvPr/>
        </p:nvSpPr>
        <p:spPr>
          <a:xfrm>
            <a:off x="1051560" y="5950080"/>
            <a:ext cx="413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ppt</a:t>
            </a:r>
            <a:r>
              <a:rPr b="1" lang="zh-CN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685800" y="1600200"/>
            <a:ext cx="7620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郊   列   弄   查   速   断   提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修  建   世   界   创   梦   名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533520" y="1219320"/>
            <a:ext cx="716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322280" y="838080"/>
            <a:ext cx="66294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外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游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车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弄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看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找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度  快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开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醒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改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理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造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立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世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创  创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新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想  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字  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名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8009-0F7D-4EB7-9862-3439D3567B6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tian-zi-ge"/>
          <p:cNvPicPr/>
          <p:nvPr/>
        </p:nvPicPr>
        <p:blipFill>
          <a:blip r:embed="rId1"/>
          <a:stretch/>
        </p:blipFill>
        <p:spPr>
          <a:xfrm>
            <a:off x="200160" y="685800"/>
            <a:ext cx="1969920" cy="21970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704880" y="1143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名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tian-zi-ge"/>
          <p:cNvPicPr/>
          <p:nvPr/>
        </p:nvPicPr>
        <p:blipFill>
          <a:blip r:embed="rId2"/>
          <a:stretch/>
        </p:blipFill>
        <p:spPr>
          <a:xfrm>
            <a:off x="3429000" y="685800"/>
            <a:ext cx="1969920" cy="2197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tian-zi-ge"/>
          <p:cNvPicPr/>
          <p:nvPr/>
        </p:nvPicPr>
        <p:blipFill>
          <a:blip r:embed="rId3"/>
          <a:stretch/>
        </p:blipFill>
        <p:spPr>
          <a:xfrm>
            <a:off x="6705720" y="685800"/>
            <a:ext cx="1969920" cy="2197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tian-zi-ge"/>
          <p:cNvPicPr/>
          <p:nvPr/>
        </p:nvPicPr>
        <p:blipFill>
          <a:blip r:embed="rId4"/>
          <a:stretch/>
        </p:blipFill>
        <p:spPr>
          <a:xfrm>
            <a:off x="228600" y="4114800"/>
            <a:ext cx="1969920" cy="2197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tian-zi-ge"/>
          <p:cNvPicPr/>
          <p:nvPr/>
        </p:nvPicPr>
        <p:blipFill>
          <a:blip r:embed="rId5"/>
          <a:stretch/>
        </p:blipFill>
        <p:spPr>
          <a:xfrm>
            <a:off x="3429000" y="4114800"/>
            <a:ext cx="1969920" cy="2197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tian-zi-ge"/>
          <p:cNvPicPr/>
          <p:nvPr/>
        </p:nvPicPr>
        <p:blipFill>
          <a:blip r:embed="rId6"/>
          <a:stretch/>
        </p:blipFill>
        <p:spPr>
          <a:xfrm>
            <a:off x="6781680" y="4114800"/>
            <a:ext cx="1970280" cy="21970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3809880" y="1143000"/>
            <a:ext cx="12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发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6934320" y="11430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457200" y="457200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晚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3733920" y="461628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7086600" y="461628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0kwct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2286000" y="838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057400" y="3808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小明和爸爸去郊游。他们看到一列火车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飞驰而过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2902320" y="5943600"/>
            <a:ext cx="59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you.video.sina.com.cn/b/9094423-1323652160.htm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2295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0" y="3429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这么长的火车车厢，一节连着一节，靠什么带动呢？小明感到很奇怪。爸爸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鼓励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他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自己弄明白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069"/>
          <p:cNvPicPr/>
          <p:nvPr/>
        </p:nvPicPr>
        <p:blipFill>
          <a:blip r:embed="rId2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457200" y="472428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这么长的火车车厢，一节连一节，靠什么带动呢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火车7B"/>
          <p:cNvPicPr/>
          <p:nvPr/>
        </p:nvPicPr>
        <p:blipFill>
          <a:blip r:embed="rId1"/>
          <a:stretch/>
        </p:blipFill>
        <p:spPr>
          <a:xfrm>
            <a:off x="0" y="0"/>
            <a:ext cx="5638680" cy="3952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6324480" y="1143000"/>
            <a:ext cx="12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858000" y="502920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机车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50920" y="7254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明查了好几本书。原来，一节一节的车厢是由机车带动的。最早的机车是蒸汽机车。后来，人们把内燃机装到火车上，制成了内燃机车。再后来，又发明了电力火车、磁悬浮火车。这样的火车速度快，污染小，真称得上是“绿色环保型”火车了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58920" y="19162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蒸汽机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859280" y="25653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内燃机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286080" y="31590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电力火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9080" y="2565360"/>
            <a:ext cx="30240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                       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磁悬浮火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7"/>
          <p:cNvSpPr/>
          <p:nvPr/>
        </p:nvSpPr>
        <p:spPr>
          <a:xfrm>
            <a:off x="7924680" y="6248520"/>
            <a:ext cx="7621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7920000" y="3159000"/>
            <a:ext cx="7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0kwct17"/>
          <p:cNvPicPr/>
          <p:nvPr/>
        </p:nvPicPr>
        <p:blipFill>
          <a:blip r:embed="rId1"/>
          <a:stretch/>
        </p:blipFill>
        <p:spPr>
          <a:xfrm>
            <a:off x="0" y="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110" name="WordArt 3"/>
          <p:cNvSpPr txBox="1"/>
          <p:nvPr/>
        </p:nvSpPr>
        <p:spPr>
          <a:xfrm>
            <a:off x="380880" y="3645000"/>
            <a:ext cx="2246400" cy="10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蒸汽机车</a:t>
            </a:r>
            <a:endParaRPr b="1" lang="en-US" sz="9600" spc="1" strike="noStrike">
              <a:ln w="12600">
                <a:solidFill>
                  <a:srgbClr val="000099"/>
                </a:solidFill>
                <a:round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438280" y="4695840"/>
            <a:ext cx="6705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它烧煤炭，从上面的烟囱冒出浓重的黑烟。</a:t>
            </a:r>
            <a:br>
              <a:rPr sz="1800"/>
            </a:b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1d17bd2fbe1af51a349bf7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0" y="457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小明查了好几本书。原来，一节一节的车厢是由机车带动的。最早的机车是蒸汽机车。后来，人们把内燃机装到火车上，制成了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内燃机车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。再后来，又发明了电力火车、磁悬浮火车。这样的火车速度快，污染小，真称得上是“绿色环保型”火车了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文本框 1"/>
          <p:cNvSpPr/>
          <p:nvPr/>
        </p:nvSpPr>
        <p:spPr>
          <a:xfrm>
            <a:off x="980280" y="5877000"/>
            <a:ext cx="413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</a:t>
            </a:r>
            <a:r>
              <a:rPr b="1" lang="zh-CN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08:02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25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