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9EFE-BC44-4CE2-8B5D-6F946DB86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281B-8BD5-4078-BFC1-1E360622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7669-6CC2-4AE2-9791-75EB93706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2D87-858F-41B7-81AF-BCDAAD6EC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C85F-158C-4061-B2C6-161DBCAD8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7889-D589-417F-A905-5398E794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3B211-62D4-439D-AD61-30BE78FD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B0D8-E2CA-4B94-B2A8-C05665A4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EAE7-8268-4E43-941B-1F54D756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4D4A-2F33-4ACD-B700-147CCD64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A2362-9AF8-4492-90DB-64B7E3AA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9005-137A-47EE-A8F0-921131F7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8B21-3CC2-4DA6-A74D-4F96C746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C555-CF22-41EF-8086-A9A07D92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38B6-FBF3-4126-9627-E0108373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5A99-4A1B-4C92-B72C-AAB1E9D4B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A6C15-94DF-4F2B-BB2E-6AC4B7CBB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DE0E-DE1F-4690-8F1C-2A9932CE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F234-99E3-4AB9-9B46-59437BEF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A90D-C8F4-49B8-96A5-6850EB55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0863-E18A-4223-BAF7-C695B516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F723-6ED5-4575-817B-6D174563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35EA-5101-4B9F-9E9F-EF287D3C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D11E-EF3D-4B84-8C89-4434C5F2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2B52-5280-445D-94E5-1A5A67C49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4486-E931-44E0-BB38-8C3572A1434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789D-C93E-4FA3-BB5C-C6F78A1B618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56000" y="404640"/>
            <a:ext cx="1871640" cy="604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华文琥珀"/>
              </a:rPr>
              <a:t>花的勇气语文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华文琥珀"/>
              </a:rPr>
              <a:t>PPT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华文琥珀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11"/>
          <p:cNvPicPr/>
          <p:nvPr/>
        </p:nvPicPr>
        <p:blipFill>
          <a:blip r:embed="rId2"/>
          <a:stretch/>
        </p:blipFill>
        <p:spPr>
          <a:xfrm>
            <a:off x="1403280" y="693720"/>
            <a:ext cx="4813200" cy="525636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7"/>
          <p:cNvSpPr/>
          <p:nvPr/>
        </p:nvSpPr>
        <p:spPr>
          <a:xfrm>
            <a:off x="2340000" y="1989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11"/>
          <p:cNvPicPr/>
          <p:nvPr/>
        </p:nvPicPr>
        <p:blipFill>
          <a:blip r:embed="rId1"/>
          <a:stretch/>
        </p:blipFill>
        <p:spPr>
          <a:xfrm>
            <a:off x="826920" y="836640"/>
            <a:ext cx="4762800" cy="52005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课文主要写了什么内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5003640" y="1413000"/>
            <a:ext cx="3538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Arial"/>
              </a:rPr>
              <a:t>时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Arial"/>
              </a:rPr>
              <a:t>地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Arial"/>
              </a:rPr>
              <a:t>人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Arial"/>
              </a:rPr>
              <a:t>事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684360" y="1125360"/>
            <a:ext cx="75610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吕  　厘米　齐刷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泛滥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　遗憾　铺天盖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改天换地　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傲然挺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怦然一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8567640" y="6093000"/>
            <a:ext cx="576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无标题"/>
          <p:cNvPicPr/>
          <p:nvPr/>
        </p:nvPicPr>
        <p:blipFill>
          <a:blip r:embed="rId1"/>
          <a:stretch/>
        </p:blipFill>
        <p:spPr>
          <a:xfrm>
            <a:off x="-396720" y="-4680"/>
            <a:ext cx="9936000" cy="68626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755640" y="1052640"/>
            <a:ext cx="72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细读课文，体会作者情感变化，联系上下文说说为什么会有这个变化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55640" y="328464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要求：文中直接表达的请划出来，没有明确表达的请用心体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200724183376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5"/>
          <p:cNvSpPr/>
          <p:nvPr/>
        </p:nvSpPr>
        <p:spPr>
          <a:xfrm>
            <a:off x="2550600" y="717480"/>
            <a:ext cx="11152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没有花的绿地是寂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200724183376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450720" y="33336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我用手扒开草一看，原来青草下边藏着满满一层小花，白的，黄的，紫的；纯洁，娇小，鲜嫩  这么多，这么密，这么辽阔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20072418337666"/>
          <p:cNvPicPr/>
          <p:nvPr/>
        </p:nvPicPr>
        <p:blipFill>
          <a:blip r:embed="rId1"/>
          <a:stretch/>
        </p:blipFill>
        <p:spPr>
          <a:xfrm>
            <a:off x="-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8"/>
          <p:cNvSpPr/>
          <p:nvPr/>
        </p:nvSpPr>
        <p:spPr>
          <a:xfrm>
            <a:off x="0" y="33336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这正是前几天那片千万朵小花藏身的草地，此刻那些花儿一下子全冒了出来，顿时改天换地，整个世界铺满全新的色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无标题"/>
          <p:cNvPicPr/>
          <p:nvPr/>
        </p:nvPicPr>
        <p:blipFill>
          <a:blip r:embed="rId1"/>
          <a:stretch/>
        </p:blipFill>
        <p:spPr>
          <a:xfrm>
            <a:off x="0" y="-2430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539640" y="18900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读了这篇课文，你对生命又产生了哪些新的感悟？结合前面的几篇课文，大胆地谈一谈自己对生命的思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16F6-D173-437D-B7F0-24ABD83A9D7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14:12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2:19Z</dcterms:modified>
  <cp:revision>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