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F7EA-AB27-43F4-B0D6-8F2B05F4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37DA-F6EB-4FDF-84CE-6682CEF0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3A0A-C673-4026-81F6-66DF3F0A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38D4-1301-45BA-84FA-FAF30FCD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9EA2-1634-4C98-A155-D5E46419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4583-A12D-4AE7-95FE-728EFAC9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A066-C3CE-4798-967E-CA779866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3862-9E8E-4A08-82CE-916176A3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B804-A193-4F3B-BCEC-02C8850A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07ED-961E-4870-8671-B340B2CD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95D8-BB0B-4AF1-8BC3-D17BCE9C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FBD0-6D98-4DB0-B377-36BEAEFB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B962-3172-4877-A8E9-4DB79477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9C01-5BEC-4AC3-B7C4-F39D5165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B11E-3DF2-4307-B51F-DF78A11D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18A4-30E0-45A5-8CDB-F91CFD1F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B7AB-E4C6-452B-AFE8-F65642E1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2DD2-DAC7-417B-B82E-F9157124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3479-6EE1-4DD7-869B-E6E296C0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BBE4-60A8-4863-B06C-08753066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FADD-E4C0-4B81-B4BE-C40DD405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CEC8-6204-4BA8-BFE0-32C72ACA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CAD7-B0E0-4A9D-A947-EF2DF25C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2E46-E3CF-40C8-A527-93AA477F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2C7C-C87E-4BFE-9783-9C9B8EC31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82B8-16FF-4CB6-B92F-F116E1D7A65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0B16-59AF-4521-BCC1-AB889CE1FF5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971640" y="134136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汉查理语文课件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下载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3" name="好汉片段.mp3" descr=""/>
          <p:cNvPicPr/>
          <p:nvPr/>
        </p:nvPicPr>
        <p:blipFill>
          <a:blip r:embed="rId2"/>
          <a:stretch/>
        </p:blipFill>
        <p:spPr>
          <a:xfrm>
            <a:off x="8028000" y="597528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34920" y="6453360"/>
            <a:ext cx="5078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ff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696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24000" y="1844640"/>
            <a:ext cx="8820000" cy="41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不，好汉查理从来不随便拿别人的东西。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”</a:t>
            </a:r>
            <a:br>
              <a:rPr sz="2800"/>
            </a:b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谢谢！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查理显得彬彬有礼。</a:t>
            </a:r>
            <a:br>
              <a:rPr sz="2800"/>
            </a:b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当然可以。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”</a:t>
            </a:r>
            <a:br>
              <a:rPr sz="2800"/>
            </a:b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查理虽然调皮，但说话是算数的。整整一个暑假，他每天都陪杰西在草地上玩。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”</a:t>
            </a:r>
            <a:br>
              <a:rPr sz="2800"/>
            </a:b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不行，罗伯特先生，我不能随便拿别人的东西。”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杰西，我会做个好汉。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79280" y="692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68360" y="549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查理是个很调皮的孩子，爱搞恶作剧，没有人喜欢他，倒是他叫自己是“好汉查理”。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284720" y="620640"/>
            <a:ext cx="4319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649400" y="2205000"/>
            <a:ext cx="8388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，好汉查理从来不随便拿别人的东西。”</a:t>
            </a:r>
            <a:br>
              <a:rPr sz="3200"/>
            </a:b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Object 4" descr="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27813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4"/>
          <p:cNvSpPr/>
          <p:nvPr/>
        </p:nvSpPr>
        <p:spPr>
          <a:xfrm>
            <a:off x="395280" y="115920"/>
            <a:ext cx="856944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天下午，查理跑到罗伯特家的院子里玩，看到屋里的墙上挂着一把漂亮的长刀，喜欢极了。他从窗户爬进房间，羡慕得望着那把刀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“你想把它拿走吗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到说话声，查理才发现有个小女孩坐在轮椅上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，好汉查理从不随便拿别人的东西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可以拿下来看看。好汉查理，我叫杰西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谢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理显得彬彬有礼。他抽刀出鞘，仔细地看着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杰西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刀是我爸爸的，要不然我会送给你。好汉查理，能推我到外面晒晒太阳吗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吧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理恋恋不舍地把它挂回墙上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7008120" y="6367680"/>
            <a:ext cx="309600" cy="303120"/>
          </a:xfrm>
          <a:custGeom>
            <a:avLst/>
            <a:gdLst>
              <a:gd name="textAreaLeft" fmla="*/ 19440 w 309600"/>
              <a:gd name="textAreaRight" fmla="*/ 290160 w 3096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2061" h="21600">
                <a:moveTo>
                  <a:pt x="0" y="0"/>
                </a:moveTo>
                <a:lnTo>
                  <a:pt x="22061" y="0"/>
                </a:lnTo>
                <a:lnTo>
                  <a:pt x="22061" y="21600"/>
                </a:lnTo>
                <a:lnTo>
                  <a:pt x="0" y="21600"/>
                </a:lnTo>
                <a:close/>
              </a:path>
              <a:path fill="lightenLess" w="22061" h="21600">
                <a:moveTo>
                  <a:pt x="0" y="0"/>
                </a:moveTo>
                <a:lnTo>
                  <a:pt x="22061" y="0"/>
                </a:lnTo>
                <a:lnTo>
                  <a:pt x="20661" y="1400"/>
                </a:lnTo>
                <a:lnTo>
                  <a:pt x="1400" y="1400"/>
                </a:lnTo>
                <a:close/>
              </a:path>
              <a:path fill="darken" w="22061" h="21600">
                <a:moveTo>
                  <a:pt x="22061" y="0"/>
                </a:moveTo>
                <a:lnTo>
                  <a:pt x="22061" y="21600"/>
                </a:lnTo>
                <a:lnTo>
                  <a:pt x="20661" y="20200"/>
                </a:lnTo>
                <a:lnTo>
                  <a:pt x="20661" y="1400"/>
                </a:lnTo>
                <a:close/>
              </a:path>
              <a:path fill="darkenLess" w="22061" h="21600">
                <a:moveTo>
                  <a:pt x="2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61" y="20200"/>
                </a:lnTo>
                <a:close/>
              </a:path>
              <a:path fill="lighten" w="2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AutoShape 21"/>
          <p:cNvSpPr/>
          <p:nvPr/>
        </p:nvSpPr>
        <p:spPr>
          <a:xfrm>
            <a:off x="7749720" y="6369840"/>
            <a:ext cx="320400" cy="303120"/>
          </a:xfrm>
          <a:custGeom>
            <a:avLst/>
            <a:gdLst>
              <a:gd name="textAreaLeft" fmla="*/ 19440 w 320400"/>
              <a:gd name="textAreaRight" fmla="*/ 300960 w 3204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2830" h="21600">
                <a:moveTo>
                  <a:pt x="0" y="0"/>
                </a:moveTo>
                <a:lnTo>
                  <a:pt x="22830" y="0"/>
                </a:lnTo>
                <a:lnTo>
                  <a:pt x="22830" y="21600"/>
                </a:lnTo>
                <a:lnTo>
                  <a:pt x="0" y="21600"/>
                </a:lnTo>
                <a:close/>
              </a:path>
              <a:path fill="lightenLess" w="22830" h="21600">
                <a:moveTo>
                  <a:pt x="0" y="0"/>
                </a:moveTo>
                <a:lnTo>
                  <a:pt x="22830" y="0"/>
                </a:lnTo>
                <a:lnTo>
                  <a:pt x="21430" y="1400"/>
                </a:lnTo>
                <a:lnTo>
                  <a:pt x="1400" y="1400"/>
                </a:lnTo>
                <a:close/>
              </a:path>
              <a:path fill="darken" w="22830" h="21600">
                <a:moveTo>
                  <a:pt x="22830" y="0"/>
                </a:moveTo>
                <a:lnTo>
                  <a:pt x="22830" y="21600"/>
                </a:lnTo>
                <a:lnTo>
                  <a:pt x="21430" y="20200"/>
                </a:lnTo>
                <a:lnTo>
                  <a:pt x="21430" y="1400"/>
                </a:lnTo>
                <a:close/>
              </a:path>
              <a:path fill="darkenLess" w="22830" h="21600">
                <a:moveTo>
                  <a:pt x="22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30" y="20200"/>
                </a:lnTo>
                <a:close/>
              </a:path>
              <a:path fill="lighten" w="22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AutoShape 22"/>
          <p:cNvSpPr/>
          <p:nvPr/>
        </p:nvSpPr>
        <p:spPr>
          <a:xfrm>
            <a:off x="8379000" y="6370920"/>
            <a:ext cx="360000" cy="303120"/>
          </a:xfrm>
          <a:custGeom>
            <a:avLst/>
            <a:gdLst>
              <a:gd name="textAreaLeft" fmla="*/ 19440 w 360000"/>
              <a:gd name="textAreaRight" fmla="*/ 340560 w 3600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AutoShape 23"/>
          <p:cNvSpPr/>
          <p:nvPr/>
        </p:nvSpPr>
        <p:spPr>
          <a:xfrm>
            <a:off x="6794640" y="7018560"/>
            <a:ext cx="360000" cy="303120"/>
          </a:xfrm>
          <a:custGeom>
            <a:avLst/>
            <a:gdLst>
              <a:gd name="textAreaLeft" fmla="*/ 19440 w 360000"/>
              <a:gd name="textAreaRight" fmla="*/ 340560 w 3600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AutoShape 24"/>
          <p:cNvSpPr/>
          <p:nvPr/>
        </p:nvSpPr>
        <p:spPr>
          <a:xfrm>
            <a:off x="6291360" y="6370920"/>
            <a:ext cx="360000" cy="303120"/>
          </a:xfrm>
          <a:custGeom>
            <a:avLst/>
            <a:gdLst>
              <a:gd name="textAreaLeft" fmla="*/ 19440 w 360000"/>
              <a:gd name="textAreaRight" fmla="*/ 340560 w 3600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Object 2" descr="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27813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395280" y="115920"/>
            <a:ext cx="856944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天下午，查理跑到罗伯特家的院子里玩，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到屋里的墙上挂着一把漂亮的长刀，喜欢极了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他从窗户爬进房间，羡慕得望着那把刀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“你想把它拿走吗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到说话声，查理才发现有个小女孩坐在轮椅上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，好汉查理从不随便拿别人的东西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可以拿下来看看。好汉查理，我叫杰西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谢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理显得彬彬有礼。他抽刀出鞘，仔细地看着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杰西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刀是我爸爸的，要不然我会送给你。好汉查理，能推我到外面晒晒太阳吗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吧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理恋恋不舍地把它挂回墙上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7008120" y="6367680"/>
            <a:ext cx="309600" cy="303120"/>
          </a:xfrm>
          <a:custGeom>
            <a:avLst/>
            <a:gdLst>
              <a:gd name="textAreaLeft" fmla="*/ 19440 w 309600"/>
              <a:gd name="textAreaRight" fmla="*/ 290160 w 3096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2061" h="21600">
                <a:moveTo>
                  <a:pt x="0" y="0"/>
                </a:moveTo>
                <a:lnTo>
                  <a:pt x="22061" y="0"/>
                </a:lnTo>
                <a:lnTo>
                  <a:pt x="22061" y="21600"/>
                </a:lnTo>
                <a:lnTo>
                  <a:pt x="0" y="21600"/>
                </a:lnTo>
                <a:close/>
              </a:path>
              <a:path fill="lightenLess" w="22061" h="21600">
                <a:moveTo>
                  <a:pt x="0" y="0"/>
                </a:moveTo>
                <a:lnTo>
                  <a:pt x="22061" y="0"/>
                </a:lnTo>
                <a:lnTo>
                  <a:pt x="20661" y="1400"/>
                </a:lnTo>
                <a:lnTo>
                  <a:pt x="1400" y="1400"/>
                </a:lnTo>
                <a:close/>
              </a:path>
              <a:path fill="darken" w="22061" h="21600">
                <a:moveTo>
                  <a:pt x="22061" y="0"/>
                </a:moveTo>
                <a:lnTo>
                  <a:pt x="22061" y="21600"/>
                </a:lnTo>
                <a:lnTo>
                  <a:pt x="20661" y="20200"/>
                </a:lnTo>
                <a:lnTo>
                  <a:pt x="20661" y="1400"/>
                </a:lnTo>
                <a:close/>
              </a:path>
              <a:path fill="darkenLess" w="22061" h="21600">
                <a:moveTo>
                  <a:pt x="2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61" y="20200"/>
                </a:lnTo>
                <a:close/>
              </a:path>
              <a:path fill="lighten" w="2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7749720" y="6369840"/>
            <a:ext cx="320400" cy="303120"/>
          </a:xfrm>
          <a:custGeom>
            <a:avLst/>
            <a:gdLst>
              <a:gd name="textAreaLeft" fmla="*/ 19440 w 320400"/>
              <a:gd name="textAreaRight" fmla="*/ 300960 w 3204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2830" h="21600">
                <a:moveTo>
                  <a:pt x="0" y="0"/>
                </a:moveTo>
                <a:lnTo>
                  <a:pt x="22830" y="0"/>
                </a:lnTo>
                <a:lnTo>
                  <a:pt x="22830" y="21600"/>
                </a:lnTo>
                <a:lnTo>
                  <a:pt x="0" y="21600"/>
                </a:lnTo>
                <a:close/>
              </a:path>
              <a:path fill="lightenLess" w="22830" h="21600">
                <a:moveTo>
                  <a:pt x="0" y="0"/>
                </a:moveTo>
                <a:lnTo>
                  <a:pt x="22830" y="0"/>
                </a:lnTo>
                <a:lnTo>
                  <a:pt x="21430" y="1400"/>
                </a:lnTo>
                <a:lnTo>
                  <a:pt x="1400" y="1400"/>
                </a:lnTo>
                <a:close/>
              </a:path>
              <a:path fill="darken" w="22830" h="21600">
                <a:moveTo>
                  <a:pt x="22830" y="0"/>
                </a:moveTo>
                <a:lnTo>
                  <a:pt x="22830" y="21600"/>
                </a:lnTo>
                <a:lnTo>
                  <a:pt x="21430" y="20200"/>
                </a:lnTo>
                <a:lnTo>
                  <a:pt x="21430" y="1400"/>
                </a:lnTo>
                <a:close/>
              </a:path>
              <a:path fill="darkenLess" w="22830" h="21600">
                <a:moveTo>
                  <a:pt x="22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30" y="20200"/>
                </a:lnTo>
                <a:close/>
              </a:path>
              <a:path fill="lighten" w="22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8379000" y="6370920"/>
            <a:ext cx="360000" cy="303120"/>
          </a:xfrm>
          <a:custGeom>
            <a:avLst/>
            <a:gdLst>
              <a:gd name="textAreaLeft" fmla="*/ 19440 w 360000"/>
              <a:gd name="textAreaRight" fmla="*/ 340560 w 3600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AutoShape 8"/>
          <p:cNvSpPr/>
          <p:nvPr/>
        </p:nvSpPr>
        <p:spPr>
          <a:xfrm>
            <a:off x="8577720" y="5793840"/>
            <a:ext cx="397800" cy="303120"/>
          </a:xfrm>
          <a:custGeom>
            <a:avLst/>
            <a:gdLst>
              <a:gd name="textAreaLeft" fmla="*/ 19440 w 397800"/>
              <a:gd name="textAreaRight" fmla="*/ 378360 w 3978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8339" h="21600">
                <a:moveTo>
                  <a:pt x="0" y="0"/>
                </a:moveTo>
                <a:lnTo>
                  <a:pt x="28339" y="0"/>
                </a:lnTo>
                <a:lnTo>
                  <a:pt x="28339" y="21600"/>
                </a:lnTo>
                <a:lnTo>
                  <a:pt x="0" y="21600"/>
                </a:lnTo>
                <a:close/>
              </a:path>
              <a:path fill="lightenLess" w="28339" h="21600">
                <a:moveTo>
                  <a:pt x="0" y="0"/>
                </a:moveTo>
                <a:lnTo>
                  <a:pt x="28339" y="0"/>
                </a:lnTo>
                <a:lnTo>
                  <a:pt x="26939" y="1400"/>
                </a:lnTo>
                <a:lnTo>
                  <a:pt x="1400" y="1400"/>
                </a:lnTo>
                <a:close/>
              </a:path>
              <a:path fill="darken" w="28339" h="21600">
                <a:moveTo>
                  <a:pt x="28339" y="0"/>
                </a:moveTo>
                <a:lnTo>
                  <a:pt x="28339" y="21600"/>
                </a:lnTo>
                <a:lnTo>
                  <a:pt x="26939" y="20200"/>
                </a:lnTo>
                <a:lnTo>
                  <a:pt x="26939" y="1400"/>
                </a:lnTo>
                <a:close/>
              </a:path>
              <a:path fill="darkenLess" w="28339" h="21600">
                <a:moveTo>
                  <a:pt x="28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9" y="20200"/>
                </a:lnTo>
                <a:close/>
              </a:path>
              <a:path fill="lighten" w="28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in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Object 2" descr="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27813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395280" y="115920"/>
            <a:ext cx="856944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天下午，查理跑到罗伯特家的院子里玩，看到屋里的墙上挂着一把漂亮的长刀，喜欢极了。他从窗户爬进房间，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羡慕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望着那把刀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“你想把它拿走吗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到说话声，查理才发现有个小女孩坐在轮椅上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，好汉查理从不随便拿别人的东西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可以拿下来看看。好汉查理，我叫杰西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谢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理显得彬彬有礼。他抽刀出鞘，仔细地看着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杰西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刀是我爸爸的，要不然我会送给你。好汉查理，能推我到外面晒晒太阳吗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吧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理恋恋不舍地把它挂回墙上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7749720" y="6369840"/>
            <a:ext cx="320400" cy="303120"/>
          </a:xfrm>
          <a:custGeom>
            <a:avLst/>
            <a:gdLst>
              <a:gd name="textAreaLeft" fmla="*/ 19440 w 320400"/>
              <a:gd name="textAreaRight" fmla="*/ 300960 w 3204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2830" h="21600">
                <a:moveTo>
                  <a:pt x="0" y="0"/>
                </a:moveTo>
                <a:lnTo>
                  <a:pt x="22830" y="0"/>
                </a:lnTo>
                <a:lnTo>
                  <a:pt x="22830" y="21600"/>
                </a:lnTo>
                <a:lnTo>
                  <a:pt x="0" y="21600"/>
                </a:lnTo>
                <a:close/>
              </a:path>
              <a:path fill="lightenLess" w="22830" h="21600">
                <a:moveTo>
                  <a:pt x="0" y="0"/>
                </a:moveTo>
                <a:lnTo>
                  <a:pt x="22830" y="0"/>
                </a:lnTo>
                <a:lnTo>
                  <a:pt x="21430" y="1400"/>
                </a:lnTo>
                <a:lnTo>
                  <a:pt x="1400" y="1400"/>
                </a:lnTo>
                <a:close/>
              </a:path>
              <a:path fill="darken" w="22830" h="21600">
                <a:moveTo>
                  <a:pt x="22830" y="0"/>
                </a:moveTo>
                <a:lnTo>
                  <a:pt x="22830" y="21600"/>
                </a:lnTo>
                <a:lnTo>
                  <a:pt x="21430" y="20200"/>
                </a:lnTo>
                <a:lnTo>
                  <a:pt x="21430" y="1400"/>
                </a:lnTo>
                <a:close/>
              </a:path>
              <a:path fill="darkenLess" w="22830" h="21600">
                <a:moveTo>
                  <a:pt x="22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30" y="20200"/>
                </a:lnTo>
                <a:close/>
              </a:path>
              <a:path fill="lighten" w="22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8379000" y="6370920"/>
            <a:ext cx="360000" cy="303120"/>
          </a:xfrm>
          <a:custGeom>
            <a:avLst/>
            <a:gdLst>
              <a:gd name="textAreaLeft" fmla="*/ 19440 w 360000"/>
              <a:gd name="textAreaRight" fmla="*/ 340560 w 3600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6291360" y="6370920"/>
            <a:ext cx="360000" cy="303120"/>
          </a:xfrm>
          <a:custGeom>
            <a:avLst/>
            <a:gdLst>
              <a:gd name="textAreaLeft" fmla="*/ 19440 w 360000"/>
              <a:gd name="textAreaRight" fmla="*/ 340560 w 3600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8577720" y="5793840"/>
            <a:ext cx="397800" cy="303120"/>
          </a:xfrm>
          <a:custGeom>
            <a:avLst/>
            <a:gdLst>
              <a:gd name="textAreaLeft" fmla="*/ 19440 w 397800"/>
              <a:gd name="textAreaRight" fmla="*/ 378360 w 3978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8339" h="21600">
                <a:moveTo>
                  <a:pt x="0" y="0"/>
                </a:moveTo>
                <a:lnTo>
                  <a:pt x="28339" y="0"/>
                </a:lnTo>
                <a:lnTo>
                  <a:pt x="28339" y="21600"/>
                </a:lnTo>
                <a:lnTo>
                  <a:pt x="0" y="21600"/>
                </a:lnTo>
                <a:close/>
              </a:path>
              <a:path fill="lightenLess" w="28339" h="21600">
                <a:moveTo>
                  <a:pt x="0" y="0"/>
                </a:moveTo>
                <a:lnTo>
                  <a:pt x="28339" y="0"/>
                </a:lnTo>
                <a:lnTo>
                  <a:pt x="26939" y="1400"/>
                </a:lnTo>
                <a:lnTo>
                  <a:pt x="1400" y="1400"/>
                </a:lnTo>
                <a:close/>
              </a:path>
              <a:path fill="darken" w="28339" h="21600">
                <a:moveTo>
                  <a:pt x="28339" y="0"/>
                </a:moveTo>
                <a:lnTo>
                  <a:pt x="28339" y="21600"/>
                </a:lnTo>
                <a:lnTo>
                  <a:pt x="26939" y="20200"/>
                </a:lnTo>
                <a:lnTo>
                  <a:pt x="26939" y="1400"/>
                </a:lnTo>
                <a:close/>
              </a:path>
              <a:path fill="darkenLess" w="28339" h="21600">
                <a:moveTo>
                  <a:pt x="28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9" y="20200"/>
                </a:lnTo>
                <a:close/>
              </a:path>
              <a:path fill="lighten" w="28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in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ject 2" descr="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27813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395280" y="115920"/>
            <a:ext cx="856944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天下午，查理跑到罗伯特家的院子里玩，看到屋里的墙上挂着一把漂亮的长刀，喜欢极了。他从窗户爬进房间，羡慕得望着那把刀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“你想把它拿走吗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到说话声，查理才发现有个小女孩坐在轮椅上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，好汉查理从不随便拿别人的东西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可以拿下来看看。好汉查理，我叫杰西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谢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理显得彬彬有礼。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他抽刀出鞘，仔细地看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杰西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刀是我爸爸的，要不然我会送给你。好汉查理，能推我到外面晒晒太阳吗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吧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理恋恋不舍地把它挂回墙上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7008120" y="6367680"/>
            <a:ext cx="309600" cy="303120"/>
          </a:xfrm>
          <a:custGeom>
            <a:avLst/>
            <a:gdLst>
              <a:gd name="textAreaLeft" fmla="*/ 19440 w 309600"/>
              <a:gd name="textAreaRight" fmla="*/ 290160 w 3096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2061" h="21600">
                <a:moveTo>
                  <a:pt x="0" y="0"/>
                </a:moveTo>
                <a:lnTo>
                  <a:pt x="22061" y="0"/>
                </a:lnTo>
                <a:lnTo>
                  <a:pt x="22061" y="21600"/>
                </a:lnTo>
                <a:lnTo>
                  <a:pt x="0" y="21600"/>
                </a:lnTo>
                <a:close/>
              </a:path>
              <a:path fill="lightenLess" w="22061" h="21600">
                <a:moveTo>
                  <a:pt x="0" y="0"/>
                </a:moveTo>
                <a:lnTo>
                  <a:pt x="22061" y="0"/>
                </a:lnTo>
                <a:lnTo>
                  <a:pt x="20661" y="1400"/>
                </a:lnTo>
                <a:lnTo>
                  <a:pt x="1400" y="1400"/>
                </a:lnTo>
                <a:close/>
              </a:path>
              <a:path fill="darken" w="22061" h="21600">
                <a:moveTo>
                  <a:pt x="22061" y="0"/>
                </a:moveTo>
                <a:lnTo>
                  <a:pt x="22061" y="21600"/>
                </a:lnTo>
                <a:lnTo>
                  <a:pt x="20661" y="20200"/>
                </a:lnTo>
                <a:lnTo>
                  <a:pt x="20661" y="1400"/>
                </a:lnTo>
                <a:close/>
              </a:path>
              <a:path fill="darkenLess" w="22061" h="21600">
                <a:moveTo>
                  <a:pt x="2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61" y="20200"/>
                </a:lnTo>
                <a:close/>
              </a:path>
              <a:path fill="lighten" w="2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8379000" y="6370920"/>
            <a:ext cx="360000" cy="303120"/>
          </a:xfrm>
          <a:custGeom>
            <a:avLst/>
            <a:gdLst>
              <a:gd name="textAreaLeft" fmla="*/ 19440 w 360000"/>
              <a:gd name="textAreaRight" fmla="*/ 340560 w 3600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6291360" y="6370920"/>
            <a:ext cx="360000" cy="303120"/>
          </a:xfrm>
          <a:custGeom>
            <a:avLst/>
            <a:gdLst>
              <a:gd name="textAreaLeft" fmla="*/ 19440 w 360000"/>
              <a:gd name="textAreaRight" fmla="*/ 340560 w 3600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8453880" y="5796720"/>
            <a:ext cx="397800" cy="303120"/>
          </a:xfrm>
          <a:custGeom>
            <a:avLst/>
            <a:gdLst>
              <a:gd name="textAreaLeft" fmla="*/ 19440 w 397800"/>
              <a:gd name="textAreaRight" fmla="*/ 378360 w 3978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8339" h="21600">
                <a:moveTo>
                  <a:pt x="0" y="0"/>
                </a:moveTo>
                <a:lnTo>
                  <a:pt x="28339" y="0"/>
                </a:lnTo>
                <a:lnTo>
                  <a:pt x="28339" y="21600"/>
                </a:lnTo>
                <a:lnTo>
                  <a:pt x="0" y="21600"/>
                </a:lnTo>
                <a:close/>
              </a:path>
              <a:path fill="lightenLess" w="28339" h="21600">
                <a:moveTo>
                  <a:pt x="0" y="0"/>
                </a:moveTo>
                <a:lnTo>
                  <a:pt x="28339" y="0"/>
                </a:lnTo>
                <a:lnTo>
                  <a:pt x="26939" y="1400"/>
                </a:lnTo>
                <a:lnTo>
                  <a:pt x="1400" y="1400"/>
                </a:lnTo>
                <a:close/>
              </a:path>
              <a:path fill="darken" w="28339" h="21600">
                <a:moveTo>
                  <a:pt x="28339" y="0"/>
                </a:moveTo>
                <a:lnTo>
                  <a:pt x="28339" y="21600"/>
                </a:lnTo>
                <a:lnTo>
                  <a:pt x="26939" y="20200"/>
                </a:lnTo>
                <a:lnTo>
                  <a:pt x="26939" y="1400"/>
                </a:lnTo>
                <a:close/>
              </a:path>
              <a:path fill="darkenLess" w="28339" h="21600">
                <a:moveTo>
                  <a:pt x="28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9" y="20200"/>
                </a:lnTo>
                <a:close/>
              </a:path>
              <a:path fill="lighten" w="28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in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文本框 8200"/>
          <p:cNvSpPr/>
          <p:nvPr/>
        </p:nvSpPr>
        <p:spPr>
          <a:xfrm>
            <a:off x="3492360" y="1628640"/>
            <a:ext cx="44546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Object 2" descr="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27813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395280" y="115920"/>
            <a:ext cx="856944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天下午，查理跑到罗伯特家的院子里玩，看到屋里的墙上挂着一把漂亮的长刀，喜欢极了。他从窗户爬进房间，羡慕得望着那把刀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“你想把它拿走吗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到说话声，查理才发现有个小女孩坐在轮椅上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，好汉查理从不随便拿别人的东西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可以拿下来看看。好汉查理，我叫杰西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谢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理显得彬彬有礼。他抽刀出鞘，仔细地看着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杰西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刀是我爸爸的，要不然我会送给你。好汉查理，能推我到外面晒晒太阳吗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吧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查理恋恋不舍地把它挂回墙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7008120" y="6367680"/>
            <a:ext cx="309600" cy="303120"/>
          </a:xfrm>
          <a:custGeom>
            <a:avLst/>
            <a:gdLst>
              <a:gd name="textAreaLeft" fmla="*/ 19440 w 309600"/>
              <a:gd name="textAreaRight" fmla="*/ 290160 w 3096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2061" h="21600">
                <a:moveTo>
                  <a:pt x="0" y="0"/>
                </a:moveTo>
                <a:lnTo>
                  <a:pt x="22061" y="0"/>
                </a:lnTo>
                <a:lnTo>
                  <a:pt x="22061" y="21600"/>
                </a:lnTo>
                <a:lnTo>
                  <a:pt x="0" y="21600"/>
                </a:lnTo>
                <a:close/>
              </a:path>
              <a:path fill="lightenLess" w="22061" h="21600">
                <a:moveTo>
                  <a:pt x="0" y="0"/>
                </a:moveTo>
                <a:lnTo>
                  <a:pt x="22061" y="0"/>
                </a:lnTo>
                <a:lnTo>
                  <a:pt x="20661" y="1400"/>
                </a:lnTo>
                <a:lnTo>
                  <a:pt x="1400" y="1400"/>
                </a:lnTo>
                <a:close/>
              </a:path>
              <a:path fill="darken" w="22061" h="21600">
                <a:moveTo>
                  <a:pt x="22061" y="0"/>
                </a:moveTo>
                <a:lnTo>
                  <a:pt x="22061" y="21600"/>
                </a:lnTo>
                <a:lnTo>
                  <a:pt x="20661" y="20200"/>
                </a:lnTo>
                <a:lnTo>
                  <a:pt x="20661" y="1400"/>
                </a:lnTo>
                <a:close/>
              </a:path>
              <a:path fill="darkenLess" w="22061" h="21600">
                <a:moveTo>
                  <a:pt x="2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61" y="20200"/>
                </a:lnTo>
                <a:close/>
              </a:path>
              <a:path fill="lighten" w="2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7749720" y="6369840"/>
            <a:ext cx="320400" cy="303120"/>
          </a:xfrm>
          <a:custGeom>
            <a:avLst/>
            <a:gdLst>
              <a:gd name="textAreaLeft" fmla="*/ 19440 w 320400"/>
              <a:gd name="textAreaRight" fmla="*/ 300960 w 3204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2830" h="21600">
                <a:moveTo>
                  <a:pt x="0" y="0"/>
                </a:moveTo>
                <a:lnTo>
                  <a:pt x="22830" y="0"/>
                </a:lnTo>
                <a:lnTo>
                  <a:pt x="22830" y="21600"/>
                </a:lnTo>
                <a:lnTo>
                  <a:pt x="0" y="21600"/>
                </a:lnTo>
                <a:close/>
              </a:path>
              <a:path fill="lightenLess" w="22830" h="21600">
                <a:moveTo>
                  <a:pt x="0" y="0"/>
                </a:moveTo>
                <a:lnTo>
                  <a:pt x="22830" y="0"/>
                </a:lnTo>
                <a:lnTo>
                  <a:pt x="21430" y="1400"/>
                </a:lnTo>
                <a:lnTo>
                  <a:pt x="1400" y="1400"/>
                </a:lnTo>
                <a:close/>
              </a:path>
              <a:path fill="darken" w="22830" h="21600">
                <a:moveTo>
                  <a:pt x="22830" y="0"/>
                </a:moveTo>
                <a:lnTo>
                  <a:pt x="22830" y="21600"/>
                </a:lnTo>
                <a:lnTo>
                  <a:pt x="21430" y="20200"/>
                </a:lnTo>
                <a:lnTo>
                  <a:pt x="21430" y="1400"/>
                </a:lnTo>
                <a:close/>
              </a:path>
              <a:path fill="darkenLess" w="22830" h="21600">
                <a:moveTo>
                  <a:pt x="22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30" y="20200"/>
                </a:lnTo>
                <a:close/>
              </a:path>
              <a:path fill="lighten" w="22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6291360" y="6370920"/>
            <a:ext cx="360000" cy="303120"/>
          </a:xfrm>
          <a:custGeom>
            <a:avLst/>
            <a:gdLst>
              <a:gd name="textAreaLeft" fmla="*/ 19440 w 360000"/>
              <a:gd name="textAreaRight" fmla="*/ 340560 w 3600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8577720" y="5793840"/>
            <a:ext cx="397800" cy="303120"/>
          </a:xfrm>
          <a:custGeom>
            <a:avLst/>
            <a:gdLst>
              <a:gd name="textAreaLeft" fmla="*/ 19440 w 397800"/>
              <a:gd name="textAreaRight" fmla="*/ 378360 w 3978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8339" h="21600">
                <a:moveTo>
                  <a:pt x="0" y="0"/>
                </a:moveTo>
                <a:lnTo>
                  <a:pt x="28339" y="0"/>
                </a:lnTo>
                <a:lnTo>
                  <a:pt x="28339" y="21600"/>
                </a:lnTo>
                <a:lnTo>
                  <a:pt x="0" y="21600"/>
                </a:lnTo>
                <a:close/>
              </a:path>
              <a:path fill="lightenLess" w="28339" h="21600">
                <a:moveTo>
                  <a:pt x="0" y="0"/>
                </a:moveTo>
                <a:lnTo>
                  <a:pt x="28339" y="0"/>
                </a:lnTo>
                <a:lnTo>
                  <a:pt x="26939" y="1400"/>
                </a:lnTo>
                <a:lnTo>
                  <a:pt x="1400" y="1400"/>
                </a:lnTo>
                <a:close/>
              </a:path>
              <a:path fill="darken" w="28339" h="21600">
                <a:moveTo>
                  <a:pt x="28339" y="0"/>
                </a:moveTo>
                <a:lnTo>
                  <a:pt x="28339" y="21600"/>
                </a:lnTo>
                <a:lnTo>
                  <a:pt x="26939" y="20200"/>
                </a:lnTo>
                <a:lnTo>
                  <a:pt x="26939" y="1400"/>
                </a:lnTo>
                <a:close/>
              </a:path>
              <a:path fill="darkenLess" w="28339" h="21600">
                <a:moveTo>
                  <a:pt x="28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9" y="20200"/>
                </a:lnTo>
                <a:close/>
              </a:path>
              <a:path fill="lighten" w="28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in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4412880" y="2205000"/>
            <a:ext cx="768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，好汉查理从不随便拿别人的东西。”</a:t>
            </a:r>
            <a:br>
              <a:rPr sz="3200"/>
            </a:b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0" y="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你想把它拿走吗？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听到说话声，查理才发现有个小女孩坐在轮椅上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zh-CN" sz="3200" spc="-1" strike="noStrike">
                <a:solidFill>
                  <a:srgbClr val="00b050"/>
                </a:solidFill>
                <a:latin typeface="宋体"/>
              </a:rPr>
              <a:t>“不，好汉查理从来不随便拿别人的东西。”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“你可以拿下来看看。好汉查理，我叫杰西。”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zh-CN" sz="3200" spc="-1" strike="noStrike">
                <a:solidFill>
                  <a:srgbClr val="00b050"/>
                </a:solidFill>
                <a:latin typeface="宋体"/>
              </a:rPr>
              <a:t>“谢谢！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查理显得彬彬有礼。他抽刀出鞘，仔细地看着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杰西说：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“这刀是我爸爸的，要不然我会送给你。好汉查理，能推我到外面晒晒太阳吗？”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zh-CN" sz="3200" spc="-1" strike="noStrike">
                <a:solidFill>
                  <a:srgbClr val="00b050"/>
                </a:solidFill>
                <a:latin typeface="宋体"/>
              </a:rPr>
              <a:t>“好吧。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查理恋恋不舍地把刀挂回墙上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在草坪上，杰西高兴地背诵着一首首诗。他们俩在阳光下度过了一个快乐的下午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分手时，杰西问查理：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“你能常来陪我吗？”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zh-CN" sz="3200" spc="-1" strike="noStrike">
                <a:solidFill>
                  <a:srgbClr val="00b050"/>
                </a:solidFill>
                <a:latin typeface="宋体"/>
              </a:rPr>
              <a:t>“当然可以。”</a:t>
            </a:r>
            <a:br>
              <a:rPr sz="3200"/>
            </a:b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4000" y="836640"/>
            <a:ext cx="853272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你想把它拿走吗？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“不，好汉查理从来不随便拿别人的东西。”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你可以拿下来看看。好汉查理，我叫杰西。”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“谢谢！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这刀是我爸爸的，要不然我会送给你。好汉查理，能推我到外面晒晒太阳吗？”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好吧。”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“你能常来陪我吗？”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当然可以。”</a:t>
            </a:r>
            <a:br>
              <a:rPr sz="2800"/>
            </a:b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6"/>
          <p:cNvSpPr/>
          <p:nvPr/>
        </p:nvSpPr>
        <p:spPr>
          <a:xfrm>
            <a:off x="281160" y="528480"/>
            <a:ext cx="6616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5"/>
          <p:cNvSpPr txBox="1"/>
          <p:nvPr/>
        </p:nvSpPr>
        <p:spPr>
          <a:xfrm>
            <a:off x="0" y="0"/>
            <a:ext cx="308628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 </a:t>
            </a:r>
            <a:endParaRPr b="1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324320" y="3789360"/>
            <a:ext cx="814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读读课文，想想课文中的小男孩发生了哪些变化。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和同学交流课文中人物的看法。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说说自己读后的感受。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08000" y="2421000"/>
            <a:ext cx="54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阅读提示：</a:t>
            </a:r>
            <a:endParaRPr b="0" lang="en-US" sz="8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07586180d338e1c35fa41e1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7885080" y="6473880"/>
            <a:ext cx="287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836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17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想把它拿走吗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250"/>
              </a:spcBef>
              <a:spcAft>
                <a:spcPts val="1749"/>
              </a:spcAft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可以拿下来看看。好汉查理，我叫杰西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17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刀是爸爸的，要不然我会送给你。好汉查理，能推我到外面晒晒太阳吗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17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能常来陪我吗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17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会的，我从来就相信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250"/>
              </a:spcBef>
              <a:spcAft>
                <a:spcPts val="1749"/>
              </a:spcAft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250"/>
              </a:spcBef>
              <a:spcAft>
                <a:spcPts val="1749"/>
              </a:spcAft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250"/>
              </a:spcBef>
              <a:spcAft>
                <a:spcPts val="1749"/>
              </a:spcAft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108000" y="307800"/>
            <a:ext cx="287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108000" y="1268280"/>
            <a:ext cx="287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179280" y="2852640"/>
            <a:ext cx="287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179280" y="5013360"/>
            <a:ext cx="287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179280" y="6021360"/>
            <a:ext cx="287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8389800" y="6308640"/>
            <a:ext cx="503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下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07586180d338e1c35fa41e1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2148120" y="2205000"/>
            <a:ext cx="446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想把它拿走吗？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8389800" y="6308640"/>
            <a:ext cx="503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回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07586180d338e1c35fa41e1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826920" y="1628640"/>
            <a:ext cx="83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可以拿下来看看。好汉查理，我叫杰西。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971640" y="3573360"/>
            <a:ext cx="770400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理是个很调皮的孩子，爱搞恶作剧，没有人喜欢他，倒是他叫自己是“好汉查理”。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8389800" y="6308640"/>
            <a:ext cx="503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回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07586180d338e1c35fa41e1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611280" y="1341360"/>
            <a:ext cx="81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刀是爸爸的，要不然我会送给你。好汉查理，能推我到外面晒晒太阳吗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7885080" y="6473880"/>
            <a:ext cx="287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8389800" y="6308640"/>
            <a:ext cx="503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回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07586180d338e1c35fa41e1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611280" y="1341360"/>
            <a:ext cx="81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能常来陪我吗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7885080" y="6473880"/>
            <a:ext cx="287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8389800" y="6308640"/>
            <a:ext cx="503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回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07586180d338e1c35fa41e1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395280" y="1557360"/>
            <a:ext cx="81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会的，我从来就相信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8389800" y="6308640"/>
            <a:ext cx="503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回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c07586180d338e1c35fa41e1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7885080" y="6473880"/>
            <a:ext cx="287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836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17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想把它拿走吗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250"/>
              </a:spcBef>
              <a:spcAft>
                <a:spcPts val="1749"/>
              </a:spcAft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可以拿下来看看。好汉查理，我叫杰西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17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刀是爸爸的，要不然我会送给你。好汉查理，能推我到外面晒晒太阳吗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17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能常来陪我吗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17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会的，我从来就相信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250"/>
              </a:spcBef>
              <a:spcAft>
                <a:spcPts val="1749"/>
              </a:spcAft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250"/>
              </a:spcBef>
              <a:spcAft>
                <a:spcPts val="1749"/>
              </a:spcAft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250"/>
              </a:spcBef>
              <a:spcAft>
                <a:spcPts val="1749"/>
              </a:spcAft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468360" y="404640"/>
            <a:ext cx="84247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想把它拿走吗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，好汉查理从来不随便拿别人东西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可以拿下来看看。好汉查理，我叫杰西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谢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刀是爸爸的，要不然我会送给你。好汉查理，能推我到外面晒晒太阳吗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吧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能常来陪我吗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然可以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2" name="神秘园之歌.mp3" descr=""/>
          <p:cNvPicPr/>
          <p:nvPr/>
        </p:nvPicPr>
        <p:blipFill>
          <a:blip r:embed="rId1"/>
          <a:stretch/>
        </p:blipFill>
        <p:spPr>
          <a:xfrm>
            <a:off x="8028000" y="6093000"/>
            <a:ext cx="449280" cy="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21402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07586180d338e1c35fa41e1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7885080" y="6473880"/>
            <a:ext cx="287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24000" y="1571400"/>
            <a:ext cx="8604000" cy="16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个阳光明媚的午后，查理来到了杰西家，他们在草坪上快乐地玩耍。查理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               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；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杰西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                    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。他们度过了一个快乐的下午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Object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539640" y="333360"/>
            <a:ext cx="7993080" cy="70344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整整一个暑假，他每天都陪杰西在草地上玩。镇上的人们发现查理没有再搞恶作剧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2c2d71eef11015e1b3fb95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这篇课文讲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查理 从前是个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孩子，暑假时，他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，后来，他变了一个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0d2e150313552f6e3812bbd5"/>
          <p:cNvPicPr/>
          <p:nvPr/>
        </p:nvPicPr>
        <p:blipFill>
          <a:blip r:embed="rId1"/>
          <a:stretch/>
        </p:blipFill>
        <p:spPr>
          <a:xfrm>
            <a:off x="4788000" y="0"/>
            <a:ext cx="694836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719280" y="314172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杰西，我会做个好汉。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WordArt 3"/>
          <p:cNvSpPr txBox="1"/>
          <p:nvPr/>
        </p:nvSpPr>
        <p:spPr>
          <a:xfrm>
            <a:off x="380880" y="533520"/>
            <a:ext cx="3200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ffff99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讨论</a:t>
            </a:r>
            <a:endParaRPr b="1" lang="en-US" sz="6000" spc="1" strike="noStrike">
              <a:ln w="19080">
                <a:solidFill>
                  <a:srgbClr val="ffff99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1066680" y="2819520"/>
            <a:ext cx="7010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fff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查理成为好汉的原因是什么？</a:t>
            </a:r>
            <a:endParaRPr b="1" lang="en-US" sz="2400" spc="1" strike="noStrike">
              <a:ln w="9360">
                <a:solidFill>
                  <a:srgbClr val="ccffff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93" name="文本框 8200"/>
          <p:cNvSpPr/>
          <p:nvPr/>
        </p:nvSpPr>
        <p:spPr>
          <a:xfrm>
            <a:off x="3564000" y="189000"/>
            <a:ext cx="44546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4140360" y="260280"/>
            <a:ext cx="431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讨论探究：你觉得查理的变化和哪些人有关呢？</a:t>
            </a:r>
            <a:br>
              <a:rPr sz="2800"/>
            </a:b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419640" y="2205000"/>
            <a:ext cx="52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己   杰西  罗伯特先生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2" dur="1" fill="hold"/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5" descr="e0382a1769dae110c83d6dd8"/>
          <p:cNvPicPr/>
          <p:nvPr/>
        </p:nvPicPr>
        <p:blipFill>
          <a:blip r:embed="rId1"/>
          <a:stretch/>
        </p:blipFill>
        <p:spPr>
          <a:xfrm>
            <a:off x="-1368360" y="0"/>
            <a:ext cx="10512360" cy="70293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4"/>
          <p:cNvSpPr/>
          <p:nvPr/>
        </p:nvSpPr>
        <p:spPr>
          <a:xfrm>
            <a:off x="2916360" y="0"/>
            <a:ext cx="712944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爱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什么？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让出自己的座位；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捐出自己心爱的书籍；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送上一杯热茶；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伸出温暖的双手；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太阳洒下的无私与关怀；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一种欣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种鼓励。　　　　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一种包容，一种奉献。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一份暖暖的默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ì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是什么？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，是人类最美好的情感；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，使人间充满温暖。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99" name="爱的奉献.mp3" descr=""/>
          <p:cNvPicPr/>
          <p:nvPr/>
        </p:nvPicPr>
        <p:blipFill>
          <a:blip r:embed="rId2"/>
          <a:stretch/>
        </p:blipFill>
        <p:spPr>
          <a:xfrm>
            <a:off x="8388360" y="6093000"/>
            <a:ext cx="50472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301266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8b65bb1fd3dde607403417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"/>
          <p:cNvSpPr/>
          <p:nvPr/>
        </p:nvSpPr>
        <p:spPr>
          <a:xfrm>
            <a:off x="971640" y="1125360"/>
            <a:ext cx="7704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查理是个很调皮的孩子，爱搞恶作剧，没有人喜欢他，倒是他叫自己是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好汉查理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8389800" y="6308640"/>
            <a:ext cx="503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回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76C1-DA2B-48BB-90F4-E0B6B2A0EEA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a49e710202f97c164bfb51b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1116000" y="227664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539640" y="105264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谢谢！”查理显得彬彬有礼。他抽刀出鞘，仔细地看着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828360" y="6381720"/>
            <a:ext cx="3942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有礼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2268360" y="6381720"/>
            <a:ext cx="3942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守信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3708000" y="6381720"/>
            <a:ext cx="3942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爱心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539640" y="234936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查理虽然调皮，但说话却是算数的。整整一个暑假，他每天都陪杰西在草地上玩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539640" y="414972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“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然可以。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1158667016836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8600" y="762120"/>
            <a:ext cx="8458200" cy="4892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调皮   恶作剧   度假   羡慕  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彬彬有礼   抽刀出鞘   背诵   陪伴   算数   临走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随便   好汉   恋恋不舍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7439d8be1dde0a1219d81f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1"/>
          <p:cNvSpPr/>
          <p:nvPr/>
        </p:nvSpPr>
        <p:spPr>
          <a:xfrm>
            <a:off x="1042920" y="2192400"/>
            <a:ext cx="785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查理   杰西  罗伯特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8b65bb1fd3dde607403417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971640" y="1125360"/>
            <a:ext cx="7704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查理是个很调皮的孩子，爱搞恶作剧，没有人喜欢他，倒是他叫自己是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好汉查理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a49e710202f97c164bfb51b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1116000" y="227664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68360" y="2060640"/>
            <a:ext cx="633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他叫自己是“好汉查理”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他想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158667016836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3"/>
          <p:cNvSpPr txBox="1"/>
          <p:nvPr/>
        </p:nvSpPr>
        <p:spPr>
          <a:xfrm>
            <a:off x="380880" y="533520"/>
            <a:ext cx="3200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讨论</a:t>
            </a:r>
            <a:endParaRPr b="1" lang="en-US" sz="6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2286000" y="2666880"/>
            <a:ext cx="6172200" cy="1300320"/>
            <a:chOff x="2286000" y="2666880"/>
            <a:chExt cx="6172200" cy="1300320"/>
          </a:xfrm>
        </p:grpSpPr>
        <p:sp>
          <p:nvSpPr>
            <p:cNvPr id="106" name="WordArt 5"/>
            <p:cNvSpPr txBox="1"/>
            <p:nvPr/>
          </p:nvSpPr>
          <p:spPr>
            <a:xfrm>
              <a:off x="2362320" y="2743200"/>
              <a:ext cx="609588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查理是不是好汉？</a:t>
              </a:r>
              <a:endParaRPr b="1" lang="en-US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107" name="WordArt 6"/>
            <p:cNvSpPr txBox="1"/>
            <p:nvPr/>
          </p:nvSpPr>
          <p:spPr>
            <a:xfrm>
              <a:off x="2286000" y="2666880"/>
              <a:ext cx="609588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查理是不是好汉？</a:t>
              </a:r>
              <a:endParaRPr b="1" lang="en-US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</p:grpSp>
      <p:pic>
        <p:nvPicPr>
          <p:cNvPr id="108" name="Picture 7" descr="查理"/>
          <p:cNvPicPr/>
          <p:nvPr/>
        </p:nvPicPr>
        <p:blipFill>
          <a:blip r:embed="rId2"/>
          <a:stretch/>
        </p:blipFill>
        <p:spPr>
          <a:xfrm>
            <a:off x="304920" y="2971800"/>
            <a:ext cx="18763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539640" y="333360"/>
            <a:ext cx="7993080" cy="70344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查理后来有没有发生变化？读课文，你发现查理是一个怎样的人？从课文里找出句子读一读，说一说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58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48Z</dcterms:modified>
  <cp:revision>7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