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chimes.wav" ContentType="audio/x-wav"/>
  <Override PartName="/ppt/media/image16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23.jpeg" ContentType="image/jpeg"/>
  <Override PartName="/ppt/media/image21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4.gif" ContentType="image/gif"/>
  <Override PartName="/ppt/media/image17.png" ContentType="image/png"/>
  <Override PartName="/ppt/media/image25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CBE9-DEFF-4803-8195-0E906908E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5542-C257-4DD7-9D23-C493D914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1918-D495-4619-9FAE-117DE98FD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88B2-AB79-4B70-91C3-80EA1F67D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FB1A-48C7-4245-9D30-E2751B967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F1A7-1702-460E-A7A8-F51A1F0F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B143-1B0F-4CA2-B3D8-51104AFB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D4DE-28D5-41E5-98C9-0C97E35A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5231-DECB-4A3C-9A62-95FBB547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4A56-BFC6-4777-92C7-B5ADB3E7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2340-B97A-48D2-838D-623E6F3D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CBEF-95A7-421F-A6DE-AE202A1F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C3F8-50CE-4B9D-9E08-3CBECB68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4A82-B0C2-4E8C-B7C8-EBE7F5AD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6DF4-C9CF-4FA8-AD31-D261171E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9EA4-DF9D-4225-B114-322ECDF59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E6D6-D994-4A5B-9E67-319EC8074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EF83-9142-4E63-8ED0-0E3E2F75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186C-1476-4495-8534-5BED37D3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AA39-C709-4136-88EB-F0A4D07E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52B2-0CFF-4BC0-A68C-051619A1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373A-D432-4C9F-84D3-1A23981D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4C7F-46AE-47D4-887D-39D33D35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374E-D7B7-4B73-8034-D06F13AC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49C0-EF00-4FBD-9F1E-75EAED04E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1FA6-D385-4506-B80A-A4D2C67944A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B515-E720-40CA-956C-C48A70BB2A7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png"/><Relationship Id="rId17" Type="http://schemas.openxmlformats.org/officeDocument/2006/relationships/image" Target="../media/image3.png"/><Relationship Id="rId18" Type="http://schemas.openxmlformats.org/officeDocument/2006/relationships/image" Target="../media/image4.png"/><Relationship Id="rId19" Type="http://schemas.openxmlformats.org/officeDocument/2006/relationships/image" Target="../media/image5.png"/><Relationship Id="rId20" Type="http://schemas.openxmlformats.org/officeDocument/2006/relationships/image" Target="../media/image6.png"/><Relationship Id="rId21" Type="http://schemas.openxmlformats.org/officeDocument/2006/relationships/audio" Target="../media/chimes.wav"/><Relationship Id="rId2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21.jpeg"/><Relationship Id="rId4" Type="http://schemas.openxmlformats.org/officeDocument/2006/relationships/hyperlink" Target="http://www.eeppt.com/moban/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hyperlink" Target="http://www.eeppt.com/moban/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矩形 10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6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86" name="矩形 4" descr=""/>
          <p:cNvPicPr/>
          <p:nvPr/>
        </p:nvPicPr>
        <p:blipFill>
          <a:blip r:embed="rId17"/>
          <a:stretch/>
        </p:blipFill>
        <p:spPr>
          <a:xfrm>
            <a:off x="1403280" y="765000"/>
            <a:ext cx="6356520" cy="1140120"/>
          </a:xfrm>
          <a:prstGeom prst="rect">
            <a:avLst/>
          </a:prstGeom>
          <a:ln w="0">
            <a:noFill/>
          </a:ln>
        </p:spPr>
      </p:pic>
      <p:pic>
        <p:nvPicPr>
          <p:cNvPr id="87" name="矩形 6" descr=""/>
          <p:cNvPicPr/>
          <p:nvPr/>
        </p:nvPicPr>
        <p:blipFill>
          <a:blip r:embed="rId18"/>
          <a:stretch/>
        </p:blipFill>
        <p:spPr>
          <a:xfrm>
            <a:off x="3732120" y="2108160"/>
            <a:ext cx="2519280" cy="955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F:\ppt\705a\人教版四年级语文上册《黄鹤楼送孟浩然之广陵》PPT课件\Nipic_8681688_20130725123126203174.gif"/>
          <p:cNvPicPr/>
          <p:nvPr/>
        </p:nvPicPr>
        <p:blipFill>
          <a:blip r:embed="rId19"/>
          <a:srcRect l="0" t="28043" r="69806" b="33129"/>
          <a:stretch/>
        </p:blipFill>
        <p:spPr>
          <a:xfrm>
            <a:off x="6227640" y="2852640"/>
            <a:ext cx="2892600" cy="401796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文本框 3" descr=""/>
          <p:cNvPicPr/>
          <p:nvPr/>
        </p:nvPicPr>
        <p:blipFill>
          <a:blip r:embed="rId20"/>
          <a:stretch/>
        </p:blipFill>
        <p:spPr>
          <a:xfrm>
            <a:off x="250920" y="117360"/>
            <a:ext cx="8305560" cy="957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D:\蒋春霞\备忘录\picture\qoo\P4371.gif"/>
          <p:cNvPicPr/>
          <p:nvPr/>
        </p:nvPicPr>
        <p:blipFill>
          <a:blip r:embed="rId1"/>
          <a:stretch/>
        </p:blipFill>
        <p:spPr>
          <a:xfrm>
            <a:off x="6705720" y="449568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533520" y="380880"/>
            <a:ext cx="723888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ff"/>
                </a:solidFill>
                <a:latin typeface="Times New Roman"/>
                <a:ea typeface="华文彩云"/>
              </a:rPr>
              <a:t>探究学习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们学校正在美化西河沿</a:t>
            </a:r>
            <a:r>
              <a:rPr b="0" lang="en-US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果让你来设计</a:t>
            </a:r>
            <a:r>
              <a:rPr b="0" lang="en-US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打算怎样来布置</a:t>
            </a:r>
            <a:r>
              <a:rPr b="0" lang="en-US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D:\蒋凯炎\蒋春霞\图片\P4009.gif"/>
          <p:cNvPicPr/>
          <p:nvPr/>
        </p:nvPicPr>
        <p:blipFill>
          <a:blip r:embed="rId1"/>
          <a:stretch/>
        </p:blipFill>
        <p:spPr>
          <a:xfrm>
            <a:off x="68580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D:\蒋凯炎\蒋春霞\图片\P3959.gif"/>
          <p:cNvPicPr/>
          <p:nvPr/>
        </p:nvPicPr>
        <p:blipFill>
          <a:blip r:embed="rId2"/>
          <a:stretch/>
        </p:blipFill>
        <p:spPr>
          <a:xfrm>
            <a:off x="304920" y="42670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D:\蒋凯炎\蒋春霞\图片\P4009.gif"/>
          <p:cNvPicPr/>
          <p:nvPr/>
        </p:nvPicPr>
        <p:blipFill>
          <a:blip r:embed="rId3"/>
          <a:stretch/>
        </p:blipFill>
        <p:spPr>
          <a:xfrm>
            <a:off x="35812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3124080" y="533520"/>
            <a:ext cx="60199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Times New Roman"/>
                <a:ea typeface="方正舒体"/>
              </a:rPr>
              <a:t>谢谢观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Times New Roman"/>
                <a:ea typeface="方正舒体"/>
              </a:rPr>
              <a:t>请多多指教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4" name="chimes.wav"/>
      </p:stSnd>
    </p:sndAc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D:\蒋凯炎\蒋春霞\图片\P3356.gif"/>
          <p:cNvPicPr/>
          <p:nvPr/>
        </p:nvPicPr>
        <p:blipFill>
          <a:blip r:embed="rId1"/>
          <a:stretch/>
        </p:blipFill>
        <p:spPr>
          <a:xfrm>
            <a:off x="6248520" y="4495680"/>
            <a:ext cx="2438280" cy="2133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D:\蒋凯炎\蒋春霞\图片\P4010.gif"/>
          <p:cNvPicPr/>
          <p:nvPr/>
        </p:nvPicPr>
        <p:blipFill>
          <a:blip r:embed="rId2"/>
          <a:stretch/>
        </p:blipFill>
        <p:spPr>
          <a:xfrm>
            <a:off x="7391520" y="32767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D:\蒋凯炎\蒋春霞\图片\P4010.gif"/>
          <p:cNvPicPr/>
          <p:nvPr/>
        </p:nvPicPr>
        <p:blipFill>
          <a:blip r:embed="rId3"/>
          <a:stretch/>
        </p:blipFill>
        <p:spPr>
          <a:xfrm>
            <a:off x="5715000" y="4419720"/>
            <a:ext cx="990720" cy="9903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1752480" y="15238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2044800" y="380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耸构巍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2044800" y="990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高标巃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1968840" y="1676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上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黑体"/>
              </a:rPr>
              <a:t>倚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河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2045160" y="4724280"/>
            <a:ext cx="10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黑体"/>
              </a:rPr>
              <a:t>重檐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馆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2044800" y="4038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四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黑体"/>
              </a:rPr>
              <a:t>闼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霞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2044800" y="2362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坐窥井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2044800" y="3352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俯拍云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380880" y="30492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高大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380880" y="32004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雄伟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9"/>
          <p:cNvSpPr/>
          <p:nvPr/>
        </p:nvSpPr>
        <p:spPr>
          <a:xfrm>
            <a:off x="3657600" y="609480"/>
            <a:ext cx="533520" cy="4419720"/>
          </a:xfrm>
          <a:custGeom>
            <a:avLst/>
            <a:gdLst>
              <a:gd name="textAreaLeft" fmla="*/ 0 w 533520"/>
              <a:gd name="textAreaRight" fmla="*/ 192600 w 533520"/>
              <a:gd name="textAreaTop" fmla="*/ 114840 h 4419720"/>
              <a:gd name="textAreaBottom" fmla="*/ 4304880 h 441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1"/>
          <p:cNvSpPr/>
          <p:nvPr/>
        </p:nvSpPr>
        <p:spPr>
          <a:xfrm>
            <a:off x="4114800" y="2438280"/>
            <a:ext cx="4572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亦荆吴形胜之最也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4" name="chimes.wav"/>
      </p:stSnd>
    </p:sndAc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D:\蒋春霞\1_00.jpg"/>
          <p:cNvPicPr/>
          <p:nvPr/>
        </p:nvPicPr>
        <p:blipFill>
          <a:blip r:embed="rId1"/>
          <a:stretch/>
        </p:blipFill>
        <p:spPr>
          <a:xfrm>
            <a:off x="0" y="0"/>
            <a:ext cx="2895480" cy="4114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D:\蒋春霞\5.jpg"/>
          <p:cNvPicPr/>
          <p:nvPr/>
        </p:nvPicPr>
        <p:blipFill>
          <a:blip r:embed="rId2"/>
          <a:stretch/>
        </p:blipFill>
        <p:spPr>
          <a:xfrm>
            <a:off x="6172200" y="0"/>
            <a:ext cx="2971800" cy="4114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D:\蒋春霞\1.jpg"/>
          <p:cNvPicPr/>
          <p:nvPr/>
        </p:nvPicPr>
        <p:blipFill>
          <a:blip r:embed="rId3"/>
          <a:stretch/>
        </p:blipFill>
        <p:spPr>
          <a:xfrm>
            <a:off x="2971800" y="2514600"/>
            <a:ext cx="3174840" cy="4343400"/>
          </a:xfrm>
          <a:prstGeom prst="rect">
            <a:avLst/>
          </a:prstGeom>
          <a:ln w="0">
            <a:noFill/>
          </a:ln>
        </p:spPr>
      </p:pic>
      <p:sp>
        <p:nvSpPr>
          <p:cNvPr id="159" name="文本框 8194"/>
          <p:cNvSpPr/>
          <p:nvPr/>
        </p:nvSpPr>
        <p:spPr>
          <a:xfrm>
            <a:off x="3060720" y="2602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5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D:\蒋春霞\5.jpg"/>
          <p:cNvPicPr/>
          <p:nvPr/>
        </p:nvPicPr>
        <p:blipFill>
          <a:blip r:embed="rId1"/>
          <a:stretch/>
        </p:blipFill>
        <p:spPr>
          <a:xfrm>
            <a:off x="4724280" y="762120"/>
            <a:ext cx="4419720" cy="6095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D:\蒋春霞\home_r1_c2.jpg"/>
          <p:cNvPicPr/>
          <p:nvPr/>
        </p:nvPicPr>
        <p:blipFill>
          <a:blip r:embed="rId2"/>
          <a:stretch/>
        </p:blipFill>
        <p:spPr>
          <a:xfrm>
            <a:off x="0" y="0"/>
            <a:ext cx="4572000" cy="6248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D:\蒋春霞\22.jpg"/>
          <p:cNvPicPr/>
          <p:nvPr/>
        </p:nvPicPr>
        <p:blipFill>
          <a:blip r:embed="rId1"/>
          <a:stretch/>
        </p:blipFill>
        <p:spPr>
          <a:xfrm>
            <a:off x="0" y="0"/>
            <a:ext cx="4191120" cy="5715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D:\蒋春霞\11.jpg"/>
          <p:cNvPicPr/>
          <p:nvPr/>
        </p:nvPicPr>
        <p:blipFill>
          <a:blip r:embed="rId2"/>
          <a:stretch/>
        </p:blipFill>
        <p:spPr>
          <a:xfrm>
            <a:off x="4648320" y="1143000"/>
            <a:ext cx="449568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70EB-DD54-4641-B12D-47EE9D5B8E2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533520" y="990720"/>
            <a:ext cx="82296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联系我们以前学过的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展示华夏文化的魅力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说说黄鹤楼和于园在体现我国传统艺术上的表现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找出文中有关词句，谈谈你的看法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609480" y="304920"/>
            <a:ext cx="8077320" cy="58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隶书"/>
              </a:rPr>
              <a:t>黄鹤楼送孟浩然之广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　　　　　　　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　</a:t>
            </a:r>
            <a:r>
              <a:rPr b="1" lang="en-US" sz="3600" spc="-1" strike="noStrike">
                <a:solidFill>
                  <a:srgbClr val="ff6600"/>
                </a:solidFill>
                <a:latin typeface="方正舒体"/>
                <a:ea typeface="方正舒体"/>
              </a:rPr>
              <a:t>(</a:t>
            </a:r>
            <a:r>
              <a:rPr b="1" lang="zh-CN" sz="3600" spc="-1" strike="noStrike">
                <a:solidFill>
                  <a:srgbClr val="ff6600"/>
                </a:solidFill>
                <a:latin typeface="方正舒体"/>
                <a:ea typeface="方正舒体"/>
              </a:rPr>
              <a:t>李白</a:t>
            </a:r>
            <a:r>
              <a:rPr b="1" lang="en-US" sz="3600" spc="-1" strike="noStrike">
                <a:solidFill>
                  <a:srgbClr val="ff6600"/>
                </a:solidFill>
                <a:latin typeface="方正舒体"/>
                <a:ea typeface="方正舒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故人西辞黄鹤楼</a:t>
            </a:r>
            <a:r>
              <a:rPr b="1" lang="en-US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　　烟花三月下扬州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　　孤帆远影碧空尽</a:t>
            </a:r>
            <a:r>
              <a:rPr b="1" lang="en-US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　　唯见长江天际流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7"/>
          <p:cNvSpPr/>
          <p:nvPr/>
        </p:nvSpPr>
        <p:spPr>
          <a:xfrm>
            <a:off x="-372600" y="228600"/>
            <a:ext cx="578772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黄鹤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崔颢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昔人已乘黄鹤去，此地空余黄鹤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黄鹤一去不复返，白云千载空悠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晴川历历汉阳树，芳草萋萋鹦鹉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日暮乡关何处是？烟波江上使人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D:\蒋春霞\备忘录\picture\岳阳楼\岳阳楼（湖南岳阳）.gif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4648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D:\蒋春霞\备忘录\picture\岳阳楼\岳阳楼.jpg"/>
          <p:cNvPicPr/>
          <p:nvPr/>
        </p:nvPicPr>
        <p:blipFill>
          <a:blip r:embed="rId2"/>
          <a:stretch/>
        </p:blipFill>
        <p:spPr>
          <a:xfrm>
            <a:off x="0" y="0"/>
            <a:ext cx="4114800" cy="47242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3204360" y="914400"/>
            <a:ext cx="20091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Times New Roman"/>
                <a:ea typeface="隶书"/>
              </a:rPr>
              <a:t>岳阳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62120" y="510552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位于湖南岳阳，以范仲淹的名篇</a:t>
            </a:r>
            <a:r>
              <a:rPr b="1" lang="en-US" sz="4000" spc="-1" strike="noStrike">
                <a:solidFill>
                  <a:srgbClr val="ff3399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岳阳楼记</a:t>
            </a:r>
            <a:r>
              <a:rPr b="1" lang="en-US" sz="4000" spc="-1" strike="noStrike">
                <a:solidFill>
                  <a:srgbClr val="ff3399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而名闻天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3" name="chimes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3204360" y="914400"/>
            <a:ext cx="20091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Times New Roman"/>
                <a:ea typeface="隶书"/>
              </a:rPr>
              <a:t>腾王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C:\My Documents\358d4586f6d331e5b2a0503af3fe62fe.jpg"/>
          <p:cNvPicPr/>
          <p:nvPr/>
        </p:nvPicPr>
        <p:blipFill>
          <a:blip r:embed="rId1"/>
          <a:stretch/>
        </p:blipFill>
        <p:spPr>
          <a:xfrm>
            <a:off x="5181480" y="0"/>
            <a:ext cx="3962520" cy="48006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1600200" y="518148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33520" y="51814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位于江西南昌，因王勃的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腾王阁序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而著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8" descr="D:\蒋春霞\02.jpg"/>
          <p:cNvPicPr/>
          <p:nvPr/>
        </p:nvPicPr>
        <p:blipFill>
          <a:blip r:embed="rId2"/>
          <a:stretch/>
        </p:blipFill>
        <p:spPr>
          <a:xfrm>
            <a:off x="0" y="0"/>
            <a:ext cx="4114800" cy="4724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3" name="chimes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128040" y="990720"/>
            <a:ext cx="20091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隶书"/>
              </a:rPr>
              <a:t>黄鹤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D:\蒋春霞\1_00.jpg"/>
          <p:cNvPicPr/>
          <p:nvPr/>
        </p:nvPicPr>
        <p:blipFill>
          <a:blip r:embed="rId1"/>
          <a:stretch/>
        </p:blipFill>
        <p:spPr>
          <a:xfrm>
            <a:off x="0" y="0"/>
            <a:ext cx="3809880" cy="4495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D:\蒋春霞\5.jpg"/>
          <p:cNvPicPr/>
          <p:nvPr/>
        </p:nvPicPr>
        <p:blipFill>
          <a:blip r:embed="rId2"/>
          <a:stretch/>
        </p:blipFill>
        <p:spPr>
          <a:xfrm>
            <a:off x="5334120" y="0"/>
            <a:ext cx="3809880" cy="4572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228600" y="46483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位于湖北武汉，历代名士崔颢、李白、白居易、贾岛、陆游、杨慎、张居正等都先后到这里游乐，吟诗作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3" name="chimes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D:\蒋春霞\备忘录\picture\86\中国结.gif"/>
          <p:cNvPicPr/>
          <p:nvPr/>
        </p:nvPicPr>
        <p:blipFill>
          <a:blip r:embed="rId1"/>
          <a:stretch/>
        </p:blipFill>
        <p:spPr>
          <a:xfrm>
            <a:off x="7620120" y="-533520"/>
            <a:ext cx="652320" cy="3733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D:\蒋春霞\备忘录\picture\86\中国结.gif"/>
          <p:cNvPicPr/>
          <p:nvPr/>
        </p:nvPicPr>
        <p:blipFill>
          <a:blip r:embed="rId2"/>
          <a:stretch/>
        </p:blipFill>
        <p:spPr>
          <a:xfrm>
            <a:off x="7853400" y="-838080"/>
            <a:ext cx="1290600" cy="51051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533520" y="0"/>
            <a:ext cx="723888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学习目标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能用工具书及课文页下注释读懂课文内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掌握 “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、“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、“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等常见文言实词和“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、“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、“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、“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、“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等常见文言虚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会本文严谨的结构和优美的语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欣赏黄鹤楼和于园两种不同建筑风格的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由此品味中国的古代建筑艺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并说说自己的感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D:\蒋春霞\备忘录\picture\baby.gif"/>
          <p:cNvPicPr/>
          <p:nvPr/>
        </p:nvPicPr>
        <p:blipFill>
          <a:blip r:embed="rId1"/>
          <a:stretch/>
        </p:blipFill>
        <p:spPr>
          <a:xfrm>
            <a:off x="7010280" y="4210200"/>
            <a:ext cx="2419560" cy="26478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380880" y="0"/>
            <a:ext cx="8382240" cy="5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d60093"/>
                </a:solidFill>
                <a:latin typeface="Times New Roman"/>
                <a:ea typeface="华文彩云"/>
              </a:rPr>
              <a:t>给下面的字词注释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州城西南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隅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），有黄鹤楼者。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图经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云：“费祎登仙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尝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驾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   ）黄鹤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憩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于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）此，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以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　  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名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）楼。”</a:t>
            </a:r>
            <a:r>
              <a:rPr b="1" lang="zh-CN" sz="2800" spc="-1" strike="noStrike" u="sng">
                <a:solidFill>
                  <a:srgbClr val="6600ff"/>
                </a:solidFill>
                <a:uFillTx/>
                <a:latin typeface="Times New Roman"/>
              </a:rPr>
              <a:t>事列</a:t>
            </a:r>
            <a:r>
              <a:rPr b="1" lang="en-US" sz="2800" spc="-1" strike="noStrike" u="sng">
                <a:solidFill>
                  <a:srgbClr val="6600ff"/>
                </a:solidFill>
                <a:uFillTx/>
                <a:latin typeface="Times New Roman"/>
              </a:rPr>
              <a:t>《</a:t>
            </a:r>
            <a:r>
              <a:rPr b="1" lang="zh-CN" sz="2800" spc="-1" strike="noStrike" u="sng">
                <a:solidFill>
                  <a:srgbClr val="6600ff"/>
                </a:solidFill>
                <a:uFillTx/>
                <a:latin typeface="Times New Roman"/>
              </a:rPr>
              <a:t>神仙</a:t>
            </a:r>
            <a:r>
              <a:rPr b="1" lang="en-US" sz="2800" spc="-1" strike="noStrike" u="sng">
                <a:solidFill>
                  <a:srgbClr val="6600ff"/>
                </a:solidFill>
                <a:uFillTx/>
                <a:latin typeface="Times New Roman"/>
              </a:rPr>
              <a:t>》</a:t>
            </a:r>
            <a:r>
              <a:rPr b="1" lang="zh-CN" sz="2800" spc="-1" strike="noStrike" u="sng">
                <a:solidFill>
                  <a:srgbClr val="6600ff"/>
                </a:solidFill>
                <a:uFillTx/>
                <a:latin typeface="Times New Roman"/>
              </a:rPr>
              <a:t>之传，迹存</a:t>
            </a:r>
            <a:r>
              <a:rPr b="1" lang="en-US" sz="2800" spc="-1" strike="noStrike" u="sng">
                <a:solidFill>
                  <a:srgbClr val="6600ff"/>
                </a:solidFill>
                <a:uFillTx/>
                <a:latin typeface="Times New Roman"/>
              </a:rPr>
              <a:t>《</a:t>
            </a:r>
            <a:r>
              <a:rPr b="1" lang="zh-CN" sz="2800" spc="-1" strike="noStrike" u="sng">
                <a:solidFill>
                  <a:srgbClr val="6600ff"/>
                </a:solidFill>
                <a:uFillTx/>
                <a:latin typeface="Times New Roman"/>
              </a:rPr>
              <a:t>述异</a:t>
            </a:r>
            <a:r>
              <a:rPr b="1" lang="en-US" sz="2800" spc="-1" strike="noStrike" u="sng">
                <a:solidFill>
                  <a:srgbClr val="6600ff"/>
                </a:solidFill>
                <a:uFillTx/>
                <a:latin typeface="Times New Roman"/>
              </a:rPr>
              <a:t>》</a:t>
            </a:r>
            <a:r>
              <a:rPr b="1" lang="zh-CN" sz="2800" spc="-1" strike="noStrike" u="sng">
                <a:solidFill>
                  <a:srgbClr val="6600ff"/>
                </a:solidFill>
                <a:uFillTx/>
                <a:latin typeface="Times New Roman"/>
              </a:rPr>
              <a:t>之志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。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其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        ）</a:t>
            </a:r>
            <a:r>
              <a:rPr b="1" lang="zh-CN" sz="2800" spc="-1" strike="noStrike" u="sng">
                <a:solidFill>
                  <a:srgbClr val="6600ff"/>
                </a:solidFill>
                <a:uFillTx/>
                <a:latin typeface="Times New Roman"/>
              </a:rPr>
              <a:t>耸构巍峨，高标巃嵏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，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倚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）河汉，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临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）江流；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重檐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        ）馆翼，四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闼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）霞敞；</a:t>
            </a:r>
            <a:r>
              <a:rPr b="1" lang="zh-CN" sz="2800" spc="-1" strike="noStrike" u="sng">
                <a:solidFill>
                  <a:srgbClr val="6600ff"/>
                </a:solidFill>
                <a:uFillTx/>
                <a:latin typeface="Times New Roman"/>
              </a:rPr>
              <a:t>坐窥井邑，俯拍云烟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：亦荆吴形胜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         ）也。 何必濑乡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九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柱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          ），东阳八咏，乃可</a:t>
            </a:r>
            <a:r>
              <a:rPr b="1" lang="zh-CN" sz="2800" spc="-1" strike="noStrike" u="sng">
                <a:solidFill>
                  <a:srgbClr val="6600ff"/>
                </a:solidFill>
                <a:uFillTx/>
                <a:latin typeface="Times New Roman"/>
              </a:rPr>
              <a:t>赏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ff"/>
                </a:solidFill>
                <a:uFillTx/>
                <a:latin typeface="Times New Roman"/>
              </a:rPr>
              <a:t>时物，会集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灵仙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）者哉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04812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角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971800" y="1447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曾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724280" y="14479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762012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休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1219320" y="1905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3886200" y="1905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533412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命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6934320" y="25146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代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鹤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502920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靠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6858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临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3733920" y="3429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层屋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76960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609480" y="4724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好的事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5257800" y="4724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泛指多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9907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屋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代指屋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3200400" y="6172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神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文本框 8194"/>
          <p:cNvSpPr/>
          <p:nvPr/>
        </p:nvSpPr>
        <p:spPr>
          <a:xfrm>
            <a:off x="3132000" y="620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3" name="chimes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D:\蒋春霞\备忘录\picture\86\圣诞礼包.gif"/>
          <p:cNvPicPr/>
          <p:nvPr/>
        </p:nvPicPr>
        <p:blipFill>
          <a:blip r:embed="rId1"/>
          <a:stretch/>
        </p:blipFill>
        <p:spPr>
          <a:xfrm>
            <a:off x="304920" y="3733920"/>
            <a:ext cx="2514600" cy="2895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D:\蒋春霞\备忘录\picture\86\圣诞礼包.gif"/>
          <p:cNvPicPr/>
          <p:nvPr/>
        </p:nvPicPr>
        <p:blipFill>
          <a:blip r:embed="rId2"/>
          <a:stretch/>
        </p:blipFill>
        <p:spPr>
          <a:xfrm>
            <a:off x="1828800" y="4876920"/>
            <a:ext cx="1654200" cy="16761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533520" y="990720"/>
            <a:ext cx="830556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找出文中能够体现黄鹤楼特征的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438280" y="2286000"/>
            <a:ext cx="6324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作者带着我们去黄鹤楼和于园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神游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了一番</a:t>
            </a:r>
            <a:r>
              <a:rPr b="1" lang="en-US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你对此的总体印象如何</a:t>
            </a:r>
            <a:r>
              <a:rPr b="1" lang="en-US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?</a:t>
            </a:r>
            <a:r>
              <a:rPr b="1" lang="zh-CN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两者有何不同</a:t>
            </a:r>
            <a:r>
              <a:rPr b="1" lang="en-US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你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神游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时的感受又是怎样的</a:t>
            </a:r>
            <a:r>
              <a:rPr b="1" lang="en-US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2971800" y="2362320"/>
            <a:ext cx="380880" cy="457200"/>
          </a:xfrm>
          <a:prstGeom prst="smileyFace">
            <a:avLst>
              <a:gd name="adj" fmla="val 4653"/>
            </a:avLst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1143000" y="1143000"/>
            <a:ext cx="380880" cy="457200"/>
          </a:xfrm>
          <a:prstGeom prst="smileyFace">
            <a:avLst>
              <a:gd name="adj" fmla="val 4653"/>
            </a:avLst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0" y="0"/>
            <a:ext cx="380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课文品读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02:37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3:23Z</dcterms:modified>
  <cp:revision>6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