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jpeg" ContentType="image/jpeg"/>
  <Override PartName="/ppt/media/image4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camera.wav" ContentType="audio/x-wav"/>
  <Override PartName="/ppt/media/image6.png" ContentType="image/png"/>
  <Override PartName="/ppt/media/image11.png" ContentType="image/png"/>
  <Override PartName="/ppt/media/image8.png" ContentType="image/png"/>
  <Override PartName="/ppt/media/chimes.wav" ContentType="audio/x-wav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5F9-15F6-4FC9-A289-31360EC4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1A6-C700-405C-B15E-93DC6A81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D0C-4A12-4280-A225-2471B31D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65A-3661-434E-9E23-FF97CBFC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6CA9-0536-44F0-BB2C-57FD38F5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827D-F484-4D18-9FB7-C437AF0E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A216-92D0-4936-BB12-A9FBD7B5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1A1C-0EBE-4EF8-8074-7D480865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CDB1-1508-4E24-AEB1-237D6370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F1AC-29A1-4D21-8F03-D2A14720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755F-7B8C-4F0B-9209-BB5DB3B4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74A-591B-4494-A496-12CB7D67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D9D9-B370-47A8-9F0C-5974B641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B198-32BC-4793-BA69-3255A784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105B-41F5-4F32-8249-B3673982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1E26-1223-42A8-B178-C1CD9604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4DC0-91D1-4501-B7AE-61FEC9DD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AC3-C416-44AC-83B4-7540C841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EA7-C4FB-456A-8A81-6ECED36C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3A7-D531-4C22-ABF9-35D92F65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451-11C2-437A-838E-57EE44F6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DCC-A90D-4746-9A33-A8EC81FE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208-43F6-4492-BAD1-37CBE4DD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711-3DC7-4B3E-873F-3D92DE41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DCC8-1444-46EF-8B43-D95F80C104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95AE-D98C-42C2-A87E-70FE0EDD54E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E8FF-5890-4A74-9072-8B71B71379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eather.people.com.cn/GB/huanbao/57/20011113/604495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lxx.cn/yuwen/sannianjiaocaijiexi/huique.htm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uique2.exe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uique.exe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列宁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403280" y="2781360"/>
            <a:ext cx="63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灰雀课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225880" y="609480"/>
            <a:ext cx="475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郊游</a:t>
            </a:r>
            <a:endParaRPr b="1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165400" y="609480"/>
            <a:ext cx="475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惹事</a:t>
            </a:r>
            <a:endParaRPr b="1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149560" y="609480"/>
            <a:ext cx="475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惹祸</a:t>
            </a:r>
            <a:endParaRPr b="1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165400" y="609480"/>
            <a:ext cx="475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渣子</a:t>
            </a:r>
            <a:endParaRPr b="1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165400" y="609480"/>
            <a:ext cx="475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豆渣</a:t>
            </a:r>
            <a:endParaRPr b="1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165400" y="609480"/>
            <a:ext cx="475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者</a:t>
            </a:r>
            <a:endParaRPr b="1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165400" y="609480"/>
            <a:ext cx="475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许</a:t>
            </a:r>
            <a:endParaRPr b="1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165400" y="609480"/>
            <a:ext cx="475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是</a:t>
            </a:r>
            <a:endParaRPr b="1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165400" y="609480"/>
            <a:ext cx="475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但</a:t>
            </a:r>
            <a:endParaRPr b="1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165400" y="609480"/>
            <a:ext cx="475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但是</a:t>
            </a:r>
            <a:endParaRPr b="1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917800" y="304920"/>
            <a:ext cx="322884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散步</a:t>
            </a:r>
            <a:endParaRPr b="1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散会</a:t>
            </a:r>
            <a:endParaRPr b="1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932200" y="365040"/>
            <a:ext cx="322884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松散</a:t>
            </a:r>
            <a:endParaRPr b="1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散文</a:t>
            </a:r>
            <a:endParaRPr b="1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文本框 8197"/>
          <p:cNvSpPr/>
          <p:nvPr/>
        </p:nvSpPr>
        <p:spPr>
          <a:xfrm>
            <a:off x="1403280" y="3357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932200" y="365040"/>
            <a:ext cx="322884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胸脯</a:t>
            </a:r>
            <a:endParaRPr b="1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勇敢</a:t>
            </a:r>
            <a:endParaRPr b="1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932200" y="365040"/>
            <a:ext cx="322884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惜</a:t>
            </a:r>
            <a:endParaRPr b="1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头</a:t>
            </a:r>
            <a:endParaRPr b="1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932200" y="365040"/>
            <a:ext cx="322884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诚实</a:t>
            </a:r>
            <a:endParaRPr b="1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诚恳</a:t>
            </a:r>
            <a:endParaRPr b="1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865520" y="2041560"/>
            <a:ext cx="5362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欢蹦乱跳</a:t>
            </a:r>
            <a:endParaRPr b="1" lang="en-US" sz="1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863720" y="2041560"/>
            <a:ext cx="5362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惹人喜爱</a:t>
            </a:r>
            <a:endParaRPr b="1" lang="en-US" sz="1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01520" y="2041560"/>
            <a:ext cx="9042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言自语</a:t>
            </a:r>
            <a:endParaRPr b="1" lang="en-US" sz="1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55640" y="189000"/>
            <a:ext cx="7704000" cy="64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桦    胸    脯   婉    渣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郊    散    步    或    者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敢    惜    低    诚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95280" y="620640"/>
            <a:ext cx="853452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Times New Roman"/>
              </a:rPr>
              <a:t>惹</a:t>
            </a:r>
            <a:r>
              <a:rPr b="1" lang="zh-CN" sz="5500" spc="-1" strike="noStrike">
                <a:solidFill>
                  <a:srgbClr val="000000"/>
                </a:solidFill>
                <a:latin typeface="Times New Roman"/>
              </a:rPr>
              <a:t>人喜爱      欢</a:t>
            </a:r>
            <a:r>
              <a:rPr b="1" lang="zh-CN" sz="5500" spc="-1" strike="noStrike">
                <a:solidFill>
                  <a:srgbClr val="ff0000"/>
                </a:solidFill>
                <a:latin typeface="Times New Roman"/>
              </a:rPr>
              <a:t>蹦</a:t>
            </a:r>
            <a:r>
              <a:rPr b="1" lang="zh-CN" sz="5500" spc="-1" strike="noStrike">
                <a:solidFill>
                  <a:srgbClr val="000000"/>
                </a:solidFill>
                <a:latin typeface="Times New Roman"/>
              </a:rPr>
              <a:t>乱跳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Times New Roman"/>
              </a:rPr>
              <a:t>面包</a:t>
            </a:r>
            <a:r>
              <a:rPr b="1" lang="zh-CN" sz="5500" spc="-1" strike="noStrike">
                <a:solidFill>
                  <a:srgbClr val="ff0066"/>
                </a:solidFill>
                <a:latin typeface="Times New Roman"/>
              </a:rPr>
              <a:t>渣</a:t>
            </a:r>
            <a:r>
              <a:rPr b="1" lang="zh-CN" sz="5500" spc="-1" strike="noStrike">
                <a:solidFill>
                  <a:srgbClr val="000000"/>
                </a:solidFill>
                <a:latin typeface="Times New Roman"/>
              </a:rPr>
              <a:t>　可</a:t>
            </a:r>
            <a:r>
              <a:rPr b="1" lang="zh-CN" sz="5500" spc="-1" strike="noStrike">
                <a:solidFill>
                  <a:srgbClr val="ff0000"/>
                </a:solidFill>
                <a:latin typeface="Times New Roman"/>
              </a:rPr>
              <a:t>惜</a:t>
            </a:r>
            <a:r>
              <a:rPr b="1" lang="zh-CN" sz="55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5500" spc="-1" strike="noStrike">
                <a:solidFill>
                  <a:srgbClr val="ff0000"/>
                </a:solidFill>
                <a:latin typeface="Times New Roman"/>
              </a:rPr>
              <a:t>婉</a:t>
            </a:r>
            <a:r>
              <a:rPr b="1" lang="zh-CN" sz="5500" spc="-1" strike="noStrike">
                <a:solidFill>
                  <a:srgbClr val="000000"/>
                </a:solidFill>
                <a:latin typeface="Times New Roman"/>
              </a:rPr>
              <a:t>转　     </a:t>
            </a:r>
            <a:r>
              <a:rPr b="1" lang="zh-CN" sz="5500" spc="-1" strike="noStrike">
                <a:solidFill>
                  <a:srgbClr val="ff0066"/>
                </a:solidFill>
                <a:latin typeface="Times New Roman"/>
              </a:rPr>
              <a:t>郊</a:t>
            </a:r>
            <a:r>
              <a:rPr b="1" lang="zh-CN" sz="5500" spc="-1" strike="noStrike">
                <a:solidFill>
                  <a:srgbClr val="000000"/>
                </a:solidFill>
                <a:latin typeface="Times New Roman"/>
              </a:rPr>
              <a:t>外　</a:t>
            </a:r>
            <a:r>
              <a:rPr b="1" lang="zh-CN" sz="5500" spc="-1" strike="noStrike">
                <a:solidFill>
                  <a:srgbClr val="ff0000"/>
                </a:solidFill>
                <a:latin typeface="Times New Roman"/>
              </a:rPr>
              <a:t>低</a:t>
            </a:r>
            <a:r>
              <a:rPr b="1" lang="zh-CN" sz="5500" spc="-1" strike="noStrike">
                <a:solidFill>
                  <a:srgbClr val="000000"/>
                </a:solidFill>
                <a:latin typeface="Times New Roman"/>
              </a:rPr>
              <a:t>头　</a:t>
            </a:r>
            <a:r>
              <a:rPr b="1" lang="zh-CN" sz="5500" spc="-1" strike="noStrike">
                <a:solidFill>
                  <a:srgbClr val="ff0000"/>
                </a:solidFill>
                <a:latin typeface="Times New Roman"/>
              </a:rPr>
              <a:t>或者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Times New Roman"/>
              </a:rPr>
              <a:t>诚</a:t>
            </a:r>
            <a:r>
              <a:rPr b="1" lang="zh-CN" sz="5500" spc="-1" strike="noStrike">
                <a:solidFill>
                  <a:srgbClr val="000000"/>
                </a:solidFill>
                <a:latin typeface="Times New Roman"/>
              </a:rPr>
              <a:t>实</a:t>
            </a:r>
            <a:r>
              <a:rPr b="1" lang="zh-CN" sz="5500" spc="-1" strike="noStrike">
                <a:solidFill>
                  <a:srgbClr val="ff0000"/>
                </a:solidFill>
                <a:latin typeface="Times New Roman"/>
              </a:rPr>
              <a:t>　散步　</a:t>
            </a:r>
            <a:r>
              <a:rPr b="1" lang="zh-CN" sz="5500" spc="-1" strike="noStrike">
                <a:solidFill>
                  <a:srgbClr val="ff0066"/>
                </a:solidFill>
                <a:latin typeface="Times New Roman"/>
              </a:rPr>
              <a:t>肯</a:t>
            </a:r>
            <a:r>
              <a:rPr b="1" lang="zh-CN" sz="5500" spc="-1" strike="noStrike">
                <a:solidFill>
                  <a:srgbClr val="000000"/>
                </a:solidFill>
                <a:latin typeface="Times New Roman"/>
              </a:rPr>
              <a:t>定     </a:t>
            </a:r>
            <a:r>
              <a:rPr b="1" lang="zh-CN" sz="5500" spc="-1" strike="noStrike">
                <a:solidFill>
                  <a:srgbClr val="ff0000"/>
                </a:solidFill>
                <a:latin typeface="Times New Roman"/>
              </a:rPr>
              <a:t>胸脯</a:t>
            </a:r>
            <a:r>
              <a:rPr b="1" lang="en-US" sz="55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55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5500" spc="-1" strike="noStrike">
                <a:solidFill>
                  <a:srgbClr val="000000"/>
                </a:solidFill>
                <a:latin typeface="Times New Roman"/>
              </a:rPr>
              <a:t>勇</a:t>
            </a:r>
            <a:r>
              <a:rPr b="1" lang="zh-CN" sz="5500" spc="-1" strike="noStrike">
                <a:solidFill>
                  <a:srgbClr val="ff0000"/>
                </a:solidFill>
                <a:latin typeface="Times New Roman"/>
              </a:rPr>
              <a:t>敢　</a:t>
            </a:r>
            <a:r>
              <a:rPr b="1" lang="zh-CN" sz="5500" spc="-1" strike="noStrike">
                <a:solidFill>
                  <a:srgbClr val="000000"/>
                </a:solidFill>
                <a:latin typeface="Times New Roman"/>
              </a:rPr>
              <a:t>白</a:t>
            </a:r>
            <a:r>
              <a:rPr b="1" lang="zh-CN" sz="5500" spc="-1" strike="noStrike">
                <a:solidFill>
                  <a:srgbClr val="ff0000"/>
                </a:solidFill>
                <a:latin typeface="Times New Roman"/>
              </a:rPr>
              <a:t>桦</a:t>
            </a:r>
            <a:r>
              <a:rPr b="1" lang="zh-CN" sz="5500" spc="-1" strike="noStrike">
                <a:solidFill>
                  <a:srgbClr val="000000"/>
                </a:solidFill>
                <a:latin typeface="Times New Roman"/>
              </a:rPr>
              <a:t>树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200482123511602"/>
          <p:cNvPicPr/>
          <p:nvPr/>
        </p:nvPicPr>
        <p:blipFill>
          <a:blip r:embed="rId1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200482123511602"/>
          <p:cNvPicPr/>
          <p:nvPr/>
        </p:nvPicPr>
        <p:blipFill>
          <a:blip r:embed="rId2"/>
          <a:stretch/>
        </p:blipFill>
        <p:spPr>
          <a:xfrm>
            <a:off x="2133720" y="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200482123511602"/>
          <p:cNvPicPr/>
          <p:nvPr/>
        </p:nvPicPr>
        <p:blipFill>
          <a:blip r:embed="rId3"/>
          <a:stretch/>
        </p:blipFill>
        <p:spPr>
          <a:xfrm>
            <a:off x="4419720" y="0"/>
            <a:ext cx="243828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200482123511602"/>
          <p:cNvPicPr/>
          <p:nvPr/>
        </p:nvPicPr>
        <p:blipFill>
          <a:blip r:embed="rId4"/>
          <a:stretch/>
        </p:blipFill>
        <p:spPr>
          <a:xfrm>
            <a:off x="6781680" y="0"/>
            <a:ext cx="236232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20049710547249"/>
          <p:cNvPicPr/>
          <p:nvPr/>
        </p:nvPicPr>
        <p:blipFill>
          <a:blip r:embed="rId5"/>
          <a:stretch/>
        </p:blipFill>
        <p:spPr>
          <a:xfrm>
            <a:off x="0" y="6248520"/>
            <a:ext cx="2286000" cy="609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20049710547249"/>
          <p:cNvPicPr/>
          <p:nvPr/>
        </p:nvPicPr>
        <p:blipFill>
          <a:blip r:embed="rId6"/>
          <a:stretch/>
        </p:blipFill>
        <p:spPr>
          <a:xfrm>
            <a:off x="7010280" y="6248520"/>
            <a:ext cx="2133720" cy="609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20049710547249"/>
          <p:cNvPicPr/>
          <p:nvPr/>
        </p:nvPicPr>
        <p:blipFill>
          <a:blip r:embed="rId7"/>
          <a:stretch/>
        </p:blipFill>
        <p:spPr>
          <a:xfrm>
            <a:off x="2438280" y="6248520"/>
            <a:ext cx="213372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20049710547249"/>
          <p:cNvPicPr/>
          <p:nvPr/>
        </p:nvPicPr>
        <p:blipFill>
          <a:blip r:embed="rId8"/>
          <a:stretch/>
        </p:blipFill>
        <p:spPr>
          <a:xfrm>
            <a:off x="4800600" y="6248520"/>
            <a:ext cx="2133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NewsMedia_1414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3429000"/>
            <a:ext cx="3429000" cy="2732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80880" y="533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灰雀：小形鸣禽，体形如雀，羽色多样，鸣叫悦耳，可为笼养观赏。群居在河谷、溪流、树林中。食物为桦树、榆树、柳树的嫩叶和种子。课文中说的灰雀是红腹灰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image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3886200"/>
            <a:ext cx="2457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072320" y="2308320"/>
            <a:ext cx="15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朗读第一自然段，说说了解到了什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小学语文(记叙文）03"/>
          <p:cNvPicPr/>
          <p:nvPr/>
        </p:nvPicPr>
        <p:blipFill>
          <a:blip r:embed="rId1"/>
          <a:stretch/>
        </p:blipFill>
        <p:spPr>
          <a:xfrm>
            <a:off x="990720" y="1116000"/>
            <a:ext cx="2079360" cy="560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390680" y="3260880"/>
            <a:ext cx="7296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课文是怎么描写这三只灰雀的？找出来读  　　一读。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386000" y="1660680"/>
            <a:ext cx="72244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园里有一棵高大的白桦树，树上有三只灰雀：两只胸脯是粉红色的，一只胸脯是深红的。它们在树枝间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来回跳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婉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歌唱，非常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惹人喜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小学语文(记叙文）03"/>
          <p:cNvPicPr/>
          <p:nvPr/>
        </p:nvPicPr>
        <p:blipFill>
          <a:blip r:embed="rId1"/>
          <a:stretch/>
        </p:blipFill>
        <p:spPr>
          <a:xfrm>
            <a:off x="9907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4ABE-CCDB-4422-859A-15C490BC74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业设计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抄写书本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页的词语，一个抄三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给多音字组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76360" y="3716280"/>
            <a:ext cx="153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散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522800" y="4869000"/>
            <a:ext cx="9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123160" y="3716280"/>
            <a:ext cx="9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123160" y="4869000"/>
            <a:ext cx="9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看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990720" y="1173240"/>
            <a:ext cx="2079360" cy="50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80044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1572840" y="1650960"/>
            <a:ext cx="153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读课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348800" y="224316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：读准字音，读通句子，标好自然段序号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295280" y="5295960"/>
            <a:ext cx="6492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哪几自然段是具体写列宁寻找灰雀、灰雀回到林中的事的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826920" y="836640"/>
            <a:ext cx="770436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uà   xiōng    pú     wǎn    zh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桦     胸     脯    婉     渣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iāo    sàn       bù      huò    zhě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郊     散     步     或     者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ǎn     xī        dī    ché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敢     惜     低     诚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755640" y="189000"/>
            <a:ext cx="7704000" cy="64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桦    胸    脯   婉    渣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郊    散    步    或    者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敢    惜    低    诚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600200" y="914400"/>
            <a:ext cx="153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散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700360" y="765000"/>
            <a:ext cx="572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散步）（散失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散文）（松散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722600" y="2743200"/>
            <a:ext cx="9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看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382560" y="2514600"/>
            <a:ext cx="365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看家）（看护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看见）（看齐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27320" y="4648320"/>
            <a:ext cx="9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677240" y="4419720"/>
            <a:ext cx="242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没有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ò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淹没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618440" y="4572000"/>
            <a:ext cx="9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878080" y="4495680"/>
            <a:ext cx="247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一只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有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0" descr="200461122304723"/>
          <p:cNvPicPr/>
          <p:nvPr/>
        </p:nvPicPr>
        <p:blipFill>
          <a:blip r:embed="rId1"/>
          <a:stretch/>
        </p:blipFill>
        <p:spPr>
          <a:xfrm>
            <a:off x="0" y="638964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20041129212941376"/>
          <p:cNvPicPr/>
          <p:nvPr/>
        </p:nvPicPr>
        <p:blipFill>
          <a:blip r:embed="rId2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25880" y="609480"/>
            <a:ext cx="475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郊区</a:t>
            </a:r>
            <a:endParaRPr b="1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165400" y="609480"/>
            <a:ext cx="475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郊外</a:t>
            </a:r>
            <a:endParaRPr b="1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8197"/>
          <p:cNvSpPr/>
          <p:nvPr/>
        </p:nvSpPr>
        <p:spPr>
          <a:xfrm>
            <a:off x="1403280" y="494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8T02:33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26Z</dcterms:modified>
  <cp:revision>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