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97BB-9BDF-436F-8296-96C0139A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5252-77BE-4115-A170-B2D3D1AE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CFE3-74E9-4651-9594-776EDA4C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9536-41A1-4963-B4D2-308AA000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7E68-9E92-48EB-9BDB-6B30F750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F7E0-707D-44AF-9582-7011DB55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F861-AD2B-45FB-8311-54881CFD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4491-C465-4D00-909E-617692CC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F697-5CFA-4165-A006-EFA36AC7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A139-CB94-4339-9AA7-C38F2002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B56D-EF6E-4574-B7C5-6B756A51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6864-44DC-47B1-9975-94EE1B98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9213-89CB-4DB8-9394-B81FE034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41F3-C8D1-4D09-B51F-B295CD72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7B0A-4F03-418A-A7E6-0C3E7D5B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8ECF-8B84-4EB2-98DF-F2918B97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735A-220D-4180-903A-B88CA11E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0EE9-AEE2-41D5-B621-477C9805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32A-04EC-4CAD-9FAC-C16A9D7A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6668-CE48-45F8-BF23-F86A2A6E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414B-F7F2-4461-B6CA-FAC4AC13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141-8A2C-4570-AE9B-4B72014C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0E0-50C6-4F25-BE34-17D970A5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483E-C6C0-4949-A82D-BBD35A0D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295E-CED1-41DE-95C6-A9FA9994A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0063-8779-4AA1-A39D-1F8B7E1F00C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AAD5-3840-4444-AB90-36652C90E17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和时间赛跑语文</a:t>
            </a:r>
            <a:r>
              <a:rPr b="1" lang="en-US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d126"/>
          <p:cNvPicPr/>
          <p:nvPr/>
        </p:nvPicPr>
        <p:blipFill>
          <a:blip r:embed="rId1"/>
          <a:srcRect l="0" t="-600" r="0" b="7073"/>
          <a:stretch/>
        </p:blipFill>
        <p:spPr>
          <a:xfrm>
            <a:off x="0" y="3716280"/>
            <a:ext cx="9144000" cy="3141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1332000" y="15940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为什么作者要与时间赛跑，并要告诉他的孩子们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403280" y="31449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课文最后说，“假若你一直和时间赛跑，你就可以成功。”你同意这个说法吗？谈谈你的看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3132000" y="87480"/>
            <a:ext cx="2867040" cy="103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假若（                      ）你一直和时间赛跑，你就可以成功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352320" y="1980720"/>
            <a:ext cx="5257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如果、假如、要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虽然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楷体_GB2312"/>
              </a:rPr>
              <a:t>“光阴似箭，日月如梭”，虽然“所有时间里的事物，都永远不会回来了”，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但是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楷体_GB2312"/>
              </a:rPr>
              <a:t>，“假若你一直和时间赛跑，你就可以成功”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自选作业：</a:t>
            </a: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  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、把这篇课文读给家人听，让大家一起来珍惜时间。</a:t>
            </a: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  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、如果喜欢散文，请你继续读读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《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林清玄散文集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》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。</a:t>
            </a: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  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、搜集、积累有关珍惜时间的名言警句，可以选择一个做座右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A406-1BAF-42B1-AA50-5AC658AC7A9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380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◇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时间就是生命，时间就是速度，时间就是力量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◇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时间就像海绵里的水，只要愿挤，总还是有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◇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时间是由分秒积成的，善于利用零星时间的人，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才会做出更大的成绩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◇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天可补，海可填，南山可移，日月既往，不可复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◇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抛弃时间的人，时间就抛弃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◇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时间就是生命，无端的空耗别人的时间，其实是无异于谋财害命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◇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钉子是敲进去的，时间是挤出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0574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书要求：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出声朗读；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要读正确读通顺，难读的地方要反复读；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时间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钟。（学生自由朗读课文）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04920" y="312408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04920" y="411480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cc"/>
                </a:solidFill>
                <a:latin typeface="Arial"/>
                <a:ea typeface="楷体_GB2312"/>
              </a:rPr>
              <a:t>疼爱      忧伤      持续    安慰      欺骗      虽然    路线      狂奔      暑假    将来      假若             光阴似箭    日月如梭    受益无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Arial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读了这篇课文，你懂得了什么？你还有哪些地方不理解？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7"/>
          <p:cNvSpPr/>
          <p:nvPr/>
        </p:nvSpPr>
        <p:spPr>
          <a:xfrm>
            <a:off x="3809880" y="5605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d126"/>
          <p:cNvPicPr/>
          <p:nvPr/>
        </p:nvPicPr>
        <p:blipFill>
          <a:blip r:embed="rId1"/>
          <a:srcRect l="0" t="-600" r="0" b="7073"/>
          <a:stretch/>
        </p:blipFill>
        <p:spPr>
          <a:xfrm>
            <a:off x="0" y="3716280"/>
            <a:ext cx="9144000" cy="3141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741240" y="2084400"/>
            <a:ext cx="766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１、爸爸看到“我”为失去外祖母哀痛的样子，和我说了什么话？画在书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２、作者当时是怎样想的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３、作者又是怎样感到时间流逝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４、小组合作解决自己能够解决的不懂的问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3132000" y="260280"/>
            <a:ext cx="28670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Arial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楷体_GB2312"/>
              </a:rPr>
              <a:t>所有时间里的事物</a:t>
            </a:r>
            <a:r>
              <a:rPr b="1" lang="en-US" sz="6000" spc="-1" strike="noStrike">
                <a:solidFill>
                  <a:srgbClr val="0000cc"/>
                </a:solidFill>
                <a:latin typeface="Arial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楷体_GB2312"/>
              </a:rPr>
              <a:t>都永远不会回来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爸爸等于给我说了一个谜。这个谜比“                  </a:t>
            </a: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                      ”，还让我感到可怕，比“</a:t>
            </a: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             ”更让我有一种说不出的滋味。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1143000"/>
            <a:ext cx="76964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寸光阴一寸金，寸金难买寸光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光阴似箭，日月如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虽然明天还会有新的太阳，但永远不会有今天的太阳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61760" y="3429000"/>
            <a:ext cx="78483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所有时间里的事物，都永远不会回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8200"/>
          <p:cNvSpPr/>
          <p:nvPr/>
        </p:nvSpPr>
        <p:spPr>
          <a:xfrm>
            <a:off x="990720" y="5257800"/>
            <a:ext cx="441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d126"/>
          <p:cNvPicPr/>
          <p:nvPr/>
        </p:nvPicPr>
        <p:blipFill>
          <a:blip r:embed="rId1"/>
          <a:srcRect l="0" t="-600" r="0" b="7073"/>
          <a:stretch/>
        </p:blipFill>
        <p:spPr>
          <a:xfrm>
            <a:off x="0" y="3716280"/>
            <a:ext cx="9144000" cy="3141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539640" y="1486440"/>
            <a:ext cx="817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作者小小年纪看到时间过得飞快，心里非常着急，而且还很悲伤，他决定和时间赛跑 。思考与讨论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１、课文是从哪几件事情写“我”和时间赛跑的？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２、通过小作者的做法，你有什么感受？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３、读一读表现作者心情的句子，把你的感受读出来。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４、作者和太阳赛跑了二十年，请你想象一下，做什么事情时，作者还可以和时间赛跑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3132000" y="87480"/>
            <a:ext cx="2867040" cy="103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0T08:05:5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25Z</dcterms:modified>
  <cp:revision>3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Version">
    <vt:r8>1</vt:r8>
  </property>
</Properties>
</file>