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3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243-E83C-45FF-A073-2737E657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6AD-B746-4950-BD42-8DF9B60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604-3ADA-40B9-9B4D-641E1387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5C0-2F62-485E-8E64-93068A19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EB72-BC16-48CF-B1FF-3B7B415C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5903-DF26-45E0-9011-1A67705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C672-FCF0-4FD6-A79B-9C6D03F3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E4E7-F7AA-4229-BEB1-A6F0F86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75E-794A-4E6B-9501-2B49021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248-C58C-4AE1-9BA0-5BCF9B68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DA6-FFB9-4800-A8BC-04C3EDB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08B-C773-4686-ABDD-3FBF1B4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6584-388D-4802-B794-9D17A115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BA20-BDE5-400D-83A4-DE708D4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37A-875D-40EA-A0FF-6B497F6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A08F-42DB-4234-B3F5-225E2A24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5F03-D30C-40D6-B7DC-C2124F65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CE45-E10C-45A0-8E43-8CB5214C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F650-13AC-49D2-B377-A782F479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98C8-2D9F-45EA-8848-6CB4A66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84F3-8334-4D37-95D1-B2B61DD1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C321-271C-4C2F-A17B-4A25563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D3C-ED16-4408-84AE-69682950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222E-3A8F-4599-A7F2-10D00EA3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7FCF-C781-46DA-8D32-D2CF382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0E5E-919A-4651-8007-076CC55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3A92-42E6-43C9-B02E-71A84BB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8363-5994-4775-BF33-F5BD898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BF45-CCDC-420D-9595-3928E3E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7811-C658-4DBF-B07C-2FAFE718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0CF-9C97-4B70-826F-AF2A7028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AE8-A425-4789-9471-C330C21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D41-EBB8-4508-B6CA-083BB51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A63-EF71-4C53-BD6C-1CF8835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E80-D248-47A6-AC09-ABFA3F4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601-95A9-4D45-BC71-C0F1AAEC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714F-22FC-440B-BE53-199F8133649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3E2-A871-4CBD-BC36-93B26ECD03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5C33-09CF-4FA1-902D-B1E317BD3D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F67C-25E9-4C21-A191-1722119AE5C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347052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0">
            <a:hlinkClick r:id="" action="ppaction://hlinkshowjump?jump=nextslide"/>
          </p:cNvPr>
          <p:cNvSpPr/>
          <p:nvPr/>
        </p:nvSpPr>
        <p:spPr>
          <a:xfrm>
            <a:off x="7524720" y="5877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4572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Verdana"/>
                <a:ea typeface="黑体"/>
              </a:rPr>
              <a:t>九年义务教育小学语文第六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矩形 2" descr=""/>
          <p:cNvPicPr/>
          <p:nvPr/>
        </p:nvPicPr>
        <p:blipFill>
          <a:blip r:embed="rId2"/>
          <a:stretch/>
        </p:blipFill>
        <p:spPr>
          <a:xfrm>
            <a:off x="754200" y="1557360"/>
            <a:ext cx="7813440" cy="7002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66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已录下的2906.WAV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368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4633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</a:rPr>
              <a:t>形状变化多端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70028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凶猛的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石头狮子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什么也看不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6"/>
          <p:cNvSpPr/>
          <p:nvPr/>
        </p:nvSpPr>
        <p:spPr>
          <a:xfrm>
            <a:off x="0" y="2060640"/>
            <a:ext cx="53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ff"/>
                </a:solidFill>
                <a:latin typeface="Times New Roman"/>
              </a:rPr>
              <a:t>颜色多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1027"/>
          <p:cNvSpPr/>
          <p:nvPr/>
        </p:nvSpPr>
        <p:spPr>
          <a:xfrm>
            <a:off x="4086000" y="6922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</a:rPr>
              <a:t>火烧云的变化极多。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Text Box 1029"/>
          <p:cNvSpPr/>
          <p:nvPr/>
        </p:nvSpPr>
        <p:spPr>
          <a:xfrm>
            <a:off x="1403280" y="364500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Verdana"/>
              </a:rPr>
              <a:t>形态多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 Box 1030"/>
          <p:cNvSpPr/>
          <p:nvPr/>
        </p:nvSpPr>
        <p:spPr>
          <a:xfrm>
            <a:off x="5467320" y="2997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变化快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1031"/>
          <p:cNvSpPr/>
          <p:nvPr/>
        </p:nvSpPr>
        <p:spPr>
          <a:xfrm>
            <a:off x="4130640" y="234936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↘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1032"/>
          <p:cNvSpPr/>
          <p:nvPr/>
        </p:nvSpPr>
        <p:spPr>
          <a:xfrm>
            <a:off x="4059000" y="3500280"/>
            <a:ext cx="8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↗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552680" y="2421000"/>
            <a:ext cx="670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以“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一会”这一顺序写一段话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250920" y="333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练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3A2-0BCE-4413-BE7D-445B78ECAE0D}" type="slidenum">
              <a:rPr b="0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447920" y="240192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0033"/>
                </a:solidFill>
                <a:latin typeface="Verdana"/>
                <a:ea typeface="华文彩云"/>
              </a:rPr>
              <a:t>谢谢欣赏，再见</a:t>
            </a:r>
            <a:r>
              <a:rPr b="1" i="1" lang="zh-CN" sz="6000" spc="-1" strike="noStrike">
                <a:solidFill>
                  <a:srgbClr val="660033"/>
                </a:solidFill>
                <a:latin typeface="Verdana"/>
                <a:ea typeface="华文彩云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7308720" y="5589720"/>
            <a:ext cx="648000" cy="43020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2526" h="21600">
                <a:moveTo>
                  <a:pt x="0" y="0"/>
                </a:moveTo>
                <a:lnTo>
                  <a:pt x="32526" y="0"/>
                </a:lnTo>
                <a:lnTo>
                  <a:pt x="32526" y="21600"/>
                </a:lnTo>
                <a:lnTo>
                  <a:pt x="0" y="21600"/>
                </a:lnTo>
                <a:close/>
              </a:path>
              <a:path fill="lightenLess" w="32526" h="21600">
                <a:moveTo>
                  <a:pt x="0" y="0"/>
                </a:moveTo>
                <a:lnTo>
                  <a:pt x="32526" y="0"/>
                </a:lnTo>
                <a:lnTo>
                  <a:pt x="31126" y="1400"/>
                </a:lnTo>
                <a:lnTo>
                  <a:pt x="1400" y="1400"/>
                </a:lnTo>
                <a:close/>
              </a:path>
              <a:path fill="darken" w="32526" h="21600">
                <a:moveTo>
                  <a:pt x="32526" y="0"/>
                </a:moveTo>
                <a:lnTo>
                  <a:pt x="32526" y="21600"/>
                </a:lnTo>
                <a:lnTo>
                  <a:pt x="31126" y="20200"/>
                </a:lnTo>
                <a:lnTo>
                  <a:pt x="31126" y="1400"/>
                </a:lnTo>
                <a:close/>
              </a:path>
              <a:path fill="darkenLess" w="32526" h="21600">
                <a:moveTo>
                  <a:pt x="32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26" y="20200"/>
                </a:lnTo>
                <a:close/>
              </a:path>
              <a:path fill="lighten" w="32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26" h="21600">
                <a:moveTo>
                  <a:pt x="9257" y="10800"/>
                </a:moveTo>
                <a:lnTo>
                  <a:pt x="23270" y="3794"/>
                </a:lnTo>
                <a:lnTo>
                  <a:pt x="2327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93680" y="291312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云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喂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猪     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盈盈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   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寿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彤彤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百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  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茄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子紫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跪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着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猛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静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揉</a:t>
            </a:r>
            <a:r>
              <a:rPr b="1" lang="zh-CN" sz="4400" spc="-1" strike="noStrike">
                <a:solidFill>
                  <a:srgbClr val="006699"/>
                </a:solidFill>
                <a:latin typeface="Times New Roman"/>
              </a:rPr>
              <a:t>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698480" y="601560"/>
            <a:ext cx="27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检查预习情况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6"/>
          <p:cNvSpPr/>
          <p:nvPr/>
        </p:nvSpPr>
        <p:spPr>
          <a:xfrm>
            <a:off x="6948360" y="47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Picture 5" descr="金灿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689120" y="476280"/>
            <a:ext cx="383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火烧云：日出或日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落时出现在天际的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Verdana"/>
              </a:rPr>
              <a:t>红彤彤的云霞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1828800" y="2976480"/>
            <a:ext cx="6095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火烧云的变化极多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1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1028" descr="001058[1]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MTM_042.MID" descr=""/>
          <p:cNvPicPr/>
          <p:nvPr/>
        </p:nvPicPr>
        <p:blipFill>
          <a:blip r:embed="rId2"/>
          <a:stretch/>
        </p:blipFill>
        <p:spPr>
          <a:xfrm>
            <a:off x="6172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043"/>
          <p:cNvSpPr/>
          <p:nvPr/>
        </p:nvSpPr>
        <p:spPr>
          <a:xfrm>
            <a:off x="784872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68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345083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02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460017"/>
          <p:cNvPicPr/>
          <p:nvPr/>
        </p:nvPicPr>
        <p:blipFill>
          <a:blip r:embed="rId2"/>
          <a:stretch/>
        </p:blipFill>
        <p:spPr>
          <a:xfrm>
            <a:off x="4572000" y="260280"/>
            <a:ext cx="4319640" cy="302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93070"/>
          <p:cNvPicPr/>
          <p:nvPr/>
        </p:nvPicPr>
        <p:blipFill>
          <a:blip r:embed="rId3"/>
          <a:stretch/>
        </p:blipFill>
        <p:spPr>
          <a:xfrm>
            <a:off x="250920" y="357336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火烧云图片1"/>
          <p:cNvPicPr/>
          <p:nvPr/>
        </p:nvPicPr>
        <p:blipFill>
          <a:blip r:embed="rId4"/>
          <a:srcRect l="13036" t="9243" r="4362" b="17478"/>
          <a:stretch/>
        </p:blipFill>
        <p:spPr>
          <a:xfrm>
            <a:off x="4572000" y="3573360"/>
            <a:ext cx="4319640" cy="2808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826920" y="836640"/>
            <a:ext cx="7490160" cy="824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5280" y="1628640"/>
            <a:ext cx="8497800" cy="375012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红彤彤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金灿灿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半紫半黄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会儿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半灰半百合色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950120" y="5493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Verdana"/>
              </a:rPr>
              <a:t>颜色变化多端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Verdana"/>
              </a:rPr>
              <a:t>思考：</a:t>
            </a: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i="1" lang="zh-CN" sz="4400" spc="-1" strike="noStrike">
                <a:solidFill>
                  <a:srgbClr val="006699"/>
                </a:solidFill>
                <a:latin typeface="Verdana"/>
              </a:rPr>
              <a:t>一会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……</a:t>
            </a:r>
            <a:r>
              <a:rPr b="1" i="1" lang="zh-CN" sz="4400" spc="-1" strike="noStrike">
                <a:solidFill>
                  <a:srgbClr val="006699"/>
                </a:solidFill>
                <a:latin typeface="Verdana"/>
              </a:rPr>
              <a:t>一会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6699"/>
                </a:solidFill>
                <a:latin typeface="Verdana"/>
              </a:rPr>
              <a:t>体现了火烧云什么特征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47280" y="3499920"/>
            <a:ext cx="62024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火烧云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的颜色不仅变化多端，而且变化极快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黑体"/>
              </a:rPr>
              <a:t>忽然又来了一条大狗，那狗十分凶猛，在向前跑，后面似乎还跟着几条小狗。跑着跑着，小狗不知哪里去了，大狗也不见了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11600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455200" y="6922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Verdana"/>
              </a:rPr>
              <a:t>从刚才的两幅图中，你发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Verdana"/>
              </a:rPr>
              <a:t>了什么？（请用原文回答）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6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4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