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BDF-DB42-4ED9-9E2D-FFCA9DD7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525-2BD6-4CC7-AD82-FFEB519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40-5A69-43D1-B082-7A956596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3FA-46AE-4967-A361-A703C88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779B-8DA5-4F97-AC0A-B2B094F2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35A-45D6-4D93-9F41-D9274DC3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7E59-6FF2-4B45-94F0-9205858C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64A4-65C6-401F-B4F2-D99257A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57C3-9881-414E-91C9-2CEF075C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A3B5-7D70-4B63-B5EB-ABE8FFF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C43-0940-455C-84DD-9764B81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139-D6B8-428C-A0F2-213AD53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992-6D27-43BE-92BF-D387AAA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7803-D570-4FFA-9171-9C20D33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B394-61B0-4354-87A7-73B8601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3225-A55D-49E2-9B7E-75853316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E67D-8B39-4E34-9014-6A1E488D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FDEB-8601-432A-B908-3DC812D1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6666-130E-4272-A7A9-8F1DFBE3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8CDE-41C1-410E-9558-678527F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19AC-5BA3-4962-B546-872B8720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D75F-3624-45DF-B628-572D91D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B88-EF9E-42CF-9DB2-E07F9A1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44AC-18D9-40CA-ACD5-9ED369E7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2C1F-651A-428B-98E4-344E87A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6D53-1AAE-40F4-8F2C-4755115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952B-EE42-4D8A-80BF-D4324F1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1255-7D14-4F1D-B0D4-008DBAC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1332-7C57-4F55-8A24-085FA973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7B20-A503-404E-AA2A-9874AD4F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CB0-2E72-49DF-BD73-F64BD01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424-A278-4D8B-9AF5-FC7A8DE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F8B-7C69-4424-A957-7BE35F82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101-4B45-40D6-8EE8-30C12DF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84A-EED9-44AC-8A49-F2DC52B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791-CF1C-476E-AD7E-EB4940D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539-7C0B-4F32-A518-876D7E5BE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F72-F73D-441E-9322-39CB2BC0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21B2-8C3D-4095-8690-E8D3B13B64D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1FBF-D4D6-4328-B178-57806ACFA9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187280" y="1989000"/>
            <a:ext cx="655344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和我们一样享受春天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1476360" y="3182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17844973_84e4c0403d_o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68360" y="18900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蔚蓝色的大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本来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是海鸥的乐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xin_5321001080910015430487"/>
          <p:cNvPicPr/>
          <p:nvPr/>
        </p:nvPicPr>
        <p:blipFill>
          <a:blip r:embed="rId1"/>
          <a:stretch/>
        </p:blipFill>
        <p:spPr>
          <a:xfrm>
            <a:off x="3809880" y="2928960"/>
            <a:ext cx="1524240" cy="100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yj11083"/>
          <p:cNvPicPr/>
          <p:nvPr/>
        </p:nvPicPr>
        <p:blipFill>
          <a:blip r:embed="rId2"/>
          <a:stretch/>
        </p:blipFill>
        <p:spPr>
          <a:xfrm>
            <a:off x="2905200" y="2238480"/>
            <a:ext cx="3333600" cy="2381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wgzzjz11"/>
          <p:cNvPicPr/>
          <p:nvPr/>
        </p:nvPicPr>
        <p:blipFill>
          <a:blip r:embed="rId3"/>
          <a:stretch/>
        </p:blipFill>
        <p:spPr>
          <a:xfrm>
            <a:off x="3119400" y="194328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Img21199023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676520" y="1371600"/>
            <a:ext cx="6400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可是巡弋的战舰和水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成了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不速之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1828800"/>
            <a:ext cx="685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蓝的发黑的夜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本来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属于星星和月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可是如今频频发射的导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把星星的家园搅得很不安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780000" y="1052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编诗小能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133266653"/>
          <p:cNvPicPr/>
          <p:nvPr/>
        </p:nvPicPr>
        <p:blipFill>
          <a:blip r:embed="rId2"/>
          <a:stretch/>
        </p:blipFill>
        <p:spPr>
          <a:xfrm>
            <a:off x="2162160" y="479520"/>
            <a:ext cx="4857840" cy="90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187280" y="162864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续写诗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本来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可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这究竟是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200"/>
          <p:cNvSpPr/>
          <p:nvPr/>
        </p:nvSpPr>
        <p:spPr>
          <a:xfrm>
            <a:off x="10800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981080" y="1219320"/>
            <a:ext cx="6705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希望，我们祈盼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让战火中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张课桌，平稳的课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被导弹的气浪掀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间教室，洁白的教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免遭炸弹的弹片击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鲜花中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享受春天</a:t>
            </a:r>
            <a:r>
              <a:rPr b="0" lang="en-US" sz="3600" spc="-1" strike="noStrike">
                <a:solidFill>
                  <a:srgbClr val="0000ff"/>
                </a:solidFill>
                <a:latin typeface="Courier New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A188-348C-404C-918D-B1035CFE8F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032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儿童和平公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5640" y="692280"/>
            <a:ext cx="8893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世界的儿童，宣告未来的和平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想要一个没有战争和武器的星球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除掉疾病和破坏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再也不要憎恨和饥饿，再也不要无家可归。我们要消灭这一切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大地给予我们足够的食品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将共享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天空给予我们美丽的彩虹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将保卫它们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河水给予我们不朽的生命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保持它们的洁净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共同欢笑，共同游玩，共同工作，互相学习，探索和改善大家的生活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是为和平，为现在的和平，永久的和平，我们大家的和平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世界上的成年人和我们一起，你们丢掉的只是恐惧和悲伤。抓住我们的欢笑和想象，我们在一起，和平就是可能的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