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5D10-9FAE-45D2-8061-C3A596D83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2DD3-B88C-48E2-8F76-7520DAE5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ECE6-6849-489E-A844-0E59D93B8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AD03-16A0-4768-8D28-BC815517F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5561-35C6-439B-82DD-6677641C3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AE6F-059F-4556-9DF2-9B033355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5FF9-4D7F-48BE-8A12-0D98992B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44C1-1A81-4B59-B414-DFDB9C78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5156-AD75-4362-A875-FAAE2B79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5DAA-092E-4B78-B0D6-6177F714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3865-6BFA-4B0A-8643-C0748DC9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56D5-15A9-416F-BF09-9D011D04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D989-03BA-4D56-935D-62A39F58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64F5-A3D4-4BDE-B1BB-F199066F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A066-DCF5-48CD-BF52-F4707CC0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90EB-DE04-4547-97FA-126AA7849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24AB-22D8-462C-A022-3B10E941C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E0E85-0F24-4569-A89F-6DCD0BE28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B389E-5716-4F91-A330-0837FEC0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D6504-19D6-4161-9F52-537F9DE1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9A40C-FCAE-4BDB-8F99-439D76EA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575E6-497A-4C03-B325-3C7F2849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7EE3-E5AD-4003-90FB-D4E0A2CA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48D8A-066A-4620-8B08-FB0EFA6E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93C4C-C193-4E44-8039-4BB9DE56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38EE3-D899-42BE-BE02-565B97C4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F7BB9-8B0B-45EF-8AC4-743433AF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D58CC-F639-4884-BE3C-87075B7B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6026D-59E6-45CE-81BA-634A13FBF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C7745-0077-4583-9AA6-F159558A8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AAFF-0955-44A0-B212-6139CEEE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BC7C-36ED-4C04-BDBC-D01B514E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3CF4-C75C-4FD7-9586-21CE7F63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D7CD-0878-445C-B40C-B2BBCE2F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E84E-B259-404C-B33A-D753198F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2178-0650-4DEA-8E4A-1190AB08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0052-FFCD-46EA-BFB1-BCF651019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33ED-742A-406B-ABEC-E0ECA61355A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96E1-8875-4C7A-B670-16C7F38B7FA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126C-916E-46FC-B9D8-9110299CBDCB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274,12,&#24187;&#28783;&#29255; 12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4" name="Picture 4" descr="双龙洞1"/>
          <p:cNvPicPr/>
          <p:nvPr/>
        </p:nvPicPr>
        <p:blipFill>
          <a:blip r:embed="rId1"/>
          <a:stretch/>
        </p:blipFill>
        <p:spPr>
          <a:xfrm>
            <a:off x="-108000" y="44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WordArt 5" descr=""/>
          <p:cNvPicPr/>
          <p:nvPr/>
        </p:nvPicPr>
        <p:blipFill>
          <a:blip r:embed="rId2"/>
          <a:stretch/>
        </p:blipFill>
        <p:spPr>
          <a:xfrm>
            <a:off x="906480" y="1398600"/>
            <a:ext cx="7275600" cy="102384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7a77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7a77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81" name="Picture 4" descr="水石奇观"/>
          <p:cNvPicPr/>
          <p:nvPr/>
        </p:nvPicPr>
        <p:blipFill>
          <a:blip r:embed="rId1"/>
          <a:stretch/>
        </p:blipFill>
        <p:spPr>
          <a:xfrm>
            <a:off x="-36360" y="-27000"/>
            <a:ext cx="3112920" cy="46083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3419640" y="54936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怎样小的小船呢？两个人并排仰卧，刚合适，再没法容第三个人，是这样小的小船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3348000" y="3068640"/>
            <a:ext cx="57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怀着好奇的心情独个儿仰卧在小船里，自以为从后脑到肩背，到臀</a:t>
            </a:r>
            <a:r>
              <a:rPr b="0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179280" y="4941720"/>
            <a:ext cx="885672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部，到脚跟，没有一处不贴着船底了，才说一声“行了”，船就慢慢移动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971640" y="692280"/>
            <a:ext cx="7056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眼前昏暗了，可是还能感觉左右和上方的山石似乎都在朝我</a:t>
            </a:r>
            <a:r>
              <a:rPr b="0" lang="zh-CN" sz="4800" spc="-1" strike="noStrike" u="sng">
                <a:solidFill>
                  <a:srgbClr val="dc5900"/>
                </a:solidFill>
                <a:uFillTx/>
                <a:latin typeface="楷体_GB2312"/>
                <a:ea typeface="楷体_GB2312"/>
                <a:hlinkClick r:id="rId1"/>
              </a:rPr>
              <a:t>挤压</a:t>
            </a:r>
            <a:r>
              <a:rPr b="0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过来。我又感觉要是把头稍微抬起一点儿，准会撞破额角，擦伤鼻子。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7885080" y="5950080"/>
            <a:ext cx="790560" cy="647640"/>
          </a:xfrm>
          <a:custGeom>
            <a:avLst/>
            <a:gdLst/>
            <a:ahLst/>
            <a:rect l="l" t="t" r="r" b="b"/>
            <a:pathLst>
              <a:path w="790575" h="647700">
                <a:moveTo>
                  <a:pt x="0" y="247398"/>
                </a:moveTo>
                <a:lnTo>
                  <a:pt x="301974" y="247400"/>
                </a:lnTo>
                <a:lnTo>
                  <a:pt x="395287" y="0"/>
                </a:lnTo>
                <a:lnTo>
                  <a:pt x="488600" y="247400"/>
                </a:lnTo>
                <a:lnTo>
                  <a:pt x="790574" y="247398"/>
                </a:lnTo>
                <a:lnTo>
                  <a:pt x="546271" y="400298"/>
                </a:lnTo>
                <a:lnTo>
                  <a:pt x="639588" y="647698"/>
                </a:lnTo>
                <a:lnTo>
                  <a:pt x="395287" y="494795"/>
                </a:lnTo>
                <a:lnTo>
                  <a:pt x="150986" y="647698"/>
                </a:lnTo>
                <a:lnTo>
                  <a:pt x="244303" y="400298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88" name="lianjie2.MP3" descr=""/>
          <p:cNvPicPr/>
          <p:nvPr/>
        </p:nvPicPr>
        <p:blipFill>
          <a:blip r:embed="rId2"/>
          <a:stretch/>
        </p:blipFill>
        <p:spPr>
          <a:xfrm>
            <a:off x="1332000" y="560700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20794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91" name="Picture 4" descr="进出孔隙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93" name="Picture 4" descr="guizhou-zjd02"/>
          <p:cNvPicPr/>
          <p:nvPr/>
        </p:nvPicPr>
        <p:blipFill>
          <a:blip r:embed="rId1"/>
          <a:stretch/>
        </p:blipFill>
        <p:spPr>
          <a:xfrm>
            <a:off x="0" y="0"/>
            <a:ext cx="5076720" cy="46814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p1a"/>
          <p:cNvPicPr/>
          <p:nvPr/>
        </p:nvPicPr>
        <p:blipFill>
          <a:blip r:embed="rId2"/>
          <a:srcRect l="0" t="0" r="3341" b="3338"/>
          <a:stretch/>
        </p:blipFill>
        <p:spPr>
          <a:xfrm>
            <a:off x="3995640" y="2492280"/>
            <a:ext cx="5148360" cy="43657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7"/>
          <p:cNvSpPr/>
          <p:nvPr/>
        </p:nvSpPr>
        <p:spPr>
          <a:xfrm>
            <a:off x="6516720" y="40464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  <a:ea typeface="隶书"/>
              </a:rPr>
              <a:t>黄龙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AutoShape 8"/>
          <p:cNvSpPr/>
          <p:nvPr/>
        </p:nvSpPr>
        <p:spPr>
          <a:xfrm flipH="1">
            <a:off x="5508000" y="549360"/>
            <a:ext cx="86364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185" y="0"/>
                </a:moveTo>
                <a:lnTo>
                  <a:pt x="16185" y="4838"/>
                </a:lnTo>
                <a:lnTo>
                  <a:pt x="3375" y="4838"/>
                </a:lnTo>
                <a:lnTo>
                  <a:pt x="3375" y="16762"/>
                </a:lnTo>
                <a:lnTo>
                  <a:pt x="16185" y="16762"/>
                </a:lnTo>
                <a:lnTo>
                  <a:pt x="16185" y="21600"/>
                </a:lnTo>
                <a:lnTo>
                  <a:pt x="21600" y="10800"/>
                </a:lnTo>
                <a:lnTo>
                  <a:pt x="16185" y="0"/>
                </a:lnTo>
                <a:close/>
              </a:path>
              <a:path w="21600" h="21600">
                <a:moveTo>
                  <a:pt x="1350" y="4838"/>
                </a:moveTo>
                <a:lnTo>
                  <a:pt x="1350" y="16762"/>
                </a:lnTo>
                <a:lnTo>
                  <a:pt x="2700" y="16762"/>
                </a:lnTo>
                <a:lnTo>
                  <a:pt x="2700" y="4838"/>
                </a:lnTo>
                <a:lnTo>
                  <a:pt x="1350" y="4838"/>
                </a:lnTo>
                <a:close/>
              </a:path>
              <a:path w="21600" h="21600">
                <a:moveTo>
                  <a:pt x="0" y="4838"/>
                </a:moveTo>
                <a:lnTo>
                  <a:pt x="0" y="16762"/>
                </a:lnTo>
                <a:lnTo>
                  <a:pt x="675" y="16762"/>
                </a:lnTo>
                <a:lnTo>
                  <a:pt x="675" y="4838"/>
                </a:lnTo>
                <a:lnTo>
                  <a:pt x="0" y="4838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826920" y="566100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  <a:ea typeface="隶书"/>
              </a:rPr>
              <a:t>青龙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AutoShape 10"/>
          <p:cNvSpPr/>
          <p:nvPr/>
        </p:nvSpPr>
        <p:spPr>
          <a:xfrm>
            <a:off x="2484360" y="5950080"/>
            <a:ext cx="79236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00" name="Picture 2" descr="xl4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3"/>
          <p:cNvSpPr/>
          <p:nvPr/>
        </p:nvSpPr>
        <p:spPr>
          <a:xfrm>
            <a:off x="3492360" y="5734080"/>
            <a:ext cx="27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海龟探险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6477120" y="2757600"/>
            <a:ext cx="1298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1523880" y="6248520"/>
            <a:ext cx="129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6324480" y="6248520"/>
            <a:ext cx="163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3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07" name="Picture 4" descr="p6c"/>
          <p:cNvPicPr/>
          <p:nvPr/>
        </p:nvPicPr>
        <p:blipFill>
          <a:blip r:embed="rId1"/>
          <a:srcRect l="4767" t="6502" r="0" b="0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"/>
          <p:cNvSpPr/>
          <p:nvPr/>
        </p:nvSpPr>
        <p:spPr>
          <a:xfrm>
            <a:off x="3635280" y="5661000"/>
            <a:ext cx="23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Arial"/>
                <a:ea typeface="隶书"/>
              </a:rPr>
              <a:t>五彩图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11" name="Picture 4" descr="p6b"/>
          <p:cNvPicPr/>
          <p:nvPr/>
        </p:nvPicPr>
        <p:blipFill>
          <a:blip r:embed="rId1"/>
          <a:srcRect l="5009" t="0" r="500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5"/>
          <p:cNvSpPr/>
          <p:nvPr/>
        </p:nvSpPr>
        <p:spPr>
          <a:xfrm>
            <a:off x="3780000" y="5805360"/>
            <a:ext cx="25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隶书"/>
              </a:rPr>
              <a:t>擎天柱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15" name="Picture 4" descr="p2b"/>
          <p:cNvPicPr/>
          <p:nvPr/>
        </p:nvPicPr>
        <p:blipFill>
          <a:blip r:embed="rId1"/>
          <a:srcRect l="5009" t="6667" r="500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5"/>
          <p:cNvSpPr/>
          <p:nvPr/>
        </p:nvSpPr>
        <p:spPr>
          <a:xfrm>
            <a:off x="6084720" y="5805360"/>
            <a:ext cx="27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小桥流水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18" name="Picture 4" descr="双龙洞4"/>
          <p:cNvPicPr/>
          <p:nvPr/>
        </p:nvPicPr>
        <p:blipFill>
          <a:blip r:embed="rId1"/>
          <a:stretch/>
        </p:blipFill>
        <p:spPr>
          <a:xfrm>
            <a:off x="0" y="0"/>
            <a:ext cx="9361440" cy="695484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"/>
          <p:cNvSpPr/>
          <p:nvPr/>
        </p:nvSpPr>
        <p:spPr>
          <a:xfrm>
            <a:off x="395280" y="260280"/>
            <a:ext cx="32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隶书"/>
              </a:rPr>
              <a:t>避水金针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22" name="Picture 3" descr="silin_ziyundong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539640" y="26028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寿星捧仙桃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6"/>
          <p:cNvSpPr/>
          <p:nvPr/>
        </p:nvSpPr>
        <p:spPr>
          <a:xfrm>
            <a:off x="2411280" y="1197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0" name="Picture 4" descr="guizhou-zjd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26" name="Picture 4" descr="双龙洞5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sp>
        <p:nvSpPr>
          <p:cNvPr id="227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7a77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7a77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29" name="Picture 4" descr="图片2"/>
          <p:cNvPicPr/>
          <p:nvPr/>
        </p:nvPicPr>
        <p:blipFill>
          <a:blip r:embed="rId1"/>
          <a:stretch/>
        </p:blipFill>
        <p:spPr>
          <a:xfrm>
            <a:off x="1619280" y="-27000"/>
            <a:ext cx="62658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32" name="Picture 3" descr="alugudong"/>
          <p:cNvPicPr/>
          <p:nvPr/>
        </p:nvPicPr>
        <p:blipFill>
          <a:blip r:embed="rId1"/>
          <a:srcRect l="2502" t="3497" r="3341" b="349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AutoShape 4"/>
          <p:cNvSpPr/>
          <p:nvPr/>
        </p:nvSpPr>
        <p:spPr>
          <a:xfrm>
            <a:off x="8317080" y="6237360"/>
            <a:ext cx="502920" cy="431640"/>
          </a:xfrm>
          <a:custGeom>
            <a:avLst/>
            <a:gdLst/>
            <a:ahLst/>
            <a:rect l="l" t="t" r="r" b="b"/>
            <a:pathLst>
              <a:path w="503237" h="431800">
                <a:moveTo>
                  <a:pt x="0" y="164932"/>
                </a:moveTo>
                <a:lnTo>
                  <a:pt x="192220" y="164933"/>
                </a:lnTo>
                <a:lnTo>
                  <a:pt x="251618" y="0"/>
                </a:lnTo>
                <a:lnTo>
                  <a:pt x="311016" y="164933"/>
                </a:lnTo>
                <a:lnTo>
                  <a:pt x="503236" y="164932"/>
                </a:lnTo>
                <a:lnTo>
                  <a:pt x="347726" y="266865"/>
                </a:lnTo>
                <a:lnTo>
                  <a:pt x="407127" y="431798"/>
                </a:lnTo>
                <a:lnTo>
                  <a:pt x="251618" y="329863"/>
                </a:lnTo>
                <a:lnTo>
                  <a:pt x="96110" y="431798"/>
                </a:lnTo>
                <a:lnTo>
                  <a:pt x="155510" y="266865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D91F-D4D6-46A5-AE69-C5A503EEB038}" type="slidenum">
              <a:rPr b="0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9" name="WordArt 4"/>
          <p:cNvSpPr txBox="1"/>
          <p:nvPr/>
        </p:nvSpPr>
        <p:spPr>
          <a:xfrm>
            <a:off x="1619280" y="1341360"/>
            <a:ext cx="6408720" cy="138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琥珀"/>
              </a:rPr>
              <a:t>谢谢观看！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240" name="WordArt 5"/>
          <p:cNvSpPr txBox="1"/>
          <p:nvPr/>
        </p:nvSpPr>
        <p:spPr>
          <a:xfrm>
            <a:off x="2195640" y="3933720"/>
            <a:ext cx="504036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华文彩云"/>
              </a:rPr>
              <a:t>再见！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3" name="Picture 4" descr="silin_ziyundong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Picture 4" descr="alugudong"/>
          <p:cNvPicPr/>
          <p:nvPr/>
        </p:nvPicPr>
        <p:blipFill>
          <a:blip r:embed="rId1"/>
          <a:srcRect l="2502" t="3497" r="3341" b="349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9" name="Picture 4" descr="slide0031_background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187280" y="907920"/>
            <a:ext cx="151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浙江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3851280" y="981000"/>
            <a:ext cx="158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罗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甸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6588000" y="907920"/>
            <a:ext cx="10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呈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6300720" y="2205000"/>
            <a:ext cx="15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合适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1116000" y="3357720"/>
            <a:ext cx="14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昏暗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3851280" y="3429000"/>
            <a:ext cx="165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稍微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3924360" y="2133720"/>
            <a:ext cx="143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聚集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1116000" y="213372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森郁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6300720" y="335772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额头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2050920" y="5084280"/>
            <a:ext cx="48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突兀   臀部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1680" y="1052640"/>
            <a:ext cx="85406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171c"/>
                </a:solidFill>
                <a:latin typeface="Arial"/>
              </a:rPr>
              <a:t>自读课文，边读边画出作者游览的景点，看看作者是按什么顺序游览的，作者的游览路线是怎样的。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898560" y="436572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路上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338560" y="436572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外洞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3780000" y="436572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孔隙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5219640" y="436572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内洞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6659640" y="436572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出洞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AutoShape 10"/>
          <p:cNvSpPr/>
          <p:nvPr/>
        </p:nvSpPr>
        <p:spPr>
          <a:xfrm>
            <a:off x="2050920" y="4653000"/>
            <a:ext cx="289080" cy="21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3492360" y="4653000"/>
            <a:ext cx="289080" cy="21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AutoShape 12"/>
          <p:cNvSpPr/>
          <p:nvPr/>
        </p:nvSpPr>
        <p:spPr>
          <a:xfrm>
            <a:off x="4932360" y="4653000"/>
            <a:ext cx="289080" cy="21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AutoShape 13"/>
          <p:cNvSpPr/>
          <p:nvPr/>
        </p:nvSpPr>
        <p:spPr>
          <a:xfrm>
            <a:off x="6443640" y="4653000"/>
            <a:ext cx="289080" cy="21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1680" y="1052640"/>
            <a:ext cx="85406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171c"/>
                </a:solidFill>
                <a:latin typeface="Arial"/>
              </a:rPr>
              <a:t>自读课文，边读边画出作者游览的景点，看看作者是按什么顺序游览的，作者的游览路线是怎样的。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898560" y="436572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路上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338560" y="436572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a50021"/>
                </a:solidFill>
                <a:uFillTx/>
                <a:latin typeface="Arial"/>
                <a:ea typeface="楷体_GB2312"/>
              </a:rPr>
              <a:t>外洞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3780000" y="436572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a50021"/>
                </a:solidFill>
                <a:uFillTx/>
                <a:latin typeface="Arial"/>
                <a:ea typeface="楷体_GB2312"/>
              </a:rPr>
              <a:t>孔隙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5219640" y="436572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a50021"/>
                </a:solidFill>
                <a:uFillTx/>
                <a:latin typeface="Arial"/>
                <a:ea typeface="楷体_GB2312"/>
              </a:rPr>
              <a:t>内洞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6659640" y="436572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出洞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2050920" y="4653000"/>
            <a:ext cx="289080" cy="21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3492360" y="4653000"/>
            <a:ext cx="289080" cy="21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AutoShape 10"/>
          <p:cNvSpPr/>
          <p:nvPr/>
        </p:nvSpPr>
        <p:spPr>
          <a:xfrm>
            <a:off x="4932360" y="4653000"/>
            <a:ext cx="289080" cy="21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AutoShape 11"/>
          <p:cNvSpPr/>
          <p:nvPr/>
        </p:nvSpPr>
        <p:spPr>
          <a:xfrm>
            <a:off x="6443640" y="4653000"/>
            <a:ext cx="289080" cy="21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4" name="Picture 5" descr="双龙洞6"/>
          <p:cNvPicPr/>
          <p:nvPr/>
        </p:nvPicPr>
        <p:blipFill>
          <a:blip r:embed="rId1"/>
          <a:stretch/>
        </p:blipFill>
        <p:spPr>
          <a:xfrm>
            <a:off x="-36360" y="-27000"/>
            <a:ext cx="2592360" cy="3600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双龙洞"/>
          <p:cNvPicPr/>
          <p:nvPr/>
        </p:nvPicPr>
        <p:blipFill>
          <a:blip r:embed="rId2"/>
          <a:stretch/>
        </p:blipFill>
        <p:spPr>
          <a:xfrm>
            <a:off x="6505560" y="2637000"/>
            <a:ext cx="2644920" cy="42145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7"/>
          <p:cNvSpPr/>
          <p:nvPr/>
        </p:nvSpPr>
        <p:spPr>
          <a:xfrm>
            <a:off x="2771640" y="47628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在洞口抬头望，山相当高，突兀森郁，很有气势。洞口像桥洞似的，很宽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2411280" y="2349360"/>
            <a:ext cx="424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走进去，仿佛到                     了个大会堂，周围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250920" y="3573360"/>
            <a:ext cx="65530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是石壁，头上是高高的石顶，在那里聚集一千或是八百人开个会，一定不觉得拥挤。泉水靠着洞口的右边往外流。这是外洞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9" name="lianjie1.MP3" descr=""/>
          <p:cNvPicPr/>
          <p:nvPr/>
        </p:nvPicPr>
        <p:blipFill>
          <a:blip r:embed="rId3"/>
          <a:stretch/>
        </p:blipFill>
        <p:spPr>
          <a:xfrm>
            <a:off x="4572000" y="616572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3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"/>
                            </p:stCondLst>
                            <p:childTnLst>
                              <p:par>
                                <p:cTn id="99" dur="indefinite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3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00"/>
                            </p:stCondLst>
                            <p:childTnLst>
                              <p:par>
                                <p:cTn id="103" dur="indefinite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3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39367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06:01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2:50Z</dcterms:modified>
  <cp:revision>2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  <property fmtid="{D5CDD505-2E9C-101B-9397-08002B2CF9AE}" pid="3" name="Version">
    <vt:r8>8</vt:r8>
  </property>
</Properties>
</file>